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FDD4-6CBD-42E6-8830-F2C3FE2C3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DF3-1886-4A62-989D-1EF8CECC1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5ADC-3CB8-477E-94DA-48BF27035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693F-C67A-477B-8737-758CE7845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971-29C9-498F-8363-DD6E8A759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0E0-BCFF-4343-B8D3-3F0A57163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50BC-D84E-4AA6-A213-E79A2216A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AF26-7E13-4597-AA01-04BF66EBC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CF98-421F-4D08-893C-17446C895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815D-A274-4965-BE50-914876BEBF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B6DA-408E-4D6A-B699-CEFC18F62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1EE-D5DB-4EA4-8702-E8364BB79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5A46-9414-4040-9688-E52ED38EE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1D9-1B9D-40ED-972F-5B5FF5812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2D09-A5B5-4584-871D-D6EA5156C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047-3312-475C-ABA5-9038093A1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2A5-6796-4FB3-B8F7-261BE377AE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FD3F-F5E8-4DFB-85D6-CB1D67B25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FB15-9382-4623-8B90-55AEB8776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1236-AB27-499C-8795-E2EBF468E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D26-208E-4614-A8B7-223647F88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A2AE-8E47-4714-B0D9-3B7DE3C9C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D840-042A-47B5-8F2C-8BCEF575B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BB74-63BB-4396-A0DE-BC68217EC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2CC2-21D5-4A3A-9159-660DD23EA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07FE-C264-4A57-AE93-86F6B208C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F718-F27F-495D-B632-E46850455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FB1-055E-4D79-A299-F27B4CE1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6BD-8B5B-47C9-A229-B24F5207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0F2-9DE0-4143-88BB-25FC12A1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5DD-2E62-4D9C-AC93-E1629B4E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D5BB-3B47-41BA-BFC5-C3CE43D9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FE57-E712-4E5D-A608-606E36C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6850-A24A-4C21-ABBB-EF0DFAA5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79D7-EBA0-4E79-B517-88F6CCB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32DA-D048-43B6-BD31-528893C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9F16-D20D-4B36-8E9C-18DEA195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BAA5-0C1B-453A-9F3A-CD9C8709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284-1D60-4393-A433-75B13653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BB5E-C3D0-4FAD-9222-F8D19E7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97B8-671A-4728-9AD0-E0EEFFE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6BC-6CB8-4C69-871C-FE545184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48B-F471-4E20-B906-0466F404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8417-D44C-42B9-938C-90181093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C6E-6E0F-4877-84DA-2A814BA3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F6D-8FE6-4707-9864-B369676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E88-481B-4C2D-89C8-0B86D43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F64-874B-41B5-8F16-56A70AA3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A71-D967-4698-BA4E-4B0A9AC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173-ABFE-4832-96CE-307B7FD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4E9-683F-41EF-9632-1DFE6F7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9e5d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60EA-DA52-49E3-9430-16CFDF02C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9e5d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875D-D823-4550-89E4-E54719E3F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890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04920" y="1371600"/>
            <a:ext cx="847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А18. Частицы Ни и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58480" y="5029200"/>
            <a:ext cx="64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3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1814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1600200" y="30481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1"/>
          <p:cNvSpPr/>
          <p:nvPr/>
        </p:nvSpPr>
        <p:spPr>
          <a:xfrm>
            <a:off x="304920" y="5335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(1) говорите, я н(2) в чём н(3) могла бы упрекнуть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51055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50292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5676840" y="311616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746748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9"/>
          <p:cNvSpPr/>
          <p:nvPr/>
        </p:nvSpPr>
        <p:spPr>
          <a:xfrm>
            <a:off x="35812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228600" y="380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(1)каким ремеслом н(2) занимался, н(3)куда н(4) ездил, н(5) знался почти н(6) с к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1523880" y="4724280"/>
            <a:ext cx="175284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1"/>
          <p:cNvSpPr/>
          <p:nvPr/>
        </p:nvSpPr>
        <p:spPr>
          <a:xfrm>
            <a:off x="228600" y="380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каком варианте ответа правильно указаны все цифры, на месте которых пишется Е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жил, словно н(1)кого вокруг себя н(2)замечал и н(3) в ком н(4) нуждалс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9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utoShape 8"/>
          <p:cNvSpPr/>
          <p:nvPr/>
        </p:nvSpPr>
        <p:spPr>
          <a:xfrm>
            <a:off x="1676520" y="3124080"/>
            <a:ext cx="16761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228600" y="380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каком варианте ответа правильно указаны все цифры, на месте которых пишется И? . На море н(1) видно н(2)одного огонька, н(3) слышно н(4)одного вспле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228600" y="228600"/>
            <a:ext cx="847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">
            <a:hlinkClick r:id="rId1" action="ppaction://hlinksldjump"/>
          </p:cNvPr>
          <p:cNvSpPr/>
          <p:nvPr/>
        </p:nvSpPr>
        <p:spPr>
          <a:xfrm>
            <a:off x="1066680" y="3276720"/>
            <a:ext cx="69343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31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4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8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5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3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1"/>
          <p:cNvSpPr/>
          <p:nvPr/>
        </p:nvSpPr>
        <p:spPr>
          <a:xfrm>
            <a:off x="152280" y="5335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н(1) было ещё н(2) деревца, н(3) кустика, н(4)какая жердина н(5) торчала из зем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344" name="Line 3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0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1"/>
          <p:cNvSpPr/>
          <p:nvPr/>
        </p:nvSpPr>
        <p:spPr>
          <a:xfrm>
            <a:off x="10666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2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3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4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7"/>
          <p:cNvSpPr/>
          <p:nvPr/>
        </p:nvSpPr>
        <p:spPr>
          <a:xfrm>
            <a:off x="35053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74674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0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1"/>
          <p:cNvSpPr/>
          <p:nvPr/>
        </p:nvSpPr>
        <p:spPr>
          <a:xfrm>
            <a:off x="0" y="-228600"/>
            <a:ext cx="90676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н(1) грозили ему, сколько н(2) упрашивали правдиво рассказать обо всем, он н(3)произнес н(4) единого слова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628640" y="471312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106668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 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350532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1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31"/>
          <p:cNvSpPr/>
          <p:nvPr/>
        </p:nvSpPr>
        <p:spPr>
          <a:xfrm>
            <a:off x="304920" y="4572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й мухомор н(1) спутаешь н(2) с одним грибом н(3) на одно мгновение н(4) издали, н(5) вбли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3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8"/>
          <p:cNvSpPr/>
          <p:nvPr/>
        </p:nvSpPr>
        <p:spPr>
          <a:xfrm>
            <a:off x="106200" y="100080"/>
            <a:ext cx="8937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аком варианте ответа правильно указаны все цифры, на месте которых пишется И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 решил во что бы то н(1) стало добиться своей цели: н(2)какие  трудности меня не остановят. Я н(3) за что н(4) откажусь от своей ме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10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7"/>
          <p:cNvSpPr/>
          <p:nvPr/>
        </p:nvSpPr>
        <p:spPr>
          <a:xfrm>
            <a:off x="106200" y="304920"/>
            <a:ext cx="893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В каком варианте ответа правильно указаны все цифры, на месте которых пишется Е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он н(1) жалел н(2) времени, н(3) денег и уже н(4) о чём, кроме мести, н(5) мог дум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578016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9907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51814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5"/>
          <p:cNvSpPr/>
          <p:nvPr/>
        </p:nvSpPr>
        <p:spPr>
          <a:xfrm>
            <a:off x="5715000" y="28954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7"/>
          <p:cNvSpPr/>
          <p:nvPr/>
        </p:nvSpPr>
        <p:spPr>
          <a:xfrm>
            <a:off x="152280" y="22860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 хорош лес: что сколько в него н(1)ходи, сколько н(2)смотри и н(3)слушай, а всё увидишь н(4)виданное и услышишь н(5)слыха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578016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9907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2"/>
          <p:cNvSpPr/>
          <p:nvPr/>
        </p:nvSpPr>
        <p:spPr>
          <a:xfrm>
            <a:off x="51814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5715000" y="28954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7"/>
          <p:cNvSpPr/>
          <p:nvPr/>
        </p:nvSpPr>
        <p:spPr>
          <a:xfrm>
            <a:off x="228600" y="53352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н(1) веду войны н(2) с ними, н(3) с кем бы то н(4) бы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715000" y="474012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9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0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5"/>
          <p:cNvSpPr/>
          <p:nvPr/>
        </p:nvSpPr>
        <p:spPr>
          <a:xfrm>
            <a:off x="1600200" y="28954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2"/>
          <p:cNvSpPr/>
          <p:nvPr/>
        </p:nvSpPr>
        <p:spPr>
          <a:xfrm>
            <a:off x="106200" y="457200"/>
            <a:ext cx="893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(1) разу мне н(2) приходилось н(3)видеть , н(4) слышать токующего тетере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579132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7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7"/>
          <p:cNvSpPr/>
          <p:nvPr/>
        </p:nvSpPr>
        <p:spPr>
          <a:xfrm>
            <a:off x="106200" y="30492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ущности говоря, н(1) один кролик н(2)когда н(3) видел цветной капуст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0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3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ctangle 7"/>
          <p:cNvSpPr/>
          <p:nvPr/>
        </p:nvSpPr>
        <p:spPr>
          <a:xfrm>
            <a:off x="380880" y="380880"/>
            <a:ext cx="8610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бе месяц н(1) появилось н(2)единой тучки, н(3)единого облачка, и только через н(4)сколько дней ожидается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2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4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7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0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9"/>
          <p:cNvSpPr/>
          <p:nvPr/>
        </p:nvSpPr>
        <p:spPr>
          <a:xfrm>
            <a:off x="250920" y="1890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28600" y="12193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1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0"/>
          <p:cNvSpPr/>
          <p:nvPr/>
        </p:nvSpPr>
        <p:spPr>
          <a:xfrm>
            <a:off x="5791320" y="3276720"/>
            <a:ext cx="14475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181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1371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137160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5877000" y="4740120"/>
            <a:ext cx="14475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1981080" y="3276720"/>
            <a:ext cx="14479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1981080" y="4740120"/>
            <a:ext cx="1447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7467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7467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3657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228600" y="304920"/>
            <a:ext cx="843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пишев н(1) во что н(2)верил, н(3)признавал н(4)каких авторит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10"/>
          <p:cNvSpPr/>
          <p:nvPr/>
        </p:nvSpPr>
        <p:spPr>
          <a:xfrm>
            <a:off x="57913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51814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8380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8380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5791320" y="3276720"/>
            <a:ext cx="1752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 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1447920" y="3276720"/>
            <a:ext cx="1827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1523880" y="4724280"/>
            <a:ext cx="17510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35053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3"/>
          <p:cNvSpPr/>
          <p:nvPr/>
        </p:nvSpPr>
        <p:spPr>
          <a:xfrm>
            <a:off x="7848720" y="3581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7848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5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1"/>
          <p:cNvSpPr/>
          <p:nvPr/>
        </p:nvSpPr>
        <p:spPr>
          <a:xfrm>
            <a:off x="228600" y="0"/>
            <a:ext cx="86868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аком варианте ответа правильно указаны все цифры, на месте которых пишется Е?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 опять ошибаетесь: я вовсе н(1) гастроном; я н(2) люблю н(3)креветки под соусом, н(4) варенье из лепестков 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5715000" y="4724280"/>
            <a:ext cx="1557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1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В каком варианте ответа правильно указаны все цифры, на месте которых пишется Е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ак н(1) требовал врач завершить процедуры, Илья уехал из санатория, н(2)с кем н(3)простившись, чтобы н(4)разжигать обиды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7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8"/>
          <p:cNvSpPr/>
          <p:nvPr/>
        </p:nvSpPr>
        <p:spPr>
          <a:xfrm>
            <a:off x="5695920" y="33796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1676520" y="3211560"/>
            <a:ext cx="160020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8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0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"/>
          <p:cNvSpPr/>
          <p:nvPr/>
        </p:nvSpPr>
        <p:spPr>
          <a:xfrm>
            <a:off x="0" y="30492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(1) просили Митю сходить за хворостом, он н(2)произнёс н(3) единого слова и даже н(4)чем н(5) показал, что слышит товарище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AutoShape 8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1"/>
          <p:cNvSpPr/>
          <p:nvPr/>
        </p:nvSpPr>
        <p:spPr>
          <a:xfrm>
            <a:off x="0" y="100080"/>
            <a:ext cx="90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лишь стрекоза как н(1) в чём н(2) бывало пляшет в траве, но вот откуда н(3) возьмись  врывается ветер, который н(4)чем н(5) сдержиш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8"/>
          <p:cNvSpPr/>
          <p:nvPr/>
        </p:nvSpPr>
        <p:spPr>
          <a:xfrm>
            <a:off x="1600200" y="31240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1600200" y="47242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1"/>
          <p:cNvSpPr/>
          <p:nvPr/>
        </p:nvSpPr>
        <p:spPr>
          <a:xfrm>
            <a:off x="228600" y="5335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Е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поздно среди ночи он н(1) приходил с работы, она, н(2)разу н(3) позволила себе н(4) встать ем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08-16T06:30:07Z</dcterms:modified>
  <cp:revision>1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