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A85-FC2C-49B8-8B6B-4903DC3D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A7A-ABBD-47E2-873D-6DCF3266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FD0-DC81-4B17-80FC-EC2C898C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0F2-008C-4011-8E62-ED180990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2C43-9065-4D1D-8FD7-F2D8F0C5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16E5-9056-404D-A638-3F562D4C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FFF5-62E1-41C6-BF07-3E4427A5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767D-C386-4460-9549-BFC214BF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653D-441A-453F-9F40-B83B7218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0E17-3DB5-4BA8-BF35-DF2E3B4B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D694-E57A-42D3-8876-26099435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32D-0E0F-4F23-AA62-8130FC19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62E2-FE38-461A-B8F4-1196124C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0D35-9A34-4E31-8B87-DD05FDC6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F04A-FE3E-43E3-8255-5ED48A9C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1F3D-193C-460E-9C77-AAF1ABAA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9ED0-21C2-4C59-A125-D349241A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649-51F7-4925-AAF4-2BA2828D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101-9394-4327-B4B6-DF89BF05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FBC4-A988-4128-8C88-BBB98C96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528-DB90-41D9-9D5F-9C770CA4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934-A9A8-4B20-8371-4991EF1F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09A-F40F-4574-9C5A-6DEA6A9F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CE15-3978-4CFB-A871-0359B45E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C227-6302-4972-964D-B64968A46D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4C08-13FD-4177-B1BD-E5FA6B13E12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Глобальный</a:t>
            </a:r>
            <a:br>
              <a:rPr sz="4800"/>
            </a:b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этнический кризис</a:t>
            </a: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00240" y="2857320"/>
            <a:ext cx="6143760" cy="16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1 класс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лобальная география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тор: учитель МБОУ-СОШ 102 г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катеринбурга Сидельникова Н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0" y="4437000"/>
            <a:ext cx="2808360" cy="2246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6084720" y="4437000"/>
            <a:ext cx="3059280" cy="2238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3"/>
          <a:stretch/>
        </p:blipFill>
        <p:spPr>
          <a:xfrm>
            <a:off x="2771640" y="4437000"/>
            <a:ext cx="3311640" cy="224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Ассимиляция и депопуляция этноменьшинств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ественная ассимиляция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и этнические группы растворяются в других(СШ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адная Европа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ильственная ассимиляци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3"/>
          <a:stretch/>
        </p:blipFill>
        <p:spPr>
          <a:xfrm>
            <a:off x="2124000" y="4365720"/>
            <a:ext cx="1598760" cy="2158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4"/>
          <a:stretch/>
        </p:blipFill>
        <p:spPr>
          <a:xfrm>
            <a:off x="611280" y="4365720"/>
            <a:ext cx="1490400" cy="2158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5"/>
          <a:stretch/>
        </p:blipFill>
        <p:spPr>
          <a:xfrm>
            <a:off x="3708360" y="4365720"/>
            <a:ext cx="1616040" cy="2143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6"/>
          <a:stretch/>
        </p:blipFill>
        <p:spPr>
          <a:xfrm>
            <a:off x="5292720" y="4365720"/>
            <a:ext cx="2881440" cy="212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верочная рабо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1 вариант: апвелинг;                       «сгущение жизни»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2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вариант: аквакультура;               энергия течений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а № 1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готовить сообщени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остановка проблемы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ст экономической взаимозависимости между государствами делает мир неделимы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 же время стремление народов к самоидентификации делает мир неустойчивы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итическая карта мира постоянно меняетс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оявления этнического кризиса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нтролируемые национальные эмоци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иворечия  на территории бывшего ССС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3"/>
          <a:stretch/>
        </p:blipFill>
        <p:spPr>
          <a:xfrm>
            <a:off x="2987640" y="4076640"/>
            <a:ext cx="3600360" cy="255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Конфликтообразующие факторы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жнациональные конфликты не возникают по жесткой схем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озникновение конфликтов влияет огромное количество факторов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 и тот же фактор в различных регионах и при различных обстоятельствах проявляется по-разному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4"/>
          <a:stretch/>
        </p:blipFill>
        <p:spPr>
          <a:xfrm>
            <a:off x="3851280" y="115920"/>
            <a:ext cx="1942920" cy="14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7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нцип тождественности государственных и национальных границ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252360" y="1915920"/>
            <a:ext cx="836280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озможен перенос синонима «национальный интерес» - «государственный интерес» на словосочетание «государственные границы» - «национальные границы»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ритории 32 европейских стран проживает 87 национальных меньшинств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немцы живут во многих государства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3"/>
          <a:stretch/>
        </p:blipFill>
        <p:spPr>
          <a:xfrm>
            <a:off x="7529400" y="2924280"/>
            <a:ext cx="1614600" cy="208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9636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вижение наций к самоопределению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 стремление к образованию супернаций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ции стремятся к независимост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которые нации стремятся к созданию полиэтнических общносте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фликты в Азии и Африке связанные с недовольством национальных меньшинств своим подчиненным положение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4"/>
          <a:stretch/>
        </p:blipFill>
        <p:spPr>
          <a:xfrm>
            <a:off x="7020000" y="3330720"/>
            <a:ext cx="2124000" cy="1592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5"/>
          <a:stretch/>
        </p:blipFill>
        <p:spPr>
          <a:xfrm>
            <a:off x="0" y="0"/>
            <a:ext cx="1692360" cy="133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Движение наций к самоопределению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и стремление к образованию супернаций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252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которые лидеры арабского мира пытаются образовать единый арабский «неохалифат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ование крупной полиэтнической  общности в США:раньше США сравнивались с гигантским котло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США ассоциируются с «лоскутным одеялом»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7236000" y="5300640"/>
            <a:ext cx="1800000" cy="1341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4"/>
          <a:stretch/>
        </p:blipFill>
        <p:spPr>
          <a:xfrm>
            <a:off x="6948360" y="2708280"/>
            <a:ext cx="2195640" cy="174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«Старение» наций и дестабилизация межэтнических отношений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1471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цесс «старения» отдельных этносов (западноевропейских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блемы: снижение рождаемости и увеличение продолжительности жизни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глощение чужеродными этносами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играционные процессы вносят изменения в национальную структуру(доля детей мигрантов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родившихся в европейских странах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ше доли детей  коренных европейцев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3"/>
          <a:stretch/>
        </p:blipFill>
        <p:spPr>
          <a:xfrm>
            <a:off x="6877080" y="5205240"/>
            <a:ext cx="2016000" cy="149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Ассимиляция и депопуляция этноменьшинств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рата малыми этносами своего язык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культуры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лиги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ционального самосознани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осмесительные брак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зкая рождаемость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рицательный»  естественный прирост населени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старение наци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4"/>
          <a:stretch/>
        </p:blipFill>
        <p:spPr>
          <a:xfrm>
            <a:off x="7765920" y="4508640"/>
            <a:ext cx="1378080" cy="217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5:16:39Z</dcterms:created>
  <dc:creator>Anton</dc:creator>
  <dc:description/>
  <dc:language>en-US</dc:language>
  <cp:lastModifiedBy>I</cp:lastModifiedBy>
  <dcterms:modified xsi:type="dcterms:W3CDTF">2012-10-02T13:34:55Z</dcterms:modified>
  <cp:revision>20</cp:revision>
  <dc:subject/>
  <dc:title>Глобальный этнический кризис.</dc:title>
</cp:coreProperties>
</file>