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4F5-2887-4159-9662-A4A3B127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AC5-66EE-4E93-A044-C2740EA2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29D-045E-41F2-B7B3-3371C72A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618-5A23-43C7-8EE6-FCB19C91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B551-DF28-48C9-9FE0-82020880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C5F2-B5FC-4F16-95C7-C17B546C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58AE-F42D-42D0-90FE-B4A6B093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C2F-FA01-40CB-8F53-FBDB1AFB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D8A6-0003-415B-86C1-2A54E6FB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A74F-606A-47C9-B1A9-D857FD2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B1A2-482E-47E9-ADB3-42F0731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3CB-5106-41FF-A278-C40ABC5B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9028-BBFD-487F-B090-447E512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3883-2D1F-4919-BC3E-F7083AD5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EE01-A482-4724-9EFA-F0B02A6A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1081-126C-4FE3-B7AA-BE537E4C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D6F9-83E7-4182-BD8E-9E004ACE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1EC-885A-4CE9-8068-CCF7CBA9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7CB-B3E5-4B42-A2D2-54323B67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F4E-A22E-469C-9BDC-05251224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E5F-3D44-47D3-80A6-A5CD6F86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5D5-E6A7-4EBB-AF34-D16700A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A7F-E71C-4C22-AC76-3595AB8B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122-0FA0-4035-A974-23D5A84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AC57-1BFB-47CE-A897-34C537E79A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FB96-A850-4F96-8E59-E8FFCF126A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Глобальный</a:t>
            </a:r>
            <a:br>
              <a:rPr sz="4800"/>
            </a:b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этнический кризис</a:t>
            </a: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00240" y="2857320"/>
            <a:ext cx="6143760" cy="16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 класс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лобальная география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: учитель МБОУ-СОШ 102 г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катеринбурга Сидельникова Н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4437000"/>
            <a:ext cx="2808360" cy="2246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3059280" cy="2238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2771640" y="4437000"/>
            <a:ext cx="3311640" cy="22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ссимиляция и депопуляция этноменьшинств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ественная ассимиляция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 этнические группы растворяются в других(СШ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адная Европа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ильственная ассимиляц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2124000" y="4365720"/>
            <a:ext cx="1598760" cy="2158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>
            <a:off x="611280" y="4365720"/>
            <a:ext cx="1490400" cy="2158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3708360" y="4365720"/>
            <a:ext cx="1616040" cy="2143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5292720" y="4365720"/>
            <a:ext cx="2881440" cy="212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верочная рабо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 вариант: апвелинг;                       «сгущение жизни»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вариант: аквакультура;               энергия течений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№ 1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готовить сообщен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становка проблемы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ст экономической взаимозависимости между государствами делает мир неделимы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 же время стремление народов к самоидентификации делает мир неустойчивы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тическая карта мира постоянно меняетс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оявления этнического кризиса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нтролируемые национальные эмоци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оречия  на территории бывшего ССС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2987640" y="4076640"/>
            <a:ext cx="3600360" cy="255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онфликтообразующие факторы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национальные конфликты не возникают по жесткой схем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озникновение конфликтов влияет огромное количество факторо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и тот же фактор в различных регионах и при различных обстоятельствах проявляется по-разному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4"/>
          <a:stretch/>
        </p:blipFill>
        <p:spPr>
          <a:xfrm>
            <a:off x="3851280" y="115920"/>
            <a:ext cx="1942920" cy="14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7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тождественности государственных и национальных границ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252360" y="1915920"/>
            <a:ext cx="8362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озможен перенос синонима «национальный интерес» - «государственный интерес» на словосочетание «государственные границы» - «национальные границы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ритории 32 европейских стран проживает 87 национальных меньшинст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мцы живут во многих государства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7529400" y="2924280"/>
            <a:ext cx="1614600" cy="208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вижение наций к самоопределению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 стремление к образованию супернаций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ции стремятся к независимост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торые нации стремятся к созданию полиэтнических общносте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фликты в Азии и Африке связанные с недовольством национальных меньшинств своим подчиненным положение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4"/>
          <a:stretch/>
        </p:blipFill>
        <p:spPr>
          <a:xfrm>
            <a:off x="7020000" y="333072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1692360" cy="13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вижение наций к самоопределению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 стремление к образованию супернаций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252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которые лидеры арабского мира пытаются образовать единый арабский «неохалифат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ование крупной полиэтнической  общности в США:раньше США сравнивались с гигантским котло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США ассоциируются с «лоскутным одеялом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7236000" y="5300640"/>
            <a:ext cx="1800000" cy="13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4"/>
          <a:stretch/>
        </p:blipFill>
        <p:spPr>
          <a:xfrm>
            <a:off x="6948360" y="2708280"/>
            <a:ext cx="219564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Старение» наций и дестабилизация межэтнических отношений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цесс «старения» отдельных этносов (западноевропейских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лемы: снижение рождаемости и увеличение продолжительности жизни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глощение чужеродными этносами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грационные процессы вносят изменения в национальную структуру(доля детей мигранто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одившихся в европейских странах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ше доли детей  коренных европейцев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6877080" y="5205240"/>
            <a:ext cx="2016000" cy="149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ссимиляция и депопуляция этноменьшинств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рата малыми этносами своего язык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ультур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лиги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ционального самосознан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осмесительные брак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зкая рождаемост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рицательный»  естественный прирост населен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старение наци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7765920" y="4508640"/>
            <a:ext cx="1378080" cy="217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5:16:39Z</dcterms:created>
  <dc:creator>Anton</dc:creator>
  <dc:description/>
  <dc:language>en-US</dc:language>
  <cp:lastModifiedBy>I</cp:lastModifiedBy>
  <dcterms:modified xsi:type="dcterms:W3CDTF">2012-10-02T13:34:55Z</dcterms:modified>
  <cp:revision>20</cp:revision>
  <dc:subject/>
  <dc:title>Глобальный этнический кризис.</dc:title>
</cp:coreProperties>
</file>