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CADA-79FD-4D02-858C-669E07EBB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4E2C-1177-4EC6-9CAE-66CC88343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00EE-9976-401C-A2F8-04DB3F304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625A-B222-41BA-B634-E5684DBFC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FAF2C-7B32-497A-ADAE-2259E3D93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8DF42-F1BB-4FF5-96DE-E1EF0986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822C0-7723-4104-B5E1-F9C8B14F3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74A48-8390-4781-BB2A-D1E2980D7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BC5D5-708C-4CCD-92F8-57B9CD544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08896-5908-49BA-9D93-1592B2980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2CADB-DFA4-4A5D-B34B-E8D0797F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1D86-0D60-425B-B9FB-B9B5D8203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BA8F0-AFD5-4AE9-B4A0-D2362D91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1A125-5560-4C78-927E-F81DC954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273ED-3F17-4BEA-86DE-5BB4C1FAD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64D51-B9BC-4038-AAFB-4BB242F12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7D962-9BDF-4435-AD8C-B32722A71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E8E91-8383-4A80-B65E-015D3540F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A6E47-F65D-493C-A42A-2FF26F261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D370A-C402-4DCF-92D3-69403C80C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573A0-FB98-4AD1-8360-690BEC8B6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A665A-1284-412A-8817-A79368573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7FF5-0D09-4380-9C7A-2019E2C68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92816-AB20-4C29-9C5A-F55EC882C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B60F2-8777-4FD9-BBCC-983BF6F3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C31A3-090C-4E17-879C-E36848AE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BAEE0-4EAC-4A1B-B1DA-7DBF5E93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5B54D-BF9E-4D6E-AF87-D0A201B7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C9748-85DB-40CC-937A-E67243557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43855-F1C3-448D-B94F-0253D85B9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7A3A2-42FB-4A3C-9B3F-BD83D1902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35DC3-2C4C-441D-8928-3EBE50127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033B2-D45B-4283-99F4-17B252130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16AF-CF34-4D31-8DAD-65DF6AF64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5C88B-2FC9-43F5-B8BC-12BD2CFAD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40C5E-7714-44CD-80CF-852FF78ED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AB21D-F45C-449D-9C4C-88AC7E3FA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6F355-8628-4277-861B-30AA4F57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3E6CC-DA0F-42C1-B2B2-40D3049A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B4E37-A223-4CAD-A436-AF05E7DF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C56AC-8C1D-4EC7-80AB-8D4BA2729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211FB-115E-4385-A459-A14C9CFD5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CE956-C133-48F6-BA0B-CE7318824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07505-98F2-404F-88C5-8CE32AC83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78B1-DB93-4367-9BA1-95E9FEF9E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C3D55-E04E-4C23-93D1-66FBACFFF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9694B-9C39-4EF0-85FA-5671EC8D2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D4FC2-04F2-4CA6-8C0A-BFD48578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3A71D-31DC-4A8C-A373-E2102A43E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D5DE2-436C-4E17-B39D-3A2EC9BC3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F2847-FA39-4548-A842-DB35C761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AD3F4-D88F-4F8D-BADC-DCE11DD1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1B2A6-B03A-466C-BF69-8BE01A90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52C03-D58D-491A-B1B0-EC775E515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966DA-C7A4-45F4-9A38-2DD7D9B67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33AC-3442-4271-947E-8486DD493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A0BA0-C672-4920-990E-899085426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6A9E-0950-48C6-B9DF-1B9C4888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29F9-E65A-46D9-B1E6-0BD1975A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3170-3B09-4558-878B-72A50C4D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35004-CDB7-44D6-8783-199CBA0B7BBB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6394C-0F86-4159-9782-B391BBAC1BAF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292CC-0E04-41D0-BE01-287471349D62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19CC-672F-4771-A348-919C44D91E55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A0B2C-2DA9-4BE1-B71F-A6E03F038040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54E35-202B-4749-80B0-C5FC39EE70B2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3126-8F95-4ADE-BBDA-2A25FB4D9086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8E372-6C24-4404-8140-7E84DB2C55FD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48545-17DA-475F-BE37-C68692A751B2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5C24D-980E-475E-BF34-2F953FA17B76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2879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ff8d3e"/>
                </a:solidFill>
                <a:latin typeface="Verdana"/>
              </a:rPr>
              <a:t>«</a:t>
            </a: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ИССЛЕДОВАТЕЛЬСКАЯ ДЕЯТЕЛЬНОСТЬ ОБУЧАЮЩИХСЯ ПО РЕАЛИЗАЦИИ ПРОФЕССИОНАЛЬНОГО САМООПРЕДЕЛЕНИЯ КАК ФАКТОР РАЗВИТИЯ ПОЗНАВАТЕЛЬНОЙ АКТИВНОСТИ</a:t>
            </a:r>
            <a:r>
              <a:rPr b="1" i="1" lang="ru-RU" sz="2400" spc="-1" strike="noStrike">
                <a:solidFill>
                  <a:srgbClr val="ff8d3e"/>
                </a:solidFill>
                <a:latin typeface="Verdana"/>
              </a:rPr>
              <a:t>»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324000" y="3860640"/>
            <a:ext cx="842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000" spc="-1" strike="noStrike">
              <a:solidFill>
                <a:srgbClr val="79766f"/>
              </a:solidFill>
              <a:latin typeface="Verdana"/>
            </a:endParaRPr>
          </a:p>
        </p:txBody>
      </p:sp>
      <p:sp>
        <p:nvSpPr>
          <p:cNvPr id="222" name="TextBox 4"/>
          <p:cNvSpPr/>
          <p:nvPr/>
        </p:nvSpPr>
        <p:spPr>
          <a:xfrm>
            <a:off x="1928880" y="5516640"/>
            <a:ext cx="6964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Калмыкова Л. В., учитель химии МОУ СОШ № 6, г. Волгогра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Коннова О. В., учитель физики МОУ СОШ № 6, г.Волгоград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Усик И.В., учитель географии МОУ СОШ № 6, г.Волгогра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5"/>
          <p:cNvSpPr/>
          <p:nvPr/>
        </p:nvSpPr>
        <p:spPr>
          <a:xfrm>
            <a:off x="3276720" y="6519960"/>
            <a:ext cx="24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олгоград, 2012 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Дата 5"/>
          <p:cNvSpPr/>
          <p:nvPr/>
        </p:nvSpPr>
        <p:spPr>
          <a:xfrm>
            <a:off x="3776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8691A-495E-4B1B-BCC4-177A7054911B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Номер слайда 6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C94BB-E530-4235-B877-5CA018CD92C7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95280" y="475920"/>
            <a:ext cx="8075520" cy="5473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ыпускница 2006 учебного года Зайцева Наталья закончила Машиностроительный  факультет Волгоградского Государственного Технического университета, является аспиранткой кафедры Автоматизации производственных процессов. В школьные годы Наталья активно занималась исследовательской деятельностью по физике, занимая призовые места в районных конференциях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ыпускница 2007 учебного года Белоконева Кристина являлась неоднократным призером исследовательских конкурсов и конференций различных уровней по химии и физике. В данное время успешно защищает свои исследовательские работы по химии в ВолгГМУ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 кафедре естествознания ВГПУ обучается Екатерина Назаренко, которая уже в 1 семестре успела защитить свои исследовательские работы по географическому  краеведению, ее исследования по географии были лучшими в районной конференции в 2009 году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1" name="Picture 4" descr=""/>
          <p:cNvPicPr/>
          <p:nvPr/>
        </p:nvPicPr>
        <p:blipFill>
          <a:blip r:embed="rId1"/>
          <a:stretch/>
        </p:blipFill>
        <p:spPr>
          <a:xfrm>
            <a:off x="9901080" y="378936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292" name="TextBox 8"/>
          <p:cNvSpPr/>
          <p:nvPr/>
        </p:nvSpPr>
        <p:spPr>
          <a:xfrm>
            <a:off x="2357280" y="642960"/>
            <a:ext cx="39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07f09"/>
                </a:solidFill>
                <a:latin typeface="Arial"/>
              </a:rPr>
              <a:t>ВЫПУСКНИКИ МОУ СОШ №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Дата 4"/>
          <p:cNvSpPr/>
          <p:nvPr/>
        </p:nvSpPr>
        <p:spPr>
          <a:xfrm>
            <a:off x="3776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C9C86-7F9A-4D0F-90BA-93470BB6DC40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Номер слайда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3BAFB-1772-4B48-ABA9-5B71DB97F1C2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Результаты исследования в области химии, физики, географии 2009-2011 </a:t>
            </a: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571680" y="1714320"/>
            <a:ext cx="8183520" cy="4429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07f09"/>
                </a:solidFill>
                <a:latin typeface="Verdana"/>
              </a:rPr>
              <a:t>Апробация исследовательской работы Шевченко Софьи «Высокий каблук: снимите это немедленно!»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ородской конкурс учебно- исследовательских работ им. В.И. Вернадского (школьная НПК)-  1 место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ородской конкурс учебно- исследовательских работ им. В.И. Вернадского (районная НПК)-  3 место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ородской этап областного конкурса исследовательских работ «Здоровье нации начинается с тебя!»- 1место (номинация «Информационный буклет»), Гран при (номинация «Презентация»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областной фестиваль презентаций социальных проектов, секция ЗОЖ- 2 место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сероссийский конкурс учебно- исследовательских и проектных работ «Первые шаги»-  диплом 1 степен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аочный конкурс исследовательских работ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межрегионального фестиваля науки и искусства «ЛИК» - диплом 1 степен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ЛИКовские чтения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очного) этапа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межрегионального фестиваля науки и искусства «ЛИК»- диплом 1 степен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I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Открытая Международная  научно-исследовательская конференцию молодых исследователей (старшеклассников и студентов) «Образование Наука Профессия»- участ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Дата 3"/>
          <p:cNvSpPr/>
          <p:nvPr/>
        </p:nvSpPr>
        <p:spPr>
          <a:xfrm>
            <a:off x="3776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B594E-FF16-4BB9-AB15-150918DA54A8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Номер слайда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99C75-8623-47F6-9F88-71EAE8831CBF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Результаты исследования в области химии, физики, географии 2009-2011 </a:t>
            </a: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571680" y="1714320"/>
            <a:ext cx="8183520" cy="4429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07f09"/>
                </a:solidFill>
                <a:latin typeface="Verdana"/>
              </a:rPr>
              <a:t>Апробация исследовательской работы Соловьевой Василисы и Усковой Кристины  «Школьная столовая- зона здорового питания обучающихся»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ородской конкурс учебно- исследовательских работ им. В.И. Вернадского (школьная НПК)-  1 место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ородской конкурс учебно- исследовательских работ им. В.И. Вернадского (районная НПК)-  1 место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ородской конкурс учебно- исследовательских работ им. В.И. Вернадского (городская НПК)-  3 место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ородской конкурс учебно- исследовательских работ «Молодежь в защиту природы»-  3 место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ородской этап областного конкурса исследовательских работ «Здоровье нации начинается с тебя!»- 2 место (номинация «Информационный буклет»), 3 место (номинация «Презентация»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областной фестиваль презентаций социальных проектов, секция ЗОЖ-3 место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сероссийский конкурс учебно- исследовательских и проектных работ «Первые шаги»-  диплом 1 степен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аочный конкурс исследовательских работ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межрегионального фестиваля науки и искусства «ЛИК» - диплом 3 степен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ЛИКовские чтения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очного) этапа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межрегионального фестиваля науки и искусства «ЛИК»- диплом 3 степен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I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Открытая Международная  научно-исследовательская конференцию молодых исследователей (старшеклассников и студентов) «Образование Наука Профессия»- участ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Дата 3"/>
          <p:cNvSpPr/>
          <p:nvPr/>
        </p:nvSpPr>
        <p:spPr>
          <a:xfrm>
            <a:off x="3776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24301-D05C-4B3F-AF94-02148CBC136D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Номер слайда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F950E-956F-4D47-ACA4-DC2DC47E7E52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Результаты исследования в области химии, физики, географии 2009-2011 </a:t>
            </a: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571680" y="1714320"/>
            <a:ext cx="8183520" cy="4429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07f09"/>
                </a:solidFill>
                <a:latin typeface="Verdana"/>
              </a:rPr>
              <a:t>Апробация исследовательской работы Мартиросяна Вачагана и Мартиросяна Мнацакана</a:t>
            </a:r>
            <a:r>
              <a:rPr b="1" lang="ru-RU" sz="1200" spc="-1" strike="noStrike">
                <a:solidFill>
                  <a:srgbClr val="f07f09"/>
                </a:solidFill>
                <a:latin typeface="Verdana"/>
              </a:rPr>
              <a:t> </a:t>
            </a:r>
            <a:r>
              <a:rPr b="1" i="1" lang="ru-RU" sz="1200" spc="-1" strike="noStrike">
                <a:solidFill>
                  <a:srgbClr val="f07f09"/>
                </a:solidFill>
                <a:latin typeface="Verdana"/>
              </a:rPr>
              <a:t>«Выявление и разрешение социально- экологических проблем улицы Хиросимы»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ородской конкурс учебно- исследовательских работ им. В.И. Вернадского (школьная НПК)-  1 место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ородской конкурс учебно- исследовательских работ им. В.И. Вернадского (районная НПК)-  1 место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ородской конкурс учебно- исследовательских работ им. В.И. Вернадского (городская НПК)-  3 место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ородской конкурс учебно- исследовательских работ «Молодежь в защиту природы»-  2 место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ородской этап областного конкурса исследовательских работ «Здоровье нации начинается с тебя!»- 3 место (номинация «Информационный буклет»), 2 место (номинация «Презентация»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ластной конкурс учебно-исследовательских работ  и творческих проектов «Где мысль работать не устала»-  1 место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областной фестиваль презентаций социальных проектов, секция ЗОЖ- лауреат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сероссийский конкурс учебно- исследовательских и проектных работ «Первые шаги»-  диплом 1 степен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I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Открытая Международная  научно-исследовательская конференцию молодых исследователей (старшеклассников и студентов) «Образование Наука Профессия»- участ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Дата 3"/>
          <p:cNvSpPr/>
          <p:nvPr/>
        </p:nvSpPr>
        <p:spPr>
          <a:xfrm>
            <a:off x="3776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23F01-544B-4B5D-9F5C-A6CCD3E0B967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Номер слайда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276D5-F2EB-4143-AACF-94822EBBE417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3280" y="404640"/>
            <a:ext cx="8183520" cy="11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Исследовательская деятельность учащихся в рамках предметов: химии, географии,  физики: 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539640" y="1642680"/>
            <a:ext cx="8183520" cy="1281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пособствует формированию  высокого уровня знаний учащихся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является эффективным средством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ормирования естественнонаучных знаний и умени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09" name="Диаграмма 6"/>
          <p:cNvGraphicFramePr/>
          <p:nvPr/>
        </p:nvGraphicFramePr>
        <p:xfrm>
          <a:off x="488880" y="2801880"/>
          <a:ext cx="5646960" cy="3702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0" name="Диаграмма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880" y="2801880"/>
                    <a:ext cx="5646960" cy="370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Прямоугольник 8"/>
          <p:cNvSpPr/>
          <p:nvPr/>
        </p:nvSpPr>
        <p:spPr>
          <a:xfrm>
            <a:off x="6012000" y="3429000"/>
            <a:ext cx="24890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 7а, 7б, 8а, 9а и в 10-х классах учащиеся более активны вовлечены в исследовательскую деятельн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Дата 5"/>
          <p:cNvSpPr/>
          <p:nvPr/>
        </p:nvSpPr>
        <p:spPr>
          <a:xfrm>
            <a:off x="3776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8BC05-441E-455E-97F1-19002AB3F677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Номер слайда 6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9D25F-7375-4A0B-A4AB-40F38CD4AB9D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3280" y="404640"/>
            <a:ext cx="81835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Кроме того: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503280" y="1628280"/>
            <a:ext cx="8183520" cy="4248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се обучающиеся, которые принимали участие в данных исследованиях, уже определились с выбором будущих профессий, которые тесно связаны с их практической деятельностью в школ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2400" spc="-1" strike="noStrike">
                <a:solidFill>
                  <a:srgbClr val="f07f09"/>
                </a:solidFill>
                <a:latin typeface="Verdana"/>
              </a:rPr>
              <a:t>Таким образом, исследовательская деятельность обучающихся в реализации профессионального самоопределения является способом развития их познавательной активнос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Дата 3"/>
          <p:cNvSpPr/>
          <p:nvPr/>
        </p:nvSpPr>
        <p:spPr>
          <a:xfrm>
            <a:off x="3776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3DCA6-F05B-4322-8587-FF461D7757C9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Номер слайда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BB77F-2E3F-4BC0-94E3-ED9DAE22E9C2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Важнейшее социальное требование к школе: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57120" y="1571760"/>
            <a:ext cx="8183520" cy="36129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ейшее социальное требование к школе-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витие личности школьника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го профессиональная мотивация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ирование у него познавательных способностей, необходимых для успешной социализации в обществ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Дата 3"/>
          <p:cNvSpPr/>
          <p:nvPr/>
        </p:nvSpPr>
        <p:spPr>
          <a:xfrm>
            <a:off x="3776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C5D26-3ECD-4C22-BD19-BBEE1243E417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Номер слайда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16705-F048-4D2D-80E4-FA85174DC2D1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Требования к результатам обучения ФГОС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24000" y="1557000"/>
            <a:ext cx="8183520" cy="1871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реди главных  отличий  нового образовательного стандарта от прежнего: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выделение 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редметных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надпредметных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и 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личностных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  требования к результатам обучения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 большое внимание уделяется условиям, в которых протекает образовательный процесс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Rectangle 2"/>
          <p:cNvSpPr/>
          <p:nvPr/>
        </p:nvSpPr>
        <p:spPr>
          <a:xfrm>
            <a:off x="468360" y="3555360"/>
            <a:ext cx="82803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07f09"/>
                </a:solidFill>
                <a:latin typeface="Verdana"/>
                <a:ea typeface="Times New Roman"/>
              </a:rPr>
              <a:t>Основная цель общего среднего образования в России (согласно стратегии модернизации содержания общего образования) – </a:t>
            </a:r>
            <a:r>
              <a:rPr b="1" i="1" lang="ru-RU" sz="1600" spc="-1" strike="noStrike" u="sng">
                <a:solidFill>
                  <a:srgbClr val="f07f09"/>
                </a:solidFill>
                <a:uFillTx/>
                <a:latin typeface="Verdana"/>
                <a:ea typeface="Times New Roman"/>
              </a:rPr>
              <a:t>подготовка разносторонне развитой личности гражданина,</a:t>
            </a:r>
            <a:r>
              <a:rPr b="1" i="1" lang="ru-RU" sz="1600" spc="-1" strike="noStrike">
                <a:solidFill>
                  <a:srgbClr val="f07f09"/>
                </a:solidFill>
                <a:latin typeface="Verdana"/>
                <a:ea typeface="Times New Roman"/>
              </a:rPr>
              <a:t> ориентирующейся в традициях отечественной и мировой культуры, в системе ценностей и потребностях современной жизни, личности, </a:t>
            </a:r>
            <a:r>
              <a:rPr b="1" i="1" lang="ru-RU" sz="1600" spc="-1" strike="noStrike" u="sng">
                <a:solidFill>
                  <a:srgbClr val="f07f09"/>
                </a:solidFill>
                <a:uFillTx/>
                <a:latin typeface="Verdana"/>
                <a:ea typeface="Times New Roman"/>
              </a:rPr>
              <a:t>способной к активной социальной адаптации в обществе </a:t>
            </a:r>
            <a:r>
              <a:rPr b="1" i="1" lang="ru-RU" sz="1600" spc="-1" strike="noStrike">
                <a:solidFill>
                  <a:srgbClr val="f07f09"/>
                </a:solidFill>
                <a:latin typeface="Verdana"/>
                <a:ea typeface="Times New Roman"/>
              </a:rPr>
              <a:t>и самостоятельному жизненному выбору, к началу трудовой деятельности и продолжению профессионального образования, к самообразованию и самосовершенствовани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Дата 4"/>
          <p:cNvSpPr/>
          <p:nvPr/>
        </p:nvSpPr>
        <p:spPr>
          <a:xfrm>
            <a:off x="3776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E82DB-EB0D-42EB-9536-ECCFCD5FC6A0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Номер слайда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F2758-C19B-480C-8E0D-8341C84A3AC8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07f09"/>
                </a:solidFill>
                <a:latin typeface="Verdana"/>
              </a:rPr>
              <a:t>Особенности мотивационной сферы старшеклассников: 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9640" y="1700280"/>
            <a:ext cx="8183520" cy="4176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большая избирательность познавательных мотивов. Все виды познавательных мотивов становятся смыслообразующими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нтерес к заданиям становится более глубоким, затрагивает не только закономерности данного предмета, но и основы наук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чебно-познавательный мотив совершенствуется как интерес к методам теоретического и творческого мышления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явление единства процессуальной и результативной мотивации учения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звиваются мотивы и способы самообразовательной деятельности. Появляется новый познавательный мотив самообразования – стремление к анализу индивидуального стиля своей образовательной деятельности, определение сильных и слабых сторон своей учебной работы, стремление понять и выразить свою индивидуальность в ходе уче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Заголовок 1"/>
          <p:cNvSpPr/>
          <p:nvPr/>
        </p:nvSpPr>
        <p:spPr>
          <a:xfrm>
            <a:off x="539640" y="476280"/>
            <a:ext cx="81835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Дата 5"/>
          <p:cNvSpPr/>
          <p:nvPr/>
        </p:nvSpPr>
        <p:spPr>
          <a:xfrm>
            <a:off x="3776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BBE23-49DB-4D3A-AB74-A7077B005CF7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Номер слайда 6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9716F-ECCC-473B-AD1F-73EF6AA56C05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Содержимое 4" descr=""/>
          <p:cNvPicPr/>
          <p:nvPr/>
        </p:nvPicPr>
        <p:blipFill>
          <a:blip r:embed="rId1"/>
          <a:stretch/>
        </p:blipFill>
        <p:spPr>
          <a:xfrm>
            <a:off x="450720" y="476280"/>
            <a:ext cx="8266320" cy="4278240"/>
          </a:xfrm>
          <a:prstGeom prst="rect">
            <a:avLst/>
          </a:prstGeom>
          <a:ln w="0">
            <a:noFill/>
          </a:ln>
        </p:spPr>
      </p:pic>
      <p:sp>
        <p:nvSpPr>
          <p:cNvPr id="241" name="Дата 2"/>
          <p:cNvSpPr/>
          <p:nvPr/>
        </p:nvSpPr>
        <p:spPr>
          <a:xfrm>
            <a:off x="3776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6E4BC-EC66-45A3-A61D-90179ADE5371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Номер слайда 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F3264-0A39-42ED-8AC9-ECEBDAA56D92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183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Науки естественнонаучного цикла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71680" y="1428480"/>
            <a:ext cx="8183520" cy="2950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преподавании наук естественнонаучного цикла мы следуем концепции развивающего и проблемного обучения, соединяем проблемы, выявляемые на уроках химии, физики и географ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Скругленный прямоугольник 3"/>
          <p:cNvSpPr/>
          <p:nvPr/>
        </p:nvSpPr>
        <p:spPr>
          <a:xfrm>
            <a:off x="3714840" y="3000240"/>
            <a:ext cx="1800000" cy="64800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Естест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у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Овал 8"/>
          <p:cNvSpPr/>
          <p:nvPr/>
        </p:nvSpPr>
        <p:spPr>
          <a:xfrm>
            <a:off x="642960" y="3000240"/>
            <a:ext cx="1440000" cy="57636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хим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Овал 13"/>
          <p:cNvSpPr/>
          <p:nvPr/>
        </p:nvSpPr>
        <p:spPr>
          <a:xfrm>
            <a:off x="6357960" y="3000240"/>
            <a:ext cx="2016000" cy="71928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математ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Овал 14"/>
          <p:cNvSpPr/>
          <p:nvPr/>
        </p:nvSpPr>
        <p:spPr>
          <a:xfrm>
            <a:off x="971640" y="4437000"/>
            <a:ext cx="1886040" cy="57636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географ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Овал 15"/>
          <p:cNvSpPr/>
          <p:nvPr/>
        </p:nvSpPr>
        <p:spPr>
          <a:xfrm>
            <a:off x="3635280" y="4508640"/>
            <a:ext cx="2089080" cy="57600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физ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Овал 16"/>
          <p:cNvSpPr/>
          <p:nvPr/>
        </p:nvSpPr>
        <p:spPr>
          <a:xfrm>
            <a:off x="6516720" y="4508640"/>
            <a:ext cx="1871640" cy="57600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биолог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1" name="Прямая со стрелкой 18"/>
          <p:cNvCxnSpPr/>
          <p:nvPr/>
        </p:nvCxnSpPr>
        <p:spPr>
          <a:xfrm flipH="1" flipV="1">
            <a:off x="2143080" y="3357360"/>
            <a:ext cx="1440360" cy="3600"/>
          </a:xfrm>
          <a:prstGeom prst="straightConnector1">
            <a:avLst/>
          </a:prstGeom>
          <a:ln w="9360">
            <a:solidFill>
              <a:srgbClr val="ff8000"/>
            </a:solidFill>
            <a:miter/>
            <a:tailEnd len="med" type="arrow" w="med"/>
          </a:ln>
        </p:spPr>
      </p:cxnSp>
      <p:cxnSp>
        <p:nvCxnSpPr>
          <p:cNvPr id="252" name="Прямая со стрелкой 27"/>
          <p:cNvCxnSpPr>
            <a:stCxn id="245" idx="3"/>
          </p:cNvCxnSpPr>
          <p:nvPr/>
        </p:nvCxnSpPr>
        <p:spPr>
          <a:xfrm>
            <a:off x="5514840" y="3324240"/>
            <a:ext cx="720000" cy="108720"/>
          </a:xfrm>
          <a:prstGeom prst="straightConnector1">
            <a:avLst/>
          </a:prstGeom>
          <a:ln w="9360">
            <a:solidFill>
              <a:srgbClr val="ff8000"/>
            </a:solidFill>
            <a:miter/>
            <a:tailEnd len="med" type="arrow" w="med"/>
          </a:ln>
        </p:spPr>
      </p:cxnSp>
      <p:cxnSp>
        <p:nvCxnSpPr>
          <p:cNvPr id="253" name="Прямая со стрелкой 29"/>
          <p:cNvCxnSpPr>
            <a:endCxn id="248" idx="7"/>
          </p:cNvCxnSpPr>
          <p:nvPr/>
        </p:nvCxnSpPr>
        <p:spPr>
          <a:xfrm flipH="1">
            <a:off x="2580480" y="3645000"/>
            <a:ext cx="1127880" cy="876960"/>
          </a:xfrm>
          <a:prstGeom prst="straightConnector1">
            <a:avLst/>
          </a:prstGeom>
          <a:ln w="9360">
            <a:solidFill>
              <a:srgbClr val="ff8000"/>
            </a:solidFill>
            <a:miter/>
            <a:tailEnd len="med" type="arrow" w="med"/>
          </a:ln>
        </p:spPr>
      </p:cxnSp>
      <p:cxnSp>
        <p:nvCxnSpPr>
          <p:cNvPr id="254" name="Прямая со стрелкой 31"/>
          <p:cNvCxnSpPr>
            <a:endCxn id="250" idx="1"/>
          </p:cNvCxnSpPr>
          <p:nvPr/>
        </p:nvCxnSpPr>
        <p:spPr>
          <a:xfrm>
            <a:off x="5435280" y="3644640"/>
            <a:ext cx="1354680" cy="950040"/>
          </a:xfrm>
          <a:prstGeom prst="straightConnector1">
            <a:avLst/>
          </a:prstGeom>
          <a:ln w="9360">
            <a:solidFill>
              <a:srgbClr val="ff8000"/>
            </a:solidFill>
            <a:miter/>
            <a:tailEnd len="med" type="arrow" w="med"/>
          </a:ln>
        </p:spPr>
      </p:cxnSp>
      <p:cxnSp>
        <p:nvCxnSpPr>
          <p:cNvPr id="255" name="Прямая со стрелкой 22"/>
          <p:cNvCxnSpPr/>
          <p:nvPr/>
        </p:nvCxnSpPr>
        <p:spPr>
          <a:xfrm>
            <a:off x="4642920" y="3716280"/>
            <a:ext cx="1080" cy="721440"/>
          </a:xfrm>
          <a:prstGeom prst="straightConnector1">
            <a:avLst/>
          </a:prstGeom>
          <a:ln w="9360">
            <a:solidFill>
              <a:srgbClr val="ff8000"/>
            </a:solidFill>
            <a:miter/>
            <a:tailEnd len="med" type="arrow" w="med"/>
          </a:ln>
        </p:spPr>
      </p:cxnSp>
      <p:sp>
        <p:nvSpPr>
          <p:cNvPr id="256" name="Прямоугольник 21"/>
          <p:cNvSpPr/>
          <p:nvPr/>
        </p:nvSpPr>
        <p:spPr>
          <a:xfrm>
            <a:off x="500040" y="5429160"/>
            <a:ext cx="817740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32"/>
          <p:cNvSpPr/>
          <p:nvPr/>
        </p:nvSpPr>
        <p:spPr>
          <a:xfrm>
            <a:off x="500040" y="5429160"/>
            <a:ext cx="79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м применять знания, умения и навыки, полученные на уроках для формирования профессиональной мотивации школь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Дата 17"/>
          <p:cNvSpPr/>
          <p:nvPr/>
        </p:nvSpPr>
        <p:spPr>
          <a:xfrm>
            <a:off x="3776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8B731-1653-49E1-AD73-AF18534169A5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Номер слайда 19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D458F-8D66-4CA0-99FE-5C0A6FBF6E96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503280" y="529920"/>
            <a:ext cx="8183520" cy="1243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lvl="4" marL="1279440" indent="-182520" algn="just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07f09"/>
                </a:solidFill>
                <a:latin typeface="Verdana"/>
              </a:rPr>
              <a:t>Всестороннее развитие личности ученика через участие в общественно-значимой практической деятельности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Стрелка вниз 3"/>
          <p:cNvSpPr/>
          <p:nvPr/>
        </p:nvSpPr>
        <p:spPr>
          <a:xfrm>
            <a:off x="2000160" y="171468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4"/>
          <p:cNvSpPr/>
          <p:nvPr/>
        </p:nvSpPr>
        <p:spPr>
          <a:xfrm>
            <a:off x="611280" y="2781360"/>
            <a:ext cx="3240000" cy="136188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роектная деятельнос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рофессиональные проб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Стрелка вниз 5"/>
          <p:cNvSpPr/>
          <p:nvPr/>
        </p:nvSpPr>
        <p:spPr>
          <a:xfrm>
            <a:off x="4286160" y="1857240"/>
            <a:ext cx="432000" cy="3024360"/>
          </a:xfrm>
          <a:prstGeom prst="downArrow">
            <a:avLst>
              <a:gd name="adj1" fmla="val 50000"/>
              <a:gd name="adj2" fmla="val 49978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6"/>
          <p:cNvSpPr/>
          <p:nvPr/>
        </p:nvSpPr>
        <p:spPr>
          <a:xfrm>
            <a:off x="2916360" y="4941720"/>
            <a:ext cx="3527280" cy="86364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бщественная эксперти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Стрелка вниз 7"/>
          <p:cNvSpPr/>
          <p:nvPr/>
        </p:nvSpPr>
        <p:spPr>
          <a:xfrm>
            <a:off x="6659640" y="1700280"/>
            <a:ext cx="485640" cy="979560"/>
          </a:xfrm>
          <a:prstGeom prst="downArrow">
            <a:avLst>
              <a:gd name="adj1" fmla="val 50000"/>
              <a:gd name="adj2" fmla="val 50015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8"/>
          <p:cNvSpPr/>
          <p:nvPr/>
        </p:nvSpPr>
        <p:spPr>
          <a:xfrm>
            <a:off x="5219640" y="2852640"/>
            <a:ext cx="3456000" cy="143352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Исследовательск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абот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Участие в научно-практических конференц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Дата 9"/>
          <p:cNvSpPr/>
          <p:nvPr/>
        </p:nvSpPr>
        <p:spPr>
          <a:xfrm>
            <a:off x="3776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8AC32-5906-40E3-A337-7B27874B00F0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Номер слайда 10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3FD26-7CB0-4C53-B326-3155B66EAB65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81835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  <p:grpSp>
        <p:nvGrpSpPr>
          <p:cNvPr id="270" name="Diagram 5"/>
          <p:cNvGrpSpPr/>
          <p:nvPr/>
        </p:nvGrpSpPr>
        <p:grpSpPr>
          <a:xfrm>
            <a:off x="908640" y="1064880"/>
            <a:ext cx="7257240" cy="5230440"/>
            <a:chOff x="908640" y="1064880"/>
            <a:chExt cx="7257240" cy="5230440"/>
          </a:xfrm>
        </p:grpSpPr>
        <p:sp>
          <p:nvSpPr>
            <p:cNvPr id="271" name="_s1028"/>
            <p:cNvSpPr/>
            <p:nvPr/>
          </p:nvSpPr>
          <p:spPr>
            <a:xfrm>
              <a:off x="2048400" y="1347480"/>
              <a:ext cx="4978440" cy="3164400"/>
            </a:xfrm>
            <a:custGeom>
              <a:avLst/>
              <a:gdLst>
                <a:gd name="textAreaLeft" fmla="*/ 0 w 4978440"/>
                <a:gd name="textAreaRight" fmla="*/ 4978440 w 4978440"/>
                <a:gd name="textAreaTop" fmla="*/ 0 h 3164400"/>
                <a:gd name="textAreaBottom" fmla="*/ 3164760 h 316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_s1029"/>
            <p:cNvSpPr/>
            <p:nvPr/>
          </p:nvSpPr>
          <p:spPr>
            <a:xfrm rot="7200000">
              <a:off x="3636360" y="1190880"/>
              <a:ext cx="3164760" cy="4978440"/>
            </a:xfrm>
            <a:custGeom>
              <a:avLst/>
              <a:gdLst>
                <a:gd name="textAreaLeft" fmla="*/ 0 w 3164760"/>
                <a:gd name="textAreaRight" fmla="*/ 3165120 w 3164760"/>
                <a:gd name="textAreaTop" fmla="*/ 0 h 4978440"/>
                <a:gd name="textAreaBottom" fmla="*/ 4978440 h 497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_s1030"/>
            <p:cNvSpPr/>
            <p:nvPr/>
          </p:nvSpPr>
          <p:spPr>
            <a:xfrm rot="14400000">
              <a:off x="2272680" y="1190520"/>
              <a:ext cx="3164760" cy="4978440"/>
            </a:xfrm>
            <a:custGeom>
              <a:avLst/>
              <a:gdLst>
                <a:gd name="textAreaLeft" fmla="*/ 0 w 3164760"/>
                <a:gd name="textAreaRight" fmla="*/ 3165120 w 3164760"/>
                <a:gd name="textAreaTop" fmla="*/ 0 h 4978440"/>
                <a:gd name="textAreaBottom" fmla="*/ 4978440 h 497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_s1031"/>
            <p:cNvSpPr/>
            <p:nvPr/>
          </p:nvSpPr>
          <p:spPr>
            <a:xfrm>
              <a:off x="5900040" y="1926720"/>
              <a:ext cx="1997280" cy="12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_s1032"/>
            <p:cNvSpPr/>
            <p:nvPr/>
          </p:nvSpPr>
          <p:spPr>
            <a:xfrm>
              <a:off x="3541680" y="4529880"/>
              <a:ext cx="1996920" cy="12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_s1033"/>
            <p:cNvSpPr/>
            <p:nvPr/>
          </p:nvSpPr>
          <p:spPr>
            <a:xfrm>
              <a:off x="1175040" y="1928520"/>
              <a:ext cx="1997280" cy="12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Rectangle 22"/>
          <p:cNvSpPr/>
          <p:nvPr/>
        </p:nvSpPr>
        <p:spPr>
          <a:xfrm>
            <a:off x="324000" y="220500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цесс обучения воспринимается комплексным, еди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3"/>
          <p:cNvSpPr/>
          <p:nvPr/>
        </p:nvSpPr>
        <p:spPr>
          <a:xfrm>
            <a:off x="6012000" y="2349360"/>
            <a:ext cx="281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учащихся формируется целостная картина м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4"/>
          <p:cNvSpPr/>
          <p:nvPr/>
        </p:nvSpPr>
        <p:spPr>
          <a:xfrm>
            <a:off x="2843280" y="5013360"/>
            <a:ext cx="35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ьный осознанный выбор дальнейшего пу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2" descr="79984.jpg"/>
          <p:cNvPicPr/>
          <p:nvPr/>
        </p:nvPicPr>
        <p:blipFill>
          <a:blip r:embed="rId1"/>
          <a:stretch/>
        </p:blipFill>
        <p:spPr>
          <a:xfrm>
            <a:off x="3059280" y="2349360"/>
            <a:ext cx="2857320" cy="2238480"/>
          </a:xfrm>
          <a:prstGeom prst="rect">
            <a:avLst/>
          </a:prstGeom>
          <a:ln w="0">
            <a:noFill/>
          </a:ln>
        </p:spPr>
      </p:pic>
      <p:sp>
        <p:nvSpPr>
          <p:cNvPr id="281" name="Прямоугольник 7"/>
          <p:cNvSpPr/>
          <p:nvPr/>
        </p:nvSpPr>
        <p:spPr>
          <a:xfrm>
            <a:off x="714240" y="428760"/>
            <a:ext cx="71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07f09"/>
                </a:solidFill>
                <a:latin typeface="Arial"/>
              </a:rPr>
              <a:t>Всестороннее развитие личности ученика через участие в общественно-значимой практической деяте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Дата 8"/>
          <p:cNvSpPr/>
          <p:nvPr/>
        </p:nvSpPr>
        <p:spPr>
          <a:xfrm>
            <a:off x="3776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C7CF6-85F9-4173-BB91-C435928A7419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Номер слайда 9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98C37-5B2F-4B36-9441-4903548F6335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Исследовательская работа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85" name="Picture 4" descr=""/>
          <p:cNvPicPr/>
          <p:nvPr/>
        </p:nvPicPr>
        <p:blipFill>
          <a:blip r:embed="rId1"/>
          <a:stretch/>
        </p:blipFill>
        <p:spPr>
          <a:xfrm>
            <a:off x="11125080" y="14842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286" name="Схема 5" descr=""/>
          <p:cNvPicPr/>
          <p:nvPr/>
        </p:nvPicPr>
        <p:blipFill>
          <a:blip r:embed="rId2"/>
          <a:stretch/>
        </p:blipFill>
        <p:spPr>
          <a:xfrm>
            <a:off x="317520" y="1494000"/>
            <a:ext cx="8618400" cy="44305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4"/>
          <p:cNvSpPr/>
          <p:nvPr/>
        </p:nvSpPr>
        <p:spPr>
          <a:xfrm>
            <a:off x="500040" y="5643720"/>
            <a:ext cx="814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f2936"/>
                </a:solidFill>
                <a:latin typeface="Arial"/>
              </a:rPr>
              <a:t>Для дальнейшего обучения выпускники выбирают те направления обучения, по которым ими осуществлялась исследовательская деят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Дата 6"/>
          <p:cNvSpPr/>
          <p:nvPr/>
        </p:nvSpPr>
        <p:spPr>
          <a:xfrm>
            <a:off x="3776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1210-CB08-423D-AD4B-3FD34FF01A26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Номер слайда 7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9AAD4-BE1F-464A-A931-BBB4C316EECA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7T11:29:45Z</dcterms:created>
  <dc:creator>Усик Инна</dc:creator>
  <dc:description/>
  <dc:language>en-US</dc:language>
  <cp:lastModifiedBy>Ольга</cp:lastModifiedBy>
  <dcterms:modified xsi:type="dcterms:W3CDTF">2012-01-23T16:18:46Z</dcterms:modified>
  <cp:revision>68</cp:revision>
  <dc:subject/>
  <dc:title> «Интеграция географии и физики  в естественнонаучном образовании»</dc:title>
</cp:coreProperties>
</file>