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5EB-240C-41DC-BE3A-05C9A04B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4D3-68EB-44FF-AB6D-783F5A6E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D48-51D6-4821-8EE7-D6705B72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BCE-A12F-482D-A113-C1ADC261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27C5-95E9-48EC-8AA6-56D6D359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85B-DF3A-4C9B-989F-93C3D2BF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C2AB-C876-4697-9A0D-C9BD5A2A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FF4B-2389-4217-AF49-61911C7D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C03A-E08D-4DC6-BFEF-A48F526F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90AE-2F6B-4C59-A286-B587DCC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A72C-C635-4BAF-BDA2-3DBC9F46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650-DDEB-4635-A609-919DE9D3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E245-00D1-449A-8E9F-37086F9B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9A78-6DB9-45C2-9E48-DBCBC9F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83F7-0964-4D1D-BC8A-CC9BC34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D9EE-49A9-4061-B65A-938DC53E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35C5-B38D-4BC4-AD9D-371A7B27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6D5E-8BED-4AD3-917A-AA07F699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CDE6-3C9D-41E2-A42D-8DC19F9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6CBD-28CA-4F35-87D3-E0E6EEEA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9B91A-BD21-4D2D-96B4-809C72BF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80FE-0EC1-4E0F-8A05-C2579F7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99D-22F5-4533-A706-5AD6932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F09E-883E-4374-8DB3-64A15EA0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492A-DEB6-4974-A2D1-3C53B47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2344-AC5F-40FF-8CD3-1924B5FD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F07E-B1A7-49A4-AC9F-1D4592C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995DF-559E-4139-894D-EBF25E27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C169-6AAD-4E70-A135-ABE474B7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F43C-2A1C-4C53-BE13-F1D9D51D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233F-5C00-45F5-853B-04CDD679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8437-8061-4D85-9D71-D54D360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00646-9C7B-42D7-AD2D-883307F4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8DA-A4ED-4C78-92D6-2402EB83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A272-7F3D-4359-8FB1-574241F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B580-E843-4727-8A15-1B4AF46E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A25F-4C44-4333-88B1-CD78632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1EC7-0FA2-4380-8EB0-8AB605F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710F8-FAD4-41D0-A025-0B9E879D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D4C2-2A96-47F4-952B-E52E4E7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0E4C-D02F-48D5-BCB8-01474BDF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1BDBA-9C4C-4054-B97C-44BD4720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70DDF-D359-400C-BE13-050A9A83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18E6-7C71-47DD-8A16-224A69E3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4E73-2937-4EBB-8AD3-5D9FA24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14F0-88EF-4444-AF85-F22E7A6B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A156-B431-4D36-B922-D1D3211A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B139-AE96-4BAF-96D4-E057DEE7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B08D-712E-4A3B-B2AE-6110421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0A30-D8A0-4F72-9B18-BA3202A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79A4-23FC-4B67-86E5-727D7AAE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13341-ABBD-488D-8B92-AB20534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837E-7D29-458B-ACB7-ADE21691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EC43-8816-4CE4-B23C-3D3AD823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16E7-F23B-419E-9D48-95227FD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DF8-EC27-4BCF-AD5D-20A69783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3924-F7F6-498C-B7CA-43F8D0C2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C72E-E728-4626-89E5-80451F08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679-2DA6-4CF9-A4F2-3B01D95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4F4-285F-4436-8B07-646FEE4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CE0-EB9C-4FBF-87D8-3B8D88E9EC5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79CC-A2E6-432D-97BF-68D1D700ECD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1CE0-D98F-4A8D-B981-54CC669452A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F9DB-D8AD-4D41-BCE3-7715B3E737F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925C-9145-4560-99D6-D9FCA69A9B9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6E8-710C-46E1-94FA-C61EEFC4FB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E404-E639-439D-B1F3-FE42DEF947E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9701-DF59-4FCF-A9F1-58D59FA1850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208-EAF7-42CB-9510-1534EB29B62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65F-0250-4AC9-9E95-AB230580199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«</a:t>
            </a: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ИССЛЕДОВАТЕЛЬСКАЯ ДЕЯТЕЛЬНОСТЬ ОБУЧАЮЩИХСЯ ПО РЕАЛИЗАЦИИ ПРОФЕССИОНАЛЬНОГО САМООПРЕДЕЛЕНИЯ КАК ФАКТОР РАЗВИТИЯ ПОЗНАВАТЕЛЬНОЙ АКТИВНОСТИ</a:t>
            </a:r>
            <a:r>
              <a:rPr b="1" i="1" lang="ru-RU" sz="2400" spc="-1" strike="noStrike">
                <a:solidFill>
                  <a:srgbClr val="ff8d3e"/>
                </a:solidFill>
                <a:latin typeface="Verdana"/>
              </a:rPr>
              <a:t>»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24000" y="386064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928880" y="5516640"/>
            <a:ext cx="696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алмыкова Л. В., учитель химии МОУ СОШ № 6, г. Волго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Коннова О. В., учитель физики МОУ СОШ № 6, г.Волгогра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сик И.В., учитель географии МОУ СОШ № 6, г.Волго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3276720" y="651996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лгоград, 2012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C38-0F8A-4C9F-9BE2-A6359D89AA0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D2F-4AA8-42B1-A019-824CF82B1D5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475920"/>
            <a:ext cx="8075520" cy="5473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ускница 2006 учебного года Зайцева Наталья закончила Машиностроительный  факультет Волгоградского Государственного Технического университета, является аспиранткой кафедры Автоматизации производственных процессов. В школьные годы Наталья активно занималась исследовательской деятельностью по физике, занимая призовые места в районных конференц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ускница 2007 учебного года Белоконева Кристина являлась неоднократным призером исследовательских конкурсов и конференций различных уровней по химии и физике. В данное время успешно защищает свои исследовательские работы по химии в ВолгГМ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кафедре естествознания ВГПУ обучается Екатерина Назаренко, которая уже в 1 семестре успела защитить свои исследовательские работы по географическому  краеведению, ее исследования по географии были лучшими в районной конференции в 2009 год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9901080" y="3789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>
            <a:off x="2357280" y="642960"/>
            <a:ext cx="39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Arial"/>
              </a:rPr>
              <a:t>ВЫПУСКНИКИ МОУ СОШ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Дата 4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9C1B-6236-4BE0-A7C7-2420953F0B4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6494-E149-40FA-BC79-F844281A9C5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Шевченко Софьи «Высокий каблук: снимите это немедленно!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1место (номинация «Информационный буклет»), Гран при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 2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очный конкурс исследовательских рабо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 -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Ковские чт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очного) этап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-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E9F-77F2-4CB6-B043-2B536A612D9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4790-C464-45B1-BF02-EC7B265BE0C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Соловьевой Василисы и Усковой Кристины  «Школьная столовая- зона здорового питания обучающихся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городск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«Молодежь в защиту природы»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2 место (номинация «Информационный буклет»), 3 место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очный конкурс исследовательских рабо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 - диплом 3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Ковские чтения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очного) этап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межрегионального фестиваля науки и искусства «ЛИК»- диплом 3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952A-AC97-4356-9155-E43FEFCD522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10A-EEB5-409D-98CB-53661A3122F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Результаты исследования в области химии, физики, географии 2009-2011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71680" y="171432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Апробация исследовательской работы Мартиросяна Вачагана и Мартиросяна Мнацакана</a:t>
            </a:r>
            <a:r>
              <a:rPr b="1" lang="ru-RU" sz="1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07f09"/>
                </a:solidFill>
                <a:latin typeface="Verdana"/>
              </a:rPr>
              <a:t>«Выявление и разрешение социально- экологических проблем улицы Хиросимы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школь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районная НПК)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им. В.И. Вернадского (городская НПК)-  3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конкурс учебно- исследовательских работ «Молодежь в защиту природы»-  2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одской этап областного конкурса исследовательских работ «Здоровье нации начинается с тебя!»- 3 место (номинация «Информационный буклет»), 2 место (номинация «Презентация»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ластной конкурс учебно-исследовательских работ  и творческих проектов «Где мысль работать не устала»-  1 место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бластной фестиваль презентаций социальных проектов, секция ЗОЖ- лауре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российский конкурс учебно- исследовательских и проектных работ «Первые шаги»-  диплом 1 степе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Открытая Международная  научно-исследовательская конференцию молодых исследователей (старшеклассников и студентов) «Образование Наука Профессия»- участ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F135-DD95-459E-AD4D-7BBA46115756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F75-9A66-4D0D-A306-C9511267D0C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Исследовательская деятельность учащихся в рамках предметов: химии, географии,  физики: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9640" y="1642680"/>
            <a:ext cx="8183520" cy="1281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обствует формированию  высокого уровня знаний учащихс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вляется эффективным средством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ирования естественнонаучных знаний и ум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9" name="Диаграмма 6"/>
          <p:cNvGraphicFramePr/>
          <p:nvPr/>
        </p:nvGraphicFramePr>
        <p:xfrm>
          <a:off x="488880" y="2801880"/>
          <a:ext cx="5646960" cy="37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2801880"/>
                    <a:ext cx="5646960" cy="37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Прямоугольник 8"/>
          <p:cNvSpPr/>
          <p:nvPr/>
        </p:nvSpPr>
        <p:spPr>
          <a:xfrm>
            <a:off x="6012000" y="3429000"/>
            <a:ext cx="248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7а, 7б, 8а, 9а и в 10-х классах учащиеся более активны вовлечены в исследовательскую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5ED2-8737-4D69-8558-4851D26748C2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7122-78AA-49AF-9D1F-C999A45279A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Кроме того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1628280"/>
            <a:ext cx="8183520" cy="42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 обучающиеся, которые принимали участие в данных исследованиях, уже определились с выбором будущих профессий, которые тесно связаны с их практической деятельностью в шк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Таким образом, исследовательская деятельность обучающихся в реализации профессионального самоопределения является способом развития их познавательной актив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CC31-5339-47E9-A518-C247142852A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4273-CBAE-42BC-B118-F876453B21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ажнейшее социальное требование к школе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7120" y="1571760"/>
            <a:ext cx="8183520" cy="361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ейшее социальное требование к школе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личности школьник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го профессиональная мотивац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 него познавательных способностей, необходимых для успешной социализации в обществ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BC4C-5D1D-422E-B3E8-420312DA2E5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B51-8690-4DEC-8BEA-CBE5FC5A632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ребования к результатам обучения ФГОС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24000" y="1557000"/>
            <a:ext cx="8183520" cy="1871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и главных  отличий  нового образовательного стандарта от прежнего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выделение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едме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надпредме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и 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личностных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требования к результатам обуч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большое внимание уделяется условиям, в которых протекает образовательный процес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68360" y="3555360"/>
            <a:ext cx="828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Основная цель общего среднего образования в России (согласно стратегии модернизации содержания общего образования) – </a:t>
            </a:r>
            <a:r>
              <a:rPr b="1" i="1" lang="ru-RU" sz="1600" spc="-1" strike="noStrike" u="sng">
                <a:solidFill>
                  <a:srgbClr val="f07f09"/>
                </a:solidFill>
                <a:uFillTx/>
                <a:latin typeface="Verdana"/>
                <a:ea typeface="Times New Roman"/>
              </a:rPr>
              <a:t>подготовка разносторонне развитой личности гражданина,</a:t>
            </a: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 ориентирующейся в традициях отечественной и мировой культуры, в системе ценностей и потребностях современной жизни, личности, </a:t>
            </a:r>
            <a:r>
              <a:rPr b="1" i="1" lang="ru-RU" sz="1600" spc="-1" strike="noStrike" u="sng">
                <a:solidFill>
                  <a:srgbClr val="f07f09"/>
                </a:solidFill>
                <a:uFillTx/>
                <a:latin typeface="Verdana"/>
                <a:ea typeface="Times New Roman"/>
              </a:rPr>
              <a:t>способной к активной социальной адаптации в обществе </a:t>
            </a:r>
            <a:r>
              <a:rPr b="1" i="1" lang="ru-RU" sz="1600" spc="-1" strike="noStrike">
                <a:solidFill>
                  <a:srgbClr val="f07f09"/>
                </a:solidFill>
                <a:latin typeface="Verdana"/>
                <a:ea typeface="Times New Roman"/>
              </a:rPr>
              <a:t>и самостоятельному жизненному выбору, к началу трудовой деятельности и продолжению профессионального образования, к самообразованию и самосовершен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Дата 4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041D-5CD7-487A-BFB5-1619F879BCF9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362-D663-44AA-BFA5-6115E65AFA9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Особенности мотивационной сферы старшеклассников: 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700280"/>
            <a:ext cx="818352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льшая избирательность познавательных мотивов. Все виды познавательных мотивов становятся смыслообразующим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терес к заданиям становится более глубоким, затрагивает не только закономерности данного предмета, но и основы нау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ебно-познавательный мотив совершенствуется как интерес к методам теоретического и творческого мышле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явление единства процессуальной и результативной мотивации учени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виваются мотивы и способы самообразовательной деятельности. Появляется новый познавательный мотив самообразования – стремление к анализу индивидуального стиля своей образовательной деятельности, определение сильных и слабых сторон своей учебной работы, стремление понять и выразить свою индивидуальность в ходе у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Заголовок 1"/>
          <p:cNvSpPr/>
          <p:nvPr/>
        </p:nvSpPr>
        <p:spPr>
          <a:xfrm>
            <a:off x="539640" y="4762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7DC-8893-4B36-9DB8-FFBA63A0B31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9243-BF81-42C3-BA5D-41E18E25695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450720" y="476280"/>
            <a:ext cx="8266320" cy="4278240"/>
          </a:xfrm>
          <a:prstGeom prst="rect">
            <a:avLst/>
          </a:prstGeom>
          <a:ln w="0">
            <a:noFill/>
          </a:ln>
        </p:spPr>
      </p:pic>
      <p:sp>
        <p:nvSpPr>
          <p:cNvPr id="241" name="Дата 2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CD3F-6A78-4022-8B82-22FB12E07FC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AF83-75B8-4D92-A887-C4DD00A9749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уки естественнонаучного цикл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71680" y="1428480"/>
            <a:ext cx="8183520" cy="295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еподавании наук естественнонаучного цикла мы следуем концепции развивающего и проблемного обучения, соединяем проблемы, выявляемые на уроках химии, физики и географ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Скругленный прямоугольник 3"/>
          <p:cNvSpPr/>
          <p:nvPr/>
        </p:nvSpPr>
        <p:spPr>
          <a:xfrm>
            <a:off x="3714840" y="3000240"/>
            <a:ext cx="1800000" cy="6480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ст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8"/>
          <p:cNvSpPr/>
          <p:nvPr/>
        </p:nvSpPr>
        <p:spPr>
          <a:xfrm>
            <a:off x="642960" y="3000240"/>
            <a:ext cx="1440000" cy="5763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хим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3"/>
          <p:cNvSpPr/>
          <p:nvPr/>
        </p:nvSpPr>
        <p:spPr>
          <a:xfrm>
            <a:off x="6357960" y="3000240"/>
            <a:ext cx="2016000" cy="7192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тема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14"/>
          <p:cNvSpPr/>
          <p:nvPr/>
        </p:nvSpPr>
        <p:spPr>
          <a:xfrm>
            <a:off x="971640" y="4437000"/>
            <a:ext cx="1886040" cy="57636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геогра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15"/>
          <p:cNvSpPr/>
          <p:nvPr/>
        </p:nvSpPr>
        <p:spPr>
          <a:xfrm>
            <a:off x="3635280" y="4508640"/>
            <a:ext cx="2089080" cy="5760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6"/>
          <p:cNvSpPr/>
          <p:nvPr/>
        </p:nvSpPr>
        <p:spPr>
          <a:xfrm>
            <a:off x="6516720" y="4508640"/>
            <a:ext cx="1871640" cy="57600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 стрелкой 18"/>
          <p:cNvCxnSpPr/>
          <p:nvPr/>
        </p:nvCxnSpPr>
        <p:spPr>
          <a:xfrm flipH="1" flipV="1">
            <a:off x="2143080" y="3357360"/>
            <a:ext cx="1440360" cy="360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2" name="Прямая со стрелкой 27"/>
          <p:cNvCxnSpPr>
            <a:stCxn id="245" idx="3"/>
          </p:cNvCxnSpPr>
          <p:nvPr/>
        </p:nvCxnSpPr>
        <p:spPr>
          <a:xfrm>
            <a:off x="5514840" y="3324240"/>
            <a:ext cx="720000" cy="108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3" name="Прямая со стрелкой 29"/>
          <p:cNvCxnSpPr>
            <a:endCxn id="248" idx="7"/>
          </p:cNvCxnSpPr>
          <p:nvPr/>
        </p:nvCxnSpPr>
        <p:spPr>
          <a:xfrm flipH="1">
            <a:off x="2580480" y="3645000"/>
            <a:ext cx="1127880" cy="87696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4" name="Прямая со стрелкой 31"/>
          <p:cNvCxnSpPr>
            <a:endCxn id="250" idx="1"/>
          </p:cNvCxnSpPr>
          <p:nvPr/>
        </p:nvCxnSpPr>
        <p:spPr>
          <a:xfrm>
            <a:off x="5435280" y="3644640"/>
            <a:ext cx="1354680" cy="9500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55" name="Прямая со стрелкой 22"/>
          <p:cNvCxnSpPr/>
          <p:nvPr/>
        </p:nvCxnSpPr>
        <p:spPr>
          <a:xfrm>
            <a:off x="4642920" y="3716280"/>
            <a:ext cx="1080" cy="721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56" name="Прямоугольник 21"/>
          <p:cNvSpPr/>
          <p:nvPr/>
        </p:nvSpPr>
        <p:spPr>
          <a:xfrm>
            <a:off x="500040" y="5429160"/>
            <a:ext cx="8177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500040" y="54291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м применять знания, умения и навыки, полученные на уроках для формирования профессиональной мотивации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Дата 17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27A4-8F24-46FF-935E-A14B770A84A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1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D52-1735-4CD1-969F-A2DD97EF3B3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03280" y="529920"/>
            <a:ext cx="8183520" cy="1243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4" marL="1279440" indent="-182520" algn="just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Всестороннее развитие личности ученика через участие в общественно-значимой практической деятельности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Стрелка вниз 3"/>
          <p:cNvSpPr/>
          <p:nvPr/>
        </p:nvSpPr>
        <p:spPr>
          <a:xfrm>
            <a:off x="2000160" y="17146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611280" y="2781360"/>
            <a:ext cx="3240000" cy="136188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ектная дея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фессиональные пр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низ 5"/>
          <p:cNvSpPr/>
          <p:nvPr/>
        </p:nvSpPr>
        <p:spPr>
          <a:xfrm>
            <a:off x="4286160" y="1857240"/>
            <a:ext cx="432000" cy="3024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2916360" y="4941720"/>
            <a:ext cx="3527280" cy="8636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щественная эксперт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низ 7"/>
          <p:cNvSpPr/>
          <p:nvPr/>
        </p:nvSpPr>
        <p:spPr>
          <a:xfrm>
            <a:off x="6659640" y="1700280"/>
            <a:ext cx="485640" cy="97956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5219640" y="2852640"/>
            <a:ext cx="3456000" cy="14335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следователь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бо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ие в научно-практических конферен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Дата 9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CE8-081D-4FB3-9BC0-5ED4017B495E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10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4D87-C720-4E2E-8502-B9A0516081E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1835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270" name="Diagram 5"/>
          <p:cNvGrpSpPr/>
          <p:nvPr/>
        </p:nvGrpSpPr>
        <p:grpSpPr>
          <a:xfrm>
            <a:off x="908640" y="1064880"/>
            <a:ext cx="7257240" cy="5230440"/>
            <a:chOff x="908640" y="1064880"/>
            <a:chExt cx="7257240" cy="5230440"/>
          </a:xfrm>
        </p:grpSpPr>
        <p:sp>
          <p:nvSpPr>
            <p:cNvPr id="271" name="_s1028"/>
            <p:cNvSpPr/>
            <p:nvPr/>
          </p:nvSpPr>
          <p:spPr>
            <a:xfrm>
              <a:off x="2048400" y="1347480"/>
              <a:ext cx="4978440" cy="3164400"/>
            </a:xfrm>
            <a:custGeom>
              <a:avLst/>
              <a:gdLst>
                <a:gd name="textAreaLeft" fmla="*/ 0 w 4978440"/>
                <a:gd name="textAreaRight" fmla="*/ 4978440 w 4978440"/>
                <a:gd name="textAreaTop" fmla="*/ 0 h 3164400"/>
                <a:gd name="textAreaBottom" fmla="*/ 3164760 h 316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1029"/>
            <p:cNvSpPr/>
            <p:nvPr/>
          </p:nvSpPr>
          <p:spPr>
            <a:xfrm rot="7200000">
              <a:off x="3636360" y="1190880"/>
              <a:ext cx="3164760" cy="4978440"/>
            </a:xfrm>
            <a:custGeom>
              <a:avLst/>
              <a:gdLst>
                <a:gd name="textAreaLeft" fmla="*/ 0 w 3164760"/>
                <a:gd name="textAreaRight" fmla="*/ 3165120 w 3164760"/>
                <a:gd name="textAreaTop" fmla="*/ 0 h 4978440"/>
                <a:gd name="textAreaBottom" fmla="*/ 4978440 h 49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1030"/>
            <p:cNvSpPr/>
            <p:nvPr/>
          </p:nvSpPr>
          <p:spPr>
            <a:xfrm rot="14400000">
              <a:off x="2272680" y="1190520"/>
              <a:ext cx="3164760" cy="4978440"/>
            </a:xfrm>
            <a:custGeom>
              <a:avLst/>
              <a:gdLst>
                <a:gd name="textAreaLeft" fmla="*/ 0 w 3164760"/>
                <a:gd name="textAreaRight" fmla="*/ 3165120 w 3164760"/>
                <a:gd name="textAreaTop" fmla="*/ 0 h 4978440"/>
                <a:gd name="textAreaBottom" fmla="*/ 4978440 h 49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1031"/>
            <p:cNvSpPr/>
            <p:nvPr/>
          </p:nvSpPr>
          <p:spPr>
            <a:xfrm>
              <a:off x="5900040" y="1926720"/>
              <a:ext cx="1997280" cy="12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2"/>
            <p:cNvSpPr/>
            <p:nvPr/>
          </p:nvSpPr>
          <p:spPr>
            <a:xfrm>
              <a:off x="3541680" y="4529880"/>
              <a:ext cx="199692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1033"/>
            <p:cNvSpPr/>
            <p:nvPr/>
          </p:nvSpPr>
          <p:spPr>
            <a:xfrm>
              <a:off x="1175040" y="1928520"/>
              <a:ext cx="199728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22"/>
          <p:cNvSpPr/>
          <p:nvPr/>
        </p:nvSpPr>
        <p:spPr>
          <a:xfrm>
            <a:off x="324000" y="220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обучения воспринимается комплексным, еди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6012000" y="2349360"/>
            <a:ext cx="281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учащихся формируется целостная картина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2843280" y="5013360"/>
            <a:ext cx="35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 осознанный выбор дальнейшего пу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79984.jpg"/>
          <p:cNvPicPr/>
          <p:nvPr/>
        </p:nvPicPr>
        <p:blipFill>
          <a:blip r:embed="rId1"/>
          <a:stretch/>
        </p:blipFill>
        <p:spPr>
          <a:xfrm>
            <a:off x="3059280" y="2349360"/>
            <a:ext cx="2857320" cy="223848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714240" y="4287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07f09"/>
                </a:solidFill>
                <a:latin typeface="Arial"/>
              </a:rPr>
              <a:t>Всестороннее развитие личности ученика через участие в общественно-значимой практиче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Дата 8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098-E677-4869-B8AC-D14D61244BE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2D5E-22A2-4D7A-8606-6E6C20AD68F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следовательская работа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1125080" y="1484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6" name="Схема 5" descr=""/>
          <p:cNvPicPr/>
          <p:nvPr/>
        </p:nvPicPr>
        <p:blipFill>
          <a:blip r:embed="rId2"/>
          <a:stretch/>
        </p:blipFill>
        <p:spPr>
          <a:xfrm>
            <a:off x="317520" y="1494000"/>
            <a:ext cx="8618400" cy="44305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500040" y="564372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f2936"/>
                </a:solidFill>
                <a:latin typeface="Arial"/>
              </a:rPr>
              <a:t>Для дальнейшего обучения выпускники выбирают те направления обучения, по которым ими осуществлялась исследователь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Дата 6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EB0-E15B-4E10-AF55-FB1A5C8DF53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1EED-EFB5-4A70-9156-2BCBC84D9C7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1:29:45Z</dcterms:created>
  <dc:creator>Усик Инна</dc:creator>
  <dc:description/>
  <dc:language>en-US</dc:language>
  <cp:lastModifiedBy>Ольга</cp:lastModifiedBy>
  <dcterms:modified xsi:type="dcterms:W3CDTF">2012-01-23T16:18:46Z</dcterms:modified>
  <cp:revision>68</cp:revision>
  <dc:subject/>
  <dc:title> «Интеграция географии и физики  в естественнонаучном образовании»</dc:title>
</cp:coreProperties>
</file>