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7F21-CB49-48D5-BE26-446FE4F0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A0EE-94AF-4FB6-80EE-DF310B59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8048-F866-4C39-B54B-A7FB907B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18C-0F61-4FEC-9E25-65431E29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0CEA-2938-4D21-86BB-2BAA2383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DD4D-DBA2-4F6C-B412-F03E0519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4C34-0B5C-40DD-9857-4C317349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EA95-F41D-470E-B767-185D23CE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7D6-CC86-4AE4-AB2B-608B9E63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1C4-28C8-4F09-B64B-6998E852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2499-F462-4EF8-90CB-FFD82C7F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9AC5-517D-411E-A430-B89D8A0A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66E1-3AEB-48BE-9A6F-595DCC9B95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773000"/>
            <a:ext cx="8785440" cy="18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Социализация личности через систему современного образов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443700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аботу выполнила ученица 11 «А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ОУ-СОШ №2 р.п. Степное Совет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ерова 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СМ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2071_1-200209"/>
          <p:cNvPicPr/>
          <p:nvPr/>
        </p:nvPicPr>
        <p:blipFill>
          <a:blip r:embed="rId1"/>
          <a:stretch/>
        </p:blipFill>
        <p:spPr>
          <a:xfrm>
            <a:off x="250920" y="1413000"/>
            <a:ext cx="3582720" cy="45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3" name="Picture 10" descr="medved2-1106"/>
          <p:cNvPicPr/>
          <p:nvPr/>
        </p:nvPicPr>
        <p:blipFill>
          <a:blip r:embed="rId2"/>
          <a:srcRect l="25550" t="0" r="0" b="6450"/>
          <a:stretch/>
        </p:blipFill>
        <p:spPr>
          <a:xfrm>
            <a:off x="5796000" y="692280"/>
            <a:ext cx="3168720" cy="266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Picture 11" descr="2313322b6781666d42e64c7c1e537445"/>
          <p:cNvPicPr/>
          <p:nvPr/>
        </p:nvPicPr>
        <p:blipFill>
          <a:blip r:embed="rId3"/>
          <a:stretch/>
        </p:blipFill>
        <p:spPr>
          <a:xfrm>
            <a:off x="3708360" y="2781360"/>
            <a:ext cx="2824200" cy="396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strips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6" presetSubtype="2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DSC03160"/>
          <p:cNvPicPr/>
          <p:nvPr/>
        </p:nvPicPr>
        <p:blipFill>
          <a:blip r:embed="rId1"/>
          <a:stretch/>
        </p:blipFill>
        <p:spPr>
          <a:xfrm>
            <a:off x="4788000" y="981000"/>
            <a:ext cx="3265560" cy="2449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Особенности социализации личности в Советском райо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DSC01988"/>
          <p:cNvPicPr/>
          <p:nvPr/>
        </p:nvPicPr>
        <p:blipFill>
          <a:blip r:embed="rId2"/>
          <a:stretch/>
        </p:blipFill>
        <p:spPr>
          <a:xfrm>
            <a:off x="250920" y="1557360"/>
            <a:ext cx="3673440" cy="275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8" name="Picture 10" descr="DSC03174"/>
          <p:cNvPicPr/>
          <p:nvPr/>
        </p:nvPicPr>
        <p:blipFill>
          <a:blip r:embed="rId3"/>
          <a:stretch/>
        </p:blipFill>
        <p:spPr>
          <a:xfrm>
            <a:off x="4643280" y="3483000"/>
            <a:ext cx="4254480" cy="319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Picture 12" descr="фото старше звено 186"/>
          <p:cNvPicPr/>
          <p:nvPr/>
        </p:nvPicPr>
        <p:blipFill>
          <a:blip r:embed="rId4"/>
          <a:stretch/>
        </p:blipFill>
        <p:spPr>
          <a:xfrm>
            <a:off x="468360" y="3933720"/>
            <a:ext cx="3744720" cy="28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716000" y="475920"/>
            <a:ext cx="40388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Слагаемые успеха современного образования через социализацию лич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идеть и оперативно решать пробл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амостоятельно учиться и работать с информаци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использовать накопленные знания и опыт для практического применения в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к коммуникативному общ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DSC03148"/>
          <p:cNvPicPr/>
          <p:nvPr/>
        </p:nvPicPr>
        <p:blipFill>
          <a:blip r:embed="rId1"/>
          <a:stretch/>
        </p:blipFill>
        <p:spPr>
          <a:xfrm>
            <a:off x="179280" y="3357720"/>
            <a:ext cx="4321440" cy="324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2" name="Picture 16" descr="DSC04675"/>
          <p:cNvPicPr/>
          <p:nvPr/>
        </p:nvPicPr>
        <p:blipFill>
          <a:blip r:embed="rId2"/>
          <a:stretch/>
        </p:blipFill>
        <p:spPr>
          <a:xfrm>
            <a:off x="324000" y="189000"/>
            <a:ext cx="3913200" cy="293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завтрашнего дня должна давать не только информацию, но и способы работы с нею. Школьники и студенты должны учиться отбрасывать старые идеи, знать, когда и как их заменять. Они должны научиться учиться, отучиваться и переучиваться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рамотным человеком завтрашнего дня будет не тот, кто не умеет читать, а тот, кто не научился уч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</a:t>
            </a:r>
            <a:r>
              <a:rPr b="1" lang="ru-RU" sz="32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А.Тоффлер, Нобелевский лауре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650"/>
                            </p:stCondLst>
                            <p:childTnLst>
                              <p:par>
                                <p:cTn id="1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Проект «Наша новая школ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модернизации и реформирования в рамках проекта «Наша новая школа», роли и месте современной педагогической философии в формировании личности в современных условиях вызывают бурный интерес и различные мнения от учащихся и их родителей до Президента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medvedev_ofic_b01"/>
          <p:cNvPicPr/>
          <p:nvPr/>
        </p:nvPicPr>
        <p:blipFill>
          <a:blip r:embed="rId1"/>
          <a:stretch/>
        </p:blipFill>
        <p:spPr>
          <a:xfrm>
            <a:off x="433440" y="1413000"/>
            <a:ext cx="3827520" cy="525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2010 год – год Учите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 и приоритет государства и общества к образовательной поли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обсуждение государством и обществом путей решения проблем в системе образова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нятие авторитета и престижа российского образования и учи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emblema-goda-uchitelja"/>
          <p:cNvPicPr/>
          <p:nvPr/>
        </p:nvPicPr>
        <p:blipFill>
          <a:blip r:embed="rId1"/>
          <a:stretch/>
        </p:blipFill>
        <p:spPr>
          <a:xfrm>
            <a:off x="179280" y="1557360"/>
            <a:ext cx="4405320" cy="489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korpus"/>
          <p:cNvPicPr/>
          <p:nvPr/>
        </p:nvPicPr>
        <p:blipFill>
          <a:blip r:embed="rId1"/>
          <a:stretch/>
        </p:blipFill>
        <p:spPr>
          <a:xfrm>
            <a:off x="179280" y="620640"/>
            <a:ext cx="5113440" cy="3408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0" name="Picture 14" descr="DSC04557"/>
          <p:cNvPicPr/>
          <p:nvPr/>
        </p:nvPicPr>
        <p:blipFill>
          <a:blip r:embed="rId2"/>
          <a:srcRect l="0" t="0" r="0" b="18871"/>
          <a:stretch/>
        </p:blipFill>
        <p:spPr>
          <a:xfrm>
            <a:off x="4643280" y="1916280"/>
            <a:ext cx="4326120" cy="467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1" name="Text Box 15"/>
          <p:cNvSpPr/>
          <p:nvPr/>
        </p:nvSpPr>
        <p:spPr>
          <a:xfrm>
            <a:off x="539640" y="429264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Comic Sans MS"/>
              </a:rPr>
              <a:t>Саратовский Государственный Университет имени Н.Г. Черныш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Цель работы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ть особенности социализации личности через систему модернизации современного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755640" y="292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Задачи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5280" y="4653000"/>
            <a:ext cx="82296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24000" y="4076640"/>
            <a:ext cx="8229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вопросы социализации и образования личности через основные факторы: школу, семью, С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социализацию личности в рамках Советского рай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Основные факторы социализа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Рисунок1"/>
          <p:cNvPicPr/>
          <p:nvPr/>
        </p:nvPicPr>
        <p:blipFill>
          <a:blip r:embed="rId1"/>
          <a:stretch/>
        </p:blipFill>
        <p:spPr>
          <a:xfrm>
            <a:off x="1979640" y="2637000"/>
            <a:ext cx="5400720" cy="405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Rectangle 7"/>
          <p:cNvSpPr/>
          <p:nvPr/>
        </p:nvSpPr>
        <p:spPr>
          <a:xfrm>
            <a:off x="611280" y="148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Школ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27"/>
          <p:cNvSpPr/>
          <p:nvPr/>
        </p:nvSpPr>
        <p:spPr>
          <a:xfrm>
            <a:off x="6300720" y="4292640"/>
            <a:ext cx="2160720" cy="1727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8"/>
          <p:cNvSpPr/>
          <p:nvPr/>
        </p:nvSpPr>
        <p:spPr>
          <a:xfrm>
            <a:off x="5219640" y="3284640"/>
            <a:ext cx="2233800" cy="1726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9"/>
          <p:cNvSpPr/>
          <p:nvPr/>
        </p:nvSpPr>
        <p:spPr>
          <a:xfrm>
            <a:off x="4427640" y="2060640"/>
            <a:ext cx="2160360" cy="1727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6"/>
          <p:cNvSpPr/>
          <p:nvPr/>
        </p:nvSpPr>
        <p:spPr>
          <a:xfrm>
            <a:off x="3348000" y="5130720"/>
            <a:ext cx="2087640" cy="1727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5"/>
          <p:cNvSpPr/>
          <p:nvPr/>
        </p:nvSpPr>
        <p:spPr>
          <a:xfrm>
            <a:off x="1908000" y="3573360"/>
            <a:ext cx="2159280" cy="1727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Традиционная образовательная парадигм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4500720" y="260280"/>
            <a:ext cx="397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Современная образовательная парадигм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179280" y="1989000"/>
            <a:ext cx="2016360" cy="1727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1"/>
          <p:cNvSpPr/>
          <p:nvPr/>
        </p:nvSpPr>
        <p:spPr>
          <a:xfrm rot="3127200">
            <a:off x="1692360" y="3500640"/>
            <a:ext cx="574560" cy="288720"/>
          </a:xfrm>
          <a:custGeom>
            <a:avLst/>
            <a:gdLst>
              <a:gd name="textAreaLeft" fmla="*/ 71640 w 574560"/>
              <a:gd name="textAreaRight" fmla="*/ 502920 w 57456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611280" y="2637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2340000" y="4292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чеб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3780000" y="580536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че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1"/>
          <p:cNvSpPr/>
          <p:nvPr/>
        </p:nvSpPr>
        <p:spPr>
          <a:xfrm rot="3127200">
            <a:off x="3421080" y="5156280"/>
            <a:ext cx="574560" cy="288720"/>
          </a:xfrm>
          <a:custGeom>
            <a:avLst/>
            <a:gdLst>
              <a:gd name="textAreaLeft" fmla="*/ 71640 w 574560"/>
              <a:gd name="textAreaRight" fmla="*/ 502920 w 57456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4932360" y="2708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3"/>
          <p:cNvSpPr/>
          <p:nvPr/>
        </p:nvSpPr>
        <p:spPr>
          <a:xfrm flipV="1" rot="10792200">
            <a:off x="5508360" y="3859920"/>
            <a:ext cx="173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Информационное простран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6804000" y="5013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6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2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8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4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2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8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4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XXI</a:t>
            </a:r>
            <a:r>
              <a:rPr b="1" lang="ru-RU" sz="5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век – век «самости»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организац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амодисциплина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позна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рез исследовательскую, проектную, научную поурочную и внеурочную деятельность и практи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обуч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есть формирование представления о том, чтобы ребёнок сам был учителем для себя всю жизн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а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оценк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Семь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160"/>
          <p:cNvPicPr/>
          <p:nvPr/>
        </p:nvPicPr>
        <p:blipFill>
          <a:blip r:embed="rId1"/>
          <a:stretch/>
        </p:blipFill>
        <p:spPr>
          <a:xfrm>
            <a:off x="250920" y="1916280"/>
            <a:ext cx="4105080" cy="410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0" name="Picture 7" descr="family4"/>
          <p:cNvPicPr/>
          <p:nvPr/>
        </p:nvPicPr>
        <p:blipFill>
          <a:blip r:embed="rId2"/>
          <a:srcRect l="0" t="0" r="5408" b="2215"/>
          <a:stretch/>
        </p:blipFill>
        <p:spPr>
          <a:xfrm>
            <a:off x="4737240" y="1830240"/>
            <a:ext cx="3916080" cy="426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9:58:53Z</dcterms:created>
  <dc:creator>Алёна</dc:creator>
  <dc:description/>
  <dc:language>en-US</dc:language>
  <cp:lastModifiedBy>User</cp:lastModifiedBy>
  <dcterms:modified xsi:type="dcterms:W3CDTF">2012-10-23T08:33:16Z</dcterms:modified>
  <cp:revision>10</cp:revision>
  <dc:subject/>
  <dc:title>Социализация личности через систему современного образования</dc:title>
</cp:coreProperties>
</file>