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AEA-233B-46DE-B682-FD2C0ADF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38F-3B79-4D6E-B487-B199EEFA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FA6-2F92-4D33-B9FA-F5D65E5C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BBA-FC45-421C-91FD-610A98A0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6D3-8551-42C3-A3C2-E82FF837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365-5F00-4314-807D-ACFF8DD3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3CA-48A2-437D-BF5B-AA08F2F8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B32-E978-4DD4-A23A-EF493DE1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0F2-6FC7-4247-90EB-5F351887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935-B561-48F3-9847-7C41729B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A83-FC93-40D1-9BD8-48A6EDB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7F0-5893-4B46-8824-B072869C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B74-4D75-4B21-87E4-34759BDC7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78544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оциализация личности через систему современного 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4437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аботу выполнила ученица 11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ОУ-СОШ №2 р.п. Степное Совет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2071_1-200209"/>
          <p:cNvPicPr/>
          <p:nvPr/>
        </p:nvPicPr>
        <p:blipFill>
          <a:blip r:embed="rId1"/>
          <a:stretch/>
        </p:blipFill>
        <p:spPr>
          <a:xfrm>
            <a:off x="250920" y="1413000"/>
            <a:ext cx="35827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3" name="Picture 10" descr="medved2-1106"/>
          <p:cNvPicPr/>
          <p:nvPr/>
        </p:nvPicPr>
        <p:blipFill>
          <a:blip r:embed="rId2"/>
          <a:srcRect l="25550" t="0" r="0" b="6450"/>
          <a:stretch/>
        </p:blipFill>
        <p:spPr>
          <a:xfrm>
            <a:off x="5796000" y="692280"/>
            <a:ext cx="3168720" cy="26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1" descr="2313322b6781666d42e64c7c1e537445"/>
          <p:cNvPicPr/>
          <p:nvPr/>
        </p:nvPicPr>
        <p:blipFill>
          <a:blip r:embed="rId3"/>
          <a:stretch/>
        </p:blipFill>
        <p:spPr>
          <a:xfrm>
            <a:off x="3708360" y="2781360"/>
            <a:ext cx="2824200" cy="396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6" presetSubtype="2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DSC03160"/>
          <p:cNvPicPr/>
          <p:nvPr/>
        </p:nvPicPr>
        <p:blipFill>
          <a:blip r:embed="rId1"/>
          <a:stretch/>
        </p:blipFill>
        <p:spPr>
          <a:xfrm>
            <a:off x="4788000" y="981000"/>
            <a:ext cx="3265560" cy="244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Особенности социализации личности в Советском райо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DSC01988"/>
          <p:cNvPicPr/>
          <p:nvPr/>
        </p:nvPicPr>
        <p:blipFill>
          <a:blip r:embed="rId2"/>
          <a:stretch/>
        </p:blipFill>
        <p:spPr>
          <a:xfrm>
            <a:off x="250920" y="1557360"/>
            <a:ext cx="3673440" cy="27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Picture 10" descr="DSC03174"/>
          <p:cNvPicPr/>
          <p:nvPr/>
        </p:nvPicPr>
        <p:blipFill>
          <a:blip r:embed="rId3"/>
          <a:stretch/>
        </p:blipFill>
        <p:spPr>
          <a:xfrm>
            <a:off x="4643280" y="3483000"/>
            <a:ext cx="4254480" cy="319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12" descr="фото старше звено 186"/>
          <p:cNvPicPr/>
          <p:nvPr/>
        </p:nvPicPr>
        <p:blipFill>
          <a:blip r:embed="rId4"/>
          <a:stretch/>
        </p:blipFill>
        <p:spPr>
          <a:xfrm>
            <a:off x="468360" y="3933720"/>
            <a:ext cx="374472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16000" y="475920"/>
            <a:ext cx="40388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лагаемые успеха современного образования через социализацию лич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и оперативно решать пробл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учиться и работать с информ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ть накопленные знания и опыт для практического применения в жиз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коммуникативному общ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DSC03148"/>
          <p:cNvPicPr/>
          <p:nvPr/>
        </p:nvPicPr>
        <p:blipFill>
          <a:blip r:embed="rId1"/>
          <a:stretch/>
        </p:blipFill>
        <p:spPr>
          <a:xfrm>
            <a:off x="179280" y="3357720"/>
            <a:ext cx="4321440" cy="324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6" descr="DSC04675"/>
          <p:cNvPicPr/>
          <p:nvPr/>
        </p:nvPicPr>
        <p:blipFill>
          <a:blip r:embed="rId2"/>
          <a:stretch/>
        </p:blipFill>
        <p:spPr>
          <a:xfrm>
            <a:off x="324000" y="189000"/>
            <a:ext cx="3913200" cy="293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завтрашнего дня должна давать не только информацию, но и способы работы с нею. Школьники и студенты должны учиться отбрасывать старые идеи, знать, когда и как их заменять. Они должны научиться учиться, отучиваться и переучиваться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рамотным человеком завтрашнего дня будет не тот, кто не умеет читать, а тот, кто не научился уч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А.Тоффлер, Нобелевский лауре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65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Проект «Наша новая шко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модернизации и реформирования в рамках проекта «Наша новая школа», роли и месте современной педагогической философии в формировании личности в современных условиях вызывают бурный интерес и различные мнения от учащихся и их родителей до Президента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medvedev_ofic_b01"/>
          <p:cNvPicPr/>
          <p:nvPr/>
        </p:nvPicPr>
        <p:blipFill>
          <a:blip r:embed="rId1"/>
          <a:stretch/>
        </p:blipFill>
        <p:spPr>
          <a:xfrm>
            <a:off x="433440" y="1413000"/>
            <a:ext cx="3827520" cy="52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2010 год – год Учит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 и приоритет государства и общества к образовательной поли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обсуждение государством и обществом путей решения проблем в системе образова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ятие авторитета и престижа российского образования и уч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mblema-goda-uchitelja"/>
          <p:cNvPicPr/>
          <p:nvPr/>
        </p:nvPicPr>
        <p:blipFill>
          <a:blip r:embed="rId1"/>
          <a:stretch/>
        </p:blipFill>
        <p:spPr>
          <a:xfrm>
            <a:off x="179280" y="1557360"/>
            <a:ext cx="4405320" cy="489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korpus"/>
          <p:cNvPicPr/>
          <p:nvPr/>
        </p:nvPicPr>
        <p:blipFill>
          <a:blip r:embed="rId1"/>
          <a:stretch/>
        </p:blipFill>
        <p:spPr>
          <a:xfrm>
            <a:off x="179280" y="620640"/>
            <a:ext cx="5113440" cy="340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0" name="Picture 14" descr="DSC04557"/>
          <p:cNvPicPr/>
          <p:nvPr/>
        </p:nvPicPr>
        <p:blipFill>
          <a:blip r:embed="rId2"/>
          <a:srcRect l="0" t="0" r="0" b="18871"/>
          <a:stretch/>
        </p:blipFill>
        <p:spPr>
          <a:xfrm>
            <a:off x="4643280" y="1916280"/>
            <a:ext cx="4326120" cy="46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Text Box 15"/>
          <p:cNvSpPr/>
          <p:nvPr/>
        </p:nvSpPr>
        <p:spPr>
          <a:xfrm>
            <a:off x="539640" y="4292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Comic Sans MS"/>
              </a:rPr>
              <a:t>Саратовский Государственный Университет имени Н.Г. Черныш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Цель работ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особенности социализации личности через систему модернизации современного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755640" y="29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Задач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4653000"/>
            <a:ext cx="8229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24000" y="407664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вопросы социализации и образования личности через основные факторы: школу, семью, С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социализацию личности в рамках Совет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Основные факторы социализ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Рисунок1"/>
          <p:cNvPicPr/>
          <p:nvPr/>
        </p:nvPicPr>
        <p:blipFill>
          <a:blip r:embed="rId1"/>
          <a:stretch/>
        </p:blipFill>
        <p:spPr>
          <a:xfrm>
            <a:off x="1979640" y="2637000"/>
            <a:ext cx="5400720" cy="405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Rectangle 7"/>
          <p:cNvSpPr/>
          <p:nvPr/>
        </p:nvSpPr>
        <p:spPr>
          <a:xfrm>
            <a:off x="61128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Шко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7"/>
          <p:cNvSpPr/>
          <p:nvPr/>
        </p:nvSpPr>
        <p:spPr>
          <a:xfrm>
            <a:off x="6300720" y="4292640"/>
            <a:ext cx="2160720" cy="1727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8"/>
          <p:cNvSpPr/>
          <p:nvPr/>
        </p:nvSpPr>
        <p:spPr>
          <a:xfrm>
            <a:off x="5219640" y="3284640"/>
            <a:ext cx="2233800" cy="1726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9"/>
          <p:cNvSpPr/>
          <p:nvPr/>
        </p:nvSpPr>
        <p:spPr>
          <a:xfrm>
            <a:off x="4427640" y="2060640"/>
            <a:ext cx="2160360" cy="172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6"/>
          <p:cNvSpPr/>
          <p:nvPr/>
        </p:nvSpPr>
        <p:spPr>
          <a:xfrm>
            <a:off x="3348000" y="5130720"/>
            <a:ext cx="2087640" cy="1727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5"/>
          <p:cNvSpPr/>
          <p:nvPr/>
        </p:nvSpPr>
        <p:spPr>
          <a:xfrm>
            <a:off x="1908000" y="3573360"/>
            <a:ext cx="2159280" cy="1727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Традиционная образовательная парадиг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500720" y="260280"/>
            <a:ext cx="397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овременная образовательная парадигм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179280" y="1989000"/>
            <a:ext cx="2016360" cy="1727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 rot="3127200">
            <a:off x="1692360" y="3500640"/>
            <a:ext cx="574560" cy="288720"/>
          </a:xfrm>
          <a:custGeom>
            <a:avLst/>
            <a:gdLst>
              <a:gd name="textAreaLeft" fmla="*/ 71640 w 574560"/>
              <a:gd name="textAreaRight" fmla="*/ 502920 w 5745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11280" y="2637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340000" y="4292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3780000" y="580536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 rot="3127200">
            <a:off x="3421080" y="5156280"/>
            <a:ext cx="574560" cy="288720"/>
          </a:xfrm>
          <a:custGeom>
            <a:avLst/>
            <a:gdLst>
              <a:gd name="textAreaLeft" fmla="*/ 71640 w 574560"/>
              <a:gd name="textAreaRight" fmla="*/ 502920 w 5745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4932360" y="2708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 flipV="1" rot="10792200">
            <a:off x="5508360" y="385992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нформационное простра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6804000" y="5013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8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4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2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8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4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XXI</a:t>
            </a:r>
            <a:r>
              <a:rPr b="1" lang="ru-RU" sz="5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век – век «самости»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организ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амодисциплина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позна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рез исследовательскую, проектную, научную поурочную и внеурочную деятельность и практи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обуч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формирование представления о том, чтобы ребёнок сам был учителем для себя всю жизн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оцен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Семь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160"/>
          <p:cNvPicPr/>
          <p:nvPr/>
        </p:nvPicPr>
        <p:blipFill>
          <a:blip r:embed="rId1"/>
          <a:stretch/>
        </p:blipFill>
        <p:spPr>
          <a:xfrm>
            <a:off x="250920" y="1916280"/>
            <a:ext cx="4105080" cy="410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7" descr="family4"/>
          <p:cNvPicPr/>
          <p:nvPr/>
        </p:nvPicPr>
        <p:blipFill>
          <a:blip r:embed="rId2"/>
          <a:srcRect l="0" t="0" r="5408" b="2215"/>
          <a:stretch/>
        </p:blipFill>
        <p:spPr>
          <a:xfrm>
            <a:off x="4737240" y="1830240"/>
            <a:ext cx="3916080" cy="426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9:58:53Z</dcterms:created>
  <dc:creator>Алёна</dc:creator>
  <dc:description/>
  <dc:language>en-US</dc:language>
  <cp:lastModifiedBy>User</cp:lastModifiedBy>
  <dcterms:modified xsi:type="dcterms:W3CDTF">2012-10-23T08:33:16Z</dcterms:modified>
  <cp:revision>10</cp:revision>
  <dc:subject/>
  <dc:title>Социализация личности через систему современного образования</dc:title>
</cp:coreProperties>
</file>