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FD6-A3B6-4B3C-82E4-8ADCB5EC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CF6-E590-4F24-98ED-14E716C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2C2-123F-4DB5-BFF1-6F01E6B5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458-4382-4462-A269-8E3BDC57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54AC-C36F-4C80-AAFD-9EFD6063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3A3B-0C42-45ED-A92B-448E9A05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6345-D69F-4C54-A913-B12A9763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9767-518E-4090-9F9B-885C9B0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BB32-DF1A-42DF-ACA7-CE10358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4B52-AE2C-4AAE-845D-7DE3C5C4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5EE8-9660-40EF-9C0B-45A7CCF7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7D5-B65A-47A6-9F5C-B201668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F2F8-CCCB-44BA-AC4A-B5E9429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049D-255F-42E4-9C79-8A109550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53BA-DE08-4193-8F27-C0FB2AB7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B09B-B0A8-4981-9694-54C0C159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D925-371B-4D0F-A4E7-4F4D684F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E3AB-EDF6-47D2-8A2F-CD8252BD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11FC-59BC-4B08-850D-494A9C85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34328-692E-4319-82D4-76B9C43C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8789-4F3E-48F2-A4AA-F4B9593D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D3651-4771-4503-BB5D-1DF6FB8C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ACD-8343-4C5B-9274-8FED5EB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AD50-EB74-4C45-9DC6-F6073AA4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0E12-BDA2-47D4-8C02-91C09E0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0E11-31A3-4A49-BFF1-54CAF8B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F1061-806A-4363-ACD9-B0633AC5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A3380-EBE9-45A8-A73D-5AA66944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DAF3-CE98-4839-A4A6-11ABB1E6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9DD7-5E6E-43F9-9AE8-3478FA23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31AF-FEA7-4CFA-A6C6-6D239BD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BA63-9235-4134-9B14-C43CF7B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F0E4-5048-4E79-AFB3-BB851A19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E0C-6952-4116-95A3-3872D3F2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09C6-3BE2-4780-A77D-CFE7FC22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0AF69-34F8-4A82-B685-72C6C812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B185-F84A-4FE3-BED7-33926EDA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2F08-3C56-4688-B42F-57DA6FC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5F27-5918-495D-A889-3AE339AF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9D34-B7CB-4A14-A152-02FAC87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D4FC-0978-437A-A5DC-33413E9A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DA6E-000B-4A85-87B1-B433F80A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BBCE-B97E-4F98-AB8D-5BDD4F51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4BF-8F12-44FF-94D2-7D0C311B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CCC-EE27-41B1-A85F-CEBF9095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8C1-388E-4C00-B648-20AF6D3A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379-02EC-467C-9122-9ED378F8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E65-FCD5-477F-AAAB-AF651D8E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772-6C77-4D42-9FA6-72BD7EB898A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9F91-111F-4EDB-805E-1495A58F6F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88A7-AC64-4EE8-88E4-E94733687BC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69CF-60BB-4BC1-8EFB-9E76EFD3F5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81200" y="920880"/>
            <a:ext cx="7808760" cy="2365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71760" y="357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ценарий классного час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ля учащихся 5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000080" y="535788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втор: Кузнецова Светлана Алексее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учитель русского языка и литера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лассный руководитель 5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Пещера «Чертовы ворота»</a:t>
            </a:r>
            <a:br>
              <a:rPr sz="4500"/>
            </a:b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21b2c9"/>
                </a:solidFill>
                <a:latin typeface="Calibri"/>
              </a:rPr>
              <a:t>Кавалеровский райо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7" descr="http://img-fotki.yandex.ru/get/4706/43392969.11/0_6d0b1_4bafefd4_XL"/>
          <p:cNvPicPr/>
          <p:nvPr/>
        </p:nvPicPr>
        <p:blipFill>
          <a:blip r:embed="rId1"/>
          <a:stretch/>
        </p:blipFill>
        <p:spPr>
          <a:xfrm>
            <a:off x="3238560" y="2428920"/>
            <a:ext cx="5905440" cy="4429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shamora.info/up2/catalog_item/cache/full/1514_11.1330226618.jpg"/>
          <p:cNvPicPr/>
          <p:nvPr/>
        </p:nvPicPr>
        <p:blipFill>
          <a:blip r:embed="rId2"/>
          <a:stretch/>
        </p:blipFill>
        <p:spPr>
          <a:xfrm>
            <a:off x="0" y="1560600"/>
            <a:ext cx="335772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Горы Приморского кра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оры всегда были величественными. В них ощущается сил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 когда ты стоишь на вершине горы, то понимаешь, что весь мир перед тоб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оры дают ощущение какой-то защиты. Особенно великолепны горы - древние рифы. В них много красивых пещер и водных чистых источников. Много городищ, где древние люди находили прию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Горы Сихотэ-Алин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2" descr="http://www.foto-video.ru/images/Lyskin_dalniy_vostok/sihote_alyn_sverhu.jpg"/>
          <p:cNvPicPr/>
          <p:nvPr/>
        </p:nvPicPr>
        <p:blipFill>
          <a:blip r:embed="rId1"/>
          <a:stretch/>
        </p:blipFill>
        <p:spPr>
          <a:xfrm>
            <a:off x="714240" y="1357200"/>
            <a:ext cx="792972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Заповедники Приморского кра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настоящее время в Приморском крае действует шесть заповедников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иртуальн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утешествие по заповедникам с фото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Причудливой формы берега, композиции скал и гротов, удивительные растения и редкие животные. Птицы и подводный мир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едчайшая кошка планеты – дальневосточный леопард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России осталось 30 особей этого вид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Настя\Рабочий стол\07.jpg"/>
          <p:cNvPicPr/>
          <p:nvPr/>
        </p:nvPicPr>
        <p:blipFill>
          <a:blip r:embed="rId1"/>
          <a:stretch/>
        </p:blipFill>
        <p:spPr>
          <a:xfrm>
            <a:off x="1428840" y="1857240"/>
            <a:ext cx="6429240" cy="447048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Дальневосточный леопар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Уссурийский тиг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img01.chitalnya.ru/upload/689/7017975244671106.jpg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&amp;Pcy;&amp;rcy;&amp;icy;&amp;mcy;&amp;ocy;&amp;rcy;&amp;scy;&amp;kcy;&amp;icy;&amp;jcy; &amp;kcy;&amp;rcy;&amp;acy;&amp;jcy;"/>
          <p:cNvPicPr/>
          <p:nvPr/>
        </p:nvPicPr>
        <p:blipFill>
          <a:blip r:embed="rId1"/>
          <a:stretch/>
        </p:blipFill>
        <p:spPr>
          <a:xfrm>
            <a:off x="0" y="571680"/>
            <a:ext cx="3994200" cy="6286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img-fotki.yandex.ru/get/3305/bondarchuk-s.0/0_4a4a_86393958_XL"/>
          <p:cNvPicPr/>
          <p:nvPr/>
        </p:nvPicPr>
        <p:blipFill>
          <a:blip r:embed="rId2"/>
          <a:stretch/>
        </p:blipFill>
        <p:spPr>
          <a:xfrm>
            <a:off x="3979800" y="3571920"/>
            <a:ext cx="5164200" cy="328608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"/>
          <p:cNvSpPr/>
          <p:nvPr/>
        </p:nvSpPr>
        <p:spPr>
          <a:xfrm>
            <a:off x="2143080" y="571680"/>
            <a:ext cx="5143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b2c9"/>
                </a:solidFill>
                <a:latin typeface="Calibri"/>
              </a:rPr>
              <a:t>Приморская осень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2928960" y="1357200"/>
            <a:ext cx="62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й мой любимый, с туманными далям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шумной тайгою, с болотными рясками…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олько бы разных зем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видали бы 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т тебя лучше,  красивей и ласко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моляков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&amp;Fcy;&amp;acy;&amp;jcy;&amp;lcy;:&amp;Pcy;&amp;rcy;&amp;icy;&amp;mcy;&amp;ocy;&amp;rcy;&amp;softcy;&amp;iecy; &amp;Bcy;&amp;ucy;&amp;khcy;&amp;tcy;&amp;acy; &amp;Ocy;&amp;lcy;&amp;softcy;&amp;gcy;&amp;acy;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"/>
          <p:cNvSpPr/>
          <p:nvPr/>
        </p:nvSpPr>
        <p:spPr>
          <a:xfrm>
            <a:off x="785880" y="2143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nstantia"/>
              </a:rPr>
              <a:t>Благодарю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nstantia"/>
              </a:rPr>
              <a:t>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ш край на карте Росси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Documents and Settings\Настя\Рабочий стол\800px-Map_of_Russia_-_Primorsky_Krai_(2008-03).svg.png"/>
          <p:cNvPicPr/>
          <p:nvPr/>
        </p:nvPicPr>
        <p:blipFill>
          <a:blip r:embed="rId1"/>
          <a:stretch/>
        </p:blipFill>
        <p:spPr>
          <a:xfrm>
            <a:off x="428760" y="1714680"/>
            <a:ext cx="83786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рта Приморского кра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http://ugadn25.ru/netcat_files/Image/vl.jpg"/>
          <p:cNvPicPr/>
          <p:nvPr/>
        </p:nvPicPr>
        <p:blipFill>
          <a:blip r:embed="rId1"/>
          <a:stretch/>
        </p:blipFill>
        <p:spPr>
          <a:xfrm>
            <a:off x="2143080" y="1500120"/>
            <a:ext cx="4749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толица края – город Владивосто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0" descr="http://img.beta.rian.ru/images/19506/32/195063266.jpg"/>
          <p:cNvPicPr/>
          <p:nvPr/>
        </p:nvPicPr>
        <p:blipFill>
          <a:blip r:embed="rId1"/>
          <a:stretch/>
        </p:blipFill>
        <p:spPr>
          <a:xfrm>
            <a:off x="500040" y="1214280"/>
            <a:ext cx="81439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5840" y="1000080"/>
            <a:ext cx="857232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21b2c9"/>
                </a:solidFill>
                <a:latin typeface="Calibri"/>
              </a:rPr>
              <a:t>Водопады, реки и озера </a:t>
            </a:r>
            <a:br>
              <a:rPr sz="4500"/>
            </a:br>
            <a:r>
              <a:rPr b="0" lang="ru-RU" sz="4500" spc="-1" strike="noStrike">
                <a:solidFill>
                  <a:srgbClr val="21b2c9"/>
                </a:solidFill>
                <a:latin typeface="Calibri"/>
              </a:rPr>
              <a:t>нашего кра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о символ неукротимого движения вперед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 водопада чувствуешь себя большим и свободным, подобно великой природе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 приходит неопровержимая мысль: тысячи лет низвергается в этом месте бушующий ураган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адающая вода как величественное явление притягивает издавна человека своей неповторимой красото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b2c9"/>
                </a:solidFill>
                <a:latin typeface="Calibri"/>
              </a:rPr>
              <a:t>Кравцовские водопады. Хасанский район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http://i4.otzovik.com/2011/06/09/86352/img/61580940.jpg"/>
          <p:cNvPicPr/>
          <p:nvPr/>
        </p:nvPicPr>
        <p:blipFill>
          <a:blip r:embed="rId1"/>
          <a:stretch/>
        </p:blipFill>
        <p:spPr>
          <a:xfrm>
            <a:off x="857160" y="1214280"/>
            <a:ext cx="72151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Морские бухты. Мор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120" y="1856880"/>
            <a:ext cx="83296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Живописные бухты Приморья, поражают своей красотой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елые пески и прозрачное голубое море.  Скалы вокруг с убойной зеленью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Желтые пески и мягкий климат. Бухты в сочетании с уникальными скальными останцами вокруг и нежным песком с дикими бухтами, все больше влекут и радуют глаз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http://www.aiss.gov.ru/UserFiles/river(3).jpg"/>
          <p:cNvPicPr/>
          <p:nvPr/>
        </p:nvPicPr>
        <p:blipFill>
          <a:blip r:embed="rId1"/>
          <a:stretch/>
        </p:blipFill>
        <p:spPr>
          <a:xfrm>
            <a:off x="1000080" y="1446120"/>
            <a:ext cx="7215120" cy="5411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http://promoserver.ru/s_images/12483163583920.jpg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28920" y="785880"/>
            <a:ext cx="4114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1b2c9"/>
                </a:solidFill>
                <a:latin typeface="Calibri"/>
              </a:rPr>
              <a:t>Японское мор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1b2c9"/>
                </a:solidFill>
                <a:latin typeface="Calibri"/>
              </a:rPr>
              <a:t>Пеще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амое причудливое, что можно увидеть в горах Приморья, это пещеры. Пещеры бывают у подножья, но во основном в отвесных скалах или на высот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расота внутри, причудливые формы сразу завораживают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А в сложных пещерах, можно ощутить полный экстрим, продвигаясь про красивым тоннелям. Особенно красивые пещеры в древних рифах - горах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инель</cp:lastModifiedBy>
  <dcterms:modified xsi:type="dcterms:W3CDTF">2012-09-21T20:35:22Z</dcterms:modified>
  <cp:revision>33</cp:revision>
  <dc:subject/>
  <dc:title>Слайд 1</dc:title>
</cp:coreProperties>
</file>