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A902-AD82-41F3-BDCD-F739F8D6A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3647-1327-4A0C-872E-5C1118EC6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2E17-003E-4BCA-ADEC-668AE83B5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34FC-B897-42BA-8DEC-BB31F14A9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26EF2-3117-454E-9927-42D206903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A4F37-1910-4843-8EE9-5EE0112A8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7ADEE-FE9B-4634-9897-12B0E7F21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19B26-FDCD-42E1-AFD9-FFF23AFDC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7B675-ED35-4FE4-83A5-22C526EB8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4CA4E-58A5-48D2-B767-6F9D5B4B7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C2B5F-00A9-4D8F-9925-2B10797B3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3D39-7D1F-45A4-88F0-18DF6CAAA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EDF40-3731-485F-81B7-D644337B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FD797-2F5A-4025-AF9E-329D14D9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C6BDF-A657-4053-B334-B3BDA55A2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F6959-E98C-4024-8278-6E25E919A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12C59-5BE8-45C1-883B-24634881A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BF04E-DFBA-4ABF-9F9A-2C7C09127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B14E1-1BA9-4612-B385-F2AE17DCB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F603E-12FF-4E8B-9570-119B9711E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18D3D-1484-4AE5-BAB2-CC92D8BBD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BAED1-851D-4458-A901-200AFD46B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8C6C-D5B8-4A1E-B6CD-D912A9711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D58C5-D665-4BD5-A17E-434983FA5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FF51B-355F-47B9-9033-2E181280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2B55B-4334-4E65-9E5A-F9FF79D1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926D5-79A2-4482-A33E-BA3202462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C0304-9575-4E17-8F13-A39DF2AF4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5D58A-0AC3-46B2-8556-DA58A08D3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387AC-50BB-43FC-9644-8D8B87A02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026FA-CD6F-433C-8333-C8FFE4CDD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EA637-69FE-45CC-8B88-CF4D3E782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4F2D7-A80C-4EBA-A776-CCBBD4497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6D75-A4D8-4DEE-9B6F-D84E79D50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8E007-78C0-4844-9713-EA6D86F56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AF54A-D0C0-402F-8C26-003952449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9F5A4-03EF-444B-BA21-FB1DFE41D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1FEAE-79BA-49C2-A790-011C7D72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5431B-3D19-48B3-BDB5-6F2E7E6D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FAF82-4936-42D5-ABA8-7C9B9873D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CDBF8-0C1C-4B4A-B46D-5885E9492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3CD13-F46E-4F30-9B61-55F7FC46D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498F2-1E67-447C-86A2-CF1D48E96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256E-476E-4F85-AE00-B69F4D10A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269B-6837-422E-896E-6DB261385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B0B0-2BA3-4515-BA1E-A11FE739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2D10-045F-4C9F-9C7D-C1EBC4B5F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6C28-9AB8-4268-BEF7-ACAC1539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7D02E-39D0-43F8-82A8-3B5D6B0D5319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0EB38-227C-444C-805D-1E15330BFED7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6B271-0870-4595-B65B-903E6822DEE1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6BFB0-95C7-4152-B440-44CF589321F4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781200" y="920880"/>
            <a:ext cx="7808760" cy="23652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571760" y="3571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ценарий классного часа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для учащихся 5 класс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TextBox 3"/>
          <p:cNvSpPr/>
          <p:nvPr/>
        </p:nvSpPr>
        <p:spPr>
          <a:xfrm>
            <a:off x="1000080" y="5357880"/>
            <a:ext cx="735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Автор: Кузнецова Светлана Алексеевн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учитель русского языка и литератур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классный руководитель 5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0040" y="128556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21b2c9"/>
                </a:solidFill>
                <a:latin typeface="Calibri"/>
              </a:rPr>
              <a:t>Пещера «Чертовы ворота»</a:t>
            </a:r>
            <a:br>
              <a:rPr sz="4500"/>
            </a:br>
            <a:r>
              <a:rPr b="1" lang="ru-RU" sz="4500" spc="-1" strike="noStrike">
                <a:solidFill>
                  <a:srgbClr val="21b2c9"/>
                </a:solidFill>
                <a:latin typeface="Calibri"/>
              </a:rPr>
              <a:t>                      </a:t>
            </a:r>
            <a:r>
              <a:rPr b="1" lang="ru-RU" sz="3200" spc="-1" strike="noStrike">
                <a:solidFill>
                  <a:srgbClr val="21b2c9"/>
                </a:solidFill>
                <a:latin typeface="Calibri"/>
              </a:rPr>
              <a:t>Кавалеровский район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Picture 7" descr="http://img-fotki.yandex.ru/get/4706/43392969.11/0_6d0b1_4bafefd4_XL"/>
          <p:cNvPicPr/>
          <p:nvPr/>
        </p:nvPicPr>
        <p:blipFill>
          <a:blip r:embed="rId1"/>
          <a:stretch/>
        </p:blipFill>
        <p:spPr>
          <a:xfrm>
            <a:off x="3238560" y="2428920"/>
            <a:ext cx="5905440" cy="44290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http://www.shamora.info/up2/catalog_item/cache/full/1514_11.1330226618.jpg"/>
          <p:cNvPicPr/>
          <p:nvPr/>
        </p:nvPicPr>
        <p:blipFill>
          <a:blip r:embed="rId2"/>
          <a:stretch/>
        </p:blipFill>
        <p:spPr>
          <a:xfrm>
            <a:off x="0" y="1560600"/>
            <a:ext cx="335772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21b2c9"/>
                </a:solidFill>
                <a:latin typeface="Calibri"/>
              </a:rPr>
              <a:t>Горы Приморского кра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Горы всегда были величественными. В них ощущается сила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А когда ты стоишь на вершине горы, то понимаешь, что весь мир перед тобой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Горы дают ощущение какой-то защиты. Особенно великолепны горы - древние рифы. В них много красивых пещер и водных чистых источников. Много городищ, где древние люди находили приют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21b2c9"/>
                </a:solidFill>
                <a:latin typeface="Calibri"/>
              </a:rPr>
              <a:t>Горы Сихотэ-Алинь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7" name="Picture 2" descr="http://www.foto-video.ru/images/Lyskin_dalniy_vostok/sihote_alyn_sverhu.jpg"/>
          <p:cNvPicPr/>
          <p:nvPr/>
        </p:nvPicPr>
        <p:blipFill>
          <a:blip r:embed="rId1"/>
          <a:stretch/>
        </p:blipFill>
        <p:spPr>
          <a:xfrm>
            <a:off x="714240" y="1357200"/>
            <a:ext cx="7929720" cy="52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21b2c9"/>
                </a:solidFill>
                <a:latin typeface="Calibri"/>
              </a:rPr>
              <a:t>Заповедники Приморского края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 настоящее время в Приморском крае действует шесть заповедников.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Виртуальное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путешествие по заповедникам с фото.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Причудливой формы берега, композиции скал и гротов, удивительные растения и редкие животные. Птицы и подводный мир.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Редчайшая кошка планеты – дальневосточный леопард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 России осталось 30 особей этого вид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C:\Documents and Settings\Настя\Рабочий стол\07.jpg"/>
          <p:cNvPicPr/>
          <p:nvPr/>
        </p:nvPicPr>
        <p:blipFill>
          <a:blip r:embed="rId1"/>
          <a:stretch/>
        </p:blipFill>
        <p:spPr>
          <a:xfrm>
            <a:off x="1428840" y="1857240"/>
            <a:ext cx="6429240" cy="4470480"/>
          </a:xfrm>
          <a:prstGeom prst="rect">
            <a:avLst/>
          </a:prstGeom>
          <a:ln w="0">
            <a:noFill/>
          </a:ln>
        </p:spPr>
      </p:pic>
      <p:sp>
        <p:nvSpPr>
          <p:cNvPr id="231" name="Заголовок 1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21b2c9"/>
                </a:solidFill>
                <a:latin typeface="Calibri"/>
              </a:rPr>
              <a:t>Дальневосточный леопард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21b2c9"/>
                </a:solidFill>
                <a:latin typeface="Calibri"/>
              </a:rPr>
              <a:t>Уссурийский тигр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4" name="Picture 2" descr="http://img01.chitalnya.ru/upload/689/7017975244671106.jpg"/>
          <p:cNvPicPr/>
          <p:nvPr/>
        </p:nvPicPr>
        <p:blipFill>
          <a:blip r:embed="rId1"/>
          <a:stretch/>
        </p:blipFill>
        <p:spPr>
          <a:xfrm>
            <a:off x="428760" y="1571760"/>
            <a:ext cx="821520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&amp;Pcy;&amp;rcy;&amp;icy;&amp;mcy;&amp;ocy;&amp;rcy;&amp;scy;&amp;kcy;&amp;icy;&amp;jcy; &amp;kcy;&amp;rcy;&amp;acy;&amp;jcy;"/>
          <p:cNvPicPr/>
          <p:nvPr/>
        </p:nvPicPr>
        <p:blipFill>
          <a:blip r:embed="rId1"/>
          <a:stretch/>
        </p:blipFill>
        <p:spPr>
          <a:xfrm>
            <a:off x="0" y="571680"/>
            <a:ext cx="3994200" cy="62863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" descr="http://img-fotki.yandex.ru/get/3305/bondarchuk-s.0/0_4a4a_86393958_XL"/>
          <p:cNvPicPr/>
          <p:nvPr/>
        </p:nvPicPr>
        <p:blipFill>
          <a:blip r:embed="rId2"/>
          <a:stretch/>
        </p:blipFill>
        <p:spPr>
          <a:xfrm>
            <a:off x="3979800" y="3571920"/>
            <a:ext cx="5164200" cy="3286080"/>
          </a:xfrm>
          <a:prstGeom prst="rect">
            <a:avLst/>
          </a:prstGeom>
          <a:ln w="0">
            <a:noFill/>
          </a:ln>
        </p:spPr>
      </p:pic>
      <p:sp>
        <p:nvSpPr>
          <p:cNvPr id="237" name="Заголовок 1"/>
          <p:cNvSpPr/>
          <p:nvPr/>
        </p:nvSpPr>
        <p:spPr>
          <a:xfrm>
            <a:off x="2143080" y="571680"/>
            <a:ext cx="5143680" cy="9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1b2c9"/>
                </a:solidFill>
                <a:latin typeface="Calibri"/>
              </a:rPr>
              <a:t>Приморская осень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5"/>
          <p:cNvSpPr/>
          <p:nvPr/>
        </p:nvSpPr>
        <p:spPr>
          <a:xfrm>
            <a:off x="2928960" y="1357200"/>
            <a:ext cx="6215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рай мой любимый, с туманными далями,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 шумной тайгою, с болотными рясками…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колько бы разных земе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е видали бы мы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ет тебя лучше,  красивей и ласков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Смоляков 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&amp;Fcy;&amp;acy;&amp;jcy;&amp;lcy;:&amp;Pcy;&amp;rcy;&amp;icy;&amp;mcy;&amp;ocy;&amp;rcy;&amp;softcy;&amp;iecy; &amp;Bcy;&amp;ucy;&amp;khcy;&amp;tcy;&amp;acy; &amp;Ocy;&amp;lcy;&amp;softcy;&amp;gcy;&amp;acy;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TextBox 1"/>
          <p:cNvSpPr/>
          <p:nvPr/>
        </p:nvSpPr>
        <p:spPr>
          <a:xfrm>
            <a:off x="785880" y="2143080"/>
            <a:ext cx="7500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000"/>
                </a:solidFill>
                <a:latin typeface="Constantia"/>
              </a:rPr>
              <a:t>Благодарю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000"/>
                </a:solidFill>
                <a:latin typeface="Constantia"/>
              </a:rPr>
              <a:t>за внимание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429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Наш край на карте Росси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0" name="Picture 2" descr="C:\Documents and Settings\Настя\Рабочий стол\800px-Map_of_Russia_-_Primorsky_Krai_(2008-03).svg.png"/>
          <p:cNvPicPr/>
          <p:nvPr/>
        </p:nvPicPr>
        <p:blipFill>
          <a:blip r:embed="rId1"/>
          <a:stretch/>
        </p:blipFill>
        <p:spPr>
          <a:xfrm>
            <a:off x="428760" y="1714680"/>
            <a:ext cx="8378640" cy="48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Карта Приморского края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3" name="Picture 2" descr="http://ugadn25.ru/netcat_files/Image/vl.jpg"/>
          <p:cNvPicPr/>
          <p:nvPr/>
        </p:nvPicPr>
        <p:blipFill>
          <a:blip r:embed="rId1"/>
          <a:stretch/>
        </p:blipFill>
        <p:spPr>
          <a:xfrm>
            <a:off x="2143080" y="1500120"/>
            <a:ext cx="47498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50104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Столица края – город Владивосток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5" name="Picture 10" descr="http://img.beta.rian.ru/images/19506/32/195063266.jpg"/>
          <p:cNvPicPr/>
          <p:nvPr/>
        </p:nvPicPr>
        <p:blipFill>
          <a:blip r:embed="rId1"/>
          <a:stretch/>
        </p:blipFill>
        <p:spPr>
          <a:xfrm>
            <a:off x="500040" y="1214280"/>
            <a:ext cx="814392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85840" y="1000080"/>
            <a:ext cx="8572320" cy="106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21b2c9"/>
                </a:solidFill>
                <a:latin typeface="Calibri"/>
              </a:rPr>
              <a:t>Водопады, реки и озера </a:t>
            </a:r>
            <a:br>
              <a:rPr sz="4500"/>
            </a:br>
            <a:r>
              <a:rPr b="0" lang="ru-RU" sz="4500" spc="-1" strike="noStrike">
                <a:solidFill>
                  <a:srgbClr val="21b2c9"/>
                </a:solidFill>
                <a:latin typeface="Calibri"/>
              </a:rPr>
              <a:t>нашего края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28760" y="21427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Это символ неукротимого движения вперед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У водопада чувствуешь себя большим и свободным, подобно великой природе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И приходит неопровержимая мысль: тысячи лет низвергается в этом месте бушующий ураган воды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адающая вода как величественное явление притягивает издавна человека своей неповторимой красотой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57120" y="5000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1b2c9"/>
                </a:solidFill>
                <a:latin typeface="Calibri"/>
              </a:rPr>
              <a:t>Кравцовские водопады. Хасанский район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2" descr="http://i4.otzovik.com/2011/06/09/86352/img/61580940.jpg"/>
          <p:cNvPicPr/>
          <p:nvPr/>
        </p:nvPicPr>
        <p:blipFill>
          <a:blip r:embed="rId1"/>
          <a:stretch/>
        </p:blipFill>
        <p:spPr>
          <a:xfrm>
            <a:off x="857160" y="1214280"/>
            <a:ext cx="721512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21b2c9"/>
                </a:solidFill>
                <a:latin typeface="Calibri"/>
              </a:rPr>
              <a:t>Морские бухты. Мор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57120" y="1856880"/>
            <a:ext cx="83296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Живописные бухты Приморья, поражают своей красотой.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Белые пески и прозрачное голубое море.  Скалы вокруг с убойной зеленью.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Желтые пески и мягкий климат. Бухты в сочетании с уникальными скальными останцами вокруг и нежным песком с дикими бухтами, все больше влекут и радуют глаз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4" name="Picture 2" descr="http://www.aiss.gov.ru/UserFiles/river(3).jpg"/>
          <p:cNvPicPr/>
          <p:nvPr/>
        </p:nvPicPr>
        <p:blipFill>
          <a:blip r:embed="rId1"/>
          <a:stretch/>
        </p:blipFill>
        <p:spPr>
          <a:xfrm>
            <a:off x="1000080" y="1446120"/>
            <a:ext cx="7215120" cy="54118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http://promoserver.ru/s_images/12483163583920.jpg"/>
          <p:cNvPicPr/>
          <p:nvPr/>
        </p:nvPicPr>
        <p:blipFill>
          <a:blip r:embed="rId2"/>
          <a:stretch/>
        </p:blipFill>
        <p:spPr>
          <a:xfrm>
            <a:off x="3429000" y="0"/>
            <a:ext cx="5715000" cy="428616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28920" y="785880"/>
            <a:ext cx="41148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21b2c9"/>
                </a:solidFill>
                <a:latin typeface="Calibri"/>
              </a:rPr>
              <a:t>Японское море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21b2c9"/>
                </a:solidFill>
                <a:latin typeface="Calibri"/>
              </a:rPr>
              <a:t>Пещер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Самое причудливое, что можно увидеть в горах Приморья, это пещеры. Пещеры бывают у подножья, но во основном в отвесных скалах или на высоте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Красота внутри, причудливые формы сразу завораживают.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А в сложных пещерах, можно ощутить полный экстрим, продвигаясь про красивым тоннелям. Особенно красивые пещеры в древних рифах - горах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инель</cp:lastModifiedBy>
  <dcterms:modified xsi:type="dcterms:W3CDTF">2012-09-21T20:35:22Z</dcterms:modified>
  <cp:revision>33</cp:revision>
  <dc:subject/>
  <dc:title>Слайд 1</dc:title>
</cp:coreProperties>
</file>