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269-892A-4C3B-8AB7-355FE127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67C4-0D3C-482D-AA8F-626429E6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1E6-2B94-48C3-B77B-DC684425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AF9-8745-478A-854A-B1E74CBC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BF27-D592-42D3-8666-E4E59943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2108-FBF7-41D2-AC70-CCB2987B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F597-9745-4B1A-863F-1827EFA4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608D-FC80-4DA1-81E3-2F659B38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B56B-66A5-4F67-928D-5301D9BC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9CA7-779C-4EC2-8ADE-15842032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D601-78C9-4692-9F98-2F080BDE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BE0-F355-4D81-8900-BCF5BADD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E9FC-A547-4FA1-BA4A-A9BB33AB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750D-2D39-4D2C-A8CE-05CB162F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D3EB-12F3-422E-9034-80D48C2D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1389-416C-433D-A397-3A8B5E19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F8B8-0358-44B2-8F5B-0AC812B6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A84-508F-4CE0-8F41-5A82D95C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FF1-0090-4D8A-B77E-BAD5CD06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694-4973-44C7-B079-12CBBC37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D417-15DA-4432-8961-4A3C4941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D483-5DCE-406A-887C-9C17218C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950-7C85-4636-A3AA-089A6B8F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E815-CB64-4068-AFF5-A1B04764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318D2E-7AAC-44D0-870D-32487BE5B28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75E0F2C-6C92-4A98-B639-7E61BF1DCE7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93080" cy="48495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ц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 fill="hold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ит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424720" cy="5329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чебные занятия (класс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5292720" cy="4464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гул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24000" y="1386000"/>
            <a:ext cx="8424720" cy="5211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дых по интереса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390920" cy="4608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962520" cy="453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дых по интереса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4464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сновные этапы режима дня лицеист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ая гиги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ли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ые занятия (клас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ул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дых по интерес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колько месяцев в году учились лицеисты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месяц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 месяц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 месяц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огда у лицеистов были каникулы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В авгу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В сентяб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В ию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де проводили каникулы лицеисты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Царском се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оск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11268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ими физическими упражнениями занимались воспитанники во время отдых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7786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рховая ез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ехт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лейб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зовите  учебное заведение, в котором учился А.С. Пушкин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мназ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ц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ой был высший бал ( отметка) в Лицее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единиц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трой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ятёр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колько часов отводилось для занятий в классах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ча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ча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 ча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какое время начинался день в Лицее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7 ча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6 ча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9 ча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какое время (когда) лицеисты ложились спать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23.00 ча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22.00 ча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гда хот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какой день  недели у лицеистов была бан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 понедельн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 воскресен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 суббо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каком году А.С.Пушкин поступил в Лицей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811 г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920 г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799 г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жим дня - это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  распределение времени в те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го дня (с утра и до вечер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распорядок различных видов деятельности и  отдых в течение нед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питание – сон – подъем – опять питание – со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742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авильно организованный режим дня помогал лицеистам: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хранить здоровье и бодрое настро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собствовал развитию лицеис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вал интерес к учебе и творчеств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ежим дня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176720" cy="4464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613400" y="1557360"/>
            <a:ext cx="4530600" cy="453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чная гиги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618160" cy="493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олит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4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олит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4535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4032360" cy="453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7:27:28Z</dcterms:created>
  <dc:creator>45290</dc:creator>
  <dc:description/>
  <dc:language>en-US</dc:language>
  <cp:lastModifiedBy>45290</cp:lastModifiedBy>
  <dcterms:modified xsi:type="dcterms:W3CDTF">2012-02-06T19:07:21Z</dcterms:modified>
  <cp:revision>17</cp:revision>
  <dc:subject/>
  <dc:title>Слайд 1</dc:title>
</cp:coreProperties>
</file>