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F242-4DDE-46ED-B194-F722C3A8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A55B-4AEF-4EEC-9770-059610EC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B3CC-A0A9-496F-975C-FE9D0803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64D2-6F61-4148-8C79-FD10DD13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17AC-E86B-45C3-AA9B-EC8909D9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E0DE-A821-414D-A60F-BE9A23F5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1AD5-FEC8-467F-A61D-348D935F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B260-4418-48EC-8B75-A35DBD45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895E-0627-480F-A6EE-FCCB2225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FEF5-E6EA-43BB-81D3-98D5D7AE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7124-526D-4249-8E95-490310B9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BF1F-A171-421F-952B-06C43FB5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241E-1ADA-4AE5-A2D1-C87D4B25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0916-75E2-48D5-BCAE-BF85CD0A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10FD-8716-4A4A-9CD6-F8F6CE07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7198-FECB-435B-B208-22024B90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F2AB-162B-4D2C-8628-9FB98B68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F955-C298-431F-8550-8439535C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9360-1CB0-4341-8D9C-2A053CF0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9C76-C0B0-455B-AEEE-95819918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96B0-7C04-457E-BE05-F566D415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7B11-2681-4A98-A3A1-E17AD3B9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74EC-167A-4F00-A549-43341B8E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8D7D-645F-4EAC-BBD8-9202B9DF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7120" cy="827280"/>
              <a:chOff x="5600880" y="5897520"/>
              <a:chExt cx="125712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32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616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48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264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356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1B36CA-479B-497B-8732-78860C617FB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7120" cy="827280"/>
              <a:chOff x="5600880" y="5897520"/>
              <a:chExt cx="125712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32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616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48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264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356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B7E85BB-BD07-4A08-9D56-DC4C3036295C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993080" cy="48495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иц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 fill="hold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ит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424720" cy="5329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чебные занятия (класс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635280" y="1844640"/>
            <a:ext cx="5292720" cy="4464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гул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24000" y="1386000"/>
            <a:ext cx="8424720" cy="5211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тдых по интереса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390920" cy="4608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962520" cy="453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тдых по интереса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4464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032360" cy="4608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сновные этапы режима дня лицеист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чная гигие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ли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ые занятия (класс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ул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дых по интерес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колько месяцев в году учились лицеисты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 месяц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 месяц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1 месяц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огда у лицеистов были каникулы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В авгус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В сентяб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В ию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Где проводили каникулы лицеисты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Царском се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оск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11268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ими физическими упражнениями занимались воспитанники во время отдых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7786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а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рховая ез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ехт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лейб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зовите  учебное заведение, в котором учился А.С. Пушкин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ко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мназ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ц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ой был высший бал ( отметка) в Лицее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единиц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трой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пятёр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колько часов отводилось для занятий в классах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 ча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 ча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 ча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 какое время начинался день в Лицее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7 ча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6 ча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9 ча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 какое время (когда) лицеисты ложились спать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23.00 ча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22.00 ча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гда хоте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 какой день  недели у лицеистов была баня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 понедельни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 воскресень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 суббо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 каком году А.С.Пушкин поступил в Лицей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811 г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920 г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799 г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жим дня - это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  распределение времени в те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го дня (с утра и до вечер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распорядок различных видов деятельности и  отдых в течение нед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питание – сон – подъем – опять питание – со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742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авильно организованный режим дня помогал лицеистам: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хранить здоровье и бодрое настро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собствовал развитию лицеис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вал интерес к учебе и творчеств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ежим дня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он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176720" cy="4464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613400" y="1557360"/>
            <a:ext cx="4530600" cy="453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ичная гигие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5618160" cy="4932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олит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54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олит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032360" cy="4535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468360" y="1628640"/>
            <a:ext cx="4032360" cy="4537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7:27:28Z</dcterms:created>
  <dc:creator>45290</dc:creator>
  <dc:description/>
  <dc:language>en-US</dc:language>
  <cp:lastModifiedBy>45290</cp:lastModifiedBy>
  <dcterms:modified xsi:type="dcterms:W3CDTF">2012-02-06T19:07:21Z</dcterms:modified>
  <cp:revision>17</cp:revision>
  <dc:subject/>
  <dc:title>Слайд 1</dc:title>
</cp:coreProperties>
</file>