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DCD9-E107-4DB3-B4DE-8DC51508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6172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2720" y="5637960"/>
            <a:ext cx="6172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165C-67C5-4113-B84E-9A2ABD46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427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5053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5B79-E299-49A7-AA96-AA1ACD704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429640" y="258120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16560" y="258120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42720" y="563796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429640" y="563796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4516560" y="563796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F3AB-06A8-4347-9F27-04B78CE5E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4D40-D252-40B6-85A3-6163B99DB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58120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9DBB-3FAA-41EA-A28A-4329612D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4AFA-2C4A-4AFE-93D1-72950C20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421C-BC0A-46C3-9932-1EC79231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4DC9-B45A-452A-B9E1-DE282D30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93780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25B9-6038-489E-B3CE-59C0B437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5675-B7B7-463F-BA22-B5A753F2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42720" y="258120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64C3-E6CE-437B-8B9A-B09F4F52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CCAC-4C36-4B6A-905D-83C226FA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5637960"/>
            <a:ext cx="6172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D636-AB4B-458D-884E-3F54E904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6172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5637960"/>
            <a:ext cx="6172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F1B0-E704-4EB3-9321-4B9F1FB9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A191-2B3E-4741-9D31-D9D26347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58120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58120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563796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563796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563796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9BF7-1F24-46B3-984B-D1404C68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AD974-D45C-401B-B0C3-9EBD7202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42720" y="258120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6C1AB-B52B-4251-9144-6C0F1A3E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3CBB2-E83D-4E07-BBCF-13B7904E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792AF-9D68-432F-96C3-8BB015B1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1F84C-CE76-405A-91AD-50BF736C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A864-493C-4D18-9B05-679289DA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42720" y="93780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748CB-B561-4BAB-A5E4-E192BA3F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427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48555-F032-448E-B147-55BA649B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5053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ADD12-8C8B-4949-8EB6-FC396C0B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42720" y="5637960"/>
            <a:ext cx="6172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82ADE-71BA-433E-B9A2-1362AD59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6172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42720" y="5637960"/>
            <a:ext cx="6172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A7779-87DC-4D20-BCD4-A03FD345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427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5053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FC0E3-CB9D-41E9-80AB-9954EF61C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429640" y="258120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16560" y="258120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42720" y="563796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429640" y="563796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4516560" y="563796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F3A0B-536C-4508-9435-CC40AC5DE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375BA-2F62-4B3A-8D4F-8884C0A2C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42720" y="258120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0852B-6AEF-40C4-8B2F-9FAA7A0F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A6F53-0D22-41C0-888E-68DE4A7A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1ADF-43DA-4904-B20D-1CC5FD14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8BC37-29D3-4B69-A748-64DAB67B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A3628-5584-495B-A8F6-8145681E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342720" y="93780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E3022-7C61-4B76-886A-EDA2F8DB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427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7CA59-8528-4AF2-B24B-7ED1DA04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5053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724F7-AA57-4A8D-92A2-A0858924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42720" y="5637960"/>
            <a:ext cx="6172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D4F11-2386-4B97-B26C-E57545B7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6172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42720" y="5637960"/>
            <a:ext cx="6172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666C9-334A-426A-90FE-11B74B40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427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35053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F776F-236B-456B-938A-3286C953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429640" y="258120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16560" y="258120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342720" y="563796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2429640" y="563796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4516560" y="5637960"/>
            <a:ext cx="1987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9312D-BFC1-4668-9B45-7657E1A28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56C0-D9A9-4522-A281-E8B8CBDA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42720" y="93780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E5ED-C6D1-48E9-A9FC-42431439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7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06CD-F627-4DD9-A0A2-6F354400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05320" y="563796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0788-FB92-4A7F-940A-11B95848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5320" y="2581200"/>
            <a:ext cx="301176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2720" y="5637960"/>
            <a:ext cx="61722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EB6D-28A7-4081-967F-3355E799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7920" y="-9360"/>
            <a:ext cx="6873840" cy="1388880"/>
          </a:xfrm>
          <a:custGeom>
            <a:avLst/>
            <a:gdLst>
              <a:gd name="textAreaLeft" fmla="*/ 0 w 6873840"/>
              <a:gd name="textAreaRight" fmla="*/ 6874200 w 6873840"/>
              <a:gd name="textAreaTop" fmla="*/ 0 h 1388880"/>
              <a:gd name="textAreaBottom" fmla="*/ 1389240 h 13888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3286080" y="-9360"/>
            <a:ext cx="3571920" cy="850680"/>
          </a:xfrm>
          <a:custGeom>
            <a:avLst/>
            <a:gdLst>
              <a:gd name="textAreaLeft" fmla="*/ 0 w 3571920"/>
              <a:gd name="textAreaRight" fmla="*/ 3572280 w 357192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58120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999800" y="8475480"/>
            <a:ext cx="25146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5943600" y="8475480"/>
            <a:ext cx="57168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9FCF-70FE-48B8-8C0C-58D8747A29E6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4400" y="270000"/>
            <a:ext cx="6885000" cy="865080"/>
            <a:chOff x="-14400" y="270000"/>
            <a:chExt cx="6885000" cy="86508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4400" y="270000"/>
              <a:ext cx="6872760" cy="865080"/>
              <a:chOff x="-14400" y="270000"/>
              <a:chExt cx="6872760" cy="86508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6560" y="270000"/>
                <a:ext cx="6841800" cy="86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4040" y="5266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4400" y="344160"/>
              <a:ext cx="6885000" cy="725760"/>
              <a:chOff x="-14400" y="344160"/>
              <a:chExt cx="6885000" cy="72576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9000" y="344160"/>
                <a:ext cx="6861600" cy="72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4040" y="6012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7920" y="-9360"/>
            <a:ext cx="6873840" cy="1388880"/>
          </a:xfrm>
          <a:custGeom>
            <a:avLst/>
            <a:gdLst>
              <a:gd name="textAreaLeft" fmla="*/ 0 w 6873840"/>
              <a:gd name="textAreaRight" fmla="*/ 6874200 w 6873840"/>
              <a:gd name="textAreaTop" fmla="*/ 0 h 1388880"/>
              <a:gd name="textAreaBottom" fmla="*/ 1389240 h 13888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3286080" y="-9360"/>
            <a:ext cx="3571920" cy="850680"/>
          </a:xfrm>
          <a:custGeom>
            <a:avLst/>
            <a:gdLst>
              <a:gd name="textAreaLeft" fmla="*/ 0 w 3571920"/>
              <a:gd name="textAreaRight" fmla="*/ 3572280 w 357192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4400" y="270000"/>
            <a:ext cx="6885000" cy="865080"/>
            <a:chOff x="-14400" y="270000"/>
            <a:chExt cx="6885000" cy="86508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4400" y="270000"/>
              <a:ext cx="6872760" cy="865080"/>
              <a:chOff x="-14400" y="270000"/>
              <a:chExt cx="6872760" cy="86508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6560" y="270000"/>
                <a:ext cx="6841800" cy="86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4040" y="5266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4400" y="344160"/>
              <a:ext cx="6885000" cy="725760"/>
              <a:chOff x="-14400" y="344160"/>
              <a:chExt cx="6885000" cy="72576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9000" y="344160"/>
                <a:ext cx="6861600" cy="72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4040" y="6012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58120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1999800" y="8475480"/>
            <a:ext cx="25146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5943600" y="8475480"/>
            <a:ext cx="57168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E412-05A4-4406-8C5A-51FC101AF077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7920" y="-9360"/>
            <a:ext cx="6873840" cy="1388880"/>
          </a:xfrm>
          <a:custGeom>
            <a:avLst/>
            <a:gdLst>
              <a:gd name="textAreaLeft" fmla="*/ 0 w 6873840"/>
              <a:gd name="textAreaRight" fmla="*/ 6874200 w 6873840"/>
              <a:gd name="textAreaTop" fmla="*/ 0 h 1388880"/>
              <a:gd name="textAreaBottom" fmla="*/ 1389240 h 13888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3286080" y="-9360"/>
            <a:ext cx="3571920" cy="850680"/>
          </a:xfrm>
          <a:custGeom>
            <a:avLst/>
            <a:gdLst>
              <a:gd name="textAreaLeft" fmla="*/ 0 w 3571920"/>
              <a:gd name="textAreaRight" fmla="*/ 3572280 w 357192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4400" y="270000"/>
            <a:ext cx="6885000" cy="865080"/>
            <a:chOff x="-14400" y="270000"/>
            <a:chExt cx="6885000" cy="86508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4400" y="270000"/>
              <a:ext cx="6872760" cy="865080"/>
              <a:chOff x="-14400" y="270000"/>
              <a:chExt cx="6872760" cy="86508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6560" y="270000"/>
                <a:ext cx="6841800" cy="86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4040" y="5266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4400" y="344160"/>
              <a:ext cx="6885000" cy="725760"/>
              <a:chOff x="-14400" y="344160"/>
              <a:chExt cx="6885000" cy="72576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9000" y="344160"/>
                <a:ext cx="6861600" cy="72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4040" y="6012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42720" y="258120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1999800" y="8475480"/>
            <a:ext cx="25146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5943600" y="8475480"/>
            <a:ext cx="57168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6878-BAA9-4010-B8BE-BC1AF3457648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2374560" y="1476720"/>
            <a:ext cx="3943440" cy="5486400"/>
          </a:xfrm>
          <a:custGeom>
            <a:avLst/>
            <a:gdLst/>
            <a:ahLst/>
            <a:rect l="l" t="t" r="r" b="b"/>
            <a:pathLst>
              <a:path w="3943350" h="5486400">
                <a:moveTo>
                  <a:pt x="0" y="0"/>
                </a:moveTo>
                <a:lnTo>
                  <a:pt x="3799575" y="0"/>
                </a:lnTo>
                <a:lnTo>
                  <a:pt x="3943350" y="143775"/>
                </a:lnTo>
                <a:lnTo>
                  <a:pt x="3943350" y="5486400"/>
                </a:lnTo>
                <a:lnTo>
                  <a:pt x="0" y="54864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6001920" y="7146000"/>
            <a:ext cx="117360" cy="20628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7560" y="7754040"/>
            <a:ext cx="6873840" cy="1389240"/>
          </a:xfrm>
          <a:custGeom>
            <a:avLst/>
            <a:gdLst>
              <a:gd name="textAreaLeft" fmla="*/ 0 w 6873840"/>
              <a:gd name="textAreaRight" fmla="*/ 6874200 w 6873840"/>
              <a:gd name="textAreaTop" fmla="*/ -360 h 1389240"/>
              <a:gd name="textAreaBottom" fmla="*/ 1389240 h 13892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3286080" y="8292960"/>
            <a:ext cx="3571920" cy="851040"/>
          </a:xfrm>
          <a:custGeom>
            <a:avLst/>
            <a:gdLst>
              <a:gd name="textAreaLeft" fmla="*/ 0 w 3571920"/>
              <a:gd name="textAreaRight" fmla="*/ 3572280 w 3571920"/>
              <a:gd name="textAreaTop" fmla="*/ 360 h 851040"/>
              <a:gd name="textAreaBottom" fmla="*/ 851760 h 85104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342720" y="258120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1999800" y="8475480"/>
            <a:ext cx="25146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6058080" y="8475480"/>
            <a:ext cx="4572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E353-AB59-44B0-9A89-EAEB4CB21382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3"/>
          <p:cNvSpPr/>
          <p:nvPr/>
        </p:nvSpPr>
        <p:spPr>
          <a:xfrm>
            <a:off x="228600" y="5003640"/>
            <a:ext cx="2119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голева А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 «А»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БОУ ЦО №10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подав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анова И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2852640" y="835812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сква 2012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7"/>
          <p:cNvSpPr/>
          <p:nvPr/>
        </p:nvSpPr>
        <p:spPr>
          <a:xfrm>
            <a:off x="1700280" y="4572000"/>
            <a:ext cx="3429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едмет: литерату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лександр Гр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«Алые парус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7" descr="http://img1.liveinternet.ru/images/attach/c/5/89/49/89049257_1219467900.jpg"/>
          <p:cNvPicPr/>
          <p:nvPr/>
        </p:nvPicPr>
        <p:blipFill>
          <a:blip r:embed="rId1"/>
          <a:stretch/>
        </p:blipFill>
        <p:spPr>
          <a:xfrm>
            <a:off x="1281240" y="1332000"/>
            <a:ext cx="40100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4"/>
          <p:cNvSpPr/>
          <p:nvPr/>
        </p:nvSpPr>
        <p:spPr>
          <a:xfrm>
            <a:off x="233280" y="5735520"/>
            <a:ext cx="640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 книги «Алые паруса» - Александр Грин. Писатель родился в городе Вятка и с детских лет бредил морем. В шестнадцатилетнем возрасте Александр уехал из дома в Херсон – город на Черном море. Он так же, как и его герой Артур Грей  устроился юнгой на корабле и там познавал премудрости морской жизни… Его жизненный и творческий путь был труден.  Но все его книги пронизаны любовью и романтикой. Последние и самые счастливые годы своей жизни Грин провел в Феодосии. В это городе открыт музей Гр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5" descr="http://fantlab.ru/images/autors/651_3"/>
          <p:cNvPicPr/>
          <p:nvPr/>
        </p:nvPicPr>
        <p:blipFill>
          <a:blip r:embed="rId1"/>
          <a:stretch/>
        </p:blipFill>
        <p:spPr>
          <a:xfrm>
            <a:off x="422280" y="2771640"/>
            <a:ext cx="2247840" cy="276228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1"/>
          <p:cNvSpPr/>
          <p:nvPr/>
        </p:nvSpPr>
        <p:spPr>
          <a:xfrm>
            <a:off x="233280" y="971640"/>
            <a:ext cx="6940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втор «Алых парусов»  Александр Грин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041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узей Грина в Крыму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42720" y="2580840"/>
            <a:ext cx="6172200" cy="63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 этом году, когда мы отдыхали с родителями в Крыму, мы ездили в Феодосию и посетили музей Грина. Героев всех своих книг Грин поместил в волшебную несуществующую страну – Грин-Ландию. Когда заходишь в музей – сразу попадаешь в страну Грина, видишь моря, острова, проливы, города со экзотическими названиями. Их придумал и отразил на страницах своих книг Александр Грин. И населил их сильными, мужественными людьми – охотниками, путешественниками, моряками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ам музей представлен в виде корабля и каждая из комнат – эта каюты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Экскурсовод очень интересно и эмоционально рассказывала о жизни писателя и о приключениях его героев. Именно здесь я увидела Каперну – город, где проходят основные события книги «Алые паруса»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2" descr="http://crimeamap.ru/grina_muzei/1.jpg"/>
          <p:cNvPicPr/>
          <p:nvPr/>
        </p:nvPicPr>
        <p:blipFill>
          <a:blip r:embed="rId1"/>
          <a:stretch/>
        </p:blipFill>
        <p:spPr>
          <a:xfrm>
            <a:off x="333360" y="1979640"/>
            <a:ext cx="406548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лавные герои книг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42720" y="258120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Девочка Ассоль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Она живет в атмосфере враждебности и зла. Она хочет верить в лучшее и в чудо, которое ей нагадал лесной путник (она приняла его за волшебник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Артур Грей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мальчик из благополучной семьи. Он с детства мечтает о море и путешествиях. И осуществляет свою мечту. Он убегает из дома и как и автор книги начинает свой путь в море с юнги на корабл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33360" y="468360"/>
            <a:ext cx="6191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раткое содерж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72600" y="5435640"/>
            <a:ext cx="575172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деревне Каперна жила девочка Ассоль. Ее отца – бывшего матроса Лонгрена – не любили в деревне. Ассоль росла без подруг из-за нелюдимости своего отца. Однажды Ассоль встретила в лесу путешественника Эгля. Он увидел лодочку с алыми парусами, которую Ассоль пустила в ручей и сказал, что однажды за ней приедет принц на корабле с Алыми парусами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http://forumimage.ru/uploads/20110413/13026818835500371.jpg"/>
          <p:cNvPicPr/>
          <p:nvPr/>
        </p:nvPicPr>
        <p:blipFill>
          <a:blip r:embed="rId1"/>
          <a:stretch/>
        </p:blipFill>
        <p:spPr>
          <a:xfrm>
            <a:off x="981000" y="1763640"/>
            <a:ext cx="453564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2720" y="9378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раткое содерж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33000" y="4859280"/>
            <a:ext cx="61722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 в это время в другом месте жил принц Артур Грей. В 15 лет Грей сбежал из дома, чтобы быть юнгой на корабле и узнать море. Потом он повзрослел, стал известным капитаном и купил корабль «Секрет». Однажды Грей оказался в Лиссе (городе недалеко от Каперны), он увидел спящую Ассоль и влюбился в нее. От жителей он узнал о ее мечте и решил ее исполнить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 Ассоль каждый день много лет выходила на берег и ждала Алых парусов. Жители считали ее дурой и смеялись над ней. Но вот однажды Ассоль как обычно вышла на берег моря и увидела корабль с Алыми парусами. Это был Грей. Он приехал за ней, чтобы исполнить ее мечту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2" descr="http://t0.gstatic.com/images?q=tbn:ANd9GcTW4sx-Ek_PtLkI8Ai-T46Ns3yq_Z8_K8fi8KhiJ73mKu_PqKSQ&amp;t=1"/>
          <p:cNvPicPr/>
          <p:nvPr/>
        </p:nvPicPr>
        <p:blipFill>
          <a:blip r:embed="rId1"/>
          <a:stretch/>
        </p:blipFill>
        <p:spPr>
          <a:xfrm>
            <a:off x="2190600" y="2484360"/>
            <a:ext cx="20196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4280" y="793800"/>
            <a:ext cx="6172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ои впечатл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59920" y="3995280"/>
            <a:ext cx="6172200" cy="58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"Алые паруса" - книга о любви, мечте и вере. Девочка Ассоль мечтала о принце. В деревне, где она жила, её никто не любил, и ей было очень нелегко. Однажды лесной волшебник Эль предсказал ей, что когда повзрослеет, за ней приплывёт принц на корабле с алыми парусами. Эта вера помогла ей пережить трудности, насмешки, бедность и даже ненависть окружающих. Артур Грей родился в богатой семье, но мечтал о море. Став взрослым, он поступил на корабль простым матросом. Работать было тяжело, но именно мечта помогла ему справиться с трудностями. Грей исполнил мечту Ассоль об алых парусах, потому что сам верил в мечту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Я считаю, что вера, цель и мечта помогают справляться с трудностями в жизн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4" descr="http://tylider.ru/wp-content/uploads/2011/04/u-vsehMechta.jpg"/>
          <p:cNvPicPr/>
          <p:nvPr/>
        </p:nvPicPr>
        <p:blipFill>
          <a:blip r:embed="rId1"/>
          <a:stretch/>
        </p:blipFill>
        <p:spPr>
          <a:xfrm>
            <a:off x="1484280" y="1692360"/>
            <a:ext cx="296244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http://rus-demotivator.ru/uploads/posts/2010-09/1283182754_975430_mechta.jpg"/>
          <p:cNvPicPr/>
          <p:nvPr/>
        </p:nvPicPr>
        <p:blipFill>
          <a:blip r:embed="rId1"/>
          <a:stretch/>
        </p:blipFill>
        <p:spPr>
          <a:xfrm>
            <a:off x="404640" y="2195640"/>
            <a:ext cx="617220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3:50:18Z</dcterms:created>
  <dc:creator>baida</dc:creator>
  <dc:description/>
  <dc:language>en-US</dc:language>
  <cp:lastModifiedBy>kolyan</cp:lastModifiedBy>
  <dcterms:modified xsi:type="dcterms:W3CDTF">2012-09-04T18:16:38Z</dcterms:modified>
  <cp:revision>32</cp:revision>
  <dc:subject/>
  <dc:title>Слайд 1</dc:title>
</cp:coreProperties>
</file>