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0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C35B8-D458-4BBB-B54C-98A450607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42720" y="93780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42720" y="2581200"/>
            <a:ext cx="6172200" cy="279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2720" y="5637960"/>
            <a:ext cx="6172200" cy="279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868BD-CB86-4F48-B0F3-E66220298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42720" y="93780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42720" y="2581200"/>
            <a:ext cx="3011760" cy="279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05320" y="2581200"/>
            <a:ext cx="3011760" cy="279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42720" y="5637960"/>
            <a:ext cx="3011760" cy="279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505320" y="5637960"/>
            <a:ext cx="3011760" cy="279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E8A7E-79E5-43E4-B959-88881BB30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42720" y="93780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42720" y="2581200"/>
            <a:ext cx="1987200" cy="279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2429640" y="2581200"/>
            <a:ext cx="1987200" cy="279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16560" y="2581200"/>
            <a:ext cx="1987200" cy="279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42720" y="5637960"/>
            <a:ext cx="1987200" cy="279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2429640" y="5637960"/>
            <a:ext cx="1987200" cy="279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4516560" y="5637960"/>
            <a:ext cx="1987200" cy="279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3623C-6065-4590-883D-24987D005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E321E-C522-4E16-B172-86BE1E8E5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42720" y="93780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42720" y="2581200"/>
            <a:ext cx="6172200" cy="58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9DAAC-EB75-42BF-9722-13735150F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42720" y="93780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2720" y="2581200"/>
            <a:ext cx="617220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72BB4-562B-4CB5-8D9C-B2F616D86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42720" y="93780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42720" y="2581200"/>
            <a:ext cx="301176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505320" y="2581200"/>
            <a:ext cx="301176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7847E-35AE-4031-9AD0-CC71BA561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42720" y="93780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4D201-600F-4C2C-B86E-FDAADAD2C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42720" y="93780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4E0E8-EF82-4E9C-AD14-C1E52573F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42720" y="93780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2720" y="2581200"/>
            <a:ext cx="3011760" cy="279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505320" y="2581200"/>
            <a:ext cx="301176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2720" y="5637960"/>
            <a:ext cx="3011760" cy="279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9C463-5332-45BE-AAB6-9E837E326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93780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42720" y="2581200"/>
            <a:ext cx="6172200" cy="58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CB153-35C4-4D54-B54A-1AC3DA1F1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42720" y="93780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42720" y="2581200"/>
            <a:ext cx="301176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05320" y="2581200"/>
            <a:ext cx="3011760" cy="279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505320" y="5637960"/>
            <a:ext cx="3011760" cy="279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DB733-6C5C-4481-B454-1D40BA68B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42720" y="93780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42720" y="2581200"/>
            <a:ext cx="3011760" cy="279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05320" y="2581200"/>
            <a:ext cx="3011760" cy="279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42720" y="5637960"/>
            <a:ext cx="6172200" cy="279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92C5D-293C-40A2-8DE2-41A86E46E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42720" y="93780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42720" y="2581200"/>
            <a:ext cx="6172200" cy="279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42720" y="5637960"/>
            <a:ext cx="6172200" cy="279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90C7D-2BD3-406F-8469-D10DA7667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42720" y="93780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42720" y="2581200"/>
            <a:ext cx="3011760" cy="279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05320" y="2581200"/>
            <a:ext cx="3011760" cy="279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2720" y="5637960"/>
            <a:ext cx="3011760" cy="279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3505320" y="5637960"/>
            <a:ext cx="3011760" cy="279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56632-80B6-4918-964F-F813D03EE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42720" y="93780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2720" y="2581200"/>
            <a:ext cx="1987200" cy="279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2429640" y="2581200"/>
            <a:ext cx="1987200" cy="279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16560" y="2581200"/>
            <a:ext cx="1987200" cy="279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42720" y="5637960"/>
            <a:ext cx="1987200" cy="279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2429640" y="5637960"/>
            <a:ext cx="1987200" cy="279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4516560" y="5637960"/>
            <a:ext cx="1987200" cy="279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9ADD5-BB05-4826-82D9-873997173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8A110D-5BE7-4D40-B85E-8CE355FC9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42720" y="93780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42720" y="2581200"/>
            <a:ext cx="6172200" cy="58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2351CC-7E49-4A61-A06E-B9EC2F2DE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42720" y="93780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42720" y="2581200"/>
            <a:ext cx="617220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DD3381-3B0C-4869-8C66-98DC6672A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42720" y="93780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42720" y="2581200"/>
            <a:ext cx="301176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505320" y="2581200"/>
            <a:ext cx="301176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656FE3-E55D-409C-B1E0-EABC39895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42720" y="93780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4F6414-E22E-4F64-AC13-606918869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42720" y="93780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42720" y="2581200"/>
            <a:ext cx="617220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CC244-9F2B-4035-B6CC-66AD0E3D0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42720" y="93780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863B16-37B3-4135-A400-680267259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42720" y="93780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42720" y="2581200"/>
            <a:ext cx="3011760" cy="279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505320" y="2581200"/>
            <a:ext cx="301176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42720" y="5637960"/>
            <a:ext cx="3011760" cy="279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95B28F-236A-4409-805E-88A27A44E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42720" y="93780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42720" y="2581200"/>
            <a:ext cx="301176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505320" y="2581200"/>
            <a:ext cx="3011760" cy="279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3505320" y="5637960"/>
            <a:ext cx="3011760" cy="279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7065B1-FD30-4C6B-81E8-80C3FA9FB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42720" y="93780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42720" y="2581200"/>
            <a:ext cx="3011760" cy="279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505320" y="2581200"/>
            <a:ext cx="3011760" cy="279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42720" y="5637960"/>
            <a:ext cx="6172200" cy="279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9A4916-0E50-49C8-82B1-6C2572EA5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42720" y="93780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42720" y="2581200"/>
            <a:ext cx="6172200" cy="279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42720" y="5637960"/>
            <a:ext cx="6172200" cy="279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113536-994F-4CBE-9C22-C1A075C22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42720" y="93780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42720" y="2581200"/>
            <a:ext cx="3011760" cy="279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505320" y="2581200"/>
            <a:ext cx="3011760" cy="279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42720" y="5637960"/>
            <a:ext cx="3011760" cy="279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3505320" y="5637960"/>
            <a:ext cx="3011760" cy="279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E49870-ABA6-4C75-BCAA-E040958E3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42720" y="93780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2720" y="2581200"/>
            <a:ext cx="1987200" cy="279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2429640" y="2581200"/>
            <a:ext cx="1987200" cy="279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16560" y="2581200"/>
            <a:ext cx="1987200" cy="279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42720" y="5637960"/>
            <a:ext cx="1987200" cy="279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2429640" y="5637960"/>
            <a:ext cx="1987200" cy="279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4516560" y="5637960"/>
            <a:ext cx="1987200" cy="279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98C9E6-0A86-4073-967D-60907FB62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2F4C5C-DC75-4D38-ADBD-F72D40787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42720" y="93780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342720" y="2581200"/>
            <a:ext cx="6172200" cy="58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8B6063-C39C-4C6E-8782-5E0825F94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42720" y="93780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42720" y="2581200"/>
            <a:ext cx="617220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E24D2C-51DF-4362-84CE-1686BC0CB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93780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581200"/>
            <a:ext cx="301176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581200"/>
            <a:ext cx="301176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5AF2D-09E9-4FDC-B080-410DF37F5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42720" y="93780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42720" y="2581200"/>
            <a:ext cx="301176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505320" y="2581200"/>
            <a:ext cx="301176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E3B4BD-0781-47DA-9C27-65533464B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42720" y="93780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7799D3-06E9-467C-AE0D-A61334042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342720" y="93780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43FF01-1B77-493B-BE81-667FF3158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42720" y="93780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42720" y="2581200"/>
            <a:ext cx="3011760" cy="279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505320" y="2581200"/>
            <a:ext cx="301176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342720" y="5637960"/>
            <a:ext cx="3011760" cy="279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C53EC5-316C-48ED-9530-393B9393E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42720" y="93780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42720" y="2581200"/>
            <a:ext cx="301176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505320" y="2581200"/>
            <a:ext cx="3011760" cy="279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3505320" y="5637960"/>
            <a:ext cx="3011760" cy="279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26C025-15E8-4262-8697-A3F0732A5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42720" y="93780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42720" y="2581200"/>
            <a:ext cx="3011760" cy="279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3505320" y="2581200"/>
            <a:ext cx="3011760" cy="279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42720" y="5637960"/>
            <a:ext cx="6172200" cy="279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0973C5-79B4-4828-B37D-6D4DF93C4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42720" y="93780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42720" y="2581200"/>
            <a:ext cx="6172200" cy="279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42720" y="5637960"/>
            <a:ext cx="6172200" cy="279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B8AAC5-5E7D-486C-9669-8716C30EC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42720" y="93780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42720" y="2581200"/>
            <a:ext cx="3011760" cy="279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505320" y="2581200"/>
            <a:ext cx="3011760" cy="279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42720" y="5637960"/>
            <a:ext cx="3011760" cy="279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3505320" y="5637960"/>
            <a:ext cx="3011760" cy="279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0D967E-412A-4FB8-9589-50F1362C9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42720" y="93780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42720" y="2581200"/>
            <a:ext cx="1987200" cy="279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429640" y="2581200"/>
            <a:ext cx="1987200" cy="279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16560" y="2581200"/>
            <a:ext cx="1987200" cy="279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342720" y="5637960"/>
            <a:ext cx="1987200" cy="279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2429640" y="5637960"/>
            <a:ext cx="1987200" cy="279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4516560" y="5637960"/>
            <a:ext cx="1987200" cy="279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9F71A3-0D96-4BE6-8DC2-DFE680251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42720" y="93780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B2CA1-85CC-456B-BDE5-BDE7B3EF8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42720" y="93780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B2F6B-ECD2-4A80-822D-71A04C1ED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42720" y="93780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2720" y="2581200"/>
            <a:ext cx="3011760" cy="279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505320" y="2581200"/>
            <a:ext cx="301176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42720" y="5637960"/>
            <a:ext cx="3011760" cy="279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843D5-BAE7-4EE2-A590-8167A3141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2720" y="93780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2720" y="2581200"/>
            <a:ext cx="301176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505320" y="2581200"/>
            <a:ext cx="3011760" cy="279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505320" y="5637960"/>
            <a:ext cx="3011760" cy="279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1B73E-1DAA-45EF-80B9-57906C564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42720" y="93780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42720" y="2581200"/>
            <a:ext cx="3011760" cy="279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505320" y="2581200"/>
            <a:ext cx="3011760" cy="279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2720" y="5637960"/>
            <a:ext cx="6172200" cy="279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DA26A-26DC-435B-B316-A2231DE18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7920" y="-9360"/>
            <a:ext cx="6873840" cy="1388880"/>
          </a:xfrm>
          <a:custGeom>
            <a:avLst/>
            <a:gdLst>
              <a:gd name="textAreaLeft" fmla="*/ 0 w 6873840"/>
              <a:gd name="textAreaRight" fmla="*/ 6874200 w 6873840"/>
              <a:gd name="textAreaTop" fmla="*/ 0 h 1388880"/>
              <a:gd name="textAreaBottom" fmla="*/ 1389240 h 13888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3286080" y="-9360"/>
            <a:ext cx="3571920" cy="850680"/>
          </a:xfrm>
          <a:custGeom>
            <a:avLst/>
            <a:gdLst>
              <a:gd name="textAreaLeft" fmla="*/ 0 w 3571920"/>
              <a:gd name="textAreaRight" fmla="*/ 3572280 w 3571920"/>
              <a:gd name="textAreaTop" fmla="*/ 0 h 850680"/>
              <a:gd name="textAreaBottom" fmla="*/ 851040 h 8506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42720" y="93780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42720" y="2581200"/>
            <a:ext cx="617220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999800" y="8475480"/>
            <a:ext cx="2514600" cy="48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5943600" y="8475480"/>
            <a:ext cx="571680" cy="48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5AD65-4A96-4EAA-8B93-A0B2C531A338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4400" y="270000"/>
            <a:ext cx="6885000" cy="865080"/>
            <a:chOff x="-14400" y="270000"/>
            <a:chExt cx="6885000" cy="86508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4400" y="270000"/>
              <a:ext cx="6872760" cy="865080"/>
              <a:chOff x="-14400" y="270000"/>
              <a:chExt cx="6872760" cy="86508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16560" y="270000"/>
                <a:ext cx="6841800" cy="865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4040" y="5266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4400" y="344160"/>
              <a:ext cx="6885000" cy="725760"/>
              <a:chOff x="-14400" y="344160"/>
              <a:chExt cx="6885000" cy="72576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9000" y="344160"/>
                <a:ext cx="6861600" cy="725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4040" y="6012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7920" y="-9360"/>
            <a:ext cx="6873840" cy="1388880"/>
          </a:xfrm>
          <a:custGeom>
            <a:avLst/>
            <a:gdLst>
              <a:gd name="textAreaLeft" fmla="*/ 0 w 6873840"/>
              <a:gd name="textAreaRight" fmla="*/ 6874200 w 6873840"/>
              <a:gd name="textAreaTop" fmla="*/ 0 h 1388880"/>
              <a:gd name="textAreaBottom" fmla="*/ 1389240 h 13888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3286080" y="-9360"/>
            <a:ext cx="3571920" cy="850680"/>
          </a:xfrm>
          <a:custGeom>
            <a:avLst/>
            <a:gdLst>
              <a:gd name="textAreaLeft" fmla="*/ 0 w 3571920"/>
              <a:gd name="textAreaRight" fmla="*/ 3572280 w 3571920"/>
              <a:gd name="textAreaTop" fmla="*/ 0 h 850680"/>
              <a:gd name="textAreaBottom" fmla="*/ 851040 h 8506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4400" y="270000"/>
            <a:ext cx="6885000" cy="865080"/>
            <a:chOff x="-14400" y="270000"/>
            <a:chExt cx="6885000" cy="86508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4400" y="270000"/>
              <a:ext cx="6872760" cy="865080"/>
              <a:chOff x="-14400" y="270000"/>
              <a:chExt cx="6872760" cy="86508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16560" y="270000"/>
                <a:ext cx="6841800" cy="865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4040" y="5266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4400" y="344160"/>
              <a:ext cx="6885000" cy="725760"/>
              <a:chOff x="-14400" y="344160"/>
              <a:chExt cx="6885000" cy="72576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9000" y="344160"/>
                <a:ext cx="6861600" cy="725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4040" y="6012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42720" y="93780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42720" y="2581200"/>
            <a:ext cx="617220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1999800" y="8475480"/>
            <a:ext cx="2514600" cy="48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5943600" y="8475480"/>
            <a:ext cx="571680" cy="48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F8DBB-2439-472C-9494-5E2CD52DE0DE}" type="slidenum">
              <a:rPr b="0" lang="ru-RU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7920" y="-9360"/>
            <a:ext cx="6873840" cy="1388880"/>
          </a:xfrm>
          <a:custGeom>
            <a:avLst/>
            <a:gdLst>
              <a:gd name="textAreaLeft" fmla="*/ 0 w 6873840"/>
              <a:gd name="textAreaRight" fmla="*/ 6874200 w 6873840"/>
              <a:gd name="textAreaTop" fmla="*/ 0 h 1388880"/>
              <a:gd name="textAreaBottom" fmla="*/ 1389240 h 13888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3286080" y="-9360"/>
            <a:ext cx="3571920" cy="850680"/>
          </a:xfrm>
          <a:custGeom>
            <a:avLst/>
            <a:gdLst>
              <a:gd name="textAreaLeft" fmla="*/ 0 w 3571920"/>
              <a:gd name="textAreaRight" fmla="*/ 3572280 w 3571920"/>
              <a:gd name="textAreaTop" fmla="*/ 0 h 850680"/>
              <a:gd name="textAreaBottom" fmla="*/ 851040 h 8506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4400" y="270000"/>
            <a:ext cx="6885000" cy="865080"/>
            <a:chOff x="-14400" y="270000"/>
            <a:chExt cx="6885000" cy="86508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4400" y="270000"/>
              <a:ext cx="6872760" cy="865080"/>
              <a:chOff x="-14400" y="270000"/>
              <a:chExt cx="6872760" cy="86508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16560" y="270000"/>
                <a:ext cx="6841800" cy="865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4040" y="5266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4400" y="344160"/>
              <a:ext cx="6885000" cy="725760"/>
              <a:chOff x="-14400" y="344160"/>
              <a:chExt cx="6885000" cy="72576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9000" y="344160"/>
                <a:ext cx="6861600" cy="725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4040" y="6012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42720" y="93780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42720" y="2581200"/>
            <a:ext cx="617220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1999800" y="8475480"/>
            <a:ext cx="2514600" cy="48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5943600" y="8475480"/>
            <a:ext cx="571680" cy="48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6C011-81B5-45EF-8D02-57FD1CB9CF76}" type="slidenum">
              <a:rPr b="0" lang="ru-RU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2374560" y="1476720"/>
            <a:ext cx="3943440" cy="5486400"/>
          </a:xfrm>
          <a:custGeom>
            <a:avLst/>
            <a:gdLst/>
            <a:ahLst/>
            <a:rect l="l" t="t" r="r" b="b"/>
            <a:pathLst>
              <a:path w="3943350" h="5486400">
                <a:moveTo>
                  <a:pt x="0" y="0"/>
                </a:moveTo>
                <a:lnTo>
                  <a:pt x="3799575" y="0"/>
                </a:lnTo>
                <a:lnTo>
                  <a:pt x="3943350" y="143775"/>
                </a:lnTo>
                <a:lnTo>
                  <a:pt x="3943350" y="5486400"/>
                </a:lnTo>
                <a:lnTo>
                  <a:pt x="0" y="54864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6001920" y="7146000"/>
            <a:ext cx="117360" cy="20628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7560" y="7754040"/>
            <a:ext cx="6873840" cy="1389240"/>
          </a:xfrm>
          <a:custGeom>
            <a:avLst/>
            <a:gdLst>
              <a:gd name="textAreaLeft" fmla="*/ 0 w 6873840"/>
              <a:gd name="textAreaRight" fmla="*/ 6874200 w 6873840"/>
              <a:gd name="textAreaTop" fmla="*/ -360 h 1389240"/>
              <a:gd name="textAreaBottom" fmla="*/ 1389240 h 138924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3286080" y="8292960"/>
            <a:ext cx="3571920" cy="851040"/>
          </a:xfrm>
          <a:custGeom>
            <a:avLst/>
            <a:gdLst>
              <a:gd name="textAreaLeft" fmla="*/ 0 w 3571920"/>
              <a:gd name="textAreaRight" fmla="*/ 3572280 w 3571920"/>
              <a:gd name="textAreaTop" fmla="*/ 360 h 851040"/>
              <a:gd name="textAreaBottom" fmla="*/ 851760 h 85104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42720" y="93780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342720" y="2581200"/>
            <a:ext cx="617220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1999800" y="8475480"/>
            <a:ext cx="2514600" cy="48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6058080" y="8475480"/>
            <a:ext cx="457200" cy="48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84487-20A0-4A38-AB02-5AF1800C3B6A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Box 3"/>
          <p:cNvSpPr/>
          <p:nvPr/>
        </p:nvSpPr>
        <p:spPr>
          <a:xfrm>
            <a:off x="228600" y="5003640"/>
            <a:ext cx="21193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полни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лаголева Але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6 «А» клас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БОУ ЦО №108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подават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иманова И.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Box 4"/>
          <p:cNvSpPr/>
          <p:nvPr/>
        </p:nvSpPr>
        <p:spPr>
          <a:xfrm>
            <a:off x="2852640" y="8358120"/>
            <a:ext cx="144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осква 2012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Прямоугольник 7"/>
          <p:cNvSpPr/>
          <p:nvPr/>
        </p:nvSpPr>
        <p:spPr>
          <a:xfrm>
            <a:off x="1700280" y="4572000"/>
            <a:ext cx="3429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Предмет: литератур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Александр Грин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«Алые паруса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7" descr="http://img1.liveinternet.ru/images/attach/c/5/89/49/89049257_1219467900.jpg"/>
          <p:cNvPicPr/>
          <p:nvPr/>
        </p:nvPicPr>
        <p:blipFill>
          <a:blip r:embed="rId1"/>
          <a:stretch/>
        </p:blipFill>
        <p:spPr>
          <a:xfrm>
            <a:off x="1281240" y="1332000"/>
            <a:ext cx="4010040" cy="30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Box 4"/>
          <p:cNvSpPr/>
          <p:nvPr/>
        </p:nvSpPr>
        <p:spPr>
          <a:xfrm>
            <a:off x="233280" y="5735520"/>
            <a:ext cx="64087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втор книги «Алые паруса» - Александр Грин. Писатель родился в городе Вятка и с детских лет бредил морем. В шестнадцатилетнем возрасте Александр уехал из дома в Херсон – город на Черном море. Он так же, как и его герой Артур Грей  устроился юнгой на корабле и там познавал премудрости морской жизни… Его жизненный и творческий путь был труден.  Но все его книги пронизаны любовью и романтикой. Последние и самые счастливые годы своей жизни Грин провел в Феодосии. В это городе открыт музей Гри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5" descr="http://fantlab.ru/images/autors/651_3"/>
          <p:cNvPicPr/>
          <p:nvPr/>
        </p:nvPicPr>
        <p:blipFill>
          <a:blip r:embed="rId1"/>
          <a:stretch/>
        </p:blipFill>
        <p:spPr>
          <a:xfrm>
            <a:off x="422280" y="2771640"/>
            <a:ext cx="2247840" cy="2762280"/>
          </a:xfrm>
          <a:prstGeom prst="rect">
            <a:avLst/>
          </a:prstGeom>
          <a:ln w="0">
            <a:noFill/>
          </a:ln>
        </p:spPr>
      </p:pic>
      <p:sp>
        <p:nvSpPr>
          <p:cNvPr id="201" name="Прямоугольник 1"/>
          <p:cNvSpPr/>
          <p:nvPr/>
        </p:nvSpPr>
        <p:spPr>
          <a:xfrm>
            <a:off x="233280" y="971640"/>
            <a:ext cx="694080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Автор «Алых парусов»  Александр Грин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42720" y="937800"/>
            <a:ext cx="6172200" cy="1041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Музей Грина в Крыму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42720" y="2580840"/>
            <a:ext cx="6172200" cy="63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В этом году, когда мы отдыхали с родителями в Крыму, мы ездили в Феодосию и посетили музей Грина. Героев всех своих книг Грин поместил в волшебную несуществующую страну – Грин-Ландию. Когда заходишь в музей – сразу попадаешь в страну Грина, видишь моря, острова, проливы, города со экзотическими названиями. Их придумал и отразил на страницах своих книг Александр Грин. И населил их сильными, мужественными людьми – охотниками, путешественниками, моряками.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ам музей представлен в виде корабля и каждая из комнат – эта каюты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Экскурсовод очень интересно и эмоционально рассказывала о жизни писателя и о приключениях его героев. Именно здесь я увидела Каперну – город, где проходят основные события книги «Алые паруса»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4" name="Picture 2" descr="http://crimeamap.ru/grina_muzei/1.jpg"/>
          <p:cNvPicPr/>
          <p:nvPr/>
        </p:nvPicPr>
        <p:blipFill>
          <a:blip r:embed="rId1"/>
          <a:stretch/>
        </p:blipFill>
        <p:spPr>
          <a:xfrm>
            <a:off x="333360" y="1979640"/>
            <a:ext cx="4065480" cy="26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42720" y="93780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Главные герои книги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42720" y="2581200"/>
            <a:ext cx="61722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000000"/>
                </a:solidFill>
                <a:uFillTx/>
                <a:latin typeface="Constantia"/>
              </a:rPr>
              <a:t>Девочка Ассоль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. Она живет в атмосфере враждебности и зла. Она хочет верить в лучшее и в чудо, которое ей нагадал лесной путник (она приняла его за волшебника)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000000"/>
                </a:solidFill>
                <a:uFillTx/>
                <a:latin typeface="Constantia"/>
              </a:rPr>
              <a:t>Артур Грей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– мальчик из благополучной семьи. Он с детства мечтает о море и путешествиях. И осуществляет свою мечту. Он убегает из дома и как и автор книги начинает свой путь в море с юнги на корабле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33360" y="468360"/>
            <a:ext cx="61912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Краткое содержание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72600" y="5435640"/>
            <a:ext cx="5751720" cy="278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В деревне Каперна жила девочка Ассоль. Ее отца – бывшего матроса Лонгрена – не любили в деревне. Ассоль росла без подруг из-за нелюдимости своего отца. Однажды Ассоль встретила в лесу путешественника Эгля. Он увидел лодочку с алыми парусами, которую Ассоль пустила в ручей и сказал, что однажды за ней приедет принц на корабле с Алыми парусами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9" name="Picture 2" descr="http://forumimage.ru/uploads/20110413/13026818835500371.jpg"/>
          <p:cNvPicPr/>
          <p:nvPr/>
        </p:nvPicPr>
        <p:blipFill>
          <a:blip r:embed="rId1"/>
          <a:stretch/>
        </p:blipFill>
        <p:spPr>
          <a:xfrm>
            <a:off x="981000" y="1763640"/>
            <a:ext cx="4535640" cy="34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42720" y="93780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Краткое содержание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333000" y="4859280"/>
            <a:ext cx="61722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А в это время в другом месте жил принц Артур Грей. В 15 лет Грей сбежал из дома, чтобы быть юнгой на корабле и узнать море. Потом он повзрослел, стал известным капитаном и купил корабль «Секрет». Однажды Грей оказался в Лиссе (городе недалеко от Каперны), он увидел спящую Ассоль и влюбился в нее. От жителей он узнал о ее мечте и решил ее исполнить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А Ассоль каждый день много лет выходила на берег и ждала Алых парусов. Жители считали ее дурой и смеялись над ней. Но вот однажды Ассоль как обычно вышла на берег моря и увидела корабль с Алыми парусами. Это был Грей. Он приехал за ней, чтобы исполнить ее мечту.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2" name="Picture 2" descr="http://t0.gstatic.com/images?q=tbn:ANd9GcTW4sx-Ek_PtLkI8Ai-T46Ns3yq_Z8_K8fi8KhiJ73mKu_PqKSQ&amp;t=1"/>
          <p:cNvPicPr/>
          <p:nvPr/>
        </p:nvPicPr>
        <p:blipFill>
          <a:blip r:embed="rId1"/>
          <a:stretch/>
        </p:blipFill>
        <p:spPr>
          <a:xfrm>
            <a:off x="2190600" y="2484360"/>
            <a:ext cx="2019600" cy="22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4280" y="793800"/>
            <a:ext cx="6172200" cy="8985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000"/>
            </a:br>
            <a:br>
              <a:rPr sz="5000"/>
            </a:b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Мои впечатления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259920" y="3995280"/>
            <a:ext cx="6172200" cy="585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"Алые паруса" - книга о любви, мечте и вере. Девочка Ассоль мечтала о принце. В деревне, где она жила, её никто не любил, и ей было очень нелегко. Однажды лесной волшебник Эль предсказал ей, что когда повзрослеет, за ней приплывёт принц на корабле с алыми парусами. Эта вера помогла ей пережить трудности, насмешки, бедность и даже ненависть окружающих. Артур Грей родился в богатой семье, но мечтал о море. Став взрослым, он поступил на корабль простым матросом. Работать было тяжело, но именно мечта помогла ему справиться с трудностями. Грей исполнил мечту Ассоль об алых парусах, потому что сам верил в мечту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Я считаю, что вера, цель и мечта помогают справляться с трудностями в жизни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5" name="Picture 4" descr="http://tylider.ru/wp-content/uploads/2011/04/u-vsehMechta.jpg"/>
          <p:cNvPicPr/>
          <p:nvPr/>
        </p:nvPicPr>
        <p:blipFill>
          <a:blip r:embed="rId1"/>
          <a:stretch/>
        </p:blipFill>
        <p:spPr>
          <a:xfrm>
            <a:off x="1484280" y="1692360"/>
            <a:ext cx="2962440" cy="22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2" descr="http://rus-demotivator.ru/uploads/posts/2010-09/1283182754_975430_mechta.jpg"/>
          <p:cNvPicPr/>
          <p:nvPr/>
        </p:nvPicPr>
        <p:blipFill>
          <a:blip r:embed="rId1"/>
          <a:stretch/>
        </p:blipFill>
        <p:spPr>
          <a:xfrm>
            <a:off x="404640" y="2195640"/>
            <a:ext cx="6172200" cy="55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13:50:18Z</dcterms:created>
  <dc:creator>baida</dc:creator>
  <dc:description/>
  <dc:language>en-US</dc:language>
  <cp:lastModifiedBy>kolyan</cp:lastModifiedBy>
  <dcterms:modified xsi:type="dcterms:W3CDTF">2012-09-04T18:16:38Z</dcterms:modified>
  <cp:revision>32</cp:revision>
  <dc:subject/>
  <dc:title>Слайд 1</dc:title>
</cp:coreProperties>
</file>