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4E2-59DB-476F-9159-B4942036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B2F-179F-48AE-A6E0-78517152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6BB-6BD4-4CF2-987E-CE0DA337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DD5D-AB77-408C-867F-7F69FC41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83D7-A6F8-430C-B416-34550BDB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DDCA-90E5-4467-9B84-2D5AD094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8856-1FB2-4694-8672-E2DFEF6B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FDCC-FBF1-4730-9584-453C44A5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3735-B5A1-42F5-B0E5-EC0B1246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3D6D-9371-449E-8151-F47F6F84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4342-EAFB-496C-8499-67B7D410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57FF-82FA-420D-8A7F-45BA71D4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E6B2-51BA-459A-9709-4F3D64D0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5FF4-7D99-47E8-849A-661698B6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02A6-1C1A-4306-88C8-E3289D74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9CAA-FEB3-4354-9AB9-F3A3CA82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B397-0CBA-4A78-913C-BC4F982F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2C3D-C218-49E4-9430-A46213C1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1A4-52A2-46F2-AEE1-55B769DB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3C13-6972-48B7-BC76-E453AE3D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9962-63CA-4F62-B0C2-49BE9E27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C110-E3F7-4B41-9A6F-B188E4EC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B13-92CC-4B7B-9554-40D3E7C1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9218-61E3-42B4-8158-D39CDECA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658C-5B4E-40FB-B20C-F057168C828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FAEE-7048-4D4A-9C51-1D2BF6BA08C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jpg764727236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95280" y="476280"/>
            <a:ext cx="712800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Lucida Fax"/>
              </a:rPr>
              <a:t>ТЕМА УРО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Lucida Fax"/>
              </a:rPr>
              <a:t>«МЫ ВО ВСЕЛЕННОЙ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z_4de4a9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льдл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324000" y="189000"/>
            <a:ext cx="74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99ff"/>
                </a:solidFill>
                <a:latin typeface="Arial"/>
              </a:rPr>
              <a:t>Части све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original"/>
          <p:cNvPicPr/>
          <p:nvPr/>
        </p:nvPicPr>
        <p:blipFill>
          <a:blip r:embed="rId1"/>
          <a:stretch/>
        </p:blipFill>
        <p:spPr>
          <a:xfrm>
            <a:off x="468360" y="1557360"/>
            <a:ext cx="7020000" cy="4940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179280" y="11592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ff"/>
                </a:solidFill>
                <a:latin typeface="Arial"/>
              </a:rPr>
              <a:t>Вид земли из космо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0002-002-Nasha-planeta-sostoit-iz-neskolkikh-obolochek-sf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0003-003-Vse-obolochki-Zemli-nepreryvno-vzaimodejstvujut-i-formirujut-osobuj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5" descr="0024-024-Planety-Solnechnoj-sistem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324000" y="260280"/>
            <a:ext cx="770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Arial"/>
              </a:rPr>
              <a:t>Как движется Земля вокруг своей оси и вокруг Солнца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5" descr="z_4de4a9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Sun_21"/>
          <p:cNvPicPr/>
          <p:nvPr/>
        </p:nvPicPr>
        <p:blipFill>
          <a:blip r:embed="rId2"/>
          <a:stretch/>
        </p:blipFill>
        <p:spPr>
          <a:xfrm>
            <a:off x="179280" y="1413000"/>
            <a:ext cx="8820360" cy="5445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8"/>
          <p:cNvSpPr/>
          <p:nvPr/>
        </p:nvSpPr>
        <p:spPr>
          <a:xfrm>
            <a:off x="108000" y="11592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99ff"/>
                </a:solidFill>
                <a:latin typeface="Arial"/>
              </a:rPr>
              <a:t>Обращение Земли вокруг Солнца и вокруг своей воображаемой ос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8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osveshenie-zemli"/>
          <p:cNvPicPr/>
          <p:nvPr/>
        </p:nvPicPr>
        <p:blipFill>
          <a:blip r:embed="rId2"/>
          <a:stretch/>
        </p:blipFill>
        <p:spPr>
          <a:xfrm>
            <a:off x="1187280" y="549360"/>
            <a:ext cx="6580440" cy="63086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0" y="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хематическое изображение земного ша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2553_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395280" y="1413000"/>
            <a:ext cx="8209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"/>
              </a:rPr>
              <a:t>Земля вращается вокруг своей оси с запада на восток. Одновременно Земля обращается вокруг Солнца по орбите в том же направлен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Какие утверждения верны?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Arial"/>
              </a:rPr>
              <a:t>Земля вращается вокруг Солн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Arial"/>
              </a:rPr>
              <a:t>Солнце – центр Солнечной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Arial"/>
              </a:rPr>
              <a:t>Оболочки Земли существуют обособленно друг от дру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Arial"/>
              </a:rPr>
              <a:t>Земля имеет шарообразную фор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Arial"/>
              </a:rPr>
              <a:t>Юпитер – самая маленькая планета Солнечной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Arial"/>
              </a:rPr>
              <a:t>Вселенная – часть Галакт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Arial"/>
              </a:rPr>
              <a:t>Орбита – путь Земли вокруг Солн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Arial"/>
              </a:rPr>
              <a:t>Следствием вращения Земли вокруг своей оси является смена времен г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Arial"/>
              </a:rPr>
              <a:t>Полюса – это единственные точки  не участвующие в суточном вращении Зем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Arial"/>
              </a:rPr>
              <a:t>Луна всегда обращена к Земле одной сторо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cc"/>
                </a:solidFill>
                <a:latin typeface="Arial"/>
              </a:rPr>
              <a:t>Солнце – раскаленная звез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dvizenie-Asteroido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324000" y="189000"/>
            <a:ext cx="882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cc"/>
                </a:solidFill>
                <a:uFillTx/>
                <a:latin typeface="Arial"/>
              </a:rPr>
              <a:t>Цель урока:</a:t>
            </a: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 познакомить учащихся со  строением Солнечной системы, устройствам нашей  планеты и особенностя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ее вращ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0025-025-Planety-Solnechnoj-sistem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755640" y="620640"/>
            <a:ext cx="748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cc66"/>
                </a:solidFill>
                <a:latin typeface="Arial"/>
              </a:rPr>
              <a:t>Как устроена Солнечная система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ланеты Солнечной систем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ss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3329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611280" y="4724280"/>
            <a:ext cx="7777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реднее расстояние от Земли до Солнца около 150 млн. 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Земля обращается по орбите вокруг Солнца со скоростью око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30 км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адиус Земного шара составляет около 6 371 к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лощадь поверхности Земли 510 млн.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168673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2b2b2"/>
                </a:solidFill>
                <a:latin typeface="Arial"/>
              </a:rPr>
              <a:t>Луна – естественный спутник Земл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89187774_f0281e3da6"/>
          <p:cNvPicPr/>
          <p:nvPr/>
        </p:nvPicPr>
        <p:blipFill>
          <a:blip r:embed="rId1"/>
          <a:stretch/>
        </p:blipFill>
        <p:spPr>
          <a:xfrm>
            <a:off x="0" y="1557360"/>
            <a:ext cx="5651640" cy="49068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5580000" y="393372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реднее расстояние от Земли до Луны около 384 тыс. к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mlpu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1116000" y="836640"/>
            <a:ext cx="66960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Земля – планета Солнечной системы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Солнечная система – часть Галактик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Галактика – часть Вселенно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black-and-mid-sea-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395280" y="333360"/>
            <a:ext cx="8064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cc00"/>
                </a:solidFill>
                <a:latin typeface="Arial"/>
              </a:rPr>
              <a:t>Как устроена наша планета?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z_4de4a9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234564"/>
          <p:cNvPicPr/>
          <p:nvPr/>
        </p:nvPicPr>
        <p:blipFill>
          <a:blip r:embed="rId2"/>
          <a:stretch/>
        </p:blipFill>
        <p:spPr>
          <a:xfrm>
            <a:off x="0" y="1370160"/>
            <a:ext cx="9144000" cy="54878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179280" y="115920"/>
            <a:ext cx="86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99ff"/>
                </a:solidFill>
                <a:latin typeface="Arial"/>
              </a:rPr>
              <a:t>Материки (континенты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17:48:15Z</dcterms:created>
  <dc:creator>Вероника</dc:creator>
  <dc:description/>
  <dc:language>en-US</dc:language>
  <cp:lastModifiedBy>Учитель</cp:lastModifiedBy>
  <dcterms:modified xsi:type="dcterms:W3CDTF">2012-09-17T07:16:40Z</dcterms:modified>
  <cp:revision>13</cp:revision>
  <dc:subject/>
  <dc:title>Слайд 1</dc:title>
</cp:coreProperties>
</file>