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B61D-4069-445B-B9DF-DBD52510B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696E-7FC2-4909-872B-F755FCED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39A6-EE2B-4D25-97D8-BF92ADE0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1483-9307-450B-BF31-BA2E1CD5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A6F3-ACD2-4604-8029-971C220F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60DE-CA21-43B8-97BF-B5C0B372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3FD9-0D99-4CC5-A814-8376C40A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72DD-D41D-4A54-AA31-829990C4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524A-CE1F-4298-AE6C-4CC17383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2DAC-2B51-42CD-B214-41ED3A40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E8F9-BCA9-4542-9A04-1B79DA2A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EF2B-DE18-4C68-9E34-5A29296C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8044-38F6-474E-B18B-D95AB94C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1F30-9981-417F-8A0A-C46CE9FB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C017-B5AE-4624-8242-605EA561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81A7-3698-43DF-9E5B-1D7F8A08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5493-5499-45FF-A6FE-AF379301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9A41-1873-4553-A291-E7F48525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A098-693C-4ADC-B6EB-63B61484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C3E-4DE5-4F29-9325-53F78C95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B8FB-8019-4202-B760-ADD6C397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06AF-E308-4EB0-A39C-0EED4139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2168-41A8-424C-816F-39DAF995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C3E3-7F0D-4B27-8664-9F39A949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6559-4A19-402C-AE17-636539D8CF7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CA65-7087-4B4B-96AB-21809A8998F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jpg764727236"/>
          <p:cNvPicPr/>
          <p:nvPr/>
        </p:nvPicPr>
        <p:blipFill>
          <a:blip r:embed="rId1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395280" y="476280"/>
            <a:ext cx="7128000" cy="29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Lucida Fax"/>
              </a:rPr>
              <a:t>ТЕМА УРО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Lucida Fax"/>
              </a:rPr>
              <a:t>«МЫ ВО ВСЕЛЕННОЙ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z_4de4a9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льдл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184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324000" y="189000"/>
            <a:ext cx="74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99ff"/>
                </a:solidFill>
                <a:latin typeface="Arial"/>
              </a:rPr>
              <a:t>Части све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6" descr="original"/>
          <p:cNvPicPr/>
          <p:nvPr/>
        </p:nvPicPr>
        <p:blipFill>
          <a:blip r:embed="rId1"/>
          <a:stretch/>
        </p:blipFill>
        <p:spPr>
          <a:xfrm>
            <a:off x="468360" y="1557360"/>
            <a:ext cx="7020000" cy="4940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179280" y="11592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ff"/>
                </a:solidFill>
                <a:latin typeface="Arial"/>
              </a:rPr>
              <a:t>Вид земли из космо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0002-002-Nasha-planeta-sostoit-iz-neskolkikh-obolochek-sf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0003-003-Vse-obolochki-Zemli-nepreryvno-vzaimodejstvujut-i-formirujut-osobuj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5" descr="0024-024-Planety-Solnechnoj-sistem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324000" y="260280"/>
            <a:ext cx="770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Arial"/>
              </a:rPr>
              <a:t>Как движется Земля вокруг своей оси и вокруг Солнца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5" descr="z_4de4a9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Sun_21"/>
          <p:cNvPicPr/>
          <p:nvPr/>
        </p:nvPicPr>
        <p:blipFill>
          <a:blip r:embed="rId2"/>
          <a:stretch/>
        </p:blipFill>
        <p:spPr>
          <a:xfrm>
            <a:off x="179280" y="1413000"/>
            <a:ext cx="8820360" cy="5445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8"/>
          <p:cNvSpPr/>
          <p:nvPr/>
        </p:nvSpPr>
        <p:spPr>
          <a:xfrm>
            <a:off x="108000" y="11592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99ff"/>
                </a:solidFill>
                <a:latin typeface="Arial"/>
              </a:rPr>
              <a:t>Обращение Земли вокруг Солнца и вокруг своей воображаемой ос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8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osveshenie-zemli"/>
          <p:cNvPicPr/>
          <p:nvPr/>
        </p:nvPicPr>
        <p:blipFill>
          <a:blip r:embed="rId2"/>
          <a:stretch/>
        </p:blipFill>
        <p:spPr>
          <a:xfrm>
            <a:off x="1187280" y="549360"/>
            <a:ext cx="6580440" cy="63086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0" y="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хематическое изображение земного ша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2553_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395280" y="1413000"/>
            <a:ext cx="8209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"/>
              </a:rPr>
              <a:t>Земля вращается вокруг своей оси с запада на восток. Одновременно Земля обращается вокруг Солнца по орбите в том же направлен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Какие утверждения верны?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Arial"/>
              </a:rPr>
              <a:t>Земля вращается вокруг Солнц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Arial"/>
              </a:rPr>
              <a:t>Солнце – центр Солнечной сист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Arial"/>
              </a:rPr>
              <a:t>Оболочки Земли существуют обособленно друг от дру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Arial"/>
              </a:rPr>
              <a:t>Земля имеет шарообразную фор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Arial"/>
              </a:rPr>
              <a:t>Юпитер – самая маленькая планета Солнечной сист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Arial"/>
              </a:rPr>
              <a:t>Вселенная – часть Галакт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Arial"/>
              </a:rPr>
              <a:t>Орбита – путь Земли вокруг Солнц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Arial"/>
              </a:rPr>
              <a:t>Следствием вращения Земли вокруг своей оси является смена времен г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Arial"/>
              </a:rPr>
              <a:t>Полюса – это единственные точки  не участвующие в суточном вращении Зем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Arial"/>
              </a:rPr>
              <a:t>Луна всегда обращена к Земле одной сторо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Arial"/>
              </a:rPr>
              <a:t>Солнце – раскаленная звез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6" descr="dvizenie-Asteroido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324000" y="189000"/>
            <a:ext cx="8820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cc"/>
                </a:solidFill>
                <a:uFillTx/>
                <a:latin typeface="Arial"/>
              </a:rPr>
              <a:t>Цель урока:</a:t>
            </a:r>
            <a:r>
              <a:rPr b="1" i="1" lang="ru-RU" sz="4000" spc="-1" strike="noStrike">
                <a:solidFill>
                  <a:srgbClr val="ffffcc"/>
                </a:solidFill>
                <a:latin typeface="Arial"/>
              </a:rPr>
              <a:t> познакомить учащихся со  строением Солнечной системы, устройствам нашей  планеты и особенностя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Arial"/>
              </a:rPr>
              <a:t>ее вращ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0025-025-Planety-Solnechnoj-sistem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755640" y="620640"/>
            <a:ext cx="748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cc66"/>
                </a:solidFill>
                <a:latin typeface="Arial"/>
              </a:rPr>
              <a:t>Как устроена Солнечная система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ланеты Солнечной системы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ss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3329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611280" y="4724280"/>
            <a:ext cx="7777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реднее расстояние от Земли до Солнца около 150 млн. 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Земля обращается по орбите вокруг Солнца со скоростью окол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30 км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адиус Земного шара составляет около 6 371 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лощадь поверхности Земли 510 млн.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168673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2b2b2"/>
                </a:solidFill>
                <a:latin typeface="Arial"/>
              </a:rPr>
              <a:t>Луна – естественный спутник Земл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89187774_f0281e3da6"/>
          <p:cNvPicPr/>
          <p:nvPr/>
        </p:nvPicPr>
        <p:blipFill>
          <a:blip r:embed="rId1"/>
          <a:stretch/>
        </p:blipFill>
        <p:spPr>
          <a:xfrm>
            <a:off x="0" y="1557360"/>
            <a:ext cx="5651640" cy="49068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5580000" y="393372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реднее расстояние от Земли до Луны около 384 тыс. к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mlpu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1116000" y="836640"/>
            <a:ext cx="66960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Arial"/>
              </a:rPr>
              <a:t>Земля – планета Солнечной системы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Arial"/>
              </a:rPr>
              <a:t>Солнечная система – часть Галактик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Arial"/>
              </a:rPr>
              <a:t>Галактика – часть Вселенно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black-and-mid-sea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395280" y="333360"/>
            <a:ext cx="8064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cc00"/>
                </a:solidFill>
                <a:latin typeface="Arial"/>
              </a:rPr>
              <a:t>Как устроена наша планета?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z_4de4a9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234564"/>
          <p:cNvPicPr/>
          <p:nvPr/>
        </p:nvPicPr>
        <p:blipFill>
          <a:blip r:embed="rId2"/>
          <a:stretch/>
        </p:blipFill>
        <p:spPr>
          <a:xfrm>
            <a:off x="0" y="1370160"/>
            <a:ext cx="9144000" cy="54878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179280" y="115920"/>
            <a:ext cx="86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99ff"/>
                </a:solidFill>
                <a:latin typeface="Arial"/>
              </a:rPr>
              <a:t>Материки (континенты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4T17:48:15Z</dcterms:created>
  <dc:creator>Вероника</dc:creator>
  <dc:description/>
  <dc:language>en-US</dc:language>
  <cp:lastModifiedBy>Учитель</cp:lastModifiedBy>
  <dcterms:modified xsi:type="dcterms:W3CDTF">2012-09-17T07:16:40Z</dcterms:modified>
  <cp:revision>13</cp:revision>
  <dc:subject/>
  <dc:title>Слайд 1</dc:title>
</cp:coreProperties>
</file>