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568B-64B6-469D-AC53-58468F90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F6C-DCCD-4B68-8D51-A0CDEE61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7EA-4D83-411B-8A47-4BC46846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E6D-EC2D-4AC2-B1D7-614EE2DB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65AD-5918-4F95-B378-9BC7FD94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DED3-D423-4357-ADA9-197F4896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00F7-D91E-421D-9662-44B5123C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0135-F162-4627-9E9F-2825AAB2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A002-1114-4E4C-9672-79CDE89D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F2D8-3091-48C7-B1D4-7053B565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B708-0994-42EE-80D1-47132E6A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E30-9147-4F76-A8E0-5A81965E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EFBD-6430-48AE-9D8C-A8E7420D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71A7-68F2-4437-88B2-42A77EE9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D46E-4B1F-471D-B2A4-FD36A594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01BE-0930-46BC-A19B-11076761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D52C-75A1-4B77-95A2-EA5FD6E8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043CC-C479-4C06-A807-7C47E4AD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2DFF5-F1C4-4228-B8C9-BDF9440B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C390-82C1-4268-B797-8800FE71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037F-78FD-4AD5-8968-F290E286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A24F4-6BB4-4E28-BD14-A34EBF98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D18A-40BF-470D-BE70-3DBBB010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C334-7BC2-4D31-AEFD-B0D63F0D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3B337-CDD5-4A71-B2AC-B2A394DB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B78A1-F828-4B78-B824-8E04FCEF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AE4E-B0FF-4A76-BE01-9AE31634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85EF-7859-4CF2-B460-CD64D617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7BA85-40AB-44EB-A089-2D1F0EEA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9EDD-3218-4F8F-8573-34A5D968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A5A12-A733-4B7F-A80F-2C336697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3312B-C1BE-4F36-8B75-759E4304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F4EF9-F267-4081-8242-F610EEC4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A70-0322-4865-8F18-115DFCB4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C2FF-E8C4-421C-B663-D10EC53E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DFEC0-0A87-4CA4-A10E-590F791A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F81BB-649A-4A52-B942-1FEEC9CF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294D3-327B-4B5A-A121-D970CF7E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CEF06-C249-4181-A671-3ABA71E6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98E5C-6748-4513-A5AC-F3A54E66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1B3F0-E9EC-49E5-BD6C-C854A7CE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1337E-169A-4034-9002-C31740FE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AB86B-9272-4596-8F7B-5B26FFB4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2F3-6F20-4CA5-B5EE-1303FB73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A0A-6F66-4F45-B91F-B4AEAA46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9E0-5012-422D-B8F4-24EBEB38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253-7E99-4B7D-83EE-365169DF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5FA-7CE8-49AA-B6EF-263AE91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E4F3-CAEF-45AA-BB39-BE180847F4A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0A51-CFC3-44B7-9E1B-67309CB22AC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21E1-3F14-4F33-A67A-65ADEA4CD43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F138-EF37-4309-861F-4B672F84932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12745"/>
                </a:solidFill>
                <a:latin typeface="Trebuchet MS"/>
              </a:rPr>
              <a:t>Новогодний костю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901800" y="1859040"/>
            <a:ext cx="7175520" cy="25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1"/>
          <p:cNvSpPr/>
          <p:nvPr/>
        </p:nvSpPr>
        <p:spPr>
          <a:xfrm>
            <a:off x="539640" y="1164960"/>
            <a:ext cx="842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боснование возникшей проблемы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т уже несколько лет мы выполняем творческие проекты, которые отражают наши творческие способности, полет фантазии, умения, приобретенные на уроках технологии и в творческих объединениях по интересам. К новогоднему карнавалу я решила   порадовать себя костюмом, сшитым своими руками, накидка у меня уже была, осталось сшить сарафан  для большей торжественности, я решила украсить его стразами. Прежде чем приступить к изготовлению изделия мне было интересно прочитать информацию, откуда пошла мода на карнавальные костюмы .Далее хорошо изучив все элементы сарафана  я разработала «звездочку» обдумывания, в которой оказались отражены все мои действия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пределение конкретной задач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тюм должен отображать выбранную идею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материалы иметь не высокую стоимость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2977200" y="620640"/>
            <a:ext cx="34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иды новогодних костюмов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8" name="Picture 2" descr="F:\12524885734059.jpg"/>
          <p:cNvPicPr/>
          <p:nvPr/>
        </p:nvPicPr>
        <p:blipFill>
          <a:blip r:embed="rId1"/>
          <a:stretch/>
        </p:blipFill>
        <p:spPr>
          <a:xfrm>
            <a:off x="366840" y="1014480"/>
            <a:ext cx="3601800" cy="2255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F:\karnavalniy_kostum_fei.jpg"/>
          <p:cNvPicPr/>
          <p:nvPr/>
        </p:nvPicPr>
        <p:blipFill>
          <a:blip r:embed="rId2"/>
          <a:stretch/>
        </p:blipFill>
        <p:spPr>
          <a:xfrm>
            <a:off x="6156360" y="1197000"/>
            <a:ext cx="2539800" cy="2768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F:\karnavalniy_kostum_baleriny_v_rosovom_platye_i_baletnoy_pachke.jpg"/>
          <p:cNvPicPr/>
          <p:nvPr/>
        </p:nvPicPr>
        <p:blipFill>
          <a:blip r:embed="rId3"/>
          <a:stretch/>
        </p:blipFill>
        <p:spPr>
          <a:xfrm>
            <a:off x="4230720" y="3270240"/>
            <a:ext cx="1900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0" y="732240"/>
            <a:ext cx="895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Инструменты и приспособлен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оздания костюма потребовались следующие инструменты и приспособления.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тиметровая лента, линейка закройщика, портновский ме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жниц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мага прозрачна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ка гладильна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ейная машина, оверлок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екен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: ткань – атлас, стразы, нитки, клеевая ткань, застёжка (молния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храна труд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шиве сарафана необходимо соблюдение техники безопасности при работе с ножницами, иглами, швейной машиной, оверлоком, электрическим утюгом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4"/>
          <p:cNvSpPr/>
          <p:nvPr/>
        </p:nvSpPr>
        <p:spPr>
          <a:xfrm>
            <a:off x="200160" y="907920"/>
            <a:ext cx="8712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Технология изготовл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. Фасон взят из журнала «бурда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Детали выкройки пересняты на прозрачную бумагу с учётом надписей и разметок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Произведена рациональная раскладка выкроек на ткань, с учётом направления долевой нит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Обмеловка деталей кроя с учётом припуском на шв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Вырезка детал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. Смётывание детале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Примерка издел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. Стачивани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. Притачивание юбки к верхней части сарафан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0. Притачивание застёжки молни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1. Обработка горловин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2. Подгиб низа издел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3. Окончательное ВТО издел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4. Приклеивание страз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мечание: на всех этапах работы производилось ВТО изделия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5" descr=""/>
          <p:cNvPicPr/>
          <p:nvPr/>
        </p:nvPicPr>
        <p:blipFill>
          <a:blip r:embed="rId1"/>
          <a:stretch/>
        </p:blipFill>
        <p:spPr>
          <a:xfrm>
            <a:off x="3633840" y="30240"/>
            <a:ext cx="5692680" cy="90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princess1"/>
          <p:cNvPicPr/>
          <p:nvPr/>
        </p:nvPicPr>
        <p:blipFill>
          <a:blip r:embed="rId2"/>
          <a:stretch/>
        </p:blipFill>
        <p:spPr>
          <a:xfrm>
            <a:off x="539640" y="115920"/>
            <a:ext cx="3527640" cy="363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Фрагмент"/>
          <p:cNvPicPr/>
          <p:nvPr/>
        </p:nvPicPr>
        <p:blipFill>
          <a:blip r:embed="rId3"/>
          <a:stretch/>
        </p:blipFill>
        <p:spPr>
          <a:xfrm>
            <a:off x="4859280" y="166680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Фрагмент2"/>
          <p:cNvPicPr/>
          <p:nvPr/>
        </p:nvPicPr>
        <p:blipFill>
          <a:blip r:embed="rId4"/>
          <a:stretch/>
        </p:blipFill>
        <p:spPr>
          <a:xfrm>
            <a:off x="8183520" y="2324160"/>
            <a:ext cx="173160" cy="14317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108000" y="3860640"/>
            <a:ext cx="491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. средняя часть спинки со сгибом – 1 деталь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боковая часть спинки – 2 детали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. боковая часть переда – 2 детали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. средняя часть переда со сгибом – 1 деталь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4992840" y="3952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5. юбка – 2 детали               6. бретель – 2 детали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230040" y="2203560"/>
            <a:ext cx="844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. Самоанализ выполненной работ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рада, что теперь в моем гардеробе появилась ещё одна новенькая вещь. Её не увидишь ни на одном рынке, ни в одном магазине, а главное – она выполнена мною. Этот сарафан нравится мне и моим друзьям. Свою основную функцию, а именно основного изделия новогоднего костюма, он выполнил ,но и в дальнейшем я смогу одевать его на торжественные мероприятия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F:\26012012827.jpg"/>
          <p:cNvPicPr/>
          <p:nvPr/>
        </p:nvPicPr>
        <p:blipFill>
          <a:blip r:embed="rId1"/>
          <a:stretch/>
        </p:blipFill>
        <p:spPr>
          <a:xfrm>
            <a:off x="2050920" y="115920"/>
            <a:ext cx="482472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26012012834.jpg"/>
          <p:cNvPicPr/>
          <p:nvPr/>
        </p:nvPicPr>
        <p:blipFill>
          <a:blip r:embed="rId1"/>
          <a:stretch/>
        </p:blipFill>
        <p:spPr>
          <a:xfrm>
            <a:off x="2195640" y="141120"/>
            <a:ext cx="4824360" cy="643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8:11:15Z</dcterms:created>
  <dc:creator>Чак</dc:creator>
  <dc:description/>
  <dc:language>en-US</dc:language>
  <cp:lastModifiedBy>L</cp:lastModifiedBy>
  <dcterms:modified xsi:type="dcterms:W3CDTF">2012-01-29T14:01:17Z</dcterms:modified>
  <cp:revision>18</cp:revision>
  <dc:subject/>
  <dc:title>Творческий проект</dc:title>
</cp:coreProperties>
</file>