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523-F397-414D-89FA-62E6CA12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212-26D1-4FCD-9CFC-42B348E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CD1-5C0B-4D90-B386-E60D885D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457-8865-4E36-87C3-7F8FA66F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B32-3AD5-41E7-B6AC-45A0E606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D0EA-6101-49C6-AA8B-4230A38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405A-8459-460F-B135-E176C38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1F39-7112-4B3F-B8B1-F19E0F80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7EF0-DC79-4019-8246-277C98C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5313-E228-4A99-84E2-492E808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BC1C-D986-4606-824D-B1135DEB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399-0E98-4A5A-96F6-19E8591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653C-4D3E-499E-A181-EC11D85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EBC-33C4-4D7A-B342-80B6A3B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A4C5-1F13-41CA-8E4F-50717B3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D125-8457-4899-9A75-664A0CE2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721-BF3D-4AB5-9F46-AB4DDF1C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0255-5215-4207-AA24-2DFAEC77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9CCA-5E94-43EB-8927-F792FA4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7BF4-3DCD-48F7-8F5E-FD2CD893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790F-ABBF-4613-9740-B8BAA9C9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6D2E-610F-4434-825A-7C3CECE7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49F-FABB-43A4-B829-48318C8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4515-0BF6-4914-ADA8-D0274EC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4687-C01A-4895-AA07-FBA6FC5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5D17-2E9D-4279-8B4D-B014A71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B4DE-ECC2-483E-A0C8-32E3A8A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9BF8-0D19-4A37-97F6-FB682130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CB9F-A846-4886-8861-6F36FA5C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502A-2213-4F45-95A7-CF6AB087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8F7B-E43C-41CE-9A86-ED594E5A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E8CC-66C4-4F29-8AB8-94B5EE27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7FFE-369A-4CDD-9A31-3B7765F8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EC3-D042-441B-923D-88DE8454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79F6-C599-4756-9A3F-8195BD7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BC56D-46B3-4BD9-84DC-2903703A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E712-E86F-4C14-B8A3-C4F69D6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FDAB-0D23-40BC-89D1-7D8F186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74E0-EB98-4E39-A7B3-104C23F8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F391-55CD-40C3-943B-C06C5F4A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4DB0-D1EB-4B2D-AC6D-05AB06F8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7051-EA68-4FD3-8778-7FAEAE72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5F15-9632-4EE4-8E75-556FC32E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ADA-73B1-4E8B-9835-358AA5ED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0D2-34AA-4E64-968A-61A5BF8C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DA6-639B-48B7-A38B-108A527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501-D6A4-4F7B-99F4-8119162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120-D37D-4BA7-89D2-713A916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2863-FA3D-4AF1-A7F7-6896F896FE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DF0-F0A1-41CA-AB1E-B4B773D2BBF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CD04-66B9-4A45-9253-34ABA73D86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2790-81F5-442B-9DEC-779A5EE8B12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Новогодний костю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901800" y="1859040"/>
            <a:ext cx="7175520" cy="25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539640" y="1164960"/>
            <a:ext cx="842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основание возникшей проблемы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т уже несколько лет мы выполняем творческие проекты, которые отражают наши творческие способности, полет фантазии, умения, приобретенные на уроках технологии и в творческих объединениях по интересам. К новогоднему карнавалу я решила   порадовать себя костюмом, сшитым своими руками, накидка у меня уже была, осталось сшить сарафан  для большей торжественности, я решила украсить его стразами. Прежде чем приступить к изготовлению изделия мне было интересно прочитать информацию, откуда пошла мода на карнавальные костюмы .Далее хорошо изучив все элементы сарафана  я разработала «звездочку» обдумывания, в которой оказались отражены все мои действи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пределение конкретной задач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юм должен отображать выбранную иде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материалы иметь не высокую стоимость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2977200" y="62064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иды новогодних костюм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8" name="Picture 2" descr="F:\12524885734059.jpg"/>
          <p:cNvPicPr/>
          <p:nvPr/>
        </p:nvPicPr>
        <p:blipFill>
          <a:blip r:embed="rId1"/>
          <a:stretch/>
        </p:blipFill>
        <p:spPr>
          <a:xfrm>
            <a:off x="366840" y="1014480"/>
            <a:ext cx="3601800" cy="2255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F:\karnavalniy_kostum_fei.jpg"/>
          <p:cNvPicPr/>
          <p:nvPr/>
        </p:nvPicPr>
        <p:blipFill>
          <a:blip r:embed="rId2"/>
          <a:stretch/>
        </p:blipFill>
        <p:spPr>
          <a:xfrm>
            <a:off x="6156360" y="1197000"/>
            <a:ext cx="2539800" cy="2768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F:\karnavalniy_kostum_baleriny_v_rosovom_platye_i_baletnoy_pachke.jpg"/>
          <p:cNvPicPr/>
          <p:nvPr/>
        </p:nvPicPr>
        <p:blipFill>
          <a:blip r:embed="rId3"/>
          <a:stretch/>
        </p:blipFill>
        <p:spPr>
          <a:xfrm>
            <a:off x="4230720" y="3270240"/>
            <a:ext cx="1900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0" y="732240"/>
            <a:ext cx="895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нструменты и приспособл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оздания костюма потребовались следующие инструменты и приспособления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тиметровая лента, линейка закройщика, портновский ме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жниц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 прозрачна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 гладильна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йная машина, оверло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екен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: ткань – атлас, стразы, нитки, клеевая ткань, застёжка (мол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храна труд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шиве сарафана необходимо соблюдение техники безопасности при работе с ножницами, иглами, швейной машиной, оверлоком, электрическим утюг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4"/>
          <p:cNvSpPr/>
          <p:nvPr/>
        </p:nvSpPr>
        <p:spPr>
          <a:xfrm>
            <a:off x="200160" y="907920"/>
            <a:ext cx="8712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Технология изготовл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Фасон взят из журнала «бурда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Детали выкройки пересняты на прозрачную бумагу с учётом надписей и размето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Произведена рациональная раскладка выкроек на ткань, с учётом направления долевой ни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Обмеловка деталей кроя с учётом припуском на шв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Вырезка дета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Смётывание детал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Примерка издел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Стачива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. Притачивание юбки к верхней части сарафан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. Притачивание застёжки молни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1. Обработка горловин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. Подгиб низа издел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. Окончательное ВТО издел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. Приклеивание страз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чание: на всех этапах работы производилось ВТО издел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5" descr=""/>
          <p:cNvPicPr/>
          <p:nvPr/>
        </p:nvPicPr>
        <p:blipFill>
          <a:blip r:embed="rId1"/>
          <a:stretch/>
        </p:blipFill>
        <p:spPr>
          <a:xfrm>
            <a:off x="3633840" y="30240"/>
            <a:ext cx="5692680" cy="90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princess1"/>
          <p:cNvPicPr/>
          <p:nvPr/>
        </p:nvPicPr>
        <p:blipFill>
          <a:blip r:embed="rId2"/>
          <a:stretch/>
        </p:blipFill>
        <p:spPr>
          <a:xfrm>
            <a:off x="539640" y="115920"/>
            <a:ext cx="3527640" cy="363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Фрагмент"/>
          <p:cNvPicPr/>
          <p:nvPr/>
        </p:nvPicPr>
        <p:blipFill>
          <a:blip r:embed="rId3"/>
          <a:stretch/>
        </p:blipFill>
        <p:spPr>
          <a:xfrm>
            <a:off x="4859280" y="166680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Фрагмент2"/>
          <p:cNvPicPr/>
          <p:nvPr/>
        </p:nvPicPr>
        <p:blipFill>
          <a:blip r:embed="rId4"/>
          <a:stretch/>
        </p:blipFill>
        <p:spPr>
          <a:xfrm>
            <a:off x="8183520" y="2324160"/>
            <a:ext cx="17316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108000" y="3860640"/>
            <a:ext cx="491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. средняя часть спинки со сгибом – 1 детал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боковая часть спинки – 2 детал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боковая часть переда – 2 детал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средняя часть переда со сгибом – 1 детал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4992840" y="3952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5. юбка – 2 детали               6. бретель – 2 детал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230040" y="2203560"/>
            <a:ext cx="844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 Самоанализ выполненной работ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рада, что теперь в моем гардеробе появилась ещё одна новенькая вещь. Её не увидишь ни на одном рынке, ни в одном магазине, а главное – она выполнена мною. Этот сарафан нравится мне и моим друзьям. Свою основную функцию, а именно основного изделия новогоднего костюма, он выполнил ,но и в дальнейшем я смогу одевать его на торжественные мероприяти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26012012827.jpg"/>
          <p:cNvPicPr/>
          <p:nvPr/>
        </p:nvPicPr>
        <p:blipFill>
          <a:blip r:embed="rId1"/>
          <a:stretch/>
        </p:blipFill>
        <p:spPr>
          <a:xfrm>
            <a:off x="2050920" y="115920"/>
            <a:ext cx="48247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26012012834.jpg"/>
          <p:cNvPicPr/>
          <p:nvPr/>
        </p:nvPicPr>
        <p:blipFill>
          <a:blip r:embed="rId1"/>
          <a:stretch/>
        </p:blipFill>
        <p:spPr>
          <a:xfrm>
            <a:off x="2195640" y="141120"/>
            <a:ext cx="482436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8:11:15Z</dcterms:created>
  <dc:creator>Чак</dc:creator>
  <dc:description/>
  <dc:language>en-US</dc:language>
  <cp:lastModifiedBy>L</cp:lastModifiedBy>
  <dcterms:modified xsi:type="dcterms:W3CDTF">2012-01-29T14:01:17Z</dcterms:modified>
  <cp:revision>18</cp:revision>
  <dc:subject/>
  <dc:title>Творческий проект</dc:title>
</cp:coreProperties>
</file>