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19F-47AA-414C-A703-A9DF0DA9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1D0-A31B-46EB-A55E-DCCB04B1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6FBC-0D0C-4927-8829-C796091E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4371-06ED-4815-8997-41A623AB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D33-5C30-4AD6-88C5-4ABE464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CD0-E019-4ABB-8DF3-98DC11F8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862-9CE0-49C0-99A6-E16332B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0C8-0796-472C-88CD-FFC0D49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93A-A11E-405F-B8CC-4298CE40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C48-38FE-49DE-84BC-9E78CCC8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9F3-42FF-4E2C-B4B7-6758229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6ED-A97E-4FEE-A317-C5675211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2ECA-78B0-4164-BF69-81C9BDADD8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Изображение 022"/>
          <p:cNvPicPr/>
          <p:nvPr/>
        </p:nvPicPr>
        <p:blipFill>
          <a:blip r:embed="rId1"/>
          <a:stretch/>
        </p:blipFill>
        <p:spPr>
          <a:xfrm>
            <a:off x="241632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777240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0"/>
          <p:cNvSpPr txBox="1"/>
          <p:nvPr/>
        </p:nvSpPr>
        <p:spPr>
          <a:xfrm rot="5400000">
            <a:off x="-2095920" y="3162240"/>
            <a:ext cx="62485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Guten Morgen!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142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 Geburtst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n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ns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Einlad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ba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er Ku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T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Glückwunschka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as Geburtstagski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chi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ie Limona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Изображение 023"/>
          <p:cNvPicPr/>
          <p:nvPr/>
        </p:nvPicPr>
        <p:blipFill>
          <a:blip r:embed="rId1"/>
          <a:stretch/>
        </p:blipFill>
        <p:spPr>
          <a:xfrm>
            <a:off x="2319480" y="0"/>
            <a:ext cx="6824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0" y="2133720"/>
            <a:ext cx="228600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13. 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ärz ist Katharina Geburtstagskin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Zuerst schreiben Katharina und ihre Mutter einige Einladungen zum Geburtstagsf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Изображение 024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1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266688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Abend backen Mama und Katharina einen Apfelkuchen mit Bananen, Mandeln und Rosin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Изображение 025"/>
          <p:cNvPicPr/>
          <p:nvPr/>
        </p:nvPicPr>
        <p:blipFill>
          <a:blip r:embed="rId1"/>
          <a:stretch/>
        </p:blipFill>
        <p:spPr>
          <a:xfrm>
            <a:off x="2336760" y="0"/>
            <a:ext cx="68072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251460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 Samstag kommen die 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äste zu Katharina. Alle singen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«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zum Geburtstag viel Glück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219320" y="1676520"/>
            <a:ext cx="6705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!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!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lieber </a:t>
            </a: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Sasch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Zum Geburtstag viel Glück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ir 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ünschen dir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el Gl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ück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Gesundhei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Erfolg beim Studiu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e Freun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Viel Freu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  <a:ea typeface="Tahoma"/>
              </a:rPr>
              <a:t>Alles Gut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Wie findet ihr die Stunde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16360" y="1989000"/>
            <a:ext cx="389880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teress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angweil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chlec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ützl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g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286000" y="25909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Alles Gute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20:00:5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