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6B8-1BDC-4878-95F0-1AEB98CA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03A-6F98-49C9-BEF9-F1E3647E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038-4EF6-45E0-A4A8-7C9E857D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E6D-4733-4B94-BD79-2C4B9B58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454-9294-4660-8F2F-2DD5D93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F06-C6BA-4584-BDE6-AA7C825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082-3E59-4B28-820C-870F619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85B-35E9-4A10-840C-4DC7202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564-6A08-4854-A50E-C8D3F3DA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0B0-34C7-497C-8FF0-F5EC520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3A2-78AE-4F20-9B93-586F021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AA3-5583-4A96-8CBB-B0A8EB3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008A-608D-43C4-B9AC-5BB93EDF6B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Изображение 022"/>
          <p:cNvPicPr/>
          <p:nvPr/>
        </p:nvPicPr>
        <p:blipFill>
          <a:blip r:embed="rId1"/>
          <a:stretch/>
        </p:blipFill>
        <p:spPr>
          <a:xfrm>
            <a:off x="241632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777240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0"/>
          <p:cNvSpPr txBox="1"/>
          <p:nvPr/>
        </p:nvSpPr>
        <p:spPr>
          <a:xfrm rot="5400000">
            <a:off x="-2095920" y="3162240"/>
            <a:ext cx="62485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Guten Morgen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142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 Geburtst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n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ns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Einlad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a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r Ku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T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Glückwunschka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as Geburtstagsk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chi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Limona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2319480" y="0"/>
            <a:ext cx="6824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0" y="2133720"/>
            <a:ext cx="2286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13. 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ärz ist Katharina Geburtstagskin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Zuerst schreiben Katharina und ihre Mutter einige Einladungen zum Geburtstagsf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1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26668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Abend backen Mama und Katharina einen Apfelkuchen mit Bananen, Mandeln und Rosin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2336760" y="0"/>
            <a:ext cx="68072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251460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Samstag kommen die 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äste zu Katharina. Alle singe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zum Geburtstag viel Glüc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219320" y="1676520"/>
            <a:ext cx="6705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!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!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lieber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asch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ir 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ünschen dir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el Gl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ück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Gesundhe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Erfolg beim Studi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e Freun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Freu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Alles Gu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ie findet ihr die Stunde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360" y="1989000"/>
            <a:ext cx="389880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teress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angweil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chlec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ütz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g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0" y="25909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Alles Gute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20:00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