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CA69-AE09-40A1-9D4C-1081584D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CED5-3438-4527-B2D9-056FBDAE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3634-D3F4-4614-8F2B-ECE128BA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F3E0-EFFD-4F1A-A280-4CD4B38D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A48-BB29-488C-B76A-02C09AAC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C56C-7A92-4E7C-A29D-C84017D9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AD1-69B1-4F00-B34C-AD425AF5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764E-B878-416B-9BA8-1D1DA87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6D44-0FD3-4832-B28A-B9CC0EA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BC10-D273-47D9-888B-86E6364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697-C43F-4F65-BF8F-423D264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D33-B148-4D2A-B41C-CFFE1E4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BAC-17F7-46FC-8505-CCFDD5A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821-EFD8-4B69-A5A7-09D881D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806-B39D-438A-8130-FDA67E5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576-BA13-4836-86F6-02C26511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2B73-D804-4270-882B-75B848C4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601D-7D2F-4E07-BFFA-429E59AD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C083-04D6-406B-8D5F-BE65681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45A7-8043-49A0-9A64-A1FD9F20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7ADB-4362-454C-A6A8-870D51B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559B-CF21-41E8-A5F4-598BC6E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5EBD-B103-4BB7-8AD5-6060B54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B5FA-0BF6-49FE-8923-7FB7E26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7FC6-5873-4C86-94AD-73209457A6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FAD-CB32-47A6-80C2-E682F847AC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ly.ru/!_work/photo/LeninM/00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ly.ru/!_work/photo/goreotuma1975/01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ерсонажи комедии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Горе от ум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i-main-pic" descr="Картинка 1 из 1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8160" y="333360"/>
            <a:ext cx="3364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i-main-pic" descr="Картинка 7 из 1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60280"/>
            <a:ext cx="374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i-main-pic" descr="Картинка 6 из 30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i-main-pic" descr="Картинка 11 из 11026"/>
          <p:cNvPicPr/>
          <p:nvPr/>
        </p:nvPicPr>
        <p:blipFill>
          <a:blip r:embed="rId1"/>
          <a:stretch/>
        </p:blipFill>
        <p:spPr>
          <a:xfrm>
            <a:off x="900000" y="404640"/>
            <a:ext cx="7775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i-main-pic" descr="Картинка 1 из 719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i-main-pic" descr="Картинка 5 из 719"/>
          <p:cNvPicPr/>
          <p:nvPr/>
        </p:nvPicPr>
        <p:blipFill>
          <a:blip r:embed="rId1"/>
          <a:stretch/>
        </p:blipFill>
        <p:spPr>
          <a:xfrm>
            <a:off x="1835280" y="404640"/>
            <a:ext cx="5184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2:20:29Z</dcterms:created>
  <dc:creator>школа 2</dc:creator>
  <dc:description/>
  <dc:language>en-US</dc:language>
  <cp:lastModifiedBy>школа 2</cp:lastModifiedBy>
  <dcterms:modified xsi:type="dcterms:W3CDTF">2011-10-17T12:26:18Z</dcterms:modified>
  <cp:revision>1</cp:revision>
  <dc:subject/>
  <dc:title>Персонажи комедии «Горе от ума»</dc:title>
</cp:coreProperties>
</file>