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8F9E-BEFD-4B59-88E7-61A18A34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1335-9E29-49A1-9DC4-2BE9556B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2F3E-20BE-4320-8D77-17559D3E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DFC9-27F1-44D3-BD94-F3156CFF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932F-DAEF-4EA7-9AD4-E5A653F5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58DD-31FB-495D-B7D5-25CB6765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7497-C0C2-4BB4-86B9-157B6594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8004-C66D-4FAB-8DFC-8DB67A86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C57B-73D4-443B-ADF2-ABF83B67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30C1-E2B7-4835-9FFD-B099DCBB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396C-AE4A-4F4F-A38F-1A46DF9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A82C-DE55-4665-8654-27F58DCC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2C20-F1F5-4E2E-95BD-9B1C7387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FCF3-9EA7-4B0D-9B16-277C8AF0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C7E3-6EB2-4532-831B-6712085E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2F27-1257-4F59-BC3D-95AA9407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957F-6554-43AB-8A7D-0DCA4E5E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1ABC-D8A5-494F-BEED-2832BC94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8934-2605-4EAB-960C-3E69182F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6CFB-6134-4486-BBDC-4C54824B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A80A-F2D1-44EF-87D0-530DDB73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1953-F87F-4FB3-B949-2F76C513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CFC0-9422-4B03-A68D-A00C741E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3FE3-BE18-485D-B4D9-0AE92178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BA10-8443-4BDE-B424-7A61F4FB5A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E99B-E908-4049-B53F-B73E390131C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ly.ru/!_work/photo/LeninM/00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ly.ru/!_work/photo/goreotuma1975/01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Персонажи комедии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Горе от ума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i-main-pic" descr="Картинка 1 из 18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08160" y="333360"/>
            <a:ext cx="33642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i-main-pic" descr="Картинка 7 из 18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260280"/>
            <a:ext cx="3745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i-main-pic" descr="Картинка 6 из 30"/>
          <p:cNvPicPr/>
          <p:nvPr/>
        </p:nvPicPr>
        <p:blipFill>
          <a:blip r:embed="rId1"/>
          <a:stretch/>
        </p:blipFill>
        <p:spPr>
          <a:xfrm>
            <a:off x="900000" y="0"/>
            <a:ext cx="70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70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i-main-pic" descr="Картинка 11 из 11026"/>
          <p:cNvPicPr/>
          <p:nvPr/>
        </p:nvPicPr>
        <p:blipFill>
          <a:blip r:embed="rId1"/>
          <a:stretch/>
        </p:blipFill>
        <p:spPr>
          <a:xfrm>
            <a:off x="900000" y="404640"/>
            <a:ext cx="77756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i-main-pic" descr="Картинка 1 из 719"/>
          <p:cNvPicPr/>
          <p:nvPr/>
        </p:nvPicPr>
        <p:blipFill>
          <a:blip r:embed="rId1"/>
          <a:stretch/>
        </p:blipFill>
        <p:spPr>
          <a:xfrm>
            <a:off x="2268360" y="549360"/>
            <a:ext cx="4248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i-main-pic" descr="Картинка 5 из 719"/>
          <p:cNvPicPr/>
          <p:nvPr/>
        </p:nvPicPr>
        <p:blipFill>
          <a:blip r:embed="rId1"/>
          <a:stretch/>
        </p:blipFill>
        <p:spPr>
          <a:xfrm>
            <a:off x="1835280" y="404640"/>
            <a:ext cx="51847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2:20:29Z</dcterms:created>
  <dc:creator>школа 2</dc:creator>
  <dc:description/>
  <dc:language>en-US</dc:language>
  <cp:lastModifiedBy>школа 2</cp:lastModifiedBy>
  <dcterms:modified xsi:type="dcterms:W3CDTF">2011-10-17T12:26:18Z</dcterms:modified>
  <cp:revision>1</cp:revision>
  <dc:subject/>
  <dc:title>Персонажи комедии «Горе от ума»</dc:title>
</cp:coreProperties>
</file>