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0AE-BBEB-4607-9369-F34CB1DE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478-D017-4E88-9FF2-BB0BC44F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701-28E8-45F5-9193-918E934C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E62-A65A-4DC7-8C04-812F09B9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CF9-5DA9-4A7F-B65A-A3C3C79D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6DE-CA7D-415E-AE32-FB600DD3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A17-5577-43DE-9B07-B7D95EC3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357-8593-470E-93FB-6B93D34F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450-847E-41F3-A7E8-92C93AC4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797-DFBC-4140-95F7-4E3C9CDD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A67-80BE-4AB9-9D88-2B547ACF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D2C-8880-489A-9DDD-F332599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BDE0-046A-4BA0-9B58-F230957C4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320"/>
            <a:ext cx="777240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Candara"/>
              </a:rPr>
              <a:t>Восточные славян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744800"/>
            <a:ext cx="4643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453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Картинка 38 из 21791"/>
          <p:cNvPicPr/>
          <p:nvPr/>
        </p:nvPicPr>
        <p:blipFill>
          <a:blip r:embed="rId1"/>
          <a:stretch/>
        </p:blipFill>
        <p:spPr>
          <a:xfrm>
            <a:off x="536400" y="3041640"/>
            <a:ext cx="2322720" cy="382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Словенин из-под Вологды (10-11 вв.).jpg"/>
          <p:cNvPicPr/>
          <p:nvPr/>
        </p:nvPicPr>
        <p:blipFill>
          <a:blip r:embed="rId2"/>
          <a:stretch/>
        </p:blipFill>
        <p:spPr>
          <a:xfrm>
            <a:off x="3127320" y="3133800"/>
            <a:ext cx="2455920" cy="3522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Тверичанин (12-13 вв.).jpg"/>
          <p:cNvPicPr/>
          <p:nvPr/>
        </p:nvPicPr>
        <p:blipFill>
          <a:blip r:embed="rId3"/>
          <a:stretch/>
        </p:blipFill>
        <p:spPr>
          <a:xfrm>
            <a:off x="5645160" y="3060720"/>
            <a:ext cx="2913120" cy="3541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4530"/>
                </a:solidFill>
                <a:latin typeface="Arial"/>
              </a:rPr>
              <a:t>Занятия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5029200" cy="29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Картинка 6 из 12722"/>
          <p:cNvPicPr/>
          <p:nvPr/>
        </p:nvPicPr>
        <p:blipFill>
          <a:blip r:embed="rId2"/>
          <a:stretch/>
        </p:blipFill>
        <p:spPr>
          <a:xfrm>
            <a:off x="142920" y="1311120"/>
            <a:ext cx="428472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187280" y="1197000"/>
            <a:ext cx="43927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шен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ож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Ячм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о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ечих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8-tub-ru.yandex.net/i?id=322210525-05-72"/>
          <p:cNvPicPr/>
          <p:nvPr/>
        </p:nvPicPr>
        <p:blipFill>
          <a:blip r:embed="rId1"/>
          <a:stretch/>
        </p:blipFill>
        <p:spPr>
          <a:xfrm>
            <a:off x="4643280" y="1341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ртинка 14 из 156553"/>
          <p:cNvPicPr/>
          <p:nvPr/>
        </p:nvPicPr>
        <p:blipFill>
          <a:blip r:embed="rId2"/>
          <a:stretch/>
        </p:blipFill>
        <p:spPr>
          <a:xfrm>
            <a:off x="5651640" y="2421000"/>
            <a:ext cx="1657080" cy="124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6-tub-ru.yandex.net/i?id=526760259-42-72"/>
          <p:cNvPicPr/>
          <p:nvPr/>
        </p:nvPicPr>
        <p:blipFill>
          <a:blip r:embed="rId3"/>
          <a:stretch/>
        </p:blipFill>
        <p:spPr>
          <a:xfrm>
            <a:off x="4643280" y="3284640"/>
            <a:ext cx="1409760" cy="14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7-tub-ru.yandex.net/i?id=310946472-57-72"/>
          <p:cNvPicPr/>
          <p:nvPr/>
        </p:nvPicPr>
        <p:blipFill>
          <a:blip r:embed="rId4"/>
          <a:stretch/>
        </p:blipFill>
        <p:spPr>
          <a:xfrm>
            <a:off x="5867280" y="4221000"/>
            <a:ext cx="1657440" cy="132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im3-tub-ru.yandex.net/i?id=569491149-17-72"/>
          <p:cNvPicPr/>
          <p:nvPr/>
        </p:nvPicPr>
        <p:blipFill>
          <a:blip r:embed="rId5"/>
          <a:stretch/>
        </p:blipFill>
        <p:spPr>
          <a:xfrm>
            <a:off x="4572000" y="5084640"/>
            <a:ext cx="142884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1500120" y="35712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льскохозяйственные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Орудия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Земледельнические орудия труда"/>
          <p:cNvPicPr/>
          <p:nvPr/>
        </p:nvPicPr>
        <p:blipFill>
          <a:blip r:embed="rId1"/>
          <a:stretch/>
        </p:blipFill>
        <p:spPr>
          <a:xfrm>
            <a:off x="857160" y="2357280"/>
            <a:ext cx="7599600" cy="42451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"/>
          <p:cNvSpPr/>
          <p:nvPr/>
        </p:nvSpPr>
        <p:spPr>
          <a:xfrm>
            <a:off x="285840" y="1214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Соха; 2. Цеп; 3. Рало; 4. Палка; 5. Серп; 6. Ко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. Б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57120" y="1856880"/>
            <a:ext cx="8429760" cy="4264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группа - «Внешний вид, черты характера наших предков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 группа -«Поселок древни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3 группа - «Жилище восточны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4 группа - «Одежда древни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357200" y="35712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 Black"/>
              </a:rPr>
              <a:t>ТЕМЫ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85480"/>
            <a:ext cx="774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Bookman Old Style"/>
              </a:rPr>
              <a:t>Поселок древних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l5"/>
          <p:cNvPicPr/>
          <p:nvPr/>
        </p:nvPicPr>
        <p:blipFill>
          <a:blip r:embed="rId1"/>
          <a:stretch/>
        </p:blipFill>
        <p:spPr>
          <a:xfrm>
            <a:off x="2050920" y="1844640"/>
            <a:ext cx="4826160" cy="4622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S Mincho"/>
                <a:ea typeface="MS Mincho"/>
              </a:rPr>
              <a:t>Жил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l3[1]"/>
          <p:cNvPicPr/>
          <p:nvPr/>
        </p:nvPicPr>
        <p:blipFill>
          <a:blip r:embed="rId1"/>
          <a:stretch/>
        </p:blipFill>
        <p:spPr>
          <a:xfrm>
            <a:off x="2428920" y="1785960"/>
            <a:ext cx="436392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a7a00"/>
                </a:solidFill>
                <a:latin typeface="Trebuchet MS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lapti"/>
          <p:cNvPicPr/>
          <p:nvPr/>
        </p:nvPicPr>
        <p:blipFill>
          <a:blip r:embed="rId1"/>
          <a:stretch/>
        </p:blipFill>
        <p:spPr>
          <a:xfrm>
            <a:off x="3357720" y="5000760"/>
            <a:ext cx="288756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woman-dress"/>
          <p:cNvPicPr/>
          <p:nvPr/>
        </p:nvPicPr>
        <p:blipFill>
          <a:blip r:embed="rId2"/>
          <a:stretch/>
        </p:blipFill>
        <p:spPr>
          <a:xfrm>
            <a:off x="5456160" y="1714680"/>
            <a:ext cx="2544840" cy="2714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man-dress"/>
          <p:cNvPicPr/>
          <p:nvPr/>
        </p:nvPicPr>
        <p:blipFill>
          <a:blip r:embed="rId3"/>
          <a:stretch/>
        </p:blipFill>
        <p:spPr>
          <a:xfrm>
            <a:off x="428760" y="1643040"/>
            <a:ext cx="2868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Используем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785880" y="2571840"/>
            <a:ext cx="76438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prezentacii.com/istorii/423-vostochnye-slavyane-v-drevnosti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Slavjane-vostochnye/Istorija-vostochnykh-slavja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Slavjane/Slavjan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ZHizn-slavjan/ZHizn-slavja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1:29:10Z</dcterms:created>
  <dc:creator>илья</dc:creator>
  <dc:description/>
  <dc:language>en-US</dc:language>
  <cp:lastModifiedBy>Кадыкова ТА</cp:lastModifiedBy>
  <dcterms:modified xsi:type="dcterms:W3CDTF">2012-10-23T11:25:06Z</dcterms:modified>
  <cp:revision>83</cp:revision>
  <dc:subject/>
  <dc:title>Восточные славяне.</dc:title>
</cp:coreProperties>
</file>