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67B-EA85-4711-8BE7-131F9284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22B0-C748-4F72-B008-2E409B18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180-13D7-4518-A00B-4239AA85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E274-399C-4D26-AE02-D8475E0C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34A-EB4F-49A1-AB20-AFD69C06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E869-618E-4C8D-8B6D-29F56AE9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EBA-4A79-47EC-9BD1-DCFEC3C1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D808-345C-4920-915C-BBF668AE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62E1-F9C7-4796-BF70-446863AD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7A0C-F247-44D8-B5FC-BA8162CB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FC13-2842-4AE7-81BF-D50EFB60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9CD0-C4E7-4181-851E-90F11201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0173-2739-4640-949A-B5297439E1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4320"/>
            <a:ext cx="777240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Candara"/>
              </a:rPr>
              <a:t>Восточные славян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55640" y="4744800"/>
            <a:ext cx="464364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8453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Картинка 38 из 21791"/>
          <p:cNvPicPr/>
          <p:nvPr/>
        </p:nvPicPr>
        <p:blipFill>
          <a:blip r:embed="rId1"/>
          <a:stretch/>
        </p:blipFill>
        <p:spPr>
          <a:xfrm>
            <a:off x="536400" y="3041640"/>
            <a:ext cx="2322720" cy="3822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Словенин из-под Вологды (10-11 вв.).jpg"/>
          <p:cNvPicPr/>
          <p:nvPr/>
        </p:nvPicPr>
        <p:blipFill>
          <a:blip r:embed="rId2"/>
          <a:stretch/>
        </p:blipFill>
        <p:spPr>
          <a:xfrm>
            <a:off x="3127320" y="3133800"/>
            <a:ext cx="2455920" cy="3522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Тверичанин (12-13 вв.).jpg"/>
          <p:cNvPicPr/>
          <p:nvPr/>
        </p:nvPicPr>
        <p:blipFill>
          <a:blip r:embed="rId3"/>
          <a:stretch/>
        </p:blipFill>
        <p:spPr>
          <a:xfrm>
            <a:off x="5645160" y="3060720"/>
            <a:ext cx="2913120" cy="3541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4530"/>
                </a:solidFill>
                <a:latin typeface="Arial"/>
              </a:rPr>
              <a:t>Занятия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492360" y="3357720"/>
            <a:ext cx="5029200" cy="299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Картинка 6 из 12722"/>
          <p:cNvPicPr/>
          <p:nvPr/>
        </p:nvPicPr>
        <p:blipFill>
          <a:blip r:embed="rId2"/>
          <a:stretch/>
        </p:blipFill>
        <p:spPr>
          <a:xfrm>
            <a:off x="142920" y="1311120"/>
            <a:ext cx="428472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1187280" y="1197000"/>
            <a:ext cx="439272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шен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ож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Ячм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рос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Гречих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im8-tub-ru.yandex.net/i?id=322210525-05-72"/>
          <p:cNvPicPr/>
          <p:nvPr/>
        </p:nvPicPr>
        <p:blipFill>
          <a:blip r:embed="rId1"/>
          <a:stretch/>
        </p:blipFill>
        <p:spPr>
          <a:xfrm>
            <a:off x="4643280" y="1341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Картинка 14 из 156553"/>
          <p:cNvPicPr/>
          <p:nvPr/>
        </p:nvPicPr>
        <p:blipFill>
          <a:blip r:embed="rId2"/>
          <a:stretch/>
        </p:blipFill>
        <p:spPr>
          <a:xfrm>
            <a:off x="5651640" y="2421000"/>
            <a:ext cx="1657080" cy="124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im6-tub-ru.yandex.net/i?id=526760259-42-72"/>
          <p:cNvPicPr/>
          <p:nvPr/>
        </p:nvPicPr>
        <p:blipFill>
          <a:blip r:embed="rId3"/>
          <a:stretch/>
        </p:blipFill>
        <p:spPr>
          <a:xfrm>
            <a:off x="4643280" y="3284640"/>
            <a:ext cx="1409760" cy="1428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im7-tub-ru.yandex.net/i?id=310946472-57-72"/>
          <p:cNvPicPr/>
          <p:nvPr/>
        </p:nvPicPr>
        <p:blipFill>
          <a:blip r:embed="rId4"/>
          <a:stretch/>
        </p:blipFill>
        <p:spPr>
          <a:xfrm>
            <a:off x="5867280" y="4221000"/>
            <a:ext cx="1657440" cy="132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http://im3-tub-ru.yandex.net/i?id=569491149-17-72"/>
          <p:cNvPicPr/>
          <p:nvPr/>
        </p:nvPicPr>
        <p:blipFill>
          <a:blip r:embed="rId5"/>
          <a:stretch/>
        </p:blipFill>
        <p:spPr>
          <a:xfrm>
            <a:off x="4572000" y="5084640"/>
            <a:ext cx="1428840" cy="1371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1500120" y="35712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льскохозяйственные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Arial"/>
              </a:rPr>
              <a:t>Орудия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Земледельнические орудия труда"/>
          <p:cNvPicPr/>
          <p:nvPr/>
        </p:nvPicPr>
        <p:blipFill>
          <a:blip r:embed="rId1"/>
          <a:stretch/>
        </p:blipFill>
        <p:spPr>
          <a:xfrm>
            <a:off x="857160" y="2357280"/>
            <a:ext cx="7599600" cy="42451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6"/>
          <p:cNvSpPr/>
          <p:nvPr/>
        </p:nvSpPr>
        <p:spPr>
          <a:xfrm>
            <a:off x="285840" y="1214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 Соха; 2. Цеп; 3. Рало; 4. Палка; 5. Серп; 6. Кос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7. Бор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57120" y="1856880"/>
            <a:ext cx="8429760" cy="426420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группа - «Внешний вид, черты характера наших предков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2 группа -«Поселок древних славя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3 группа - «Жилище восточных славя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4 группа - «Одежда древних славя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357200" y="35712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 Black"/>
              </a:rPr>
              <a:t>ТЕМЫ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85480"/>
            <a:ext cx="7746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Bookman Old Style"/>
              </a:rPr>
              <a:t>Поселок древних слав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l5"/>
          <p:cNvPicPr/>
          <p:nvPr/>
        </p:nvPicPr>
        <p:blipFill>
          <a:blip r:embed="rId1"/>
          <a:stretch/>
        </p:blipFill>
        <p:spPr>
          <a:xfrm>
            <a:off x="2050920" y="1844640"/>
            <a:ext cx="4826160" cy="4622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MS Mincho"/>
                <a:ea typeface="MS Mincho"/>
              </a:rPr>
              <a:t>Жилищ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l3[1]"/>
          <p:cNvPicPr/>
          <p:nvPr/>
        </p:nvPicPr>
        <p:blipFill>
          <a:blip r:embed="rId1"/>
          <a:stretch/>
        </p:blipFill>
        <p:spPr>
          <a:xfrm>
            <a:off x="2428920" y="1785960"/>
            <a:ext cx="436392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a7a00"/>
                </a:solidFill>
                <a:latin typeface="Trebuchet MS"/>
              </a:rPr>
              <a:t>Одеж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6" descr="lapti"/>
          <p:cNvPicPr/>
          <p:nvPr/>
        </p:nvPicPr>
        <p:blipFill>
          <a:blip r:embed="rId1"/>
          <a:stretch/>
        </p:blipFill>
        <p:spPr>
          <a:xfrm>
            <a:off x="3357720" y="5000760"/>
            <a:ext cx="2887560" cy="15001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woman-dress"/>
          <p:cNvPicPr/>
          <p:nvPr/>
        </p:nvPicPr>
        <p:blipFill>
          <a:blip r:embed="rId2"/>
          <a:stretch/>
        </p:blipFill>
        <p:spPr>
          <a:xfrm>
            <a:off x="5456160" y="1714680"/>
            <a:ext cx="2544840" cy="27144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man-dress"/>
          <p:cNvPicPr/>
          <p:nvPr/>
        </p:nvPicPr>
        <p:blipFill>
          <a:blip r:embed="rId3"/>
          <a:stretch/>
        </p:blipFill>
        <p:spPr>
          <a:xfrm>
            <a:off x="428760" y="1643040"/>
            <a:ext cx="286848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Используемые 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785880" y="2571840"/>
            <a:ext cx="764388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http://prezentacii.com/istorii/423-vostochnye-slavyane-v-drevnosti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http://900igr.net/prezentatsii/istorija/Slavjane-vostochnye/Istorija-vostochnykh-slavja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http://900igr.net/prezentatsii/istorija/Slavjane/Slavjane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http://900igr.net/prezentatsii/istorija/ZHizn-slavjan/ZHizn-slavja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1:29:10Z</dcterms:created>
  <dc:creator>илья</dc:creator>
  <dc:description/>
  <dc:language>en-US</dc:language>
  <cp:lastModifiedBy>Кадыкова ТА</cp:lastModifiedBy>
  <dcterms:modified xsi:type="dcterms:W3CDTF">2012-10-23T11:25:06Z</dcterms:modified>
  <cp:revision>83</cp:revision>
  <dc:subject/>
  <dc:title>Восточные славяне.</dc:title>
</cp:coreProperties>
</file>