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1B8-91B4-4E62-BD07-0F1F63D7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79A-8061-4507-BC07-355240C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3A8-5608-4846-98B8-2E70B656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DA3-D8A0-4E33-B7AB-274645BC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391-F79C-4346-A637-FF2747E6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29B-5E94-462D-9BAA-0B5B0161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95A-8B2E-4AD5-BBC7-A18B2835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D5E-81D5-4288-B9F0-D36CFFEC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E0B-559A-41A6-B060-3675C70E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2BC-9849-4FA0-B573-1D800275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D09-6777-4048-8EDB-8B6CBCC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B57-DDD0-4232-BB57-BB0AC807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1123-4832-42B2-A7F2-78E93C4BE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доровьесберегающие</a:t>
            </a:r>
            <a:r>
              <a:rPr b="1" lang="ru-RU" sz="5800" spc="-1" strike="noStrike">
                <a:solidFill>
                  <a:srgbClr val="ff0000"/>
                </a:solidFill>
                <a:latin typeface="Calibri"/>
              </a:rPr>
              <a:t> технологии </a:t>
            </a:r>
            <a:br>
              <a:rPr sz="5800"/>
            </a:br>
            <a:r>
              <a:rPr b="1" lang="ru-RU" sz="5800" spc="-1" strike="noStrike">
                <a:solidFill>
                  <a:srgbClr val="ff0000"/>
                </a:solidFill>
                <a:latin typeface="Calibri"/>
              </a:rPr>
              <a:t>в начальной школе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8580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Из опыта раб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нятие «правильное питание» успешно формируется в процессе реализации программы «Разговор о правильном питании». Программа реально позволяет формировать у детей сознательное отношение к своему здоровью, осваивать навыки правильного 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Documents and Settings\User\Рабочий стол\Изображение.jpg"/>
          <p:cNvPicPr/>
          <p:nvPr/>
        </p:nvPicPr>
        <p:blipFill>
          <a:blip r:embed="rId1"/>
          <a:stretch/>
        </p:blipFill>
        <p:spPr>
          <a:xfrm>
            <a:off x="4500720" y="714240"/>
            <a:ext cx="403848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642600"/>
            <a:ext cx="71438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бщество заинтересовано в оздоровлении не только самого общества, но и каждого человека, а в принципе одно без другого просто невозможно, оно должно решать эту проблему на всех уровн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User\Рабочий стол\Темы для презентаций №1\Новая папка\gg.jpg"/>
          <p:cNvPicPr/>
          <p:nvPr/>
        </p:nvPicPr>
        <p:blipFill>
          <a:blip r:embed="rId1"/>
          <a:stretch/>
        </p:blipFill>
        <p:spPr>
          <a:xfrm>
            <a:off x="353880" y="2792520"/>
            <a:ext cx="4583160" cy="34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User\Рабочий стол\Темы для презентаций №1\Новая папка\KidsSlideshowPic.jpg"/>
          <p:cNvPicPr/>
          <p:nvPr/>
        </p:nvPicPr>
        <p:blipFill>
          <a:blip r:embed="rId2"/>
          <a:stretch/>
        </p:blipFill>
        <p:spPr>
          <a:xfrm>
            <a:off x="4761000" y="3352680"/>
            <a:ext cx="337644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999720"/>
            <a:ext cx="75722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остояние здоровья подрастающего поколения – важнейший показатель благополучия общества и государства, отражающий не только настоящую ситуацию, но и дающий точный прогноз на будуще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85880" y="928440"/>
            <a:ext cx="68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Для формирования, сохранения и укрепления этих составляющих  целостного здоровья человека,  в начальную школу внедряются здоровьесберегающие технологии, которые помогают решить важнейшие задачи - сохранить здоровье ребенка, приучить его к активной здоровой жиз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928440"/>
            <a:ext cx="7257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 дифференцированном обучении каждый ребенок получает от урока только положительные эмоции, ощущает комфорт, защищенность и испытывает интерес к учеб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56800" y="1285560"/>
            <a:ext cx="6643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Демократический стиль общения создает условия для развития психической активности ребенка, дает свободу познавательной деятельности, школьник не боится ошибиться при решении поставленной зад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143000"/>
            <a:ext cx="7186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Компьютеризация сегодня достаточно значима и актуальна, и у школы нет иного выбора, кроме как адаптации ее к информационному веку. Необходимость применения информационных технологий в школьном образовании сегодня очевидна, поэтому учителя начальных классов активно используют компьютерные технолог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рименение игровых технологий на уроках в комплексе с другими приемами и методами организации учебных занятий укрепляет мотивацию на изучение предмета, помогает вызвать положительные эмоции, увидеть индивидуальность де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User\Рабочий стол\Темы для презентаций №1\Новая папка\integ_07.jpg"/>
          <p:cNvPicPr/>
          <p:nvPr/>
        </p:nvPicPr>
        <p:blipFill>
          <a:blip r:embed="rId1"/>
          <a:stretch/>
        </p:blipFill>
        <p:spPr>
          <a:xfrm>
            <a:off x="4572000" y="271476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Calibri"/>
              </a:rPr>
              <a:t>Физкультминутки – естественный элемент урока в начальных классах, который обусловлен физиологическими потребностями в двигательной активности детей. Они помогают снять статическое утомление различных мышц, ослабить умственное напряжение, снять зрительное утом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User\Рабочий стол\Темы для презентаций №1\Новая папка\1258623936_000085_928599.jpg"/>
          <p:cNvPicPr/>
          <p:nvPr/>
        </p:nvPicPr>
        <p:blipFill>
          <a:blip r:embed="rId1"/>
          <a:stretch/>
        </p:blipFill>
        <p:spPr>
          <a:xfrm>
            <a:off x="4643280" y="314316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Систематически в процессе обучения в начальных классах  в середине учебного дня проходят динамические паузы, в ходе которых учащиеся выполняют различные упражн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User\Рабочий стол\Темы для презентаций №1\Новая папка\b_71a44fb1c95551b82238e6fe0d1a4059.jpg"/>
          <p:cNvPicPr/>
          <p:nvPr/>
        </p:nvPicPr>
        <p:blipFill>
          <a:blip r:embed="rId1"/>
          <a:stretch/>
        </p:blipFill>
        <p:spPr>
          <a:xfrm>
            <a:off x="642960" y="3286080"/>
            <a:ext cx="3624120" cy="271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Documents and Settings\User\Рабочий стол\Темы для презентаций №1\Новая папка\image061-600.jpg"/>
          <p:cNvPicPr/>
          <p:nvPr/>
        </p:nvPicPr>
        <p:blipFill>
          <a:blip r:embed="rId2"/>
          <a:stretch/>
        </p:blipFill>
        <p:spPr>
          <a:xfrm>
            <a:off x="4643280" y="3000240"/>
            <a:ext cx="35719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1-03-29T16:26:33Z</dcterms:modified>
  <cp:revision>15</cp:revision>
  <dc:subject/>
  <dc:title>Слайд 1</dc:title>
</cp:coreProperties>
</file>