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F20-7253-4318-830D-CF5885DC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B19-4481-4EC7-9C7E-A77EC4B6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7FF-A8C1-41F8-829E-3F5EA068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78E-3B1F-4D07-A4E4-1027B6A4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911-723D-4282-B6F8-005B086B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C52-2D05-4F41-A083-E319B602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75B-E212-4984-9BA0-C89448E6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35C-D349-4AA5-A95F-B8C8C5E9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F42-735E-41B7-B9A2-4553AE84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407-E62C-4C07-BE46-CE81A5C6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DA0-7379-4428-AEB8-FE178EE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24E-9DE5-46DB-A314-9952BBA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D3C6-8218-4AC7-A540-EE5DFF03A3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доровьесберегающие</a:t>
            </a:r>
            <a:r>
              <a:rPr b="1" lang="ru-RU" sz="5800" spc="-1" strike="noStrike">
                <a:solidFill>
                  <a:srgbClr val="ff0000"/>
                </a:solidFill>
                <a:latin typeface="Calibri"/>
              </a:rPr>
              <a:t> технологии </a:t>
            </a:r>
            <a:br>
              <a:rPr sz="5800"/>
            </a:br>
            <a:r>
              <a:rPr b="1" lang="ru-RU" sz="5800" spc="-1" strike="noStrike">
                <a:solidFill>
                  <a:srgbClr val="ff0000"/>
                </a:solidFill>
                <a:latin typeface="Calibri"/>
              </a:rPr>
              <a:t>в начальной школе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5800"/>
            <a:ext cx="640080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Из опыта рабо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нятие «правильное питание» успешно формируется в процессе реализации программы «Разговор о правильном питании». Программа реально позволяет формировать у детей сознательное отношение к своему здоровью, осваивать навыки правильного 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Documents and Settings\User\Рабочий стол\Изображение.jpg"/>
          <p:cNvPicPr/>
          <p:nvPr/>
        </p:nvPicPr>
        <p:blipFill>
          <a:blip r:embed="rId1"/>
          <a:stretch/>
        </p:blipFill>
        <p:spPr>
          <a:xfrm>
            <a:off x="4500720" y="714240"/>
            <a:ext cx="40384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642600"/>
            <a:ext cx="71438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бщество заинтересовано в оздоровлении не только самого общества, но и каждого человека, а в принципе одно без другого просто невозможно, оно должно решать эту проблему на всех уровн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User\Рабочий стол\Темы для презентаций №1\Новая папка\gg.jpg"/>
          <p:cNvPicPr/>
          <p:nvPr/>
        </p:nvPicPr>
        <p:blipFill>
          <a:blip r:embed="rId1"/>
          <a:stretch/>
        </p:blipFill>
        <p:spPr>
          <a:xfrm>
            <a:off x="353880" y="2792520"/>
            <a:ext cx="4583160" cy="344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User\Рабочий стол\Темы для презентаций №1\Новая папка\KidsSlideshowPic.jpg"/>
          <p:cNvPicPr/>
          <p:nvPr/>
        </p:nvPicPr>
        <p:blipFill>
          <a:blip r:embed="rId2"/>
          <a:stretch/>
        </p:blipFill>
        <p:spPr>
          <a:xfrm>
            <a:off x="4761000" y="3352680"/>
            <a:ext cx="33764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999720"/>
            <a:ext cx="75722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остояние здоровья подрастающего поколения – важнейший показатель благополучия общества и государства, отражающий не только настоящую ситуацию, но и дающий точный прогноз на будуще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85880" y="928440"/>
            <a:ext cx="68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Для формирования, сохранения и укрепления этих составляющих  целостного здоровья человека,  в начальную школу внедряются здоровьесберегающие технологии, которые помогают решить важнейшие задачи - сохранить здоровье ребенка, приучить его к активной здоровой жиз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928440"/>
            <a:ext cx="7257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 дифференцированном обучении каждый ребенок получает от урока только положительные эмоции, ощущает комфорт, защищенность и испытывает интерес к учеб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56800" y="1285560"/>
            <a:ext cx="6643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Демократический стиль общения создает условия для развития психической активности ребенка, дает свободу познавательной деятельности, школьник не боится ошибиться при решении поставленной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143000"/>
            <a:ext cx="7186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мпьютеризация сегодня достаточно значима и актуальна, и у школы нет иного выбора, кроме как адаптации ее к информационному веку. Необходимость применения информационных технологий в школьном образовании сегодня очевидна, поэтому учителя начальных классов активно используют компьютерные технолог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рименение игровых технологий на уроках в комплексе с другими приемами и методами организации учебных занятий укрепляет мотивацию на изучение предмета, помогает вызвать положительные эмоции, увидеть индивидуальность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User\Рабочий стол\Темы для презентаций №1\Новая папка\integ_07.jpg"/>
          <p:cNvPicPr/>
          <p:nvPr/>
        </p:nvPicPr>
        <p:blipFill>
          <a:blip r:embed="rId1"/>
          <a:stretch/>
        </p:blipFill>
        <p:spPr>
          <a:xfrm>
            <a:off x="4572000" y="271476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71320"/>
            <a:ext cx="4038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Физкультминутки – естественный элемент урока в начальных классах, который обусловлен физиологическими потребностями в двигательной активности детей. Они помогают снять статическое утомление различных мышц, ослабить умственное напряжение, снять зрительное утом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User\Рабочий стол\Темы для презентаций №1\Новая папка\1258623936_000085_928599.jpg"/>
          <p:cNvPicPr/>
          <p:nvPr/>
        </p:nvPicPr>
        <p:blipFill>
          <a:blip r:embed="rId1"/>
          <a:stretch/>
        </p:blipFill>
        <p:spPr>
          <a:xfrm>
            <a:off x="4643280" y="3143160"/>
            <a:ext cx="3810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642600"/>
            <a:ext cx="73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истематически в процессе обучения в начальных классах  в середине учебного дня проходят динамические паузы, в ходе которых учащиеся выполняют различные упраж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User\Рабочий стол\Темы для презентаций №1\Новая папка\b_71a44fb1c95551b82238e6fe0d1a4059.jpg"/>
          <p:cNvPicPr/>
          <p:nvPr/>
        </p:nvPicPr>
        <p:blipFill>
          <a:blip r:embed="rId1"/>
          <a:stretch/>
        </p:blipFill>
        <p:spPr>
          <a:xfrm>
            <a:off x="642960" y="3286080"/>
            <a:ext cx="3624120" cy="271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User\Рабочий стол\Темы для презентаций №1\Новая папка\image061-600.jpg"/>
          <p:cNvPicPr/>
          <p:nvPr/>
        </p:nvPicPr>
        <p:blipFill>
          <a:blip r:embed="rId2"/>
          <a:stretch/>
        </p:blipFill>
        <p:spPr>
          <a:xfrm>
            <a:off x="4643280" y="3000240"/>
            <a:ext cx="35719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11-03-29T16:26:33Z</dcterms:modified>
  <cp:revision>15</cp:revision>
  <dc:subject/>
  <dc:title>Слайд 1</dc:title>
</cp:coreProperties>
</file>