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A42B-CE05-458A-896C-6108A1591B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1596-9421-4F63-8BF2-D81CFAA4C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0B2C-1C9C-4D3C-B73C-CD7FC86331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B72-D32F-4EF0-9709-237B94A6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343-7E43-4744-9607-727A151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250-B2E1-48D7-8A1B-E67AFBF5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BD2-E259-4AEA-ABAD-73F3D87D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919-3284-42E4-95FC-75A5DEB9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33F-08DD-4631-A3C6-78890AFF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B4F-D5A6-4468-AB39-6E09E469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412-5DD3-4BF7-9344-D4FAF313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55D-F0E7-4D7E-B7E6-1F819613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DDF-1207-49F0-985B-DD00DD3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814-7F55-46BF-B678-C3EE5DE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905-7A91-43E3-BD53-1BE1775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514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620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620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620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8D4-8203-489D-9BB9-BAE454D1243E}" type="slidenum">
              <a:rPr b="0" lang="ru-RU" sz="1200" spc="-1" strike="noStrike">
                <a:solidFill>
                  <a:srgbClr val="95620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463680" y="1189080"/>
            <a:ext cx="7785000" cy="2608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50920" y="3933720"/>
            <a:ext cx="5905440" cy="27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d0d0d"/>
                </a:solidFill>
                <a:latin typeface="Calibri"/>
              </a:rPr>
              <a:t>Социальный проект </a:t>
            </a:r>
            <a:br>
              <a:rPr sz="3000"/>
            </a:br>
            <a:r>
              <a:rPr b="1" lang="ru-RU" sz="3000" spc="-1" strike="noStrike">
                <a:solidFill>
                  <a:srgbClr val="0d0d0d"/>
                </a:solidFill>
                <a:latin typeface="Calibri"/>
              </a:rPr>
              <a:t>учащихся 9 Т класса </a:t>
            </a:r>
            <a:br>
              <a:rPr sz="3000"/>
            </a:br>
            <a:r>
              <a:rPr b="1" lang="ru-RU" sz="3000" spc="-1" strike="noStrike">
                <a:solidFill>
                  <a:srgbClr val="0d0d0d"/>
                </a:solidFill>
                <a:latin typeface="Calibri"/>
              </a:rPr>
              <a:t>МОУ «Лицей г.Козьмодемьянска»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161514"/>
              </a:solidFill>
              <a:latin typeface="Calibri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0d0d"/>
                </a:solidFill>
                <a:latin typeface="Calibri"/>
              </a:rPr>
              <a:t>2011</a:t>
            </a:r>
            <a:endParaRPr b="1" lang="en-US" sz="1900" spc="-1" strike="noStrike">
              <a:solidFill>
                <a:srgbClr val="161514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4920" y="119664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дбирали в </a:t>
            </a:r>
            <a:r>
              <a:rPr b="0" i="1" lang="en-US" sz="3200" spc="-1" strike="noStrike">
                <a:solidFill>
                  <a:srgbClr val="161514"/>
                </a:solidFill>
                <a:latin typeface="Arial Narrow"/>
              </a:rPr>
              <a:t>Internet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 и специальной литературе рисунки походящих скамеек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Из множества предложенных вариантов был выбран наиболее удобный, но простой и дешёвый в изготовлении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80" name="Рисунок 4" descr="b5198.jpg"/>
          <p:cNvPicPr/>
          <p:nvPr/>
        </p:nvPicPr>
        <p:blipFill>
          <a:blip r:embed="rId3"/>
          <a:srcRect l="8129" t="46511" r="8129" b="4640"/>
          <a:stretch/>
        </p:blipFill>
        <p:spPr>
          <a:xfrm>
            <a:off x="4500720" y="1197000"/>
            <a:ext cx="2838240" cy="165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1" name="Рисунок 6" descr="good_432_big.jpg"/>
          <p:cNvPicPr/>
          <p:nvPr/>
        </p:nvPicPr>
        <p:blipFill>
          <a:blip r:embed="rId4"/>
          <a:srcRect l="0" t="18499" r="0" b="31108"/>
          <a:stretch/>
        </p:blipFill>
        <p:spPr>
          <a:xfrm>
            <a:off x="4932360" y="3500280"/>
            <a:ext cx="2657520" cy="172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2" name="Рисунок 5" descr="1248344817_skameyka.png"/>
          <p:cNvPicPr/>
          <p:nvPr/>
        </p:nvPicPr>
        <p:blipFill>
          <a:blip r:embed="rId5"/>
          <a:stretch/>
        </p:blipFill>
        <p:spPr>
          <a:xfrm>
            <a:off x="6156360" y="2421000"/>
            <a:ext cx="2700360" cy="1398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3" name="Рисунок 7" descr="100407.jpg"/>
          <p:cNvPicPr/>
          <p:nvPr/>
        </p:nvPicPr>
        <p:blipFill>
          <a:blip r:embed="rId6"/>
          <a:srcRect l="6803" t="21034" r="6803" b="21034"/>
          <a:stretch/>
        </p:blipFill>
        <p:spPr>
          <a:xfrm>
            <a:off x="5651640" y="5084640"/>
            <a:ext cx="3168360" cy="1584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560" y="1125360"/>
            <a:ext cx="4033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Определила нужные размеры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 рисунку выполнен подробный чертёж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518472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86" name="Рисунок 5" descr="00000000683.jpg"/>
          <p:cNvPicPr/>
          <p:nvPr/>
        </p:nvPicPr>
        <p:blipFill>
          <a:blip r:embed="rId3"/>
          <a:srcRect l="0" t="15252" r="577" b="15252"/>
          <a:stretch/>
        </p:blipFill>
        <p:spPr>
          <a:xfrm>
            <a:off x="4572000" y="1197000"/>
            <a:ext cx="4248000" cy="2228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Рисунок 6" descr="Документ(7).jpg"/>
          <p:cNvPicPr/>
          <p:nvPr/>
        </p:nvPicPr>
        <p:blipFill>
          <a:blip r:embed="rId4"/>
          <a:srcRect l="0" t="16500" r="2071" b="3031"/>
          <a:stretch/>
        </p:blipFill>
        <p:spPr>
          <a:xfrm>
            <a:off x="324000" y="2997360"/>
            <a:ext cx="4392360" cy="30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8" name="Содержимое 2"/>
          <p:cNvSpPr/>
          <p:nvPr/>
        </p:nvSpPr>
        <p:spPr>
          <a:xfrm>
            <a:off x="4788000" y="4221000"/>
            <a:ext cx="4176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дготовили презентацию, подробно описав все этапы работы над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148360" y="3357720"/>
            <a:ext cx="3311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I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148428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По выбранному рисунку и чертежу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в мастерской ИП Ржевкина А.Г. были изготовлены 4 скамейки из ламината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В качестве оплаты мы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предложили уборку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территории вокруг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мастерской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ИП Ржевкина 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30 апреля 2011 года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состоялся субботник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Были подведены итоги и сделаны выводы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d0d0d"/>
                </a:solidFill>
                <a:latin typeface="Franklin Gothic Medium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лан реализации</a:t>
            </a:r>
            <a:br>
              <a:rPr sz="4100"/>
            </a:b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Фото0064.jpg"/>
          <p:cNvPicPr/>
          <p:nvPr/>
        </p:nvPicPr>
        <p:blipFill>
          <a:blip r:embed="rId1"/>
          <a:stretch/>
        </p:blipFill>
        <p:spPr>
          <a:xfrm>
            <a:off x="4788000" y="2708280"/>
            <a:ext cx="3768480" cy="3065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4" descr="Фото0157.jpg"/>
          <p:cNvPicPr/>
          <p:nvPr/>
        </p:nvPicPr>
        <p:blipFill>
          <a:blip r:embed="rId1"/>
          <a:stretch/>
        </p:blipFill>
        <p:spPr>
          <a:xfrm>
            <a:off x="5076720" y="1484280"/>
            <a:ext cx="3475080" cy="2606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В результате получилось…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95" name="Содержимое 3" descr="Фото0156.jpg"/>
          <p:cNvPicPr/>
          <p:nvPr/>
        </p:nvPicPr>
        <p:blipFill>
          <a:blip r:embed="rId2"/>
          <a:stretch/>
        </p:blipFill>
        <p:spPr>
          <a:xfrm>
            <a:off x="2700360" y="3860640"/>
            <a:ext cx="3592440" cy="269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Рисунок 5" descr="Фото0158.jpg"/>
          <p:cNvPicPr/>
          <p:nvPr/>
        </p:nvPicPr>
        <p:blipFill>
          <a:blip r:embed="rId3"/>
          <a:stretch/>
        </p:blipFill>
        <p:spPr>
          <a:xfrm>
            <a:off x="468360" y="1484280"/>
            <a:ext cx="3468600" cy="2602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4000" y="105264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Работа над проектом позволила почувствовать нам значимость своей деятельности, открыть новые возможности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Разрабатывая проект, мы прошли все стадии работы над ним: сбор материала, его обработка, планирование проекта, согласование и реализация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Эта работа выявила не только наши положительные качества, но и позволила определить  свои слабые стороны, над которыми в дальнейшем можно работать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Выводы 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536400" y="396720"/>
            <a:ext cx="7785360" cy="260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писание проект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2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514"/>
                </a:solidFill>
                <a:latin typeface="Calibri"/>
              </a:rPr>
              <a:t>…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конец-то прозвенел долгожданный звонок с урока. Дружною гурьбой всем классом выбираемся из душного кабинета. Малыши  носятся по школьным этажам и лестничным пролётам со скоростью света – того и гляди затопчут. Так хочется посидеть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покойно и отдохнуть, но где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и на чём? Ведь в наших школьных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фойе не предусмотрено место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для отдыха.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52" name="Рисунок 3" descr="f_17211480.jpg"/>
          <p:cNvPicPr/>
          <p:nvPr/>
        </p:nvPicPr>
        <p:blipFill>
          <a:blip r:embed="rId1"/>
          <a:stretch/>
        </p:blipFill>
        <p:spPr>
          <a:xfrm>
            <a:off x="6372360" y="3645000"/>
            <a:ext cx="2211120" cy="2949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981000"/>
            <a:ext cx="86421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ш класс вместе с родительским комитетом, посовещавшись, решили устранить этот недостаток и изготовить несколько простых школьных скамеек, которые: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95640" y="32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танут местом для отдыха учеников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 переменках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украсят пустые школьные коридоры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55" name="Рисунок 4" descr="bench3367.jpg"/>
          <p:cNvPicPr/>
          <p:nvPr/>
        </p:nvPicPr>
        <p:blipFill>
          <a:blip r:embed="rId4"/>
          <a:srcRect l="10948" t="0" r="0" b="-1523"/>
          <a:stretch/>
        </p:blipFill>
        <p:spPr>
          <a:xfrm>
            <a:off x="684360" y="3213000"/>
            <a:ext cx="2928960" cy="338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писание проект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боснование необходимости </a:t>
            </a:r>
            <a:br>
              <a:rPr sz="4400"/>
            </a:b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Отсутствие мест для отдыха на переменах и после окончания уроков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камейки можно использовать классным руководителям и учителям-предметникам для встреч с родителями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е повреждаются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одоконники, а стёкла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охраняются в чистоте 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59" name="Рисунок 7" descr="33-1.jpg"/>
          <p:cNvPicPr/>
          <p:nvPr/>
        </p:nvPicPr>
        <p:blipFill>
          <a:blip r:embed="rId1"/>
          <a:stretch/>
        </p:blipFill>
        <p:spPr>
          <a:xfrm>
            <a:off x="5292720" y="4292640"/>
            <a:ext cx="3406680" cy="212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Обоснование необходимости </a:t>
            </a:r>
            <a:br>
              <a:rPr sz="4400"/>
            </a:b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356000" y="1557360"/>
            <a:ext cx="4546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Сидение на подоконниках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не безопасно, </a:t>
            </a:r>
            <a:br>
              <a:rPr sz="3000"/>
            </a:b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не эстетично и приводит к простудным заболеваниям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161514"/>
                </a:solidFill>
                <a:latin typeface="Arial Narrow"/>
              </a:rPr>
              <a:t>Для такого солидного учебного заведения, как наш лицей, ученики, сидящие на окнах – просто позор!</a:t>
            </a: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006600"/>
              </a:buClr>
              <a:buFont typeface="Arial Narro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61514"/>
              </a:solidFill>
              <a:latin typeface="Calibri"/>
            </a:endParaRPr>
          </a:p>
        </p:txBody>
      </p:sp>
      <p:pic>
        <p:nvPicPr>
          <p:cNvPr id="62" name="Рисунок 3" descr="DSCN1260.JPG"/>
          <p:cNvPicPr/>
          <p:nvPr/>
        </p:nvPicPr>
        <p:blipFill>
          <a:blip r:embed="rId1"/>
          <a:stretch/>
        </p:blipFill>
        <p:spPr>
          <a:xfrm>
            <a:off x="324000" y="1052640"/>
            <a:ext cx="3120840" cy="234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Рисунок 5" descr="DSCN1266.JPG"/>
          <p:cNvPicPr/>
          <p:nvPr/>
        </p:nvPicPr>
        <p:blipFill>
          <a:blip r:embed="rId2"/>
          <a:stretch/>
        </p:blipFill>
        <p:spPr>
          <a:xfrm>
            <a:off x="1476360" y="2708280"/>
            <a:ext cx="2727360" cy="234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Рисунок 4" descr="DSCN1267.JPG"/>
          <p:cNvPicPr/>
          <p:nvPr/>
        </p:nvPicPr>
        <p:blipFill>
          <a:blip r:embed="rId3"/>
          <a:stretch/>
        </p:blipFill>
        <p:spPr>
          <a:xfrm>
            <a:off x="250920" y="4292640"/>
            <a:ext cx="3122640" cy="2341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560" y="141300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привлечение внимания учеников к актуальным проблемам лицея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включение старшеклассников в реальную практическую деятельность по разрешению одной из этих проблем  силами самих учащихся 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повышение общего уровня культуры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формирование навыков поведения в обществе, совершенствование полезных социальных навыков и умений (планирование предстоящей деятельности, анализ результатов и окончательных итогов )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закрепление навыков командной работы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161514"/>
                </a:solidFill>
                <a:latin typeface="Arial Narrow"/>
              </a:rPr>
              <a:t>реализация и развитие организаторских и творческих способностей</a:t>
            </a:r>
            <a:endParaRPr b="1" lang="en-US" sz="27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Цели и задачи проект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1628640"/>
            <a:ext cx="849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а классном часе была определена тема проекта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Обсуждение темы на заседании родительского комитета (необходима помощь непосредственно в изготовлении скамеек)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В классе выбрали группы, отвечающие за каждый этап проекта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50920" y="333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d0d0d"/>
                </a:solidFill>
                <a:latin typeface="Franklin Gothic Medium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лан реализации</a:t>
            </a:r>
            <a:br>
              <a:rPr sz="4100"/>
            </a:b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	</a:t>
            </a:r>
            <a:r>
              <a:rPr b="1" i="1" lang="ru-RU" sz="4100" spc="-1" strike="noStrike">
                <a:solidFill>
                  <a:srgbClr val="0d0d0d"/>
                </a:solidFill>
                <a:latin typeface="Cambria"/>
              </a:rPr>
              <a:t>проек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4920" y="119664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роводили социологический опрос учеников лицея: </a:t>
            </a:r>
            <a:r>
              <a:rPr b="1" i="1" lang="ru-RU" sz="2800" spc="-1" strike="noStrike">
                <a:solidFill>
                  <a:srgbClr val="161514"/>
                </a:solidFill>
                <a:latin typeface="Arial Narrow"/>
              </a:rPr>
              <a:t>опрошено 83 человека</a:t>
            </a:r>
            <a:endParaRPr b="1" lang="en-US" sz="28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71" name="Диаграмма 8" descr=""/>
          <p:cNvPicPr/>
          <p:nvPr/>
        </p:nvPicPr>
        <p:blipFill>
          <a:blip r:embed="rId2"/>
          <a:stretch/>
        </p:blipFill>
        <p:spPr>
          <a:xfrm>
            <a:off x="222120" y="2247840"/>
            <a:ext cx="4235760" cy="4019760"/>
          </a:xfrm>
          <a:prstGeom prst="rect">
            <a:avLst/>
          </a:prstGeom>
          <a:ln w="0">
            <a:noFill/>
          </a:ln>
        </p:spPr>
      </p:pic>
      <p:pic>
        <p:nvPicPr>
          <p:cNvPr id="72" name="Диаграмма 9" descr=""/>
          <p:cNvPicPr/>
          <p:nvPr/>
        </p:nvPicPr>
        <p:blipFill>
          <a:blip r:embed="rId3"/>
          <a:stretch/>
        </p:blipFill>
        <p:spPr>
          <a:xfrm>
            <a:off x="4254480" y="2103480"/>
            <a:ext cx="4651560" cy="4667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419280" y="1267920"/>
            <a:ext cx="540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Фотографировали окна </a:t>
            </a:r>
            <a:br>
              <a:rPr sz="3200"/>
            </a:b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в фойе второго и третьего этажей</a:t>
            </a:r>
            <a:endParaRPr b="1" lang="en-US" sz="3200" spc="-1" strike="noStrike">
              <a:solidFill>
                <a:srgbClr val="161514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Проанализировав полученные сведения, сделали выводы о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необходимости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создания скамеек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для отдыха на 2-3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места по две для </a:t>
            </a:r>
            <a:r>
              <a:rPr b="0" i="1" lang="en-US" sz="3200" spc="-1" strike="noStrike">
                <a:solidFill>
                  <a:srgbClr val="161514"/>
                </a:solidFill>
                <a:latin typeface="Arial Narrow"/>
              </a:rPr>
              <a:t>II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 и 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	</a:t>
            </a:r>
            <a:r>
              <a:rPr b="0" i="1" lang="en-US" sz="3200" spc="-1" strike="noStrike">
                <a:solidFill>
                  <a:srgbClr val="161514"/>
                </a:solidFill>
                <a:latin typeface="Arial Narrow"/>
              </a:rPr>
              <a:t>III</a:t>
            </a:r>
            <a:r>
              <a:rPr b="0" i="1" lang="ru-RU" sz="3200" spc="-1" strike="noStrike">
                <a:solidFill>
                  <a:srgbClr val="161514"/>
                </a:solidFill>
                <a:latin typeface="Arial Narrow"/>
              </a:rPr>
              <a:t> этажей</a:t>
            </a:r>
            <a:endParaRPr b="0" lang="en-US" sz="3200" spc="-1" strike="noStrike">
              <a:solidFill>
                <a:srgbClr val="161514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Cambria"/>
              </a:rPr>
              <a:t>I </a:t>
            </a:r>
            <a:r>
              <a:rPr b="1" i="1" lang="ru-RU" sz="4400" spc="-1" strike="noStrike">
                <a:solidFill>
                  <a:srgbClr val="0d0d0d"/>
                </a:solidFill>
                <a:latin typeface="Cambria"/>
              </a:rPr>
              <a:t>группа</a:t>
            </a:r>
            <a:endParaRPr b="0" lang="en-US" sz="4400" spc="-1" strike="noStrike">
              <a:solidFill>
                <a:srgbClr val="0d0d0d"/>
              </a:solidFill>
              <a:latin typeface="Franklin Gothic Medium"/>
            </a:endParaRPr>
          </a:p>
        </p:txBody>
      </p:sp>
      <p:pic>
        <p:nvPicPr>
          <p:cNvPr id="75" name="Рисунок 8" descr="DSCN1267.JPG"/>
          <p:cNvPicPr/>
          <p:nvPr/>
        </p:nvPicPr>
        <p:blipFill>
          <a:blip r:embed="rId3"/>
          <a:stretch/>
        </p:blipFill>
        <p:spPr>
          <a:xfrm>
            <a:off x="250920" y="1052640"/>
            <a:ext cx="2808360" cy="2106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6" name="Рисунок 9" descr="DSCN1264.JPG"/>
          <p:cNvPicPr/>
          <p:nvPr/>
        </p:nvPicPr>
        <p:blipFill>
          <a:blip r:embed="rId4"/>
          <a:stretch/>
        </p:blipFill>
        <p:spPr>
          <a:xfrm>
            <a:off x="971640" y="2708280"/>
            <a:ext cx="2784240" cy="208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Рисунок 10" descr="DSCN1265.JPG"/>
          <p:cNvPicPr/>
          <p:nvPr/>
        </p:nvPicPr>
        <p:blipFill>
          <a:blip r:embed="rId5"/>
          <a:stretch/>
        </p:blipFill>
        <p:spPr>
          <a:xfrm>
            <a:off x="2268360" y="4508640"/>
            <a:ext cx="2832120" cy="2125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0:13:41Z</dcterms:created>
  <dc:creator/>
  <dc:description/>
  <dc:language>en-US</dc:language>
  <cp:lastModifiedBy/>
  <dcterms:modified xsi:type="dcterms:W3CDTF">2012-10-23T16:45:33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391049</vt:lpwstr>
  </property>
</Properties>
</file>