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F393-F7B5-4D86-BB31-47AE17820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590-F9A3-4D61-AC6B-618BA9397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B39-0636-486A-94C8-3E988882D3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43C-1771-4B4B-90F4-4B270E46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A40-FC05-41AE-A8D3-CF443F6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45A-8515-472F-94DF-9E094871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728-D4E9-46E4-A03A-1994FD98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4F1-5A05-43FD-BE27-6B49AB62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E05-B9F8-46EC-B93F-D53A9914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D0D-DB91-4292-BD7A-4F203721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269-74C5-4457-87AC-B254B442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503-2D8E-4962-94BC-2CBB3AF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660-B830-4889-A052-8DD9D8F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CDA-21BA-4C9B-A562-8021ABC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FA5-11F9-4E07-8E7C-02821088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620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620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620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1C8-E084-43F3-9054-5C786EC8542B}" type="slidenum">
              <a:rPr b="0" lang="ru-RU" sz="1200" spc="-1" strike="noStrike">
                <a:solidFill>
                  <a:srgbClr val="95620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463680" y="1189080"/>
            <a:ext cx="7785000" cy="2608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920" y="3933720"/>
            <a:ext cx="59054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Социальный проект </a:t>
            </a:r>
            <a:br>
              <a:rPr sz="3000"/>
            </a:b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учащихся 9 Т класса </a:t>
            </a:r>
            <a:br>
              <a:rPr sz="3000"/>
            </a:b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МОУ «Лицей г.Козьмодемьянска»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0d0d"/>
                </a:solidFill>
                <a:latin typeface="Calibri"/>
              </a:rPr>
              <a:t>2011</a:t>
            </a:r>
            <a:endParaRPr b="1" lang="en-US" sz="1900" spc="-1" strike="noStrike">
              <a:solidFill>
                <a:srgbClr val="161514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4920" y="119664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бирали в 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nternet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и специальной литературе рисунки походящих скамеек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Из множества предложенных вариантов был выбран наиболее удобный, но простой и дешёвый в изготовлени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80" name="Рисунок 4" descr="b5198.jpg"/>
          <p:cNvPicPr/>
          <p:nvPr/>
        </p:nvPicPr>
        <p:blipFill>
          <a:blip r:embed="rId3"/>
          <a:srcRect l="8129" t="46511" r="8129" b="4640"/>
          <a:stretch/>
        </p:blipFill>
        <p:spPr>
          <a:xfrm>
            <a:off x="4500720" y="1197000"/>
            <a:ext cx="2838240" cy="165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Рисунок 6" descr="good_432_big.jpg"/>
          <p:cNvPicPr/>
          <p:nvPr/>
        </p:nvPicPr>
        <p:blipFill>
          <a:blip r:embed="rId4"/>
          <a:srcRect l="0" t="18499" r="0" b="31108"/>
          <a:stretch/>
        </p:blipFill>
        <p:spPr>
          <a:xfrm>
            <a:off x="4932360" y="3500280"/>
            <a:ext cx="2657520" cy="172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Рисунок 5" descr="1248344817_skameyka.png"/>
          <p:cNvPicPr/>
          <p:nvPr/>
        </p:nvPicPr>
        <p:blipFill>
          <a:blip r:embed="rId5"/>
          <a:stretch/>
        </p:blipFill>
        <p:spPr>
          <a:xfrm>
            <a:off x="6156360" y="2421000"/>
            <a:ext cx="2700360" cy="1398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Рисунок 7" descr="100407.jpg"/>
          <p:cNvPicPr/>
          <p:nvPr/>
        </p:nvPicPr>
        <p:blipFill>
          <a:blip r:embed="rId6"/>
          <a:srcRect l="6803" t="21034" r="6803" b="21034"/>
          <a:stretch/>
        </p:blipFill>
        <p:spPr>
          <a:xfrm>
            <a:off x="5651640" y="5084640"/>
            <a:ext cx="3168360" cy="158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560" y="1125360"/>
            <a:ext cx="403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пределила нужные размеры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 рисунку выполнен подробный чертёж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18472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86" name="Рисунок 5" descr="00000000683.jpg"/>
          <p:cNvPicPr/>
          <p:nvPr/>
        </p:nvPicPr>
        <p:blipFill>
          <a:blip r:embed="rId3"/>
          <a:srcRect l="0" t="15252" r="577" b="15252"/>
          <a:stretch/>
        </p:blipFill>
        <p:spPr>
          <a:xfrm>
            <a:off x="4572000" y="1197000"/>
            <a:ext cx="4248000" cy="2228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Рисунок 6" descr="Документ(7).jpg"/>
          <p:cNvPicPr/>
          <p:nvPr/>
        </p:nvPicPr>
        <p:blipFill>
          <a:blip r:embed="rId4"/>
          <a:srcRect l="0" t="16500" r="2071" b="3031"/>
          <a:stretch/>
        </p:blipFill>
        <p:spPr>
          <a:xfrm>
            <a:off x="324000" y="2997360"/>
            <a:ext cx="4392360" cy="30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Содержимое 2"/>
          <p:cNvSpPr/>
          <p:nvPr/>
        </p:nvSpPr>
        <p:spPr>
          <a:xfrm>
            <a:off x="4788000" y="4221000"/>
            <a:ext cx="417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готовили презентацию, подробно описав все этапы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148360" y="3357720"/>
            <a:ext cx="3311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484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По выбранному рисунку и чертежу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в мастерской ИП Ржевкина А.Г. были изготовлены 4 скамейки из ламината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В качестве оплаты мы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предложили уборку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территории вокруг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мастерской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ИП Ржевкина 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30 апреля 2011 года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состоялся субботник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Были подведены итоги и сделаны выводы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d0d0d"/>
                </a:solidFill>
                <a:latin typeface="Franklin Gothic Medium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лан реализации</a:t>
            </a:r>
            <a:br>
              <a:rPr sz="4100"/>
            </a:b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Фото0064.jpg"/>
          <p:cNvPicPr/>
          <p:nvPr/>
        </p:nvPicPr>
        <p:blipFill>
          <a:blip r:embed="rId1"/>
          <a:stretch/>
        </p:blipFill>
        <p:spPr>
          <a:xfrm>
            <a:off x="4788000" y="2708280"/>
            <a:ext cx="3768480" cy="306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Фото0157.jpg"/>
          <p:cNvPicPr/>
          <p:nvPr/>
        </p:nvPicPr>
        <p:blipFill>
          <a:blip r:embed="rId1"/>
          <a:stretch/>
        </p:blipFill>
        <p:spPr>
          <a:xfrm>
            <a:off x="5076720" y="1484280"/>
            <a:ext cx="3475080" cy="2606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В результате получилось…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95" name="Содержимое 3" descr="Фото0156.jpg"/>
          <p:cNvPicPr/>
          <p:nvPr/>
        </p:nvPicPr>
        <p:blipFill>
          <a:blip r:embed="rId2"/>
          <a:stretch/>
        </p:blipFill>
        <p:spPr>
          <a:xfrm>
            <a:off x="2700360" y="3860640"/>
            <a:ext cx="3592440" cy="26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Рисунок 5" descr="Фото0158.jpg"/>
          <p:cNvPicPr/>
          <p:nvPr/>
        </p:nvPicPr>
        <p:blipFill>
          <a:blip r:embed="rId3"/>
          <a:stretch/>
        </p:blipFill>
        <p:spPr>
          <a:xfrm>
            <a:off x="468360" y="1484280"/>
            <a:ext cx="3468600" cy="2602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Работа над проектом позволила почувствовать нам значимость своей деятельности, открыть новые возможност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Разрабатывая проект, мы прошли все стадии работы над ним: сбор материала, его обработка, планирование проекта, согласование и реализация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Эта работа выявила не только наши положительные качества, но и позволила определить  свои слабые стороны, над которыми в дальнейшем можно работать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Выводы 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536400" y="396720"/>
            <a:ext cx="7785360" cy="260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писание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514"/>
                </a:solidFill>
                <a:latin typeface="Calibri"/>
              </a:rPr>
              <a:t>…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конец-то прозвенел долгожданный звонок с урока. Дружною гурьбой всем классом выбираемся из душного кабинета. Малыши  носятся по школьным этажам и лестничным пролётам со скоростью света – того и гляди затопчут. Так хочется посидеть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покойно и отдохнуть, но где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и на чём? Ведь в наших школьных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фойе не предусмотрено место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для отдыха.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2" name="Рисунок 3" descr="f_17211480.jpg"/>
          <p:cNvPicPr/>
          <p:nvPr/>
        </p:nvPicPr>
        <p:blipFill>
          <a:blip r:embed="rId1"/>
          <a:stretch/>
        </p:blipFill>
        <p:spPr>
          <a:xfrm>
            <a:off x="6372360" y="3645000"/>
            <a:ext cx="2211120" cy="294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981000"/>
            <a:ext cx="86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ш класс вместе с родительским комитетом, посовещавшись, решили устранить этот недостаток и изготовить несколько простых школьных скамеек, которые: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640" y="32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танут местом для отдыха учеников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 переменках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украсят пустые школьные коридоры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5" name="Рисунок 4" descr="bench3367.jpg"/>
          <p:cNvPicPr/>
          <p:nvPr/>
        </p:nvPicPr>
        <p:blipFill>
          <a:blip r:embed="rId4"/>
          <a:srcRect l="10948" t="0" r="0" b="-1523"/>
          <a:stretch/>
        </p:blipFill>
        <p:spPr>
          <a:xfrm>
            <a:off x="684360" y="3213000"/>
            <a:ext cx="2928960" cy="33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писание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боснование необходимости </a:t>
            </a:r>
            <a:br>
              <a:rPr sz="4400"/>
            </a:b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тсутствие мест для отдыха на переменах и после окончания уроков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камейки можно использовать классным руководителям и учителям-предметникам для встреч с родителям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е повреждаются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оконники, а стёкла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охраняются в чистоте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9" name="Рисунок 7" descr="33-1.jpg"/>
          <p:cNvPicPr/>
          <p:nvPr/>
        </p:nvPicPr>
        <p:blipFill>
          <a:blip r:embed="rId1"/>
          <a:stretch/>
        </p:blipFill>
        <p:spPr>
          <a:xfrm>
            <a:off x="5292720" y="4292640"/>
            <a:ext cx="3406680" cy="212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боснование необходимости </a:t>
            </a:r>
            <a:br>
              <a:rPr sz="4400"/>
            </a:b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56000" y="1557360"/>
            <a:ext cx="454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Сидение на подоконниках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не безопасно,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не эстетично и приводит к простудным заболеваниям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Для такого солидного учебного заведения, как наш лицей, ученики, сидящие на окнах – просто позор!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62" name="Рисунок 3" descr="DSCN1260.JPG"/>
          <p:cNvPicPr/>
          <p:nvPr/>
        </p:nvPicPr>
        <p:blipFill>
          <a:blip r:embed="rId1"/>
          <a:stretch/>
        </p:blipFill>
        <p:spPr>
          <a:xfrm>
            <a:off x="324000" y="1052640"/>
            <a:ext cx="312084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Рисунок 5" descr="DSCN1266.JPG"/>
          <p:cNvPicPr/>
          <p:nvPr/>
        </p:nvPicPr>
        <p:blipFill>
          <a:blip r:embed="rId2"/>
          <a:stretch/>
        </p:blipFill>
        <p:spPr>
          <a:xfrm>
            <a:off x="1476360" y="2708280"/>
            <a:ext cx="272736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Рисунок 4" descr="DSCN1267.JPG"/>
          <p:cNvPicPr/>
          <p:nvPr/>
        </p:nvPicPr>
        <p:blipFill>
          <a:blip r:embed="rId3"/>
          <a:stretch/>
        </p:blipFill>
        <p:spPr>
          <a:xfrm>
            <a:off x="250920" y="4292640"/>
            <a:ext cx="312264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560" y="141300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привлечение внимания учеников к актуальным проблемам лицея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включение старшеклассников в реальную практическую деятельность по разрешению одной из этих проблем  силами самих учащихся 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повышение общего уровня культуры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формирование навыков поведения в обществе, совершенствование полезных социальных навыков и умений (планирование предстоящей деятельности, анализ результатов и окончательных итогов )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закрепление навыков командной работы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реализация и развитие организаторских и творческих способностей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Цели и задачи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 классном часе была определена тема проекта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бсуждение темы на заседании родительского комитета (необходима помощь непосредственно в изготовлении скамеек)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В классе выбрали группы, отвечающие за каждый этап проекта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d0d0d"/>
                </a:solidFill>
                <a:latin typeface="Franklin Gothic Medium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лан реализации</a:t>
            </a:r>
            <a:br>
              <a:rPr sz="4100"/>
            </a:b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4920" y="1196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роводили социологический опрос учеников лицея: </a:t>
            </a:r>
            <a:r>
              <a:rPr b="1" i="1" lang="ru-RU" sz="2800" spc="-1" strike="noStrike">
                <a:solidFill>
                  <a:srgbClr val="161514"/>
                </a:solidFill>
                <a:latin typeface="Arial Narrow"/>
              </a:rPr>
              <a:t>опрошено 83 человека</a:t>
            </a: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71" name="Диаграмма 8" descr=""/>
          <p:cNvPicPr/>
          <p:nvPr/>
        </p:nvPicPr>
        <p:blipFill>
          <a:blip r:embed="rId2"/>
          <a:stretch/>
        </p:blipFill>
        <p:spPr>
          <a:xfrm>
            <a:off x="222120" y="2247840"/>
            <a:ext cx="4235760" cy="401976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9" descr=""/>
          <p:cNvPicPr/>
          <p:nvPr/>
        </p:nvPicPr>
        <p:blipFill>
          <a:blip r:embed="rId3"/>
          <a:stretch/>
        </p:blipFill>
        <p:spPr>
          <a:xfrm>
            <a:off x="4254480" y="2103480"/>
            <a:ext cx="4651560" cy="46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19280" y="1267920"/>
            <a:ext cx="540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Фотографировали окна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в фойе второго и третьего этажей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роанализировав полученные сведения, сделали выводы о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еобходимости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оздания скамеек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для отдыха на 2-3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места по две для 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I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и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II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этажей</a:t>
            </a:r>
            <a:endParaRPr b="0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75" name="Рисунок 8" descr="DSCN1267.JPG"/>
          <p:cNvPicPr/>
          <p:nvPr/>
        </p:nvPicPr>
        <p:blipFill>
          <a:blip r:embed="rId3"/>
          <a:stretch/>
        </p:blipFill>
        <p:spPr>
          <a:xfrm>
            <a:off x="250920" y="1052640"/>
            <a:ext cx="2808360" cy="210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6" name="Рисунок 9" descr="DSCN1264.JPG"/>
          <p:cNvPicPr/>
          <p:nvPr/>
        </p:nvPicPr>
        <p:blipFill>
          <a:blip r:embed="rId4"/>
          <a:stretch/>
        </p:blipFill>
        <p:spPr>
          <a:xfrm>
            <a:off x="971640" y="2708280"/>
            <a:ext cx="278424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Рисунок 10" descr="DSCN1265.JPG"/>
          <p:cNvPicPr/>
          <p:nvPr/>
        </p:nvPicPr>
        <p:blipFill>
          <a:blip r:embed="rId5"/>
          <a:stretch/>
        </p:blipFill>
        <p:spPr>
          <a:xfrm>
            <a:off x="2268360" y="4508640"/>
            <a:ext cx="2832120" cy="21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0:13:41Z</dcterms:created>
  <dc:creator/>
  <dc:description/>
  <dc:language>en-US</dc:language>
  <cp:lastModifiedBy/>
  <dcterms:modified xsi:type="dcterms:W3CDTF">2012-10-23T16:45:33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391049</vt:lpwstr>
  </property>
</Properties>
</file>