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1B9-26D5-4F6A-B625-DAEAB6A2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91A-D51C-4EDE-8C82-2D08F780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D33-8271-4A85-B15F-598C5187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C96-9D8B-4969-B62A-C3B98671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C766-ED0A-4FB4-9A7A-C38AC32C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BD5-1D7B-4249-A2E9-FB87796E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88D-09BB-4738-991F-EBD96C2F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34C-5DA9-4089-BD98-1D53D760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997-839F-491A-BE7E-768BA472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592-DBAF-4023-97D0-0E737E10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A45-FA78-44C0-8940-AAB8FE72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B7A-30BC-4ED4-BED9-8C3ED9BE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B5C7-FDE3-45AD-A035-BA8F0E479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Times New Roman"/>
              </a:rPr>
              <a:t>Казенное образовательное учреждение «Больше-Туралинская СОШ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Решение уравн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Раскрытие скоб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66ff"/>
                </a:solidFill>
                <a:latin typeface="Times New Roman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37372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ыполнила: Учитель информатики Катырова Р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ример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(-4-20)+(6+13)-(7-8)-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Сначала раскроем скобки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отом найдем отдельно сумму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оложительных и отдельно сумму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отрицательных чисел и, наконец, слож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олученные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-2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+(6+13)-(7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-2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6+1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7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8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27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36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9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3708360" y="6021360"/>
            <a:ext cx="2160720" cy="647640"/>
          </a:xfrm>
          <a:custGeom>
            <a:avLst/>
            <a:gdLst>
              <a:gd name="textAreaLeft" fmla="*/ 41760 w 2160720"/>
              <a:gd name="textAreaRight" fmla="*/ 2118960 w 216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2036" h="21600">
                <a:moveTo>
                  <a:pt x="0" y="0"/>
                </a:moveTo>
                <a:lnTo>
                  <a:pt x="72036" y="0"/>
                </a:lnTo>
                <a:lnTo>
                  <a:pt x="72036" y="21600"/>
                </a:lnTo>
                <a:lnTo>
                  <a:pt x="0" y="21600"/>
                </a:lnTo>
                <a:close/>
              </a:path>
              <a:path fill="lightenLess" w="72036" h="21600">
                <a:moveTo>
                  <a:pt x="0" y="0"/>
                </a:moveTo>
                <a:lnTo>
                  <a:pt x="72036" y="0"/>
                </a:lnTo>
                <a:lnTo>
                  <a:pt x="70636" y="1400"/>
                </a:lnTo>
                <a:lnTo>
                  <a:pt x="1400" y="1400"/>
                </a:lnTo>
                <a:close/>
              </a:path>
              <a:path fill="darken" w="72036" h="21600">
                <a:moveTo>
                  <a:pt x="72036" y="0"/>
                </a:moveTo>
                <a:lnTo>
                  <a:pt x="72036" y="21600"/>
                </a:lnTo>
                <a:lnTo>
                  <a:pt x="70636" y="20200"/>
                </a:lnTo>
                <a:lnTo>
                  <a:pt x="70636" y="1400"/>
                </a:lnTo>
                <a:close/>
              </a:path>
              <a:path fill="darkenLess" w="72036" h="21600">
                <a:moveTo>
                  <a:pt x="72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36" y="20200"/>
                </a:lnTo>
                <a:close/>
              </a:path>
              <a:path fill="lighten" w="72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Конец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1. Раскрытие скоб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2. Правило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3. Пример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4. Пример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5. Правило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6. Пример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Раскрытие скоб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Выражение а+(в+с) можно запи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без скобок: а+(в+с)= а+в+с. Эту опер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называю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крытием скобок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cc66"/>
                </a:solidFill>
                <a:latin typeface="Arial"/>
              </a:rPr>
              <a:t>Пример1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. Раскрыть скобки в выра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а+(-в+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66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а+(-в+с)=а+(-в)+с= а-в+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равило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Если перед скобками стоит знак +, 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ожно опустить скобки и этот знак +, сохранит знаки слагаемых, стоящих в скобках. Если первое слагаемое в скобках записано без знака, то его надо записать со знаком +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Выучить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ример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Найти значение выражения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-2.87+(2.87-7.63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Решение: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Раскрывая скобки полу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-2.87+(2.87-7.639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-2.87+2.87-7.639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0-7.639=</a:t>
            </a: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-7.639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ример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Чтобы найти значение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(-9+5), надо сложить числа -9 и 5 и най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число, противоположное сум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-(-9+5)=-(-4)=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То же значение можно получить п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другому: вначале записать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ротивоположные данным слагаем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(т.е. изменить их знаки), а потом слож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(-9+5)=9-5=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равило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тобы записать сумм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отивополож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умме нескольких слагаемых, на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зменить знаки данных слагаем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/Выучить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Значит, </a:t>
            </a:r>
            <a:r>
              <a:rPr b="0" lang="ru-RU" sz="4000" spc="-1" strike="noStrike">
                <a:solidFill>
                  <a:srgbClr val="ff33cc"/>
                </a:solidFill>
                <a:latin typeface="Arial"/>
              </a:rPr>
              <a:t>-(а+в)=-а-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ример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Arial"/>
              </a:rPr>
              <a:t>Найдем значение 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16-(10-18+12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16-(10-18+12)=16 - 10+18-12=</a:t>
            </a: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равило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Чтобы раскрыть скобки, перед котор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тоит знак -, надо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заменит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этот знак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, поменяв знаки всех слагаемых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кобках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на противоположные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 а по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скрыть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Выучить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1:03:19Z</dcterms:created>
  <dc:creator>Учитель</dc:creator>
  <dc:description/>
  <dc:language>en-US</dc:language>
  <cp:lastModifiedBy>Руфина Равильевна</cp:lastModifiedBy>
  <dcterms:modified xsi:type="dcterms:W3CDTF">2012-10-20T14:23:29Z</dcterms:modified>
  <cp:revision>5</cp:revision>
  <dc:subject/>
  <dc:title>Слайд 1</dc:title>
</cp:coreProperties>
</file>