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9A8-FDD8-490E-8F1A-8F6B0321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080-D666-4C22-BB54-59CFEEF3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CF5-7B14-4149-8A8C-EB57E55A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2DD-A571-4161-BBA3-D3AED48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92B-31EA-41F3-859A-7D009C35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5AF-52BC-4EA4-8B22-36D4B15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C58-43BB-41A5-98B5-A6647203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174-AFF4-49A4-BE8E-635440A2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566-6D9D-42B6-997E-B5A918DE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3FE-912E-40C7-A671-4772950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355-0EB5-4040-A656-FC45CE0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B1F-36F6-4FD8-8E47-F71C9D12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0C2-53D6-48EE-9D7E-0D37F64F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Казенное образовательное учреждение «Больше-Туралинская СОШ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Решение уравн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Раскрытие скоб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66ff"/>
                </a:solidFill>
                <a:latin typeface="Times New Roman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37372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Выполнила: Учитель информатики Катырова Р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Найти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-4-20)+(6+13)-(7-8)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Сначала раскроем скобк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том найдем отдельно сумму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ложительных и отдельно сумму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отрицательных чисел и, наконец, сло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олученные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-2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+(6+13)-(7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8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-2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6+1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8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27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36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3708360" y="6021360"/>
            <a:ext cx="2160720" cy="64764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72036" h="21600">
                <a:moveTo>
                  <a:pt x="0" y="0"/>
                </a:moveTo>
                <a:lnTo>
                  <a:pt x="72036" y="0"/>
                </a:lnTo>
                <a:lnTo>
                  <a:pt x="72036" y="21600"/>
                </a:lnTo>
                <a:lnTo>
                  <a:pt x="0" y="21600"/>
                </a:lnTo>
                <a:close/>
              </a:path>
              <a:path fill="lightenLess" w="72036" h="21600">
                <a:moveTo>
                  <a:pt x="0" y="0"/>
                </a:moveTo>
                <a:lnTo>
                  <a:pt x="72036" y="0"/>
                </a:lnTo>
                <a:lnTo>
                  <a:pt x="70636" y="1400"/>
                </a:lnTo>
                <a:lnTo>
                  <a:pt x="1400" y="1400"/>
                </a:lnTo>
                <a:close/>
              </a:path>
              <a:path fill="darken" w="72036" h="21600">
                <a:moveTo>
                  <a:pt x="72036" y="0"/>
                </a:moveTo>
                <a:lnTo>
                  <a:pt x="72036" y="21600"/>
                </a:lnTo>
                <a:lnTo>
                  <a:pt x="70636" y="20200"/>
                </a:lnTo>
                <a:lnTo>
                  <a:pt x="70636" y="1400"/>
                </a:lnTo>
                <a:close/>
              </a:path>
              <a:path fill="darkenLess" w="72036" h="21600">
                <a:moveTo>
                  <a:pt x="7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36" y="20200"/>
                </a:lnTo>
                <a:close/>
              </a:path>
              <a:path fill="lighten" w="7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Конец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Arial"/>
              </a:rPr>
              <a:t>содерж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. Раскрытие ско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2. Правило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3. Пример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4. Пример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5. 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6. Пример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Раскрытие ско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Выражение а+(в+с) можно за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без скобок: а+(в+с)= а+в+с. Эту опер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называ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крытием скобок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Пример1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. Раскрыть скобки в выраж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а+(-в+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а+(-в+с)=а+(-в)+с= а-в+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сли перед скобками стоит знак +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можно опустить скобки и этот знак +, сохранит знаки слагаемых, стоящих в скобках. Если первое слагаемое в скобках записано без знака, то его надо записать со знаком +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Найти значение выражения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(2.87-7.63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Решение: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Раскрывая скобки полу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(2.87-7.639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-2.87+2.87-7.639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0-7.639=</a:t>
            </a:r>
            <a:r>
              <a:rPr b="0" lang="en-US" sz="3200" spc="-1" strike="noStrike">
                <a:solidFill>
                  <a:srgbClr val="00ccff"/>
                </a:solidFill>
                <a:latin typeface="Arial"/>
              </a:rPr>
              <a:t>-7.639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Чтобы найти значение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(-9+5), надо сложить числа -9 и 5 и най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число, противоположное сум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-(-9+5)=-(-4)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То же значение можно получить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другому: вначале записать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противоположные данным слагаем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т.е. изменить их знаки), а потом слож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(-9+5)=9-5=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тобы записать сумм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тивополож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умме нескольких слагаемых, на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зменить знаки данных слагаем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Значит, </a:t>
            </a: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-(а+в)=-а-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имер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Arial"/>
              </a:rPr>
              <a:t>Найдем значение 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6-(10-18+12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16-(10-18+12)=16 - 10+18-12=</a:t>
            </a:r>
            <a:r>
              <a:rPr b="0" lang="en-US" sz="4000" spc="-1" strike="noStrike">
                <a:solidFill>
                  <a:srgbClr val="00cc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Правило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бы раскрыть скобки, перед котор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тоит знак -, надо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заменит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этот знак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, поменяв знаки всех слагаемых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кобках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на противоположны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 а по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скрыть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Выучить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1:03:19Z</dcterms:created>
  <dc:creator>Учитель</dc:creator>
  <dc:description/>
  <dc:language>en-US</dc:language>
  <cp:lastModifiedBy>Руфина Равильевна</cp:lastModifiedBy>
  <dcterms:modified xsi:type="dcterms:W3CDTF">2012-10-20T14:23:29Z</dcterms:modified>
  <cp:revision>5</cp:revision>
  <dc:subject/>
  <dc:title>Слайд 1</dc:title>
</cp:coreProperties>
</file>