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2221-80E8-486A-B7B2-EED385866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F08-E04E-4B5A-BE16-D82D829E3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0CF-70AE-4294-BA1C-BFA3748C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E8A7-34EC-4629-A60C-51BB774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5911B-B7C2-4201-BBA8-A43F9493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84AA7-38E2-48EA-9DF6-A47E387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BA419-9037-4B52-B672-F8C95209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A0722-ABCC-4EBD-9B4D-A488C5F8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FCFC3-1EEC-49CC-9BD6-E7C32137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16960-BE40-4435-88F3-6A2A989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4E134-9590-4761-B269-3EF45911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9668F-3551-4675-BAC1-32791C1C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8D22-EECC-4013-BE2B-36C590B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B55F0-0DE1-4758-A06E-8FA82C96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419-CF38-4EF0-8406-E1909AAA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668A0-2829-4536-9CF5-EA4F0A0D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A25AE-4D52-4286-9311-0FBE113A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8BCC8-EBA3-49F1-BECD-D84E9711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030EC-CFB3-42EC-9009-52BE390C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39355-C92F-4493-A536-54A3703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74EF3-EB0C-4AC4-AED9-9A0FEC2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DD121-85CC-4E06-A7DB-2BD3FFD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A6BE0-1EB6-4AF0-9AEA-A46CA2B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062F6-7090-49A6-8A29-7343308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8B23C-98DF-470A-9BC0-9D47A5CC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A42-E584-4E1C-AFD6-99B4FD80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E7368-E92A-403E-B765-7ED14046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DFA1-C8A8-4953-90EB-9EC1B5B0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25D-1870-4017-B5BF-0D28BEC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4866-96B9-4F10-AEA9-BAA2049C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39C-77DC-4D94-A9F5-E311EF9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D6F2-0F6F-4CFB-BD8D-F50C539D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316B-0438-4982-B50F-52A5C6F9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AF76-EEFE-45D5-85BB-AB01067C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57F-8092-4A78-A993-86AE1009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1AB-58EB-46A5-8853-7286FE85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171B-5FD3-4186-B5A2-5A4BE7D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155-4A07-459D-B23E-B4868BB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AE28-CA28-46F4-8DD1-C8FA9206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15E5-0333-47CF-8D36-0204439A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0E78-A33C-4C7D-9EFB-C784E26F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2F66-ED49-4CC3-B8B6-B7B0DEF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6922-45D2-46A7-B9CC-00A896BF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4A4C-C358-4EB4-A45D-D52E8D6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D31F-6F4D-43E3-BB88-E4AFF8AF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E98-0217-4D2C-96DC-39417A6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DE6C-625F-4ECD-97C4-C3AA4E3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15764-33CE-4163-8D97-7CD5C4C7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69AD-F66D-4828-8B16-B148C93A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C371-B7F0-43E9-89F4-35A7559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C76CD-F04B-4C83-9D48-B8EF8A15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86D1-AC76-46AF-AE7C-87E9FF34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DEDE-2E2A-4EBC-A82E-2F26BBC8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953B-0AF3-4FF1-B141-40F85D96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55F42-2A6F-484D-B316-8E37F55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B26D3-E939-4654-A3D6-C64E797B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CDD-1569-4508-82EC-D309D8A1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DE6B-0B95-4881-9204-D9A8BE7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11D6-32AC-45C7-9377-5E35499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7C64A-6672-4E64-9B32-9067E29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790A-EAAF-4F5C-9F8D-5C5E705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C7C0-20EE-44E5-87FA-D2644D2F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9350-4932-4238-A829-95D5EAC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D068-5AC2-4757-8884-0A96F7A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3EB0-1ABC-4759-8175-DA01FCFB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C224C-B6D5-48ED-8846-7FDFA9F7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3B9E-FC6A-4C09-A01B-1C97FF3D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6E5-9194-41FD-81A1-52D52399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B1255-61D4-4508-BAD1-F2E8B409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3FC0-7C64-4748-983C-5E20069D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AA1B-F9CB-4C6D-B8A7-1D2500D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DA35D-0788-44EE-BE8D-0AD44E64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0B29-9D8C-49B5-9841-39503C1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A66BB-2E12-4E37-8768-8DD6595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F372B-9F0F-4028-ADE6-BC35D0E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82DF-BE6F-47C1-9A02-A7BF497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D03B9-696E-4ED6-B48A-EFA9AADE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7FF44-534D-4EE9-8055-43FADE70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34D-5D01-4D28-B31B-1B0E034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2DE9-90EB-4C5E-994B-260B7FE5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BDDF-34A8-4893-AB50-AD7EA733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91716-A57B-43BE-B341-3B116505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39231-8569-469E-AE3B-67F26259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7BDF-5920-4D3B-9E64-274C7AFA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C6449-CA85-46E6-8EED-CAB84363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128D-EBB6-4627-849F-791AD9B1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650B5-0B08-49B8-826A-ADEDD0C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EF07C-86D7-4C67-86BA-C75B785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7D73F-C28D-4AB7-974F-AC446351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98E-44E7-4CDA-8509-0CF145E2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ADCD2-EB24-47D2-ACAF-12C38EAA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D193-B551-4C14-BA5A-CD73D35B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41A1-CA87-4706-A552-B86ECAC6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F4CD3-0D63-4EA7-850B-F4E437E2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5BB2-C612-4E73-BDA9-F772C0F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C09F1-589C-452F-B5EE-9432DB8B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D1D1B-4CEC-497D-9C9E-799B5FB5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0CAD7-62B6-4DB5-A5B8-1411154C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DEB3C-61CE-4EAB-9057-972AD07C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2616-04DD-4822-8877-C8E72B7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4C-2F0A-4ECB-AF01-3F3164F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EC169-92D7-4345-827D-1C00558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E144E-00AC-4E55-9ABF-DB7A1BF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EF791-912F-4253-96D2-3DF37E1C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4226-B290-4560-BA8C-893EAC23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B5A05-B790-4961-B47E-5F258ECD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80731-BBB5-4B8D-9896-F7819E15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C8B12-7B34-48FE-AD6E-BE9C4D2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171E0-8026-43F6-B149-5E8E65B0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DE5D-5BC9-4369-96D2-1DC50E7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23053-A7EA-435A-9C2F-B1109DD0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37A-A838-4FB1-BF6B-2B827581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6AD2F-1444-4343-9F30-413810F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4A0AD-9694-483A-AA6C-C7E0AF2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F588-544A-4615-843C-6D0324F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47F3F-551E-48F9-B58C-C031290C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0996-C2B7-4E55-89EC-E981A95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4C85-72A8-40E4-8809-B83558A9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9B6E4-DD97-4B20-AC60-DFB6851C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D6D9E-86B6-414A-A0EA-9E58BF34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57F65-93B7-42CF-A93B-F839A725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42DC9-5A29-4A97-8DB9-8FF3947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20C4-4BE3-48FC-8D70-8CA976421F66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Freeform 7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93" name="Freeform 7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Freeform 8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96" name="Freeform 8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Freeform 9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99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Freeform 11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02" name="Freeform 11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8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9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3C66-76ED-4E11-B7CA-CF585524008E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13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42" name="Freeform 13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Freeform 12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45" name="Freeform 12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Freeform 11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48" name="Freeform 11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Oval 7"/>
          <p:cNvGrpSpPr/>
          <p:nvPr/>
        </p:nvGrpSpPr>
        <p:grpSpPr>
          <a:xfrm>
            <a:off x="603360" y="579600"/>
            <a:ext cx="7821360" cy="5814720"/>
            <a:chOff x="603360" y="579600"/>
            <a:chExt cx="7821360" cy="5814720"/>
          </a:xfrm>
        </p:grpSpPr>
        <p:pic>
          <p:nvPicPr>
            <p:cNvPr id="51" name="Oval 7" descr=""/>
            <p:cNvPicPr/>
            <p:nvPr/>
          </p:nvPicPr>
          <p:blipFill>
            <a:blip r:embed="rId6"/>
            <a:stretch/>
          </p:blipFill>
          <p:spPr>
            <a:xfrm>
              <a:off x="603360" y="579600"/>
              <a:ext cx="7821360" cy="58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762200" y="1441440"/>
              <a:ext cx="5510160" cy="40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Freeform 8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54" name="Freeform 8" descr=""/>
            <p:cNvPicPr/>
            <p:nvPr/>
          </p:nvPicPr>
          <p:blipFill>
            <a:blip r:embed="rId7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F3C8-229C-4C0C-A990-724230EDB759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Freeform 6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98" name="Freeform 6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Freeform 7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101" name="Freeform 7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Freeform 8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104" name="Freeform 8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Freeform 9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107" name="Freeform 9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Freeform 10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110" name="Freeform 10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Freeform 11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113" name="Freeform 11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Freeform 12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116" name="Freeform 12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Freeform 13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119" name="Freeform 13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068-43EF-4DFE-9DA9-BDCFC6616C3D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Freeform 6"/>
          <p:cNvGrpSpPr/>
          <p:nvPr/>
        </p:nvGrpSpPr>
        <p:grpSpPr>
          <a:xfrm>
            <a:off x="7229520" y="-36360"/>
            <a:ext cx="1956960" cy="6059160"/>
            <a:chOff x="7229520" y="-36360"/>
            <a:chExt cx="1956960" cy="6059160"/>
          </a:xfrm>
        </p:grpSpPr>
        <p:pic>
          <p:nvPicPr>
            <p:cNvPr id="163" name="Freeform 6" descr=""/>
            <p:cNvPicPr/>
            <p:nvPr/>
          </p:nvPicPr>
          <p:blipFill>
            <a:blip r:embed="rId3"/>
            <a:stretch/>
          </p:blipFill>
          <p:spPr>
            <a:xfrm>
              <a:off x="7235640" y="-36360"/>
              <a:ext cx="1950840" cy="60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229520" y="4680"/>
              <a:ext cx="1920960" cy="59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Freeform 7"/>
          <p:cNvGrpSpPr/>
          <p:nvPr/>
        </p:nvGrpSpPr>
        <p:grpSpPr>
          <a:xfrm>
            <a:off x="676440" y="5370480"/>
            <a:ext cx="8528040" cy="1523520"/>
            <a:chOff x="676440" y="5370480"/>
            <a:chExt cx="8528040" cy="1523520"/>
          </a:xfrm>
        </p:grpSpPr>
        <p:pic>
          <p:nvPicPr>
            <p:cNvPr id="166" name="Freeform 7" descr=""/>
            <p:cNvPicPr/>
            <p:nvPr/>
          </p:nvPicPr>
          <p:blipFill>
            <a:blip r:embed="rId4"/>
            <a:stretch/>
          </p:blipFill>
          <p:spPr>
            <a:xfrm>
              <a:off x="676440" y="5378040"/>
              <a:ext cx="852804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3040" y="5370480"/>
              <a:ext cx="84009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Freeform 8"/>
          <p:cNvGrpSpPr/>
          <p:nvPr/>
        </p:nvGrpSpPr>
        <p:grpSpPr>
          <a:xfrm>
            <a:off x="-42840" y="609480"/>
            <a:ext cx="1554120" cy="6334200"/>
            <a:chOff x="-42840" y="609480"/>
            <a:chExt cx="1554120" cy="6334200"/>
          </a:xfrm>
        </p:grpSpPr>
        <p:pic>
          <p:nvPicPr>
            <p:cNvPr id="169" name="Freeform 8" descr=""/>
            <p:cNvPicPr/>
            <p:nvPr/>
          </p:nvPicPr>
          <p:blipFill>
            <a:blip r:embed="rId5"/>
            <a:stretch/>
          </p:blipFill>
          <p:spPr>
            <a:xfrm>
              <a:off x="-42840" y="609480"/>
              <a:ext cx="1282680" cy="633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-7200" y="649440"/>
              <a:ext cx="1518480" cy="62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Freeform 9"/>
          <p:cNvGrpSpPr/>
          <p:nvPr/>
        </p:nvGrpSpPr>
        <p:grpSpPr>
          <a:xfrm>
            <a:off x="-60480" y="-30240"/>
            <a:ext cx="7839360" cy="1494000"/>
            <a:chOff x="-60480" y="-30240"/>
            <a:chExt cx="7839360" cy="1494000"/>
          </a:xfrm>
        </p:grpSpPr>
        <p:pic>
          <p:nvPicPr>
            <p:cNvPr id="172" name="Freeform 9" descr=""/>
            <p:cNvPicPr/>
            <p:nvPr/>
          </p:nvPicPr>
          <p:blipFill>
            <a:blip r:embed="rId6"/>
            <a:stretch/>
          </p:blipFill>
          <p:spPr>
            <a:xfrm>
              <a:off x="-60480" y="-30240"/>
              <a:ext cx="7839360" cy="13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480" y="0"/>
              <a:ext cx="7708680" cy="14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EBDA-2EC3-44BA-88CA-226151B7FCD5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Freeform 7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16" name="Freeform 7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Freeform 8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19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Freeform 9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222" name="Freeform 9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Freeform 10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25" name="Freeform 10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Freeform 11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228" name="Freeform 11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EEF-32AF-4132-9CC2-447B339C2375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Freeform 9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272" name="Freeform 9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Freeform 10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275" name="Freeform 10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Freeform 11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278" name="Freeform 11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DD46-3A35-4E56-B3E3-A530D6A1859D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Freeform 5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22" name="Freeform 5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Freeform 6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25" name="Freeform 6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Freeform 7"/>
          <p:cNvGrpSpPr/>
          <p:nvPr/>
        </p:nvGrpSpPr>
        <p:grpSpPr>
          <a:xfrm>
            <a:off x="-42840" y="5132520"/>
            <a:ext cx="927000" cy="1798560"/>
            <a:chOff x="-42840" y="5132520"/>
            <a:chExt cx="927000" cy="1798560"/>
          </a:xfrm>
        </p:grpSpPr>
        <p:pic>
          <p:nvPicPr>
            <p:cNvPr id="328" name="Freeform 7" descr=""/>
            <p:cNvPicPr/>
            <p:nvPr/>
          </p:nvPicPr>
          <p:blipFill>
            <a:blip r:embed="rId5"/>
            <a:stretch/>
          </p:blipFill>
          <p:spPr>
            <a:xfrm>
              <a:off x="-42840" y="5132520"/>
              <a:ext cx="927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 rot="10800000">
              <a:off x="0" y="5173560"/>
              <a:ext cx="851040" cy="16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Freeform 8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31" name="Freeform 8" descr=""/>
            <p:cNvPicPr/>
            <p:nvPr/>
          </p:nvPicPr>
          <p:blipFill>
            <a:blip r:embed="rId6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Freeform 9"/>
          <p:cNvGrpSpPr/>
          <p:nvPr/>
        </p:nvGrpSpPr>
        <p:grpSpPr>
          <a:xfrm>
            <a:off x="407880" y="5126040"/>
            <a:ext cx="8796600" cy="1774800"/>
            <a:chOff x="407880" y="5126040"/>
            <a:chExt cx="8796600" cy="1774800"/>
          </a:xfrm>
        </p:grpSpPr>
        <p:pic>
          <p:nvPicPr>
            <p:cNvPr id="334" name="Freeform 9" descr=""/>
            <p:cNvPicPr/>
            <p:nvPr/>
          </p:nvPicPr>
          <p:blipFill>
            <a:blip r:embed="rId7"/>
            <a:stretch/>
          </p:blipFill>
          <p:spPr>
            <a:xfrm>
              <a:off x="407880" y="5126040"/>
              <a:ext cx="8796600" cy="17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76280" y="5237280"/>
              <a:ext cx="86677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3E4-B5E3-4628-98D3-49BFBBB6F63C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Freeform 4"/>
          <p:cNvGrpSpPr/>
          <p:nvPr/>
        </p:nvGrpSpPr>
        <p:grpSpPr>
          <a:xfrm>
            <a:off x="-36360" y="-30240"/>
            <a:ext cx="7869240" cy="841320"/>
            <a:chOff x="-36360" y="-30240"/>
            <a:chExt cx="7869240" cy="841320"/>
          </a:xfrm>
        </p:grpSpPr>
        <p:pic>
          <p:nvPicPr>
            <p:cNvPr id="378" name="Freeform 4" descr=""/>
            <p:cNvPicPr/>
            <p:nvPr/>
          </p:nvPicPr>
          <p:blipFill>
            <a:blip r:embed="rId3"/>
            <a:stretch/>
          </p:blipFill>
          <p:spPr>
            <a:xfrm>
              <a:off x="-36360" y="-30240"/>
              <a:ext cx="7869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0240" y="0"/>
              <a:ext cx="774540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Freeform 5"/>
          <p:cNvGrpSpPr/>
          <p:nvPr/>
        </p:nvGrpSpPr>
        <p:grpSpPr>
          <a:xfrm>
            <a:off x="-42840" y="268200"/>
            <a:ext cx="987480" cy="1560600"/>
            <a:chOff x="-42840" y="268200"/>
            <a:chExt cx="987480" cy="1560600"/>
          </a:xfrm>
        </p:grpSpPr>
        <p:pic>
          <p:nvPicPr>
            <p:cNvPr id="381" name="Freeform 5" descr=""/>
            <p:cNvPicPr/>
            <p:nvPr/>
          </p:nvPicPr>
          <p:blipFill>
            <a:blip r:embed="rId4"/>
            <a:stretch/>
          </p:blipFill>
          <p:spPr>
            <a:xfrm>
              <a:off x="-42840" y="268200"/>
              <a:ext cx="987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0" y="312840"/>
              <a:ext cx="9097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Freeform 7"/>
          <p:cNvGrpSpPr/>
          <p:nvPr/>
        </p:nvGrpSpPr>
        <p:grpSpPr>
          <a:xfrm>
            <a:off x="7711920" y="-36360"/>
            <a:ext cx="1504800" cy="1785960"/>
            <a:chOff x="7711920" y="-36360"/>
            <a:chExt cx="1504800" cy="1785960"/>
          </a:xfrm>
        </p:grpSpPr>
        <p:pic>
          <p:nvPicPr>
            <p:cNvPr id="384" name="Freeform 7" descr=""/>
            <p:cNvPicPr/>
            <p:nvPr/>
          </p:nvPicPr>
          <p:blipFill>
            <a:blip r:embed="rId5"/>
            <a:stretch/>
          </p:blipFill>
          <p:spPr>
            <a:xfrm>
              <a:off x="7717680" y="-36360"/>
              <a:ext cx="1499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711920" y="-3240"/>
              <a:ext cx="1444680" cy="16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2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3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4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80BF-AECA-4405-A088-B3A78ED0E7FD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Freeform 7"/>
          <p:cNvGrpSpPr/>
          <p:nvPr/>
        </p:nvGrpSpPr>
        <p:grpSpPr>
          <a:xfrm>
            <a:off x="6480" y="-30240"/>
            <a:ext cx="3060720" cy="828720"/>
            <a:chOff x="6480" y="-30240"/>
            <a:chExt cx="3060720" cy="828720"/>
          </a:xfrm>
        </p:grpSpPr>
        <p:pic>
          <p:nvPicPr>
            <p:cNvPr id="428" name="Freeform 7" descr=""/>
            <p:cNvPicPr/>
            <p:nvPr/>
          </p:nvPicPr>
          <p:blipFill>
            <a:blip r:embed="rId3"/>
            <a:stretch/>
          </p:blipFill>
          <p:spPr>
            <a:xfrm>
              <a:off x="6480" y="-30240"/>
              <a:ext cx="3060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74520" y="0"/>
              <a:ext cx="293076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Freeform 8"/>
          <p:cNvGrpSpPr/>
          <p:nvPr/>
        </p:nvGrpSpPr>
        <p:grpSpPr>
          <a:xfrm>
            <a:off x="-42840" y="103320"/>
            <a:ext cx="834840" cy="2079360"/>
            <a:chOff x="-42840" y="103320"/>
            <a:chExt cx="834840" cy="2079360"/>
          </a:xfrm>
        </p:grpSpPr>
        <p:pic>
          <p:nvPicPr>
            <p:cNvPr id="431" name="Freeform 8" descr=""/>
            <p:cNvPicPr/>
            <p:nvPr/>
          </p:nvPicPr>
          <p:blipFill>
            <a:blip r:embed="rId4"/>
            <a:stretch/>
          </p:blipFill>
          <p:spPr>
            <a:xfrm>
              <a:off x="-42840" y="103320"/>
              <a:ext cx="760680" cy="20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-3600" y="146160"/>
              <a:ext cx="79560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Freeform 9"/>
          <p:cNvGrpSpPr/>
          <p:nvPr/>
        </p:nvGrpSpPr>
        <p:grpSpPr>
          <a:xfrm>
            <a:off x="6162840" y="-42840"/>
            <a:ext cx="2901960" cy="774720"/>
            <a:chOff x="6162840" y="-42840"/>
            <a:chExt cx="2901960" cy="774720"/>
          </a:xfrm>
        </p:grpSpPr>
        <p:pic>
          <p:nvPicPr>
            <p:cNvPr id="434" name="Freeform 9" descr=""/>
            <p:cNvPicPr/>
            <p:nvPr/>
          </p:nvPicPr>
          <p:blipFill>
            <a:blip r:embed="rId5"/>
            <a:stretch/>
          </p:blipFill>
          <p:spPr>
            <a:xfrm>
              <a:off x="6162840" y="-42840"/>
              <a:ext cx="29019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6251400" y="0"/>
              <a:ext cx="27752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Freeform 10"/>
          <p:cNvGrpSpPr/>
          <p:nvPr/>
        </p:nvGrpSpPr>
        <p:grpSpPr>
          <a:xfrm>
            <a:off x="8339040" y="79200"/>
            <a:ext cx="840960" cy="2073600"/>
            <a:chOff x="8339040" y="79200"/>
            <a:chExt cx="840960" cy="2073600"/>
          </a:xfrm>
        </p:grpSpPr>
        <p:pic>
          <p:nvPicPr>
            <p:cNvPr id="437" name="Freeform 10" descr=""/>
            <p:cNvPicPr/>
            <p:nvPr/>
          </p:nvPicPr>
          <p:blipFill>
            <a:blip r:embed="rId6"/>
            <a:stretch/>
          </p:blipFill>
          <p:spPr>
            <a:xfrm>
              <a:off x="8372520" y="79200"/>
              <a:ext cx="807480" cy="207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8339040" y="119160"/>
              <a:ext cx="80640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Freeform 11"/>
          <p:cNvGrpSpPr/>
          <p:nvPr/>
        </p:nvGrpSpPr>
        <p:grpSpPr>
          <a:xfrm>
            <a:off x="8418600" y="4784760"/>
            <a:ext cx="761400" cy="1933560"/>
            <a:chOff x="8418600" y="4784760"/>
            <a:chExt cx="761400" cy="1933560"/>
          </a:xfrm>
        </p:grpSpPr>
        <p:pic>
          <p:nvPicPr>
            <p:cNvPr id="440" name="Freeform 11" descr=""/>
            <p:cNvPicPr/>
            <p:nvPr/>
          </p:nvPicPr>
          <p:blipFill>
            <a:blip r:embed="rId7"/>
            <a:stretch/>
          </p:blipFill>
          <p:spPr>
            <a:xfrm>
              <a:off x="8432640" y="4784760"/>
              <a:ext cx="74736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10800000">
              <a:off x="8418600" y="4827600"/>
              <a:ext cx="7257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Freeform 12"/>
          <p:cNvGrpSpPr/>
          <p:nvPr/>
        </p:nvGrpSpPr>
        <p:grpSpPr>
          <a:xfrm>
            <a:off x="5894280" y="5962320"/>
            <a:ext cx="3157560" cy="919080"/>
            <a:chOff x="5894280" y="5962320"/>
            <a:chExt cx="3157560" cy="919080"/>
          </a:xfrm>
        </p:grpSpPr>
        <p:pic>
          <p:nvPicPr>
            <p:cNvPr id="443" name="Freeform 12" descr=""/>
            <p:cNvPicPr/>
            <p:nvPr/>
          </p:nvPicPr>
          <p:blipFill>
            <a:blip r:embed="rId8"/>
            <a:stretch/>
          </p:blipFill>
          <p:spPr>
            <a:xfrm>
              <a:off x="5894280" y="5994720"/>
              <a:ext cx="315756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 rot="10800000">
              <a:off x="5959440" y="5962320"/>
              <a:ext cx="303048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Freeform 13"/>
          <p:cNvGrpSpPr/>
          <p:nvPr/>
        </p:nvGrpSpPr>
        <p:grpSpPr>
          <a:xfrm>
            <a:off x="171360" y="6053040"/>
            <a:ext cx="3016440" cy="841320"/>
            <a:chOff x="171360" y="6053040"/>
            <a:chExt cx="3016440" cy="841320"/>
          </a:xfrm>
        </p:grpSpPr>
        <p:pic>
          <p:nvPicPr>
            <p:cNvPr id="446" name="Freeform 13" descr=""/>
            <p:cNvPicPr/>
            <p:nvPr/>
          </p:nvPicPr>
          <p:blipFill>
            <a:blip r:embed="rId9"/>
            <a:stretch/>
          </p:blipFill>
          <p:spPr>
            <a:xfrm>
              <a:off x="171360" y="6053040"/>
              <a:ext cx="30164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 rot="10800000">
              <a:off x="236520" y="6066000"/>
              <a:ext cx="28908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Freeform 14"/>
          <p:cNvGrpSpPr/>
          <p:nvPr/>
        </p:nvGrpSpPr>
        <p:grpSpPr>
          <a:xfrm>
            <a:off x="-96840" y="4737240"/>
            <a:ext cx="748800" cy="2193840"/>
            <a:chOff x="-96840" y="4737240"/>
            <a:chExt cx="748800" cy="2193840"/>
          </a:xfrm>
        </p:grpSpPr>
        <p:pic>
          <p:nvPicPr>
            <p:cNvPr id="449" name="Freeform 14" descr=""/>
            <p:cNvPicPr/>
            <p:nvPr/>
          </p:nvPicPr>
          <p:blipFill>
            <a:blip r:embed="rId10"/>
            <a:stretch/>
          </p:blipFill>
          <p:spPr>
            <a:xfrm>
              <a:off x="-96840" y="4737240"/>
              <a:ext cx="699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 rot="10800000">
              <a:off x="-6120" y="4780080"/>
              <a:ext cx="658440" cy="20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5"/>
          </p:nvPr>
        </p:nvSpPr>
        <p:spPr>
          <a:xfrm>
            <a:off x="45684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6"/>
          </p:nvPr>
        </p:nvSpPr>
        <p:spPr>
          <a:xfrm>
            <a:off x="3126960" y="646380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46380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B87E-460C-42BB-9B55-8518080F2805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1"/>
          <a:stretch/>
        </p:blipFill>
        <p:spPr>
          <a:xfrm>
            <a:off x="682560" y="1901880"/>
            <a:ext cx="7785000" cy="6760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2857680"/>
            <a:ext cx="64008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Тема:  «Слова-помощники»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Шишкоедова Н.Р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Г.Нефтеюганс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f5600"/>
                </a:solidFill>
                <a:latin typeface="Franklin Gothic Book"/>
              </a:rPr>
              <a:t>МБОУ «НОШ№5»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f5600"/>
                </a:solidFill>
                <a:latin typeface="Franklin Gothic Book"/>
              </a:rPr>
              <a:t>2010г.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1523880" y="1071720"/>
          <a:ext cx="6096240" cy="1000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0000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. Актуализация знани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1523880" y="2143080"/>
          <a:ext cx="6096240" cy="2786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86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списать предложение, исправить ошибк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чки Кати удочк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по эталону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1"/>
          <p:cNvSpPr/>
          <p:nvPr/>
        </p:nvSpPr>
        <p:spPr>
          <a:xfrm>
            <a:off x="714240" y="100008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дочки 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ти  удочки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ая соединительная линия 6"/>
          <p:cNvSpPr/>
          <p:nvPr/>
        </p:nvSpPr>
        <p:spPr>
          <a:xfrm flipH="1">
            <a:off x="785880" y="928800"/>
            <a:ext cx="285840" cy="7858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ая соединительная линия 8"/>
          <p:cNvSpPr/>
          <p:nvPr/>
        </p:nvSpPr>
        <p:spPr>
          <a:xfrm>
            <a:off x="1071720" y="928800"/>
            <a:ext cx="142560" cy="8571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ая соединительная линия 10"/>
          <p:cNvSpPr/>
          <p:nvPr/>
        </p:nvSpPr>
        <p:spPr>
          <a:xfrm>
            <a:off x="1357200" y="1714680"/>
            <a:ext cx="2858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ая соединительная линия 12"/>
          <p:cNvSpPr/>
          <p:nvPr/>
        </p:nvSpPr>
        <p:spPr>
          <a:xfrm>
            <a:off x="3357720" y="1714680"/>
            <a:ext cx="21420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ая соединительная линия 14"/>
          <p:cNvSpPr/>
          <p:nvPr/>
        </p:nvSpPr>
        <p:spPr>
          <a:xfrm>
            <a:off x="5000760" y="1714680"/>
            <a:ext cx="28548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1523880" y="1214280"/>
          <a:ext cx="6096240" cy="1471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471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.Создание проблемной ситуации и фиксация затруднения в индивидуальной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523880" y="3182760"/>
          <a:ext cx="6096240" cy="2803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ыделить в треугольник слова-помощники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тел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окно,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)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жал (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</a:t>
                      </a:r>
                      <a:r>
                        <a:rPr b="0" i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дом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знать как    узнавать в речи и   писать слова-помощники. 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По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бежал (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по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)дорожке,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лез (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)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дерев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566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457200" y="8568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Представители групп выходят и показывают результаты работы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7" name=""/>
          <p:cNvGraphicFramePr/>
          <p:nvPr/>
        </p:nvGraphicFramePr>
        <p:xfrm>
          <a:off x="1523880" y="1285920"/>
          <a:ext cx="7263000" cy="4871880"/>
        </p:xfrm>
        <a:graphic>
          <a:graphicData uri="http://schemas.openxmlformats.org/drawingml/2006/table">
            <a:tbl>
              <a:tblPr/>
              <a:tblGrid>
                <a:gridCol w="7263000"/>
              </a:tblGrid>
              <a:tr h="487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слова-помощника вставить новое слов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вставляется слово, то пишем с пробело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Прямоугольник 1"/>
          <p:cNvSpPr/>
          <p:nvPr/>
        </p:nvSpPr>
        <p:spPr>
          <a:xfrm>
            <a:off x="2357280" y="785880"/>
            <a:ext cx="28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мят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3880" y="1928880"/>
          <a:ext cx="6096240" cy="2747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747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з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</a:t>
                      </a: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дерев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Прямая соединительная линия 4"/>
          <p:cNvSpPr/>
          <p:nvPr/>
        </p:nvSpPr>
        <p:spPr>
          <a:xfrm>
            <a:off x="3000240" y="2357280"/>
            <a:ext cx="642960" cy="7146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6"/>
          <p:cNvSpPr/>
          <p:nvPr/>
        </p:nvSpPr>
        <p:spPr>
          <a:xfrm flipH="1">
            <a:off x="3714480" y="2571120"/>
            <a:ext cx="92844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ая соединительная линия 8"/>
          <p:cNvSpPr/>
          <p:nvPr/>
        </p:nvSpPr>
        <p:spPr>
          <a:xfrm>
            <a:off x="3429000" y="3500280"/>
            <a:ext cx="785880" cy="18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Записать только слова-помощники вместе с теми словами, перед которыми они стоят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читель диктует: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Вороны часто ночуют в парках на деревьях. Глухари ночуют в лесах под снего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ети записывают с комментированием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5" name=""/>
          <p:cNvGraphicFramePr/>
          <p:nvPr/>
        </p:nvGraphicFramePr>
        <p:xfrm>
          <a:off x="1523880" y="1214280"/>
          <a:ext cx="6977160" cy="3462480"/>
        </p:xfrm>
        <a:graphic>
          <a:graphicData uri="http://schemas.openxmlformats.org/drawingml/2006/table">
            <a:tbl>
              <a:tblPr/>
              <a:tblGrid>
                <a:gridCol w="6977160"/>
              </a:tblGrid>
              <a:tr h="34624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 парках, на    деревьях,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 лесах, под   снегом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Прямая соединительная линия 3"/>
          <p:cNvSpPr/>
          <p:nvPr/>
        </p:nvSpPr>
        <p:spPr>
          <a:xfrm flipH="1">
            <a:off x="1571400" y="2000160"/>
            <a:ext cx="285480" cy="5716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ая соединительная линия 5"/>
          <p:cNvSpPr/>
          <p:nvPr/>
        </p:nvSpPr>
        <p:spPr>
          <a:xfrm>
            <a:off x="1857240" y="2071800"/>
            <a:ext cx="21456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7"/>
          <p:cNvSpPr/>
          <p:nvPr/>
        </p:nvSpPr>
        <p:spPr>
          <a:xfrm>
            <a:off x="1571760" y="257184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9"/>
          <p:cNvSpPr/>
          <p:nvPr/>
        </p:nvSpPr>
        <p:spPr>
          <a:xfrm>
            <a:off x="2071800" y="271476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ая соединительная линия 11"/>
          <p:cNvSpPr/>
          <p:nvPr/>
        </p:nvSpPr>
        <p:spPr>
          <a:xfrm flipH="1">
            <a:off x="4357440" y="1928880"/>
            <a:ext cx="500040" cy="57132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ая соединительная линия 13"/>
          <p:cNvSpPr/>
          <p:nvPr/>
        </p:nvSpPr>
        <p:spPr>
          <a:xfrm>
            <a:off x="4857120" y="1928880"/>
            <a:ext cx="214200" cy="6429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15"/>
          <p:cNvSpPr/>
          <p:nvPr/>
        </p:nvSpPr>
        <p:spPr>
          <a:xfrm>
            <a:off x="4357800" y="2571840"/>
            <a:ext cx="64296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17"/>
          <p:cNvSpPr/>
          <p:nvPr/>
        </p:nvSpPr>
        <p:spPr>
          <a:xfrm>
            <a:off x="5214960" y="2643120"/>
            <a:ext cx="428760" cy="18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9"/>
          <p:cNvSpPr/>
          <p:nvPr/>
        </p:nvSpPr>
        <p:spPr>
          <a:xfrm flipH="1">
            <a:off x="1571400" y="2857680"/>
            <a:ext cx="214200" cy="5000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21"/>
          <p:cNvSpPr/>
          <p:nvPr/>
        </p:nvSpPr>
        <p:spPr>
          <a:xfrm>
            <a:off x="1785240" y="2786040"/>
            <a:ext cx="142920" cy="57168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23"/>
          <p:cNvSpPr/>
          <p:nvPr/>
        </p:nvSpPr>
        <p:spPr>
          <a:xfrm>
            <a:off x="1571760" y="3429000"/>
            <a:ext cx="35712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25"/>
          <p:cNvSpPr/>
          <p:nvPr/>
        </p:nvSpPr>
        <p:spPr>
          <a:xfrm>
            <a:off x="2000160" y="3571920"/>
            <a:ext cx="35712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27"/>
          <p:cNvSpPr/>
          <p:nvPr/>
        </p:nvSpPr>
        <p:spPr>
          <a:xfrm flipH="1">
            <a:off x="3714480" y="2643120"/>
            <a:ext cx="500040" cy="64296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29"/>
          <p:cNvSpPr/>
          <p:nvPr/>
        </p:nvSpPr>
        <p:spPr>
          <a:xfrm>
            <a:off x="4214160" y="2643120"/>
            <a:ext cx="500040" cy="71460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31"/>
          <p:cNvSpPr/>
          <p:nvPr/>
        </p:nvSpPr>
        <p:spPr>
          <a:xfrm>
            <a:off x="3786120" y="3429000"/>
            <a:ext cx="78588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33"/>
          <p:cNvSpPr/>
          <p:nvPr/>
        </p:nvSpPr>
        <p:spPr>
          <a:xfrm>
            <a:off x="4786200" y="3571920"/>
            <a:ext cx="500040" cy="1440"/>
          </a:xfrm>
          <a:prstGeom prst="line">
            <a:avLst/>
          </a:prstGeom>
          <a:ln w="324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ченик, имеющий представление о словах-помощниках, умеющий выделять их в речи  и соблюдать правила письма  слов-помощников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ставь пропущенные слова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Однажды дядя Фёдор, кот и Шарик пошли лес собирать грибы. Дядя Фёдор деревом увидел гриб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ставь пропущенные слова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Franklin Gothic Book"/>
              </a:rPr>
              <a:t>Плывёт по реке, сделал … бумаги, вышел … дома, сверкает …солнц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знать слово-помощник и правильно записать: (в)бежал (в)дом, (на)рисовал (на)листе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ую задачу мы перед собой ставили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 следует писать слова-помощники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очему эти слова следует писать  отдельно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мы выбирали такие слова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Для чего писали самостоятельную работу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 чём говорит отсутствие ошибок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 чём говорит наличие ошибок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ую задачу перед собой поставите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ак будете решать эту задачу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формировать у обучающихся представление  о словах-помощниках и их правописани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Формировать способность к анализу, синтезу, сравнению, обобщению, классификаци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Формировать навыки самопроверки и самоконтроля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пособствовать развитию навыков работы в  парах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Содействовать  предупреждению утомляемости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рок открытия нового знания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Мотивация (самоопределение)  к учебной деятельност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Этап  актуализации и фиксации индивидуального затруднения в пробном действи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остановка проблемы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остроение проекта выхода из затруднений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Реализация построенного проекта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Первичное закрепление с проговариваем во внешней речи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Самостоятельная работа с проверкой по эталону.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Franklin Gothic Book"/>
              </a:rPr>
              <a:t>Рефлексия учебной деятельности на уроке.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станьте ровно и красиво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озвенел уже звонок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ядьте тихо и неслышно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 скорей начнем урок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Будем мы писать, трудиться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едь заданья нелегк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Нам, друзья, нельзя лениться,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Так как мы – ученик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93560" y="225360"/>
            <a:ext cx="8242560" cy="158436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. На  карточках дети  делят слова на группы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у, малыши,   под,   с, мячик, они, играют, дерево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(слова-помощники, слова-названия, слова-указатели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оверка: -как  разделили слова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Заголовок 1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12938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Фиксация на доске вариантов записи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(или вариантов классификации)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 я разделила так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000080" y="3500280"/>
          <a:ext cx="6095880" cy="12798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у, под,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алыши, мячик, играю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Правописание  слов-помощников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4:42:32Z</dcterms:created>
  <dc:creator>user</dc:creator>
  <dc:description/>
  <dc:language>en-US</dc:language>
  <cp:lastModifiedBy>comp2</cp:lastModifiedBy>
  <dcterms:modified xsi:type="dcterms:W3CDTF">2012-10-23T11:46:53Z</dcterms:modified>
  <cp:revision>41</cp:revision>
  <dc:subject/>
  <dc:title>Защита конспекта урока</dc:title>
</cp:coreProperties>
</file>