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3DF5-BBC7-42EC-B821-CC3C0FCD1F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2296-3ADE-4B19-A32A-8198F2EB13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5C3-A305-4514-ACE9-32BF79C6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C16-513A-4259-B992-731327D1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981BF-FDDF-45C0-BDB8-15B424A3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DDCA7-8E58-49EA-9080-424B9929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A8537-0708-456D-AAE9-F8AF736B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98959-2CFB-4B1D-8418-D306CA75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2C4C4-0753-4FF5-BFC0-9072D575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DD296-5A32-4055-8A3B-144436EF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300EA-2F0D-4018-8D75-91990F4F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51BED-C90A-43D4-BDF3-C3EE38FD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29BDA-7130-4CC3-973C-6CA389F2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5F6D3-55F2-43B6-B79B-D71A2E6A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C27A-760F-4B10-9485-CD713F94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9C653-1180-480D-8A4E-3AFF3446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DD95F-3E47-4077-806F-5F652798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21632-E0A5-46AD-B3BE-A2A8B591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BAAF7-7CF2-497F-9C45-217B4A61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D69B1-728B-4CCD-9488-7A4918A6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7D24C-7D7C-4EE5-8427-351AB7E6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CE8E1-E945-455C-B059-07EADACF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6B63F-DA58-4388-A9F6-70E49DB8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9049E-F04A-4078-ADC0-2E922403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B7769-FEB8-49D9-8D89-D8C94D84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AB6-B662-43B8-AB3C-C4C4BB3E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6E13A-A806-4076-B0E9-17C86ECD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5BF7-E08E-428B-B84B-E3DE83C9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79B1-6B6F-458E-A95E-EABE205C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4AEB-3913-451A-B6C5-209554ED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7339-A961-4146-B42C-E8841A6C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1B71-96EE-43B7-9B30-92B8A3B7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D171-42FE-4363-BF89-581CC07C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296F-2FA6-469C-9711-450EC0B1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5E9-A795-4667-B484-82A8923B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8344-77F8-4EAD-B748-C2CACCC9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061E-C630-495A-9DDD-9392D4E6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29E2-522E-4A97-B029-E7D074D0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9581-3154-4DEA-A81C-E30E3D88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93FF-EDA5-4739-BEB8-6FCE0A51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73539-6AA5-4C0E-A141-900F68C6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C7672-68E6-4757-814D-D63C2D4E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BC2DE-FA62-4079-821D-BCBEABE9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16753-B43A-49C7-9CDB-4E907FF5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E0FC9-80D5-4A47-BFE6-92C29525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598-5E2F-4DB4-8498-39027244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0DD83-14CF-4E53-B2A9-9FDDAA38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1F53B-0CA0-4146-89CD-29430B9E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157E-0A1B-4E4D-81FC-AF38FD0F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109BC-A053-4351-B50C-DBFC44D3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874CC-709D-42C7-9353-169BBE63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C3D07-0538-4BDE-A10D-77086162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DD031-FA36-469A-9B2F-B98A92C4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422F9-09CD-45EA-925B-315C719B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B103A-EF03-49EB-BD40-04F4F66F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CB05C-9353-40E6-8425-52543701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021-1E71-493D-B5BC-65E8EFC7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CD30D-9B49-45B1-B59A-C06E8ED0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20304-9CF6-4D21-AD1E-3E8FE289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BA2D2-F045-4B62-B5A6-486B5E7D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CF603-2DAD-4BC2-A7C0-69EE80B6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2CC19-6F13-4850-8839-7AEA1C2D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7B08B-45EF-4A41-B65E-3096D72F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4886F-F73A-4059-85CB-C80CD1DB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A3F0B-9C1E-46C3-9301-F1EAE57C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2C9BC-7089-4576-9B94-53A1F7F8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AD823-CA0B-4BE8-B0B0-ED882658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01E1-58C9-43E7-AC0D-5BF30BC2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8C455-1F63-4DBE-A7A2-7F0533B7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3C210-458E-4631-BC73-D59069E2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3ED26-EA92-4E42-A631-6A159221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7A4C0-B7B1-47EF-A12F-45765993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43FCA-18CE-426B-A802-2B6C4A37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4D213-3176-4C5C-BB2D-9C0439F4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AF525-9070-4083-8F7E-1A075C46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12D16-1726-4664-8AE1-01DAD0D4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F8E71-0AAE-41A5-AC56-3A7B42C2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DF3DE-3FB3-4442-9DFA-1A17480B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C780-0AD8-43D1-97E9-8A56326B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5EE92-7C0C-4FB8-B3C7-E7CDDAD0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202F7-064B-4B99-B096-4188C333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F66C2-8001-4887-81CC-37A54531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BBB36-B0E1-4F0F-938A-3336D1B6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14643-C114-47C1-B7B9-AFA61E9F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476F3-DA5E-4A85-A6F9-DD2EEB05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6C613-F063-410F-8F2C-BD589893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E427C-182A-4FAE-9DDB-5A455EBF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56A73-8A2D-41E1-BAD7-C248FE2B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0E7D3-97C5-4493-A329-73570A76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D8E-1474-47DC-A1E5-3FC3DCB4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4DDD8-2EBF-461F-AF9F-48074360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33BCD-DB9C-44C3-BB4E-DD132C0B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71D34-C521-4B73-AF79-A1D3C07C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3981C-1B16-4357-A8BF-5E987674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CEC45-3CD5-46E8-A53C-517AC779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C9384-B883-4743-9C71-29CAEA99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5848D-2899-4FB9-979B-0A78ABB5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6FA5E-F8CE-4501-85B7-C08A2264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68BCA-F64C-4DCD-9D0C-17097497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22A3B-21FC-415A-80A9-D9EC23BC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D38-5464-4024-9A78-D7832C7C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64C96-2BF6-4C9F-AD90-D1EA3A1E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39FDE-1413-4ECB-90D5-0847E153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7114A-2256-4BE2-8B92-F65D599B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2355D-16AA-4B64-974F-CB646F16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E9CFD-8EE6-42F9-B624-B2E057D9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D82D9-7F52-4DAC-8E37-2B739E7F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94668-4B85-4B58-A08A-3A0A1947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229E7-0AE2-44C4-828C-A8866538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F466A-F4A2-45A9-9BCB-C828DF5A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EAF79-3870-45A3-A69F-606B230B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F466-FA5B-4D9F-B78B-C45CA3EE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A20BE-83EC-41AF-89FE-15EECB05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43EAB-B02A-4CCD-9FCE-55B0CF1F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AF6EF-172B-4703-B61F-9E2F70FB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B5E52-76A5-41A4-BBB6-48BEC734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71525-BAB4-4DE7-BC35-3214BE78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4D972-6000-4397-9756-235A4DCE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B8927-152D-41FB-8260-B3D8F9AC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C5B3C-C3CF-4456-9EEF-91F824C4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9D752-2230-454D-9B3A-BB0AB6BF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6CC58-9640-4F53-AB0C-55C6F9C3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62DB-A48F-44F2-BC23-35A26FA46379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Freeform 7"/>
          <p:cNvGrpSpPr/>
          <p:nvPr/>
        </p:nvGrpSpPr>
        <p:grpSpPr>
          <a:xfrm>
            <a:off x="7229520" y="-36360"/>
            <a:ext cx="1956960" cy="6059160"/>
            <a:chOff x="7229520" y="-36360"/>
            <a:chExt cx="1956960" cy="6059160"/>
          </a:xfrm>
        </p:grpSpPr>
        <p:pic>
          <p:nvPicPr>
            <p:cNvPr id="493" name="Freeform 7" descr=""/>
            <p:cNvPicPr/>
            <p:nvPr/>
          </p:nvPicPr>
          <p:blipFill>
            <a:blip r:embed="rId3"/>
            <a:stretch/>
          </p:blipFill>
          <p:spPr>
            <a:xfrm>
              <a:off x="7235640" y="-36360"/>
              <a:ext cx="1950840" cy="60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7229520" y="4680"/>
              <a:ext cx="1920960" cy="59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Freeform 8"/>
          <p:cNvGrpSpPr/>
          <p:nvPr/>
        </p:nvGrpSpPr>
        <p:grpSpPr>
          <a:xfrm>
            <a:off x="676440" y="5370480"/>
            <a:ext cx="8528040" cy="1523520"/>
            <a:chOff x="676440" y="5370480"/>
            <a:chExt cx="8528040" cy="1523520"/>
          </a:xfrm>
        </p:grpSpPr>
        <p:pic>
          <p:nvPicPr>
            <p:cNvPr id="496" name="Freeform 8" descr=""/>
            <p:cNvPicPr/>
            <p:nvPr/>
          </p:nvPicPr>
          <p:blipFill>
            <a:blip r:embed="rId4"/>
            <a:stretch/>
          </p:blipFill>
          <p:spPr>
            <a:xfrm>
              <a:off x="676440" y="5378040"/>
              <a:ext cx="8528040" cy="15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743040" y="5370480"/>
              <a:ext cx="84009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Freeform 9"/>
          <p:cNvGrpSpPr/>
          <p:nvPr/>
        </p:nvGrpSpPr>
        <p:grpSpPr>
          <a:xfrm>
            <a:off x="-42840" y="609480"/>
            <a:ext cx="1554120" cy="6334200"/>
            <a:chOff x="-42840" y="609480"/>
            <a:chExt cx="1554120" cy="6334200"/>
          </a:xfrm>
        </p:grpSpPr>
        <p:pic>
          <p:nvPicPr>
            <p:cNvPr id="499" name="Freeform 9" descr=""/>
            <p:cNvPicPr/>
            <p:nvPr/>
          </p:nvPicPr>
          <p:blipFill>
            <a:blip r:embed="rId5"/>
            <a:stretch/>
          </p:blipFill>
          <p:spPr>
            <a:xfrm>
              <a:off x="-42840" y="609480"/>
              <a:ext cx="1282680" cy="63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-7200" y="649440"/>
              <a:ext cx="1518480" cy="62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Freeform 11"/>
          <p:cNvGrpSpPr/>
          <p:nvPr/>
        </p:nvGrpSpPr>
        <p:grpSpPr>
          <a:xfrm>
            <a:off x="-60480" y="-30240"/>
            <a:ext cx="7839360" cy="1494000"/>
            <a:chOff x="-60480" y="-30240"/>
            <a:chExt cx="7839360" cy="1494000"/>
          </a:xfrm>
        </p:grpSpPr>
        <p:pic>
          <p:nvPicPr>
            <p:cNvPr id="502" name="Freeform 11" descr=""/>
            <p:cNvPicPr/>
            <p:nvPr/>
          </p:nvPicPr>
          <p:blipFill>
            <a:blip r:embed="rId6"/>
            <a:stretch/>
          </p:blipFill>
          <p:spPr>
            <a:xfrm>
              <a:off x="-60480" y="-30240"/>
              <a:ext cx="7839360" cy="135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6480" y="0"/>
              <a:ext cx="7708680" cy="14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8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9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88F3-9D43-4251-938D-B644862C3450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13"/>
          <p:cNvGrpSpPr/>
          <p:nvPr/>
        </p:nvGrpSpPr>
        <p:grpSpPr>
          <a:xfrm>
            <a:off x="7229520" y="-36360"/>
            <a:ext cx="1956960" cy="6059160"/>
            <a:chOff x="7229520" y="-36360"/>
            <a:chExt cx="1956960" cy="6059160"/>
          </a:xfrm>
        </p:grpSpPr>
        <p:pic>
          <p:nvPicPr>
            <p:cNvPr id="42" name="Freeform 13" descr=""/>
            <p:cNvPicPr/>
            <p:nvPr/>
          </p:nvPicPr>
          <p:blipFill>
            <a:blip r:embed="rId3"/>
            <a:stretch/>
          </p:blipFill>
          <p:spPr>
            <a:xfrm>
              <a:off x="7235640" y="-36360"/>
              <a:ext cx="1950840" cy="60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7229520" y="4680"/>
              <a:ext cx="1920960" cy="59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Freeform 12"/>
          <p:cNvGrpSpPr/>
          <p:nvPr/>
        </p:nvGrpSpPr>
        <p:grpSpPr>
          <a:xfrm>
            <a:off x="676440" y="5370480"/>
            <a:ext cx="8528040" cy="1523520"/>
            <a:chOff x="676440" y="5370480"/>
            <a:chExt cx="8528040" cy="1523520"/>
          </a:xfrm>
        </p:grpSpPr>
        <p:pic>
          <p:nvPicPr>
            <p:cNvPr id="45" name="Freeform 12" descr=""/>
            <p:cNvPicPr/>
            <p:nvPr/>
          </p:nvPicPr>
          <p:blipFill>
            <a:blip r:embed="rId4"/>
            <a:stretch/>
          </p:blipFill>
          <p:spPr>
            <a:xfrm>
              <a:off x="676440" y="5378040"/>
              <a:ext cx="8528040" cy="15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43040" y="5370480"/>
              <a:ext cx="84009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Freeform 11"/>
          <p:cNvGrpSpPr/>
          <p:nvPr/>
        </p:nvGrpSpPr>
        <p:grpSpPr>
          <a:xfrm>
            <a:off x="-42840" y="609480"/>
            <a:ext cx="1554120" cy="6334200"/>
            <a:chOff x="-42840" y="609480"/>
            <a:chExt cx="1554120" cy="6334200"/>
          </a:xfrm>
        </p:grpSpPr>
        <p:pic>
          <p:nvPicPr>
            <p:cNvPr id="48" name="Freeform 11" descr=""/>
            <p:cNvPicPr/>
            <p:nvPr/>
          </p:nvPicPr>
          <p:blipFill>
            <a:blip r:embed="rId5"/>
            <a:stretch/>
          </p:blipFill>
          <p:spPr>
            <a:xfrm>
              <a:off x="-42840" y="609480"/>
              <a:ext cx="1282680" cy="63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-7200" y="649440"/>
              <a:ext cx="1518480" cy="62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Oval 7"/>
          <p:cNvGrpSpPr/>
          <p:nvPr/>
        </p:nvGrpSpPr>
        <p:grpSpPr>
          <a:xfrm>
            <a:off x="603360" y="579600"/>
            <a:ext cx="7821360" cy="5814720"/>
            <a:chOff x="603360" y="579600"/>
            <a:chExt cx="7821360" cy="5814720"/>
          </a:xfrm>
        </p:grpSpPr>
        <p:pic>
          <p:nvPicPr>
            <p:cNvPr id="51" name="Oval 7" descr=""/>
            <p:cNvPicPr/>
            <p:nvPr/>
          </p:nvPicPr>
          <p:blipFill>
            <a:blip r:embed="rId6"/>
            <a:stretch/>
          </p:blipFill>
          <p:spPr>
            <a:xfrm>
              <a:off x="603360" y="579600"/>
              <a:ext cx="7821360" cy="58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762200" y="1441440"/>
              <a:ext cx="5510160" cy="40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Freeform 8"/>
          <p:cNvGrpSpPr/>
          <p:nvPr/>
        </p:nvGrpSpPr>
        <p:grpSpPr>
          <a:xfrm>
            <a:off x="-60480" y="-30240"/>
            <a:ext cx="7839360" cy="1494000"/>
            <a:chOff x="-60480" y="-30240"/>
            <a:chExt cx="7839360" cy="1494000"/>
          </a:xfrm>
        </p:grpSpPr>
        <p:pic>
          <p:nvPicPr>
            <p:cNvPr id="54" name="Freeform 8" descr=""/>
            <p:cNvPicPr/>
            <p:nvPr/>
          </p:nvPicPr>
          <p:blipFill>
            <a:blip r:embed="rId7"/>
            <a:stretch/>
          </p:blipFill>
          <p:spPr>
            <a:xfrm>
              <a:off x="-60480" y="-30240"/>
              <a:ext cx="7839360" cy="135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480" y="0"/>
              <a:ext cx="7708680" cy="14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1DD4-ADBD-4655-85BC-7702659CEB07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Freeform 6"/>
          <p:cNvGrpSpPr/>
          <p:nvPr/>
        </p:nvGrpSpPr>
        <p:grpSpPr>
          <a:xfrm>
            <a:off x="6480" y="-30240"/>
            <a:ext cx="3060720" cy="828720"/>
            <a:chOff x="6480" y="-30240"/>
            <a:chExt cx="3060720" cy="828720"/>
          </a:xfrm>
        </p:grpSpPr>
        <p:pic>
          <p:nvPicPr>
            <p:cNvPr id="98" name="Freeform 6" descr=""/>
            <p:cNvPicPr/>
            <p:nvPr/>
          </p:nvPicPr>
          <p:blipFill>
            <a:blip r:embed="rId3"/>
            <a:stretch/>
          </p:blipFill>
          <p:spPr>
            <a:xfrm>
              <a:off x="6480" y="-30240"/>
              <a:ext cx="3060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4520" y="0"/>
              <a:ext cx="293076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Freeform 7"/>
          <p:cNvGrpSpPr/>
          <p:nvPr/>
        </p:nvGrpSpPr>
        <p:grpSpPr>
          <a:xfrm>
            <a:off x="-42840" y="103320"/>
            <a:ext cx="834840" cy="2079360"/>
            <a:chOff x="-42840" y="103320"/>
            <a:chExt cx="834840" cy="2079360"/>
          </a:xfrm>
        </p:grpSpPr>
        <p:pic>
          <p:nvPicPr>
            <p:cNvPr id="101" name="Freeform 7" descr=""/>
            <p:cNvPicPr/>
            <p:nvPr/>
          </p:nvPicPr>
          <p:blipFill>
            <a:blip r:embed="rId4"/>
            <a:stretch/>
          </p:blipFill>
          <p:spPr>
            <a:xfrm>
              <a:off x="-42840" y="103320"/>
              <a:ext cx="760680" cy="20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-3600" y="146160"/>
              <a:ext cx="795600" cy="19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Freeform 8"/>
          <p:cNvGrpSpPr/>
          <p:nvPr/>
        </p:nvGrpSpPr>
        <p:grpSpPr>
          <a:xfrm>
            <a:off x="6162840" y="-42840"/>
            <a:ext cx="2901960" cy="774720"/>
            <a:chOff x="6162840" y="-42840"/>
            <a:chExt cx="2901960" cy="774720"/>
          </a:xfrm>
        </p:grpSpPr>
        <p:pic>
          <p:nvPicPr>
            <p:cNvPr id="104" name="Freeform 8" descr=""/>
            <p:cNvPicPr/>
            <p:nvPr/>
          </p:nvPicPr>
          <p:blipFill>
            <a:blip r:embed="rId5"/>
            <a:stretch/>
          </p:blipFill>
          <p:spPr>
            <a:xfrm>
              <a:off x="6162840" y="-42840"/>
              <a:ext cx="29019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251400" y="0"/>
              <a:ext cx="27752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Freeform 9"/>
          <p:cNvGrpSpPr/>
          <p:nvPr/>
        </p:nvGrpSpPr>
        <p:grpSpPr>
          <a:xfrm>
            <a:off x="8339040" y="79200"/>
            <a:ext cx="840960" cy="2073600"/>
            <a:chOff x="8339040" y="79200"/>
            <a:chExt cx="840960" cy="2073600"/>
          </a:xfrm>
        </p:grpSpPr>
        <p:pic>
          <p:nvPicPr>
            <p:cNvPr id="107" name="Freeform 9" descr=""/>
            <p:cNvPicPr/>
            <p:nvPr/>
          </p:nvPicPr>
          <p:blipFill>
            <a:blip r:embed="rId6"/>
            <a:stretch/>
          </p:blipFill>
          <p:spPr>
            <a:xfrm>
              <a:off x="8372520" y="79200"/>
              <a:ext cx="807480" cy="20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8339040" y="119160"/>
              <a:ext cx="80640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Freeform 10"/>
          <p:cNvGrpSpPr/>
          <p:nvPr/>
        </p:nvGrpSpPr>
        <p:grpSpPr>
          <a:xfrm>
            <a:off x="8418600" y="4784760"/>
            <a:ext cx="761400" cy="1933560"/>
            <a:chOff x="8418600" y="4784760"/>
            <a:chExt cx="761400" cy="1933560"/>
          </a:xfrm>
        </p:grpSpPr>
        <p:pic>
          <p:nvPicPr>
            <p:cNvPr id="110" name="Freeform 10" descr=""/>
            <p:cNvPicPr/>
            <p:nvPr/>
          </p:nvPicPr>
          <p:blipFill>
            <a:blip r:embed="rId7"/>
            <a:stretch/>
          </p:blipFill>
          <p:spPr>
            <a:xfrm>
              <a:off x="8432640" y="4784760"/>
              <a:ext cx="7473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 rot="10800000">
              <a:off x="8418600" y="4827600"/>
              <a:ext cx="72576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Freeform 11"/>
          <p:cNvGrpSpPr/>
          <p:nvPr/>
        </p:nvGrpSpPr>
        <p:grpSpPr>
          <a:xfrm>
            <a:off x="5894280" y="5962320"/>
            <a:ext cx="3157560" cy="919080"/>
            <a:chOff x="5894280" y="5962320"/>
            <a:chExt cx="3157560" cy="919080"/>
          </a:xfrm>
        </p:grpSpPr>
        <p:pic>
          <p:nvPicPr>
            <p:cNvPr id="113" name="Freeform 11" descr=""/>
            <p:cNvPicPr/>
            <p:nvPr/>
          </p:nvPicPr>
          <p:blipFill>
            <a:blip r:embed="rId8"/>
            <a:stretch/>
          </p:blipFill>
          <p:spPr>
            <a:xfrm>
              <a:off x="5894280" y="5994720"/>
              <a:ext cx="3157560" cy="88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 rot="10800000">
              <a:off x="5959440" y="5962320"/>
              <a:ext cx="3030480" cy="8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Freeform 12"/>
          <p:cNvGrpSpPr/>
          <p:nvPr/>
        </p:nvGrpSpPr>
        <p:grpSpPr>
          <a:xfrm>
            <a:off x="171360" y="6053040"/>
            <a:ext cx="3016440" cy="841320"/>
            <a:chOff x="171360" y="6053040"/>
            <a:chExt cx="3016440" cy="841320"/>
          </a:xfrm>
        </p:grpSpPr>
        <p:pic>
          <p:nvPicPr>
            <p:cNvPr id="116" name="Freeform 12" descr=""/>
            <p:cNvPicPr/>
            <p:nvPr/>
          </p:nvPicPr>
          <p:blipFill>
            <a:blip r:embed="rId9"/>
            <a:stretch/>
          </p:blipFill>
          <p:spPr>
            <a:xfrm>
              <a:off x="171360" y="6053040"/>
              <a:ext cx="30164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 rot="10800000">
              <a:off x="236520" y="6066000"/>
              <a:ext cx="289080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Freeform 13"/>
          <p:cNvGrpSpPr/>
          <p:nvPr/>
        </p:nvGrpSpPr>
        <p:grpSpPr>
          <a:xfrm>
            <a:off x="-96840" y="4737240"/>
            <a:ext cx="748800" cy="2193840"/>
            <a:chOff x="-96840" y="4737240"/>
            <a:chExt cx="748800" cy="2193840"/>
          </a:xfrm>
        </p:grpSpPr>
        <p:pic>
          <p:nvPicPr>
            <p:cNvPr id="119" name="Freeform 13" descr=""/>
            <p:cNvPicPr/>
            <p:nvPr/>
          </p:nvPicPr>
          <p:blipFill>
            <a:blip r:embed="rId10"/>
            <a:stretch/>
          </p:blipFill>
          <p:spPr>
            <a:xfrm>
              <a:off x="-96840" y="4737240"/>
              <a:ext cx="699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 rot="10800000">
              <a:off x="-6120" y="4780080"/>
              <a:ext cx="658440" cy="20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5F9D-891B-4499-A7B4-405AF205F3B6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Freeform 6"/>
          <p:cNvGrpSpPr/>
          <p:nvPr/>
        </p:nvGrpSpPr>
        <p:grpSpPr>
          <a:xfrm>
            <a:off x="7229520" y="-36360"/>
            <a:ext cx="1956960" cy="6059160"/>
            <a:chOff x="7229520" y="-36360"/>
            <a:chExt cx="1956960" cy="6059160"/>
          </a:xfrm>
        </p:grpSpPr>
        <p:pic>
          <p:nvPicPr>
            <p:cNvPr id="163" name="Freeform 6" descr=""/>
            <p:cNvPicPr/>
            <p:nvPr/>
          </p:nvPicPr>
          <p:blipFill>
            <a:blip r:embed="rId3"/>
            <a:stretch/>
          </p:blipFill>
          <p:spPr>
            <a:xfrm>
              <a:off x="7235640" y="-36360"/>
              <a:ext cx="1950840" cy="60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229520" y="4680"/>
              <a:ext cx="1920960" cy="59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Freeform 7"/>
          <p:cNvGrpSpPr/>
          <p:nvPr/>
        </p:nvGrpSpPr>
        <p:grpSpPr>
          <a:xfrm>
            <a:off x="676440" y="5370480"/>
            <a:ext cx="8528040" cy="1523520"/>
            <a:chOff x="676440" y="5370480"/>
            <a:chExt cx="8528040" cy="1523520"/>
          </a:xfrm>
        </p:grpSpPr>
        <p:pic>
          <p:nvPicPr>
            <p:cNvPr id="166" name="Freeform 7" descr=""/>
            <p:cNvPicPr/>
            <p:nvPr/>
          </p:nvPicPr>
          <p:blipFill>
            <a:blip r:embed="rId4"/>
            <a:stretch/>
          </p:blipFill>
          <p:spPr>
            <a:xfrm>
              <a:off x="676440" y="5378040"/>
              <a:ext cx="8528040" cy="15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43040" y="5370480"/>
              <a:ext cx="84009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Freeform 8"/>
          <p:cNvGrpSpPr/>
          <p:nvPr/>
        </p:nvGrpSpPr>
        <p:grpSpPr>
          <a:xfrm>
            <a:off x="-42840" y="609480"/>
            <a:ext cx="1554120" cy="6334200"/>
            <a:chOff x="-42840" y="609480"/>
            <a:chExt cx="1554120" cy="6334200"/>
          </a:xfrm>
        </p:grpSpPr>
        <p:pic>
          <p:nvPicPr>
            <p:cNvPr id="169" name="Freeform 8" descr=""/>
            <p:cNvPicPr/>
            <p:nvPr/>
          </p:nvPicPr>
          <p:blipFill>
            <a:blip r:embed="rId5"/>
            <a:stretch/>
          </p:blipFill>
          <p:spPr>
            <a:xfrm>
              <a:off x="-42840" y="609480"/>
              <a:ext cx="1282680" cy="63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-7200" y="649440"/>
              <a:ext cx="1518480" cy="62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Freeform 9"/>
          <p:cNvGrpSpPr/>
          <p:nvPr/>
        </p:nvGrpSpPr>
        <p:grpSpPr>
          <a:xfrm>
            <a:off x="-60480" y="-30240"/>
            <a:ext cx="7839360" cy="1494000"/>
            <a:chOff x="-60480" y="-30240"/>
            <a:chExt cx="7839360" cy="1494000"/>
          </a:xfrm>
        </p:grpSpPr>
        <p:pic>
          <p:nvPicPr>
            <p:cNvPr id="172" name="Freeform 9" descr=""/>
            <p:cNvPicPr/>
            <p:nvPr/>
          </p:nvPicPr>
          <p:blipFill>
            <a:blip r:embed="rId6"/>
            <a:stretch/>
          </p:blipFill>
          <p:spPr>
            <a:xfrm>
              <a:off x="-60480" y="-30240"/>
              <a:ext cx="7839360" cy="135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480" y="0"/>
              <a:ext cx="7708680" cy="14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0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1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2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3D90-9930-4D32-8872-3A77012ABABC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Freeform 7"/>
          <p:cNvGrpSpPr/>
          <p:nvPr/>
        </p:nvGrpSpPr>
        <p:grpSpPr>
          <a:xfrm>
            <a:off x="-36360" y="-30240"/>
            <a:ext cx="7869240" cy="841320"/>
            <a:chOff x="-36360" y="-30240"/>
            <a:chExt cx="7869240" cy="841320"/>
          </a:xfrm>
        </p:grpSpPr>
        <p:pic>
          <p:nvPicPr>
            <p:cNvPr id="216" name="Freeform 7" descr=""/>
            <p:cNvPicPr/>
            <p:nvPr/>
          </p:nvPicPr>
          <p:blipFill>
            <a:blip r:embed="rId3"/>
            <a:stretch/>
          </p:blipFill>
          <p:spPr>
            <a:xfrm>
              <a:off x="-36360" y="-30240"/>
              <a:ext cx="78692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0240" y="0"/>
              <a:ext cx="774540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Freeform 8"/>
          <p:cNvGrpSpPr/>
          <p:nvPr/>
        </p:nvGrpSpPr>
        <p:grpSpPr>
          <a:xfrm>
            <a:off x="-42840" y="268200"/>
            <a:ext cx="987480" cy="1560600"/>
            <a:chOff x="-42840" y="268200"/>
            <a:chExt cx="987480" cy="1560600"/>
          </a:xfrm>
        </p:grpSpPr>
        <p:pic>
          <p:nvPicPr>
            <p:cNvPr id="219" name="Freeform 8" descr=""/>
            <p:cNvPicPr/>
            <p:nvPr/>
          </p:nvPicPr>
          <p:blipFill>
            <a:blip r:embed="rId4"/>
            <a:stretch/>
          </p:blipFill>
          <p:spPr>
            <a:xfrm>
              <a:off x="-42840" y="268200"/>
              <a:ext cx="9874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0" y="312840"/>
              <a:ext cx="90972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Freeform 9"/>
          <p:cNvGrpSpPr/>
          <p:nvPr/>
        </p:nvGrpSpPr>
        <p:grpSpPr>
          <a:xfrm>
            <a:off x="-42840" y="5132520"/>
            <a:ext cx="927000" cy="1798560"/>
            <a:chOff x="-42840" y="5132520"/>
            <a:chExt cx="927000" cy="1798560"/>
          </a:xfrm>
        </p:grpSpPr>
        <p:pic>
          <p:nvPicPr>
            <p:cNvPr id="222" name="Freeform 9" descr=""/>
            <p:cNvPicPr/>
            <p:nvPr/>
          </p:nvPicPr>
          <p:blipFill>
            <a:blip r:embed="rId5"/>
            <a:stretch/>
          </p:blipFill>
          <p:spPr>
            <a:xfrm>
              <a:off x="-42840" y="5132520"/>
              <a:ext cx="9270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rot="10800000">
              <a:off x="0" y="5173560"/>
              <a:ext cx="851040" cy="16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Freeform 10"/>
          <p:cNvGrpSpPr/>
          <p:nvPr/>
        </p:nvGrpSpPr>
        <p:grpSpPr>
          <a:xfrm>
            <a:off x="7711920" y="-36360"/>
            <a:ext cx="1504800" cy="1785960"/>
            <a:chOff x="7711920" y="-36360"/>
            <a:chExt cx="1504800" cy="1785960"/>
          </a:xfrm>
        </p:grpSpPr>
        <p:pic>
          <p:nvPicPr>
            <p:cNvPr id="225" name="Freeform 10" descr=""/>
            <p:cNvPicPr/>
            <p:nvPr/>
          </p:nvPicPr>
          <p:blipFill>
            <a:blip r:embed="rId6"/>
            <a:stretch/>
          </p:blipFill>
          <p:spPr>
            <a:xfrm>
              <a:off x="7717680" y="-36360"/>
              <a:ext cx="149904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711920" y="-3240"/>
              <a:ext cx="144468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Freeform 11"/>
          <p:cNvGrpSpPr/>
          <p:nvPr/>
        </p:nvGrpSpPr>
        <p:grpSpPr>
          <a:xfrm>
            <a:off x="407880" y="5126040"/>
            <a:ext cx="8796600" cy="1774800"/>
            <a:chOff x="407880" y="5126040"/>
            <a:chExt cx="8796600" cy="1774800"/>
          </a:xfrm>
        </p:grpSpPr>
        <p:pic>
          <p:nvPicPr>
            <p:cNvPr id="228" name="Freeform 11" descr=""/>
            <p:cNvPicPr/>
            <p:nvPr/>
          </p:nvPicPr>
          <p:blipFill>
            <a:blip r:embed="rId7"/>
            <a:stretch/>
          </p:blipFill>
          <p:spPr>
            <a:xfrm>
              <a:off x="407880" y="5126040"/>
              <a:ext cx="879660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76280" y="5237280"/>
              <a:ext cx="8667720" cy="16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D99C-4513-41BD-BFBE-412D34D64412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Freeform 9"/>
          <p:cNvGrpSpPr/>
          <p:nvPr/>
        </p:nvGrpSpPr>
        <p:grpSpPr>
          <a:xfrm>
            <a:off x="-36360" y="-30240"/>
            <a:ext cx="7869240" cy="841320"/>
            <a:chOff x="-36360" y="-30240"/>
            <a:chExt cx="7869240" cy="841320"/>
          </a:xfrm>
        </p:grpSpPr>
        <p:pic>
          <p:nvPicPr>
            <p:cNvPr id="272" name="Freeform 9" descr=""/>
            <p:cNvPicPr/>
            <p:nvPr/>
          </p:nvPicPr>
          <p:blipFill>
            <a:blip r:embed="rId3"/>
            <a:stretch/>
          </p:blipFill>
          <p:spPr>
            <a:xfrm>
              <a:off x="-36360" y="-30240"/>
              <a:ext cx="78692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30240" y="0"/>
              <a:ext cx="774540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Freeform 10"/>
          <p:cNvGrpSpPr/>
          <p:nvPr/>
        </p:nvGrpSpPr>
        <p:grpSpPr>
          <a:xfrm>
            <a:off x="-42840" y="268200"/>
            <a:ext cx="987480" cy="1560600"/>
            <a:chOff x="-42840" y="268200"/>
            <a:chExt cx="987480" cy="1560600"/>
          </a:xfrm>
        </p:grpSpPr>
        <p:pic>
          <p:nvPicPr>
            <p:cNvPr id="275" name="Freeform 10" descr=""/>
            <p:cNvPicPr/>
            <p:nvPr/>
          </p:nvPicPr>
          <p:blipFill>
            <a:blip r:embed="rId4"/>
            <a:stretch/>
          </p:blipFill>
          <p:spPr>
            <a:xfrm>
              <a:off x="-42840" y="268200"/>
              <a:ext cx="9874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0" y="312840"/>
              <a:ext cx="90972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Freeform 11"/>
          <p:cNvGrpSpPr/>
          <p:nvPr/>
        </p:nvGrpSpPr>
        <p:grpSpPr>
          <a:xfrm>
            <a:off x="7711920" y="-36360"/>
            <a:ext cx="1504800" cy="1785960"/>
            <a:chOff x="7711920" y="-36360"/>
            <a:chExt cx="1504800" cy="1785960"/>
          </a:xfrm>
        </p:grpSpPr>
        <p:pic>
          <p:nvPicPr>
            <p:cNvPr id="278" name="Freeform 11" descr=""/>
            <p:cNvPicPr/>
            <p:nvPr/>
          </p:nvPicPr>
          <p:blipFill>
            <a:blip r:embed="rId5"/>
            <a:stretch/>
          </p:blipFill>
          <p:spPr>
            <a:xfrm>
              <a:off x="7717680" y="-36360"/>
              <a:ext cx="149904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711920" y="-3240"/>
              <a:ext cx="144468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7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8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0AAA-A5D4-4CD7-9585-34C05CE6ED4C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Freeform 5"/>
          <p:cNvGrpSpPr/>
          <p:nvPr/>
        </p:nvGrpSpPr>
        <p:grpSpPr>
          <a:xfrm>
            <a:off x="-36360" y="-30240"/>
            <a:ext cx="7869240" cy="841320"/>
            <a:chOff x="-36360" y="-30240"/>
            <a:chExt cx="7869240" cy="841320"/>
          </a:xfrm>
        </p:grpSpPr>
        <p:pic>
          <p:nvPicPr>
            <p:cNvPr id="322" name="Freeform 5" descr=""/>
            <p:cNvPicPr/>
            <p:nvPr/>
          </p:nvPicPr>
          <p:blipFill>
            <a:blip r:embed="rId3"/>
            <a:stretch/>
          </p:blipFill>
          <p:spPr>
            <a:xfrm>
              <a:off x="-36360" y="-30240"/>
              <a:ext cx="78692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30240" y="0"/>
              <a:ext cx="774540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Freeform 6"/>
          <p:cNvGrpSpPr/>
          <p:nvPr/>
        </p:nvGrpSpPr>
        <p:grpSpPr>
          <a:xfrm>
            <a:off x="-42840" y="268200"/>
            <a:ext cx="987480" cy="1560600"/>
            <a:chOff x="-42840" y="268200"/>
            <a:chExt cx="987480" cy="1560600"/>
          </a:xfrm>
        </p:grpSpPr>
        <p:pic>
          <p:nvPicPr>
            <p:cNvPr id="325" name="Freeform 6" descr=""/>
            <p:cNvPicPr/>
            <p:nvPr/>
          </p:nvPicPr>
          <p:blipFill>
            <a:blip r:embed="rId4"/>
            <a:stretch/>
          </p:blipFill>
          <p:spPr>
            <a:xfrm>
              <a:off x="-42840" y="268200"/>
              <a:ext cx="9874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0" y="312840"/>
              <a:ext cx="90972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Freeform 7"/>
          <p:cNvGrpSpPr/>
          <p:nvPr/>
        </p:nvGrpSpPr>
        <p:grpSpPr>
          <a:xfrm>
            <a:off x="-42840" y="5132520"/>
            <a:ext cx="927000" cy="1798560"/>
            <a:chOff x="-42840" y="5132520"/>
            <a:chExt cx="927000" cy="1798560"/>
          </a:xfrm>
        </p:grpSpPr>
        <p:pic>
          <p:nvPicPr>
            <p:cNvPr id="328" name="Freeform 7" descr=""/>
            <p:cNvPicPr/>
            <p:nvPr/>
          </p:nvPicPr>
          <p:blipFill>
            <a:blip r:embed="rId5"/>
            <a:stretch/>
          </p:blipFill>
          <p:spPr>
            <a:xfrm>
              <a:off x="-42840" y="5132520"/>
              <a:ext cx="9270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 rot="10800000">
              <a:off x="0" y="5173560"/>
              <a:ext cx="851040" cy="16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Freeform 8"/>
          <p:cNvGrpSpPr/>
          <p:nvPr/>
        </p:nvGrpSpPr>
        <p:grpSpPr>
          <a:xfrm>
            <a:off x="7711920" y="-36360"/>
            <a:ext cx="1504800" cy="1785960"/>
            <a:chOff x="7711920" y="-36360"/>
            <a:chExt cx="1504800" cy="1785960"/>
          </a:xfrm>
        </p:grpSpPr>
        <p:pic>
          <p:nvPicPr>
            <p:cNvPr id="331" name="Freeform 8" descr=""/>
            <p:cNvPicPr/>
            <p:nvPr/>
          </p:nvPicPr>
          <p:blipFill>
            <a:blip r:embed="rId6"/>
            <a:stretch/>
          </p:blipFill>
          <p:spPr>
            <a:xfrm>
              <a:off x="7717680" y="-36360"/>
              <a:ext cx="149904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7711920" y="-3240"/>
              <a:ext cx="144468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Freeform 9"/>
          <p:cNvGrpSpPr/>
          <p:nvPr/>
        </p:nvGrpSpPr>
        <p:grpSpPr>
          <a:xfrm>
            <a:off x="407880" y="5126040"/>
            <a:ext cx="8796600" cy="1774800"/>
            <a:chOff x="407880" y="5126040"/>
            <a:chExt cx="8796600" cy="1774800"/>
          </a:xfrm>
        </p:grpSpPr>
        <p:pic>
          <p:nvPicPr>
            <p:cNvPr id="334" name="Freeform 9" descr=""/>
            <p:cNvPicPr/>
            <p:nvPr/>
          </p:nvPicPr>
          <p:blipFill>
            <a:blip r:embed="rId7"/>
            <a:stretch/>
          </p:blipFill>
          <p:spPr>
            <a:xfrm>
              <a:off x="407880" y="5126040"/>
              <a:ext cx="879660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476280" y="5237280"/>
              <a:ext cx="8667720" cy="16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3FAF-6458-42E0-91F2-FDDD1332D2EE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Freeform 4"/>
          <p:cNvGrpSpPr/>
          <p:nvPr/>
        </p:nvGrpSpPr>
        <p:grpSpPr>
          <a:xfrm>
            <a:off x="-36360" y="-30240"/>
            <a:ext cx="7869240" cy="841320"/>
            <a:chOff x="-36360" y="-30240"/>
            <a:chExt cx="7869240" cy="841320"/>
          </a:xfrm>
        </p:grpSpPr>
        <p:pic>
          <p:nvPicPr>
            <p:cNvPr id="378" name="Freeform 4" descr=""/>
            <p:cNvPicPr/>
            <p:nvPr/>
          </p:nvPicPr>
          <p:blipFill>
            <a:blip r:embed="rId3"/>
            <a:stretch/>
          </p:blipFill>
          <p:spPr>
            <a:xfrm>
              <a:off x="-36360" y="-30240"/>
              <a:ext cx="78692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30240" y="0"/>
              <a:ext cx="774540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Freeform 5"/>
          <p:cNvGrpSpPr/>
          <p:nvPr/>
        </p:nvGrpSpPr>
        <p:grpSpPr>
          <a:xfrm>
            <a:off x="-42840" y="268200"/>
            <a:ext cx="987480" cy="1560600"/>
            <a:chOff x="-42840" y="268200"/>
            <a:chExt cx="987480" cy="1560600"/>
          </a:xfrm>
        </p:grpSpPr>
        <p:pic>
          <p:nvPicPr>
            <p:cNvPr id="381" name="Freeform 5" descr=""/>
            <p:cNvPicPr/>
            <p:nvPr/>
          </p:nvPicPr>
          <p:blipFill>
            <a:blip r:embed="rId4"/>
            <a:stretch/>
          </p:blipFill>
          <p:spPr>
            <a:xfrm>
              <a:off x="-42840" y="268200"/>
              <a:ext cx="9874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0" y="312840"/>
              <a:ext cx="90972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Freeform 7"/>
          <p:cNvGrpSpPr/>
          <p:nvPr/>
        </p:nvGrpSpPr>
        <p:grpSpPr>
          <a:xfrm>
            <a:off x="7711920" y="-36360"/>
            <a:ext cx="1504800" cy="1785960"/>
            <a:chOff x="7711920" y="-36360"/>
            <a:chExt cx="1504800" cy="1785960"/>
          </a:xfrm>
        </p:grpSpPr>
        <p:pic>
          <p:nvPicPr>
            <p:cNvPr id="384" name="Freeform 7" descr=""/>
            <p:cNvPicPr/>
            <p:nvPr/>
          </p:nvPicPr>
          <p:blipFill>
            <a:blip r:embed="rId5"/>
            <a:stretch/>
          </p:blipFill>
          <p:spPr>
            <a:xfrm>
              <a:off x="7717680" y="-36360"/>
              <a:ext cx="149904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7711920" y="-3240"/>
              <a:ext cx="144468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2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3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4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2207-890B-4CBD-98A9-458BC43ACC90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Freeform 7"/>
          <p:cNvGrpSpPr/>
          <p:nvPr/>
        </p:nvGrpSpPr>
        <p:grpSpPr>
          <a:xfrm>
            <a:off x="6480" y="-30240"/>
            <a:ext cx="3060720" cy="828720"/>
            <a:chOff x="6480" y="-30240"/>
            <a:chExt cx="3060720" cy="828720"/>
          </a:xfrm>
        </p:grpSpPr>
        <p:pic>
          <p:nvPicPr>
            <p:cNvPr id="428" name="Freeform 7" descr=""/>
            <p:cNvPicPr/>
            <p:nvPr/>
          </p:nvPicPr>
          <p:blipFill>
            <a:blip r:embed="rId3"/>
            <a:stretch/>
          </p:blipFill>
          <p:spPr>
            <a:xfrm>
              <a:off x="6480" y="-30240"/>
              <a:ext cx="3060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74520" y="0"/>
              <a:ext cx="293076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Freeform 8"/>
          <p:cNvGrpSpPr/>
          <p:nvPr/>
        </p:nvGrpSpPr>
        <p:grpSpPr>
          <a:xfrm>
            <a:off x="-42840" y="103320"/>
            <a:ext cx="834840" cy="2079360"/>
            <a:chOff x="-42840" y="103320"/>
            <a:chExt cx="834840" cy="2079360"/>
          </a:xfrm>
        </p:grpSpPr>
        <p:pic>
          <p:nvPicPr>
            <p:cNvPr id="431" name="Freeform 8" descr=""/>
            <p:cNvPicPr/>
            <p:nvPr/>
          </p:nvPicPr>
          <p:blipFill>
            <a:blip r:embed="rId4"/>
            <a:stretch/>
          </p:blipFill>
          <p:spPr>
            <a:xfrm>
              <a:off x="-42840" y="103320"/>
              <a:ext cx="760680" cy="20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-3600" y="146160"/>
              <a:ext cx="795600" cy="19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Freeform 9"/>
          <p:cNvGrpSpPr/>
          <p:nvPr/>
        </p:nvGrpSpPr>
        <p:grpSpPr>
          <a:xfrm>
            <a:off x="6162840" y="-42840"/>
            <a:ext cx="2901960" cy="774720"/>
            <a:chOff x="6162840" y="-42840"/>
            <a:chExt cx="2901960" cy="774720"/>
          </a:xfrm>
        </p:grpSpPr>
        <p:pic>
          <p:nvPicPr>
            <p:cNvPr id="434" name="Freeform 9" descr=""/>
            <p:cNvPicPr/>
            <p:nvPr/>
          </p:nvPicPr>
          <p:blipFill>
            <a:blip r:embed="rId5"/>
            <a:stretch/>
          </p:blipFill>
          <p:spPr>
            <a:xfrm>
              <a:off x="6162840" y="-42840"/>
              <a:ext cx="29019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6251400" y="0"/>
              <a:ext cx="27752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Freeform 10"/>
          <p:cNvGrpSpPr/>
          <p:nvPr/>
        </p:nvGrpSpPr>
        <p:grpSpPr>
          <a:xfrm>
            <a:off x="8339040" y="79200"/>
            <a:ext cx="840960" cy="2073600"/>
            <a:chOff x="8339040" y="79200"/>
            <a:chExt cx="840960" cy="2073600"/>
          </a:xfrm>
        </p:grpSpPr>
        <p:pic>
          <p:nvPicPr>
            <p:cNvPr id="437" name="Freeform 10" descr=""/>
            <p:cNvPicPr/>
            <p:nvPr/>
          </p:nvPicPr>
          <p:blipFill>
            <a:blip r:embed="rId6"/>
            <a:stretch/>
          </p:blipFill>
          <p:spPr>
            <a:xfrm>
              <a:off x="8372520" y="79200"/>
              <a:ext cx="807480" cy="20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8339040" y="119160"/>
              <a:ext cx="80640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Freeform 11"/>
          <p:cNvGrpSpPr/>
          <p:nvPr/>
        </p:nvGrpSpPr>
        <p:grpSpPr>
          <a:xfrm>
            <a:off x="8418600" y="4784760"/>
            <a:ext cx="761400" cy="1933560"/>
            <a:chOff x="8418600" y="4784760"/>
            <a:chExt cx="761400" cy="1933560"/>
          </a:xfrm>
        </p:grpSpPr>
        <p:pic>
          <p:nvPicPr>
            <p:cNvPr id="440" name="Freeform 11" descr=""/>
            <p:cNvPicPr/>
            <p:nvPr/>
          </p:nvPicPr>
          <p:blipFill>
            <a:blip r:embed="rId7"/>
            <a:stretch/>
          </p:blipFill>
          <p:spPr>
            <a:xfrm>
              <a:off x="8432640" y="4784760"/>
              <a:ext cx="7473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 rot="10800000">
              <a:off x="8418600" y="4827600"/>
              <a:ext cx="72576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Freeform 12"/>
          <p:cNvGrpSpPr/>
          <p:nvPr/>
        </p:nvGrpSpPr>
        <p:grpSpPr>
          <a:xfrm>
            <a:off x="5894280" y="5962320"/>
            <a:ext cx="3157560" cy="919080"/>
            <a:chOff x="5894280" y="5962320"/>
            <a:chExt cx="3157560" cy="919080"/>
          </a:xfrm>
        </p:grpSpPr>
        <p:pic>
          <p:nvPicPr>
            <p:cNvPr id="443" name="Freeform 12" descr=""/>
            <p:cNvPicPr/>
            <p:nvPr/>
          </p:nvPicPr>
          <p:blipFill>
            <a:blip r:embed="rId8"/>
            <a:stretch/>
          </p:blipFill>
          <p:spPr>
            <a:xfrm>
              <a:off x="5894280" y="5994720"/>
              <a:ext cx="3157560" cy="88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 rot="10800000">
              <a:off x="5959440" y="5962320"/>
              <a:ext cx="3030480" cy="8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Freeform 13"/>
          <p:cNvGrpSpPr/>
          <p:nvPr/>
        </p:nvGrpSpPr>
        <p:grpSpPr>
          <a:xfrm>
            <a:off x="171360" y="6053040"/>
            <a:ext cx="3016440" cy="841320"/>
            <a:chOff x="171360" y="6053040"/>
            <a:chExt cx="3016440" cy="841320"/>
          </a:xfrm>
        </p:grpSpPr>
        <p:pic>
          <p:nvPicPr>
            <p:cNvPr id="446" name="Freeform 13" descr=""/>
            <p:cNvPicPr/>
            <p:nvPr/>
          </p:nvPicPr>
          <p:blipFill>
            <a:blip r:embed="rId9"/>
            <a:stretch/>
          </p:blipFill>
          <p:spPr>
            <a:xfrm>
              <a:off x="171360" y="6053040"/>
              <a:ext cx="30164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 rot="10800000">
              <a:off x="236520" y="6066000"/>
              <a:ext cx="289080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Freeform 14"/>
          <p:cNvGrpSpPr/>
          <p:nvPr/>
        </p:nvGrpSpPr>
        <p:grpSpPr>
          <a:xfrm>
            <a:off x="-96840" y="4737240"/>
            <a:ext cx="748800" cy="2193840"/>
            <a:chOff x="-96840" y="4737240"/>
            <a:chExt cx="748800" cy="2193840"/>
          </a:xfrm>
        </p:grpSpPr>
        <p:pic>
          <p:nvPicPr>
            <p:cNvPr id="449" name="Freeform 14" descr=""/>
            <p:cNvPicPr/>
            <p:nvPr/>
          </p:nvPicPr>
          <p:blipFill>
            <a:blip r:embed="rId10"/>
            <a:stretch/>
          </p:blipFill>
          <p:spPr>
            <a:xfrm>
              <a:off x="-96840" y="4737240"/>
              <a:ext cx="699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 rot="10800000">
              <a:off x="-6120" y="4780080"/>
              <a:ext cx="658440" cy="20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5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6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7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9C60-494B-4E8D-B922-759A51CABADC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Заголовок 1" descr=""/>
          <p:cNvPicPr/>
          <p:nvPr/>
        </p:nvPicPr>
        <p:blipFill>
          <a:blip r:embed="rId1"/>
          <a:stretch/>
        </p:blipFill>
        <p:spPr>
          <a:xfrm>
            <a:off x="682560" y="1901880"/>
            <a:ext cx="7785000" cy="67608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371600" y="2857680"/>
            <a:ext cx="64008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f5600"/>
                </a:solidFill>
                <a:latin typeface="Franklin Gothic Book"/>
              </a:rPr>
              <a:t>Тема:  «Слова-помощники»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f5600"/>
                </a:solidFill>
                <a:latin typeface="Franklin Gothic Book"/>
              </a:rPr>
              <a:t>Шишкоедова Н.Р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f5600"/>
                </a:solidFill>
                <a:latin typeface="Franklin Gothic Book"/>
              </a:rPr>
              <a:t>Г.Нефтеюганск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f5600"/>
                </a:solidFill>
                <a:latin typeface="Franklin Gothic Book"/>
              </a:rPr>
              <a:t>МБОУ «НОШ№5»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f5600"/>
                </a:solidFill>
                <a:latin typeface="Franklin Gothic Book"/>
              </a:rPr>
              <a:t>2010г.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1" name=""/>
          <p:cNvGraphicFramePr/>
          <p:nvPr/>
        </p:nvGraphicFramePr>
        <p:xfrm>
          <a:off x="1523880" y="1071720"/>
          <a:ext cx="6096240" cy="10000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0000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. Актуализация знаний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1523880" y="2143080"/>
          <a:ext cx="6096240" cy="2786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7860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списать предложение, исправить ошибку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чки Кати удочки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по эталону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Прямоугольник 1"/>
          <p:cNvSpPr/>
          <p:nvPr/>
        </p:nvSpPr>
        <p:spPr>
          <a:xfrm>
            <a:off x="714240" y="1000080"/>
            <a:ext cx="76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дочки 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К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ти  удочки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ая соединительная линия 6"/>
          <p:cNvSpPr/>
          <p:nvPr/>
        </p:nvSpPr>
        <p:spPr>
          <a:xfrm flipH="1">
            <a:off x="785880" y="928800"/>
            <a:ext cx="285840" cy="78588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ая соединительная линия 8"/>
          <p:cNvSpPr/>
          <p:nvPr/>
        </p:nvSpPr>
        <p:spPr>
          <a:xfrm>
            <a:off x="1071720" y="928800"/>
            <a:ext cx="142560" cy="85716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ая соединительная линия 10"/>
          <p:cNvSpPr/>
          <p:nvPr/>
        </p:nvSpPr>
        <p:spPr>
          <a:xfrm>
            <a:off x="1357200" y="1714680"/>
            <a:ext cx="285840" cy="14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ая соединительная линия 12"/>
          <p:cNvSpPr/>
          <p:nvPr/>
        </p:nvSpPr>
        <p:spPr>
          <a:xfrm>
            <a:off x="3357720" y="1714680"/>
            <a:ext cx="214200" cy="14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ая соединительная линия 14"/>
          <p:cNvSpPr/>
          <p:nvPr/>
        </p:nvSpPr>
        <p:spPr>
          <a:xfrm>
            <a:off x="5000760" y="1714680"/>
            <a:ext cx="285480" cy="14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1523880" y="1214280"/>
          <a:ext cx="6096240" cy="14716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4716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.Создание проблемной ситуации и фиксация затруднения в индивидуальной 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1523880" y="3182760"/>
          <a:ext cx="6096240" cy="28036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8036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ыделить в треугольник слова-помощники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)</a:t>
                      </a: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тел (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окно, (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)</a:t>
                      </a: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жал (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дом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знать как    узнавать в речи и   писать слова-помощники. 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По</a:t>
            </a: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бежал (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по</a:t>
            </a: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)дорожке,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лез (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с)</a:t>
            </a: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дерев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Заголовок 1" descr=""/>
          <p:cNvPicPr/>
          <p:nvPr/>
        </p:nvPicPr>
        <p:blipFill>
          <a:blip r:embed="rId1"/>
          <a:stretch/>
        </p:blipFill>
        <p:spPr>
          <a:xfrm>
            <a:off x="450720" y="-139680"/>
            <a:ext cx="8242560" cy="15667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457200" y="85680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Franklin Gothic Book"/>
              </a:rPr>
              <a:t>Представители групп выходят и показывают результаты работы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1523880" y="1285920"/>
          <a:ext cx="7263000" cy="4871880"/>
        </p:xfrm>
        <a:graphic>
          <a:graphicData uri="http://schemas.openxmlformats.org/drawingml/2006/table">
            <a:tbl>
              <a:tblPr/>
              <a:tblGrid>
                <a:gridCol w="7263000"/>
              </a:tblGrid>
              <a:tr h="48718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слова-помощника вставить новое слов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вставляется слово, то пишем с пробелом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Прямоугольник 1"/>
          <p:cNvSpPr/>
          <p:nvPr/>
        </p:nvSpPr>
        <p:spPr>
          <a:xfrm>
            <a:off x="2357280" y="785880"/>
            <a:ext cx="28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мятк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523880" y="1928880"/>
          <a:ext cx="6096240" cy="2747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7478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ог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з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дерев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Прямая соединительная линия 4"/>
          <p:cNvSpPr/>
          <p:nvPr/>
        </p:nvSpPr>
        <p:spPr>
          <a:xfrm>
            <a:off x="3000240" y="2357280"/>
            <a:ext cx="642960" cy="71460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ая соединительная линия 6"/>
          <p:cNvSpPr/>
          <p:nvPr/>
        </p:nvSpPr>
        <p:spPr>
          <a:xfrm flipH="1">
            <a:off x="3714480" y="2571120"/>
            <a:ext cx="928440" cy="5000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ая соединительная линия 8"/>
          <p:cNvSpPr/>
          <p:nvPr/>
        </p:nvSpPr>
        <p:spPr>
          <a:xfrm>
            <a:off x="3429000" y="3500280"/>
            <a:ext cx="785880" cy="180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Записать только слова-помощники вместе с теми словами, перед которыми они стоят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читель диктует: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Вороны часто ночуют в парках на деревьях. Глухари ночуют в лесах под снегом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Дети записывают с комментированием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5" name=""/>
          <p:cNvGraphicFramePr/>
          <p:nvPr/>
        </p:nvGraphicFramePr>
        <p:xfrm>
          <a:off x="1523880" y="1214280"/>
          <a:ext cx="6977160" cy="3462480"/>
        </p:xfrm>
        <a:graphic>
          <a:graphicData uri="http://schemas.openxmlformats.org/drawingml/2006/table">
            <a:tbl>
              <a:tblPr/>
              <a:tblGrid>
                <a:gridCol w="6977160"/>
              </a:tblGrid>
              <a:tr h="34624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  парках, на    деревьях,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 лесах, под   снегом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6" name="Прямая соединительная линия 3"/>
          <p:cNvSpPr/>
          <p:nvPr/>
        </p:nvSpPr>
        <p:spPr>
          <a:xfrm flipH="1">
            <a:off x="1571400" y="2000160"/>
            <a:ext cx="285480" cy="57168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ая соединительная линия 5"/>
          <p:cNvSpPr/>
          <p:nvPr/>
        </p:nvSpPr>
        <p:spPr>
          <a:xfrm>
            <a:off x="1857240" y="2071800"/>
            <a:ext cx="214560" cy="5000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ая соединительная линия 7"/>
          <p:cNvSpPr/>
          <p:nvPr/>
        </p:nvSpPr>
        <p:spPr>
          <a:xfrm>
            <a:off x="1571760" y="2571840"/>
            <a:ext cx="500040" cy="14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ая соединительная линия 9"/>
          <p:cNvSpPr/>
          <p:nvPr/>
        </p:nvSpPr>
        <p:spPr>
          <a:xfrm>
            <a:off x="2071800" y="2714760"/>
            <a:ext cx="500040" cy="14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11"/>
          <p:cNvSpPr/>
          <p:nvPr/>
        </p:nvSpPr>
        <p:spPr>
          <a:xfrm flipH="1">
            <a:off x="4357440" y="1928880"/>
            <a:ext cx="500040" cy="57132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ая соединительная линия 13"/>
          <p:cNvSpPr/>
          <p:nvPr/>
        </p:nvSpPr>
        <p:spPr>
          <a:xfrm>
            <a:off x="4857120" y="1928880"/>
            <a:ext cx="214200" cy="64296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ая соединительная линия 15"/>
          <p:cNvSpPr/>
          <p:nvPr/>
        </p:nvSpPr>
        <p:spPr>
          <a:xfrm>
            <a:off x="4357800" y="2571840"/>
            <a:ext cx="642960" cy="14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17"/>
          <p:cNvSpPr/>
          <p:nvPr/>
        </p:nvSpPr>
        <p:spPr>
          <a:xfrm>
            <a:off x="5214960" y="2643120"/>
            <a:ext cx="428760" cy="180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19"/>
          <p:cNvSpPr/>
          <p:nvPr/>
        </p:nvSpPr>
        <p:spPr>
          <a:xfrm flipH="1">
            <a:off x="1571400" y="2857680"/>
            <a:ext cx="214200" cy="5000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ая соединительная линия 21"/>
          <p:cNvSpPr/>
          <p:nvPr/>
        </p:nvSpPr>
        <p:spPr>
          <a:xfrm>
            <a:off x="1785240" y="2786040"/>
            <a:ext cx="142920" cy="57168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23"/>
          <p:cNvSpPr/>
          <p:nvPr/>
        </p:nvSpPr>
        <p:spPr>
          <a:xfrm>
            <a:off x="1571760" y="3429000"/>
            <a:ext cx="357120" cy="14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25"/>
          <p:cNvSpPr/>
          <p:nvPr/>
        </p:nvSpPr>
        <p:spPr>
          <a:xfrm>
            <a:off x="2000160" y="3571920"/>
            <a:ext cx="357120" cy="14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27"/>
          <p:cNvSpPr/>
          <p:nvPr/>
        </p:nvSpPr>
        <p:spPr>
          <a:xfrm flipH="1">
            <a:off x="3714480" y="2643120"/>
            <a:ext cx="500040" cy="64296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29"/>
          <p:cNvSpPr/>
          <p:nvPr/>
        </p:nvSpPr>
        <p:spPr>
          <a:xfrm>
            <a:off x="4214160" y="2643120"/>
            <a:ext cx="500040" cy="71460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31"/>
          <p:cNvSpPr/>
          <p:nvPr/>
        </p:nvSpPr>
        <p:spPr>
          <a:xfrm>
            <a:off x="3786120" y="3429000"/>
            <a:ext cx="785880" cy="14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33"/>
          <p:cNvSpPr/>
          <p:nvPr/>
        </p:nvSpPr>
        <p:spPr>
          <a:xfrm>
            <a:off x="4786200" y="3571920"/>
            <a:ext cx="500040" cy="14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ченик, имеющий представление о словах-помощниках, умеющий выделять их в речи  и соблюдать правила письма  слов-помощников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ставь пропущенные слова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Однажды дядя Фёдор, кот и Шарик пошли лес собирать грибы. Дядя Фёдор деревом увидел гриб.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ставь пропущенные слова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Плывёт по реке, сделал … бумаги, вышел … дома, сверкает …солнце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знать слово-помощник и правильно записать: (в)бежал (в)дом, (на)рисовал (на)листе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акую задачу мы перед собой ставили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ак  следует писать слова-помощники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очему эти слова следует писать  отдельно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ак мы выбирали такие слова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Для чего писали самостоятельную работу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 чём говорит отсутствие ошибок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 чём говорит наличие ошибок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акую задачу перед собой поставите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ак будете решать эту задачу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Сформировать у обучающихся представление  о словах-помощниках и их правописании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Формировать способность к анализу, синтезу, сравнению, обобщению, классификации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Формировать навыки самопроверки и самоконтроля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Способствовать развитию навыков работы в  парах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Содействовать  предупреждению утомляемости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рок открытия нового знания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Franklin Gothic Book"/>
              </a:rPr>
              <a:t>Мотивация (самоопределение)  к учебной деятельности.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411480" indent="-411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Franklin Gothic Book"/>
              </a:rPr>
              <a:t>Этап  актуализации и фиксации индивидуального затруднения в пробном действии.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411480" indent="-411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Franklin Gothic Book"/>
              </a:rPr>
              <a:t>Постановка проблемы.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411480" indent="-411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Franklin Gothic Book"/>
              </a:rPr>
              <a:t>Построение проекта выхода из затруднений.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411480" indent="-411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Franklin Gothic Book"/>
              </a:rPr>
              <a:t>Реализация построенного проекта.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411480" indent="-411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Franklin Gothic Book"/>
              </a:rPr>
              <a:t>Первичное закрепление с проговариваем во внешней речи.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411480" indent="-411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Franklin Gothic Book"/>
              </a:rPr>
              <a:t>Самостоятельная работа с проверкой по эталону.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411480" indent="-411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Franklin Gothic Book"/>
              </a:rPr>
              <a:t>Рефлексия учебной деятельности на уроке. 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411480" indent="-411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станьте ровно и красиво,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озвенел уже звонок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Сядьте тихо и неслышно,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И скорей начнем урок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Будем мы писать, трудиться,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едь заданья нелегки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Нам, друзья, нельзя лениться,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Так как мы – ученики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Заголовок 1" descr=""/>
          <p:cNvPicPr/>
          <p:nvPr/>
        </p:nvPicPr>
        <p:blipFill>
          <a:blip r:embed="rId1"/>
          <a:stretch/>
        </p:blipFill>
        <p:spPr>
          <a:xfrm>
            <a:off x="493560" y="225360"/>
            <a:ext cx="8242560" cy="158436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1. На  карточках дети  делят слова на группы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, малыши,   под,   с, мячик, они, играют, дерево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(слова-помощники, слова-названия, слова-указатели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роверка: -как  разделили слова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Заголовок 1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129384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Фиксация на доске вариантов записи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(или вариантов классификации)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А я разделила так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1000080" y="3500280"/>
          <a:ext cx="6095880" cy="12798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, под,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алыши, мячик, играю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равописание  слов-помощников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4:42:32Z</dcterms:created>
  <dc:creator>user</dc:creator>
  <dc:description/>
  <dc:language>en-US</dc:language>
  <cp:lastModifiedBy>comp2</cp:lastModifiedBy>
  <dcterms:modified xsi:type="dcterms:W3CDTF">2012-10-23T11:46:53Z</dcterms:modified>
  <cp:revision>41</cp:revision>
  <dc:subject/>
  <dc:title>Защита конспекта урока</dc:title>
</cp:coreProperties>
</file>