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75C-E29F-46BF-82A8-1ACBC9EF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AE3-CF15-4CC6-80FE-13BDE1E1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9C9-DE1F-4554-86B7-8F9E300E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F3F-7A30-419B-9A65-5675BA4C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949-A6F1-4236-A35D-197356D3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7F8-6998-46EE-8BB3-5C51BFDF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11B-61F5-4674-9E93-87CA5992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EB2-3136-455E-851C-0A042E85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313-0A6D-4AD6-A59F-919815A3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0F2-F5A0-41E5-A742-91CA727E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073-F62E-4F8B-B872-4D2872CD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B4F-37F6-47A0-B548-392767F6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CD6A-9366-444C-864D-733CED644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http://mobilewallpapers.narod.ru/music/images/danse.gif" TargetMode="External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0"/>
            <a:ext cx="7619760" cy="17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hat is she/he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3200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029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00800" y="4952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 engi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2772000" cy="2571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324480" y="23623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352680" y="4038480"/>
            <a:ext cx="2381400" cy="2333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50292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teach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3200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work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4952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 engine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09680"/>
            <a:ext cx="2133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To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To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To t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581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3581280"/>
            <a:ext cx="609840" cy="533520"/>
          </a:xfrm>
          <a:prstGeom prst="plus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2971800"/>
            <a:ext cx="457200" cy="1600200"/>
          </a:xfrm>
          <a:custGeom>
            <a:avLst/>
            <a:gdLst>
              <a:gd name="textAreaLeft" fmla="*/ 0 w 457200"/>
              <a:gd name="textAreaRight" fmla="*/ 164880 w 4572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2209680"/>
            <a:ext cx="5105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уществительное – дея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work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sing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teach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2162160" cy="2006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248520" y="4267080"/>
            <a:ext cx="2381040" cy="2333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905120" y="4667400"/>
            <a:ext cx="2190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76520" y="0"/>
            <a:ext cx="6324480" cy="17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пробуйте сам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057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90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бег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2286000"/>
            <a:ext cx="228600" cy="228600"/>
          </a:xfrm>
          <a:prstGeom prst="plus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2057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286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133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runn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666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бегу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429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 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62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танце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3505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danc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4038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танц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876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 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4864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прыг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4952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jump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5562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прыгу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105520"/>
            <a:ext cx="228600" cy="228600"/>
          </a:xfrm>
          <a:prstGeom prst="plus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3657600"/>
            <a:ext cx="228600" cy="228600"/>
          </a:xfrm>
          <a:prstGeom prst="plus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429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4876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51055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010280" y="5029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аваторы для qip и icq, танцуй пока молодой (Danse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297180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Анимашка босого мальчика из темы картинки человечки в движении"/>
          <p:cNvPicPr/>
          <p:nvPr/>
        </p:nvPicPr>
        <p:blipFill>
          <a:blip r:embed="rId4"/>
          <a:stretch/>
        </p:blipFill>
        <p:spPr>
          <a:xfrm>
            <a:off x="7086600" y="14479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52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 p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762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игр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1522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play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685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иг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47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133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15238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read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2057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чт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352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809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пис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3352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writ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3809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пис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334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o sw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867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пла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53341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swimm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5867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плов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80880"/>
            <a:ext cx="228600" cy="228600"/>
          </a:xfrm>
          <a:prstGeom prst="plus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600200"/>
            <a:ext cx="228600" cy="228600"/>
          </a:xfrm>
          <a:prstGeom prst="plus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581280"/>
            <a:ext cx="228600" cy="228600"/>
          </a:xfrm>
          <a:prstGeom prst="plus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228600" cy="228600"/>
          </a:xfrm>
          <a:prstGeom prst="plus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1447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152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3352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53341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3581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16765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5562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80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278840" y="0"/>
            <a:ext cx="1684080" cy="2057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228760" cy="1666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281640" y="2819520"/>
            <a:ext cx="2862360" cy="1888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943600" y="4813200"/>
            <a:ext cx="20667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рка</cp:lastModifiedBy>
  <dcterms:modified xsi:type="dcterms:W3CDTF">2010-11-17T10:13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