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78B-64BD-4491-8648-14DF1464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41F-8D09-4E2A-8D0E-E27D38EA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B1B-328D-4942-BB66-D5A2C9B0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4E7-FC3E-4CC9-A955-80BDD6E7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906-08CA-4C99-B631-CE2FEAAD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F0B-96B2-4A57-B7EB-A2EED518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131-383B-45D9-A0C6-7FE7E078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F74-0CE6-4422-8874-5A684B0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5DB-EDEB-4554-B333-8841B1B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2F3-F656-48D5-A219-97943BC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3E9-9D44-408D-878E-15FFD6C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86D-3542-4283-98E6-C844097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9B12-6922-4609-8E39-91B1564F3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mobilewallpapers.narod.ru/music/images/danse.gif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0"/>
            <a:ext cx="76197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hat is she/he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200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029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4952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277200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24480" y="2362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2381400" cy="2333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5029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teach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200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work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 engin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09680"/>
            <a:ext cx="2133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o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o t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581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581280"/>
            <a:ext cx="609840" cy="53352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971800"/>
            <a:ext cx="457200" cy="1600200"/>
          </a:xfrm>
          <a:custGeom>
            <a:avLst/>
            <a:gdLst>
              <a:gd name="textAreaLeft" fmla="*/ 0 w 457200"/>
              <a:gd name="textAreaRight" fmla="*/ 164880 w 4572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20968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уществительное – де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work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s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teach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2162160" cy="200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2381040" cy="233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05120" y="466740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0"/>
            <a:ext cx="632448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пробуйте с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057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28600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057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286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133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runn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666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бег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42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танце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505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danc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0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танц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76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486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ры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952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jump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562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рыг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10552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65760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42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4876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5105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1028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аваторы для qip и icq, танцуй пока молодой (Danse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29718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Анимашка босого мальчика из темы картинки человечки в движении"/>
          <p:cNvPicPr/>
          <p:nvPr/>
        </p:nvPicPr>
        <p:blipFill>
          <a:blip r:embed="rId4"/>
          <a:stretch/>
        </p:blipFill>
        <p:spPr>
          <a:xfrm>
            <a:off x="7086600" y="1447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52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иг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152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play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685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иг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523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read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ч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809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writ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334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ла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5334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swimm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867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ло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8088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60020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58128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447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52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352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334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581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676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80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78840" y="0"/>
            <a:ext cx="168408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228760" cy="1666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281640" y="2819520"/>
            <a:ext cx="2862360" cy="188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3600" y="4813200"/>
            <a:ext cx="2066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рка</cp:lastModifiedBy>
  <dcterms:modified xsi:type="dcterms:W3CDTF">2010-11-17T10:13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