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1D0-388A-4A27-B3BA-324D90D7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D53-84E6-4B3B-9FD1-9D647AC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AD3-3156-410E-81DD-9F2CD29B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348-61F8-4D66-ACC5-1EF50476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641-8E65-4F46-8A48-A0D2796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B7F-1FE6-45FA-A973-D70CDA09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A1D-0CC4-4706-8DE0-3F2A584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15C-A738-4B10-A869-36A8B00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051-65BB-456E-91A6-9516DD5E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B7F-3ED7-42F8-826D-F9062EF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19B4-F61E-44DF-B02A-A718C5A4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CA7-69DD-4FDA-B5F5-C2DE06D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8915-4C4F-420E-BF34-4D4FACC717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243000"/>
            <a:ext cx="784548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Дәрес-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644640"/>
            <a:ext cx="7632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8000" spc="-1" strike="noStrike">
                <a:solidFill>
                  <a:srgbClr val="ffcc00"/>
                </a:solidFill>
                <a:latin typeface="Tahoma"/>
              </a:rPr>
              <a:t>презентаци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BOOK1"/>
          <p:cNvPicPr/>
          <p:nvPr/>
        </p:nvPicPr>
        <p:blipFill>
          <a:blip r:embed="rId1"/>
          <a:stretch/>
        </p:blipFill>
        <p:spPr>
          <a:xfrm>
            <a:off x="395280" y="11592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Өстәмә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tt-RU" sz="3200" spc="-1" strike="noStrike">
                <a:solidFill>
                  <a:srgbClr val="ffcc00"/>
                </a:solidFill>
                <a:latin typeface="Tahoma"/>
              </a:rPr>
              <a:t>Синтетик иярчен җөмләләр татар теленә һәм гомумән төрки телләргә хас, рус телендә алар 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5" descr="BOOK2"/>
          <p:cNvPicPr/>
          <p:nvPr/>
        </p:nvPicPr>
        <p:blipFill>
          <a:blip r:embed="rId1"/>
          <a:stretch/>
        </p:blipFill>
        <p:spPr>
          <a:xfrm rot="21262200">
            <a:off x="4425480" y="3858840"/>
            <a:ext cx="4106880" cy="2620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Иярчен җөмләләрнең төзелеш ягыннан төрлә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357360"/>
            <a:ext cx="6400800" cy="21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6000" spc="-1" strike="noStrike">
                <a:solidFill>
                  <a:srgbClr val="990033"/>
                </a:solidFill>
                <a:latin typeface="Tahoma"/>
              </a:rPr>
              <a:t>Синтетик иярчен җөмл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Синтетик сүзе нәрсә аңлат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 u="sng">
                <a:solidFill>
                  <a:srgbClr val="00ccff"/>
                </a:solidFill>
                <a:uFillTx/>
                <a:latin typeface="Tahoma"/>
              </a:rPr>
              <a:t>Синтетик</a:t>
            </a:r>
            <a:r>
              <a:rPr b="0" lang="tt-RU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tt-RU" sz="4000" spc="-1" strike="noStrike">
                <a:solidFill>
                  <a:srgbClr val="ffffff"/>
                </a:solidFill>
                <a:latin typeface="Tahoma"/>
              </a:rPr>
              <a:t>( “синтез” сүзеннән) – </a:t>
            </a:r>
            <a:r>
              <a:rPr b="1" i="1" lang="tt-RU" sz="4000" spc="-1" strike="noStrike">
                <a:solidFill>
                  <a:srgbClr val="ffffff"/>
                </a:solidFill>
                <a:latin typeface="Tahoma"/>
              </a:rPr>
              <a:t>анализ юлы белән табылган мәгълүматларны бер бөтенгә берләштерүдән, гомумиләштерүдән гыйбарәт булган тикшеренү метод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AN00593_"/>
          <p:cNvPicPr/>
          <p:nvPr/>
        </p:nvPicPr>
        <p:blipFill>
          <a:blip r:embed="rId1"/>
          <a:stretch/>
        </p:blipFill>
        <p:spPr>
          <a:xfrm>
            <a:off x="6156360" y="981000"/>
            <a:ext cx="10810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 </a:t>
            </a:r>
            <a:r>
              <a:rPr b="0" lang="en-US" sz="3600" spc="-1" strike="noStrike">
                <a:solidFill>
                  <a:srgbClr val="990033"/>
                </a:solidFill>
                <a:latin typeface="Tahoma"/>
              </a:rPr>
              <a:t>(1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Абый җырлый башла</a:t>
            </a:r>
            <a:r>
              <a:rPr b="1" i="1" lang="tt-RU" sz="4400" spc="-1" strike="noStrike">
                <a:solidFill>
                  <a:srgbClr val="ffffff"/>
                </a:solidFill>
                <a:latin typeface="Tahoma"/>
              </a:rPr>
              <a:t>гач</a:t>
            </a: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караңгы юл киңәеп, яктырып киткәндәй булды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( ... – гач ),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[    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ләр</a:t>
            </a:r>
            <a:r>
              <a:rPr b="0" lang="tt-RU" sz="4400" spc="-1" strike="noStrike">
                <a:solidFill>
                  <a:srgbClr val="990033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990033"/>
                </a:solidFill>
                <a:latin typeface="Tahoma"/>
              </a:rPr>
              <a:t>(2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2.  Ул, д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әресләр иртә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бетү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гә карамас -тан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, өйгә кайтырга ашыкмады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... ,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(...-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гә карамастан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), ..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Иртәгә әнисе авылдан кил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ү сәбәпле,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Нәсимә өйне</a:t>
            </a:r>
            <a:r>
              <a:rPr b="0" i="1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җыештырып куйд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( ... - </a:t>
            </a:r>
            <a:r>
              <a:rPr b="1" i="1" lang="tt-RU" sz="3600" spc="-1" strike="noStrike">
                <a:solidFill>
                  <a:srgbClr val="ffffff"/>
                </a:solidFill>
                <a:latin typeface="Tahoma"/>
              </a:rPr>
              <a:t>ү сәбәпле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),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[   ]</a:t>
            </a:r>
            <a:r>
              <a:rPr b="0" lang="tt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Җөмлә </a:t>
            </a:r>
            <a:r>
              <a:rPr b="0" lang="tt-RU" sz="3600" spc="-1" strike="noStrike">
                <a:solidFill>
                  <a:srgbClr val="990033"/>
                </a:solidFill>
                <a:latin typeface="Tahoma"/>
              </a:rPr>
              <a:t>(3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ff"/>
                </a:solidFill>
                <a:latin typeface="Tahoma"/>
              </a:rPr>
              <a:t>4. Суы салкын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чишмәләр күп          бу тирәдә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t-RU" sz="4400" spc="-1" strike="noStrike">
                <a:solidFill>
                  <a:srgbClr val="ffffff"/>
                </a:solidFill>
                <a:latin typeface="Tahoma"/>
              </a:rPr>
              <a:t>(     )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[     ]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-31608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Tahoma"/>
              </a:rPr>
              <a:t>Таблиц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920880"/>
          <a:ext cx="8642160" cy="5913360"/>
        </p:xfrm>
        <a:graphic>
          <a:graphicData uri="http://schemas.openxmlformats.org/drawingml/2006/table">
            <a:tbl>
              <a:tblPr/>
              <a:tblGrid>
                <a:gridCol w="4825800"/>
                <a:gridCol w="3816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Мисал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Схема </a:t>
                      </a:r>
                      <a:r>
                        <a:rPr b="1" i="1" lang="tt-RU" sz="2000" spc="-1" strike="noStrike">
                          <a:solidFill>
                            <a:srgbClr val="00ccff"/>
                          </a:solidFill>
                          <a:latin typeface="Tahoma"/>
                        </a:rPr>
                        <a:t>һәм бәйләүче чара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   Абый җырлый башла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ч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караңгы юл киңәеп, яктырып киткәндәй бул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ccff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(... 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ач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 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Кушымчал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   Ул,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әресләр иртә бетү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ә карамастан,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йгә кайтырга ашыкма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  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ртәгә әнисе авылдан кил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ү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әбәпле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Нәсимә өйне җыештырып куй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,(...-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ә карамастан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...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(... –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ү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әбәпле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,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Кушымчалар, бәйлек һәм бәйлек сүзлә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  </a:t>
                      </a:r>
                      <a:r>
                        <a:rPr b="0" i="1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ы салкын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чишмәләр күп бу тирәдә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tt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tt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   )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[    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Ике җөмлә арасында пауза юк – янәшә тору чара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990033"/>
                </a:solidFill>
                <a:latin typeface="Tahoma"/>
              </a:rPr>
              <a:t>Синтетик иярчен җөмләләрнең төп билгелә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90216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1. Бәйләүче чаралар – кушымчал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бәйлек һәм бәйлек сүзләр, янәшә тор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2. Бәйләүче чаралар иярчен җөмләнең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хәбәре составында т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3. Синтетик иярчен җөмлә баш җөмләнең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я башында, я уртасында гына килә ала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ахырдан килеп, кушма җөмлән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tt-RU" sz="3200" spc="-1" strike="noStrike">
                <a:solidFill>
                  <a:srgbClr val="ffcc00"/>
                </a:solidFill>
                <a:latin typeface="Tahoma"/>
              </a:rPr>
              <a:t>тәмамлый алм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2480" y="404640"/>
            <a:ext cx="829152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e5ffff"/>
                </a:solidFill>
                <a:latin typeface="Tahoma"/>
              </a:rPr>
              <a:t>                 </a:t>
            </a:r>
            <a:r>
              <a:rPr b="1" i="1" lang="tt-RU" sz="4400" spc="-1" strike="noStrike">
                <a:solidFill>
                  <a:srgbClr val="990033"/>
                </a:solidFill>
                <a:latin typeface="Tahoma"/>
              </a:rPr>
              <a:t>Нәтиҗә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Баш җөмләгә үзенең хәбәре составындагы чаралар ярдәмендә ияргән, шунлыктан аңа керешеп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киткән җөмлә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tt-RU" sz="4400" spc="-1" strike="noStrike">
                <a:solidFill>
                  <a:srgbClr val="ffcc00"/>
                </a:solidFill>
                <a:latin typeface="Tahoma"/>
              </a:rPr>
              <a:t>синтетик иярчен җөмлә</a:t>
            </a:r>
            <a:r>
              <a:rPr b="1" lang="tt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00ccff"/>
                </a:solidFill>
                <a:latin typeface="Tahoma"/>
              </a:rPr>
              <a:t>дип йөртелә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OWL"/>
          <p:cNvPicPr/>
          <p:nvPr/>
        </p:nvPicPr>
        <p:blipFill>
          <a:blip r:embed="rId1"/>
          <a:stretch/>
        </p:blipFill>
        <p:spPr>
          <a:xfrm>
            <a:off x="5364000" y="115920"/>
            <a:ext cx="1872000" cy="1865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8:54:12Z</dcterms:created>
  <dc:creator>User</dc:creator>
  <dc:description/>
  <dc:language>en-US</dc:language>
  <cp:lastModifiedBy>Долгова Лариса</cp:lastModifiedBy>
  <dcterms:modified xsi:type="dcterms:W3CDTF">2012-01-17T05:34:11Z</dcterms:modified>
  <cp:revision>12</cp:revision>
  <dc:subject/>
  <dc:title>Иярчен җөмләләрнең төзелеш ягыннан төрләре</dc:title>
</cp:coreProperties>
</file>