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48C-6339-43B3-87ED-0FDFD706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2A4-A901-47EF-A433-91B0D268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CB3-087B-4102-B0CA-00A4D99F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B8B-7731-48A1-8885-828B3844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ACF-32A0-4A7F-819D-B582D799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7DC-DF9E-41F8-96F4-89F24E0B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11D-8561-45AC-A4F1-E5BB34FA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FE6-DCD3-4453-9BB1-CF122BBA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6AD-84DA-4F3E-A32E-2F445F99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3CA-88E0-4DB1-BAE8-8142BC4E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3F7-3C33-404A-9CA7-6AEE4FCF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94F-B836-4393-91C5-1019F1F0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F303-BA88-4EA4-BE09-A5CD0B763F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-243000"/>
            <a:ext cx="784548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8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tt-RU" sz="8000" spc="-1" strike="noStrike">
                <a:solidFill>
                  <a:srgbClr val="ffcc00"/>
                </a:solidFill>
                <a:latin typeface="Tahoma"/>
              </a:rPr>
              <a:t>Дәрес-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644640"/>
            <a:ext cx="7632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8000" spc="-1" strike="noStrike">
                <a:solidFill>
                  <a:srgbClr val="ffcc00"/>
                </a:solidFill>
                <a:latin typeface="Tahoma"/>
              </a:rPr>
              <a:t>презентация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BOOK1"/>
          <p:cNvPicPr/>
          <p:nvPr/>
        </p:nvPicPr>
        <p:blipFill>
          <a:blip r:embed="rId1"/>
          <a:stretch/>
        </p:blipFill>
        <p:spPr>
          <a:xfrm>
            <a:off x="395280" y="11592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ahoma"/>
              </a:rPr>
              <a:t>Өстәмә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t-RU" sz="3200" spc="-1" strike="noStrike">
                <a:solidFill>
                  <a:srgbClr val="ffcc00"/>
                </a:solidFill>
                <a:latin typeface="Tahoma"/>
              </a:rPr>
              <a:t>Синтетик иярчен җөмләләр татар теленә һәм гомумән төрки телләргә хас, рус телендә алар 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BOOK2"/>
          <p:cNvPicPr/>
          <p:nvPr/>
        </p:nvPicPr>
        <p:blipFill>
          <a:blip r:embed="rId1"/>
          <a:stretch/>
        </p:blipFill>
        <p:spPr>
          <a:xfrm rot="21262200">
            <a:off x="4425480" y="3858840"/>
            <a:ext cx="4106880" cy="2620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ccff"/>
                </a:solidFill>
                <a:latin typeface="Tahoma"/>
              </a:rPr>
              <a:t>Иярчен җөмләләрнең төзелеш ягыннан төрләр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357360"/>
            <a:ext cx="6400800" cy="21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6000" spc="-1" strike="noStrike">
                <a:solidFill>
                  <a:srgbClr val="990033"/>
                </a:solidFill>
                <a:latin typeface="Tahoma"/>
              </a:rPr>
              <a:t>Синтетик иярчен җөмлә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ahoma"/>
              </a:rPr>
              <a:t>Синтетик сүзе нәрсә аңлат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 u="sng">
                <a:solidFill>
                  <a:srgbClr val="00ccff"/>
                </a:solidFill>
                <a:uFillTx/>
                <a:latin typeface="Tahoma"/>
              </a:rPr>
              <a:t>Синтетик</a:t>
            </a:r>
            <a:r>
              <a:rPr b="0" lang="tt-RU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( “синтез” сүзеннән) – </a:t>
            </a:r>
            <a:r>
              <a:rPr b="1" i="1" lang="tt-RU" sz="4000" spc="-1" strike="noStrike">
                <a:solidFill>
                  <a:srgbClr val="ffffff"/>
                </a:solidFill>
                <a:latin typeface="Tahoma"/>
              </a:rPr>
              <a:t>анализ юлы белән табылган мәгълүматларны бер бөтенгә берләштерүдән, гомумиләштерүдән гыйбарәт булган тикшеренү метод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AN00593_"/>
          <p:cNvPicPr/>
          <p:nvPr/>
        </p:nvPicPr>
        <p:blipFill>
          <a:blip r:embed="rId1"/>
          <a:stretch/>
        </p:blipFill>
        <p:spPr>
          <a:xfrm>
            <a:off x="6156360" y="981000"/>
            <a:ext cx="1081080" cy="100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ahoma"/>
              </a:rPr>
              <a:t>Җөмлә </a:t>
            </a: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(1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tt-RU" sz="4400" spc="-1" strike="noStrike">
                <a:solidFill>
                  <a:srgbClr val="ffffff"/>
                </a:solidFill>
                <a:latin typeface="Tahoma"/>
              </a:rPr>
              <a:t>Абый җырлый башла</a:t>
            </a:r>
            <a:r>
              <a:rPr b="1" i="1" lang="tt-RU" sz="4400" spc="-1" strike="noStrike">
                <a:solidFill>
                  <a:srgbClr val="ffffff"/>
                </a:solidFill>
                <a:latin typeface="Tahoma"/>
              </a:rPr>
              <a:t>гач</a:t>
            </a:r>
            <a:r>
              <a:rPr b="0" i="1" lang="tt-RU" sz="4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караңгы юл киңәеп, яктырып киткәндәй булды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( ... – гач ),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[    ]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ahoma"/>
              </a:rPr>
              <a:t>Җөмләләр</a:t>
            </a:r>
            <a:r>
              <a:rPr b="0" lang="tt-RU" sz="44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tt-RU" sz="3600" spc="-1" strike="noStrike">
                <a:solidFill>
                  <a:srgbClr val="990033"/>
                </a:solidFill>
                <a:latin typeface="Tahoma"/>
              </a:rPr>
              <a:t>(2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184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2.  Ул, д</a:t>
            </a:r>
            <a:r>
              <a:rPr b="0" i="1" lang="tt-RU" sz="3600" spc="-1" strike="noStrike">
                <a:solidFill>
                  <a:srgbClr val="ffffff"/>
                </a:solidFill>
                <a:latin typeface="Tahoma"/>
              </a:rPr>
              <a:t>әресләр иртә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tt-RU" sz="3600" spc="-1" strike="noStrike">
                <a:solidFill>
                  <a:srgbClr val="ffffff"/>
                </a:solidFill>
                <a:latin typeface="Tahoma"/>
              </a:rPr>
              <a:t>бетү</a:t>
            </a:r>
            <a:r>
              <a:rPr b="1" i="1" lang="tt-RU" sz="3600" spc="-1" strike="noStrike">
                <a:solidFill>
                  <a:srgbClr val="ffffff"/>
                </a:solidFill>
                <a:latin typeface="Tahoma"/>
              </a:rPr>
              <a:t>гә карамас -тан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, өйгә кайтырга ашыкмады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... ,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(...-</a:t>
            </a:r>
            <a:r>
              <a:rPr b="1" i="1" lang="tt-RU" sz="3600" spc="-1" strike="noStrike">
                <a:solidFill>
                  <a:srgbClr val="ffffff"/>
                </a:solidFill>
                <a:latin typeface="Tahoma"/>
              </a:rPr>
              <a:t>гә карамастан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), ..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i="1" lang="tt-RU" sz="3600" spc="-1" strike="noStrike">
                <a:solidFill>
                  <a:srgbClr val="ffffff"/>
                </a:solidFill>
                <a:latin typeface="Tahoma"/>
              </a:rPr>
              <a:t>Иртәгә әнисе авылдан кил</a:t>
            </a:r>
            <a:r>
              <a:rPr b="1" i="1" lang="tt-RU" sz="3600" spc="-1" strike="noStrike">
                <a:solidFill>
                  <a:srgbClr val="ffffff"/>
                </a:solidFill>
                <a:latin typeface="Tahoma"/>
              </a:rPr>
              <a:t>ү сәбәпле,</a:t>
            </a:r>
            <a:r>
              <a:rPr b="0" i="1" lang="tt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Нәсимә өйне</a:t>
            </a:r>
            <a:r>
              <a:rPr b="0" i="1" lang="tt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җыештырып куйд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( ... - </a:t>
            </a:r>
            <a:r>
              <a:rPr b="1" i="1" lang="tt-RU" sz="3600" spc="-1" strike="noStrike">
                <a:solidFill>
                  <a:srgbClr val="ffffff"/>
                </a:solidFill>
                <a:latin typeface="Tahoma"/>
              </a:rPr>
              <a:t>ү сәбәпле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[   ]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ahoma"/>
              </a:rPr>
              <a:t>Җөмлә </a:t>
            </a:r>
            <a:r>
              <a:rPr b="0" lang="tt-RU" sz="3600" spc="-1" strike="noStrike">
                <a:solidFill>
                  <a:srgbClr val="990033"/>
                </a:solidFill>
                <a:latin typeface="Tahoma"/>
              </a:rPr>
              <a:t>(3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ff"/>
                </a:solidFill>
                <a:latin typeface="Tahoma"/>
              </a:rPr>
              <a:t>4. Суы салкын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чишмәләр күп          бу тирәдә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(     )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[     ]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-31608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ahoma"/>
              </a:rPr>
              <a:t>Таблиц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920880"/>
          <a:ext cx="8642160" cy="5913360"/>
        </p:xfrm>
        <a:graphic>
          <a:graphicData uri="http://schemas.openxmlformats.org/drawingml/2006/table">
            <a:tbl>
              <a:tblPr/>
              <a:tblGrid>
                <a:gridCol w="4825800"/>
                <a:gridCol w="3816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Мисалл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Схема </a:t>
                      </a:r>
                      <a:r>
                        <a:rPr b="1" i="1" lang="tt-RU" sz="20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һәм бәйләүче чарал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   Абый җырлый башла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ач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караңгы юл киңәеп, яктырып киткәндәй бул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(...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ач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,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     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Кушымчал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   Ул, </a:t>
                      </a:r>
                      <a:r>
                        <a:rPr b="0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әресләр иртә бетү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ә карамастан, 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өйгә кайтырга ашыкма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   </a:t>
                      </a:r>
                      <a:r>
                        <a:rPr b="0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ртәгә әнисе авылдан кил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ү</a:t>
                      </a: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әбәпле</a:t>
                      </a: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Нәсимә өйне җыештырып куй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,(...-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ә карамастан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,..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(... – 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ү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әбәпле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,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   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Кушымчалар, бәйлек һәм бәйлек сүзлә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  </a:t>
                      </a:r>
                      <a:r>
                        <a:rPr b="0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ы салкын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чишмәләр күп бу тирәдә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</a:t>
                      </a:r>
                      <a:r>
                        <a:rPr b="0" lang="tt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   )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    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Ике җөмлә арасында пауза юк – янәшә тору чара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90033"/>
                </a:solidFill>
                <a:latin typeface="Tahoma"/>
              </a:rPr>
              <a:t>Синтетик иярчен җөмләләрнең төп билгеләр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9021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1. Бәйләүче чаралар – кушымчала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бәйлек һәм бәйлек сүзләр, янәшә тор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2. Бәйләүче чаралар иярчен җөмләнең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хәбәре составында т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3. Синтетик иярчен җөмлә баш җөмләнең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я башында, я уртасында гына килә ала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ахырдан килеп, кушма җөмлән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тәмамлый алм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2480" y="404640"/>
            <a:ext cx="829152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e5ffff"/>
                </a:solidFill>
                <a:latin typeface="Tahoma"/>
              </a:rPr>
              <a:t>                 </a:t>
            </a:r>
            <a:r>
              <a:rPr b="1" i="1" lang="tt-RU" sz="4400" spc="-1" strike="noStrike">
                <a:solidFill>
                  <a:srgbClr val="990033"/>
                </a:solidFill>
                <a:latin typeface="Tahoma"/>
              </a:rPr>
              <a:t>Нәтиҗә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ccff"/>
                </a:solidFill>
                <a:latin typeface="Tahoma"/>
              </a:rPr>
              <a:t>Баш җөмләгә үзенең хәбәре составындагы чаралар ярдәмендә ияргән, шунлыктан аңа керешеп</a:t>
            </a:r>
            <a:r>
              <a:rPr b="1" lang="tt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t-RU" sz="4400" spc="-1" strike="noStrike">
                <a:solidFill>
                  <a:srgbClr val="00ccff"/>
                </a:solidFill>
                <a:latin typeface="Tahoma"/>
              </a:rPr>
              <a:t>киткән җөмлә</a:t>
            </a:r>
            <a:r>
              <a:rPr b="1" lang="tt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tt-RU" sz="4400" spc="-1" strike="noStrike">
                <a:solidFill>
                  <a:srgbClr val="ffcc00"/>
                </a:solidFill>
                <a:latin typeface="Tahoma"/>
              </a:rPr>
              <a:t>синтетик иярчен җөмлә</a:t>
            </a:r>
            <a:r>
              <a:rPr b="1" lang="tt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t-RU" sz="4400" spc="-1" strike="noStrike">
                <a:solidFill>
                  <a:srgbClr val="00ccff"/>
                </a:solidFill>
                <a:latin typeface="Tahoma"/>
              </a:rPr>
              <a:t>дип йөртел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OWL"/>
          <p:cNvPicPr/>
          <p:nvPr/>
        </p:nvPicPr>
        <p:blipFill>
          <a:blip r:embed="rId1"/>
          <a:stretch/>
        </p:blipFill>
        <p:spPr>
          <a:xfrm>
            <a:off x="5364000" y="115920"/>
            <a:ext cx="1872000" cy="1865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8:54:12Z</dcterms:created>
  <dc:creator>User</dc:creator>
  <dc:description/>
  <dc:language>en-US</dc:language>
  <cp:lastModifiedBy>Долгова Лариса</cp:lastModifiedBy>
  <dcterms:modified xsi:type="dcterms:W3CDTF">2012-01-17T05:34:11Z</dcterms:modified>
  <cp:revision>12</cp:revision>
  <dc:subject/>
  <dc:title>Иярчен җөмләләрнең төзелеш ягыннан төрләре</dc:title>
</cp:coreProperties>
</file>