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134-7FB4-436F-84AC-DE0C56DA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056-159B-4AF5-8098-2C62C40F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592-498F-41A5-902C-68D6C797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BEC-9898-4D66-9EE4-4AA6D1AE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4E0-D895-42BA-BFE5-E059D080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79B-8828-4CF9-A918-30BBCF8C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7FE-510D-4AD2-B5EC-A8D2FE81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980-B6CF-4F04-810C-17BFC5A4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B6B-4595-4B3D-806F-A584AEDE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172-7DE7-4B99-8DEA-424FD046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722-72EE-44AE-B8AA-AD065F24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FF8-E5C9-4242-8FEC-DE17B2C9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86F2-9461-46F9-90E1-AD492E4E5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 Black"/>
              </a:rPr>
              <a:t>B i r t h d a 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88000" y="1600200"/>
            <a:ext cx="20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   B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C  D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   F  G  H 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J  K 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  N  O  P Q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  T 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V W 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Y 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91628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second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ninth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eighteenth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twentieth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eighth letter in the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fourth letter in the AB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first letter in the AB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is the twenty-sixth letter in the AB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2000" y="1197000"/>
            <a:ext cx="83754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My birthday is </a:t>
            </a:r>
            <a:r>
              <a:rPr b="1" lang="en-US" sz="3200" spc="-1" strike="noStrike">
                <a:solidFill>
                  <a:srgbClr val="6600ff"/>
                </a:solidFill>
                <a:latin typeface="Arial Black"/>
              </a:rPr>
              <a:t>on the 16th</a:t>
            </a: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 of Nov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My birthday is </a:t>
            </a:r>
            <a:r>
              <a:rPr b="1" lang="en-US" sz="3200" spc="-1" strike="noStrike">
                <a:solidFill>
                  <a:srgbClr val="6600ff"/>
                </a:solidFill>
                <a:latin typeface="Arial Black"/>
              </a:rPr>
              <a:t>on November,16t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2852640"/>
            <a:ext cx="327816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659640" cy="538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93080" y="549360"/>
            <a:ext cx="1066680" cy="87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streamers"/>
          <p:cNvPicPr/>
          <p:nvPr/>
        </p:nvPicPr>
        <p:blipFill>
          <a:blip r:embed="rId3"/>
          <a:stretch/>
        </p:blipFill>
        <p:spPr>
          <a:xfrm>
            <a:off x="250920" y="5013360"/>
            <a:ext cx="1190520" cy="1361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59640" y="458136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ift box"/>
          <p:cNvPicPr/>
          <p:nvPr/>
        </p:nvPicPr>
        <p:blipFill>
          <a:blip r:embed="rId5"/>
          <a:stretch/>
        </p:blipFill>
        <p:spPr>
          <a:xfrm>
            <a:off x="179280" y="476280"/>
            <a:ext cx="136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6028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0000"/>
                </a:solidFill>
                <a:latin typeface="Cooper Black"/>
              </a:rPr>
              <a:t>I’d like to hav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5084640"/>
            <a:ext cx="1019160" cy="1524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101916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238140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64000" y="98100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916360" y="3213000"/>
            <a:ext cx="1627200" cy="98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1187280" y="3789360"/>
            <a:ext cx="946440" cy="1401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164360" y="184464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3203640" y="4797360"/>
            <a:ext cx="1428840" cy="145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916360" y="1628640"/>
            <a:ext cx="903240" cy="1150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588000" y="4149720"/>
            <a:ext cx="1920960" cy="1444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292720" y="2781360"/>
            <a:ext cx="1322280" cy="1322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48000" y="4076640"/>
            <a:ext cx="12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1640" y="2708280"/>
            <a:ext cx="20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Roller-sk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0684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0880" y="522936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d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94280" y="62373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Teddy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080" y="299736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scoo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72720" y="40053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78680" y="3141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51120" y="5827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oper Black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71920" y="1484280"/>
            <a:ext cx="7078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oper Black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oper Black"/>
              </a:rPr>
              <a:t>Упр.4 стр.72(учебник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oper Black"/>
              </a:rPr>
              <a:t>учить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00" y="4581360"/>
            <a:ext cx="1854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54:35Z</dcterms:created>
  <dc:creator>1</dc:creator>
  <dc:description/>
  <dc:language>en-US</dc:language>
  <cp:lastModifiedBy>1</cp:lastModifiedBy>
  <dcterms:modified xsi:type="dcterms:W3CDTF">2010-01-27T22:21:05Z</dcterms:modified>
  <cp:revision>5</cp:revision>
  <dc:subject/>
  <dc:title>B i r t h d a y </dc:title>
</cp:coreProperties>
</file>