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F60-9255-4224-ADA4-368C59D8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C21-5964-4037-8A8B-FA5BCBAF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CF3-29D5-4F59-AA4F-A3873EA0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58A-6CA9-4059-9ABB-CBA80112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C27-3533-4843-B513-CF7BABD5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A4C-3EC2-4F4F-9695-0FF1F80E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72C-D1D8-4248-90A2-83EAA6BF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8DA-2260-47DD-A767-D37A9016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EE6-BAF7-4954-A7C6-70C8FAF7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5E3-2A7D-4E13-B0AA-5265AC4F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16E-5E68-47C4-BC6C-31BF4130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457-C733-478C-A51A-3D745397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BE7C-EAA5-454E-BF81-E0D27CFF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 Black"/>
              </a:rPr>
              <a:t>B i r t h d a 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88000" y="1600200"/>
            <a:ext cx="20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   B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C  D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   F  G  H 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J  K 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  N  O  P Q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  T 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V W 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Y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91628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second letter in the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ninth letter in the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eighteenth letter in the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twentieth letter in the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eighth letter in the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fourth letter in the AB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first letter in the AB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twenty-sixth letter in the AB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2000" y="1197000"/>
            <a:ext cx="83754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My birthday is </a:t>
            </a:r>
            <a:r>
              <a:rPr b="1" lang="en-US" sz="3200" spc="-1" strike="noStrike">
                <a:solidFill>
                  <a:srgbClr val="6600ff"/>
                </a:solidFill>
                <a:latin typeface="Arial Black"/>
              </a:rPr>
              <a:t>on the 16th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of Nov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My birthday is </a:t>
            </a:r>
            <a:r>
              <a:rPr b="1" lang="en-US" sz="3200" spc="-1" strike="noStrike">
                <a:solidFill>
                  <a:srgbClr val="6600ff"/>
                </a:solidFill>
                <a:latin typeface="Arial Black"/>
              </a:rPr>
              <a:t>on November,16t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327816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659640" cy="538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93080" y="549360"/>
            <a:ext cx="1066680" cy="87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streamers"/>
          <p:cNvPicPr/>
          <p:nvPr/>
        </p:nvPicPr>
        <p:blipFill>
          <a:blip r:embed="rId3"/>
          <a:stretch/>
        </p:blipFill>
        <p:spPr>
          <a:xfrm>
            <a:off x="250920" y="5013360"/>
            <a:ext cx="1190520" cy="1361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59640" y="458136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ift box"/>
          <p:cNvPicPr/>
          <p:nvPr/>
        </p:nvPicPr>
        <p:blipFill>
          <a:blip r:embed="rId5"/>
          <a:stretch/>
        </p:blipFill>
        <p:spPr>
          <a:xfrm>
            <a:off x="179280" y="476280"/>
            <a:ext cx="136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6028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Cooper Black"/>
              </a:rPr>
              <a:t>I’d like to hav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5084640"/>
            <a:ext cx="1019160" cy="1524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101916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238140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64000" y="98100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916360" y="3213000"/>
            <a:ext cx="1627200" cy="984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187280" y="3789360"/>
            <a:ext cx="946440" cy="1401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164360" y="1844640"/>
            <a:ext cx="1158840" cy="1209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3203640" y="4797360"/>
            <a:ext cx="1428840" cy="145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2916360" y="1628640"/>
            <a:ext cx="903240" cy="1150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588000" y="4149720"/>
            <a:ext cx="1920960" cy="1444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5292720" y="2781360"/>
            <a:ext cx="1322280" cy="132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48000" y="4076640"/>
            <a:ext cx="12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1640" y="270828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Roller-sk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0684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0880" y="522936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d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94280" y="623736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Teddy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7080" y="299736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scoo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72720" y="40053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78680" y="31417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51120" y="5827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71920" y="1484280"/>
            <a:ext cx="7078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oper Black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oper Black"/>
              </a:rPr>
              <a:t>Упр.4 стр.72(учебник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oper Black"/>
              </a:rPr>
              <a:t>учить 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48000" y="4581360"/>
            <a:ext cx="1854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8:54:35Z</dcterms:created>
  <dc:creator>1</dc:creator>
  <dc:description/>
  <dc:language>en-US</dc:language>
  <cp:lastModifiedBy>1</cp:lastModifiedBy>
  <dcterms:modified xsi:type="dcterms:W3CDTF">2010-01-27T22:21:05Z</dcterms:modified>
  <cp:revision>5</cp:revision>
  <dc:subject/>
  <dc:title>B i r t h d a y </dc:title>
</cp:coreProperties>
</file>