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97ED-0248-457A-9295-EDC74295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390D-748E-40EB-8278-6B29082C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0783-96DF-4AC6-8E84-7C6C0A3B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44E2A-13D1-4AA0-8F21-977DBD18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845D-C646-4B46-B822-7865CC3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6262-771A-4675-BE9A-8E401358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A899-BCAD-4B61-8691-ECD35151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E6B-E013-4DC3-94BC-31623358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D3BF-792F-4CD5-B0C1-414C97F8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D6BB-345C-4E3A-A1D7-6638D97D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B13-F693-46CE-892D-F0F0079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12A2-AF85-43DA-B959-52DC322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2A7-A8E2-4B1D-A27A-13A47CD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E5B9-ACC8-4EEB-A9EA-C0046BB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952-36C6-473E-B241-3A63EBA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1EC2-4019-4BE0-9BDE-CD85DE70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28D-ED4B-4AA6-8339-3A4FDB6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2412-327C-4A91-8927-AFCBB67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03EB-088F-495E-A9A9-CB9D079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B53C-7436-4CFB-9C45-7F8D0EE6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51E3-1F11-43B4-B774-249327A2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9E3C-F1F6-4856-874F-983B28CA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287B-A94C-4E3F-85DA-2B41F93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17AD-6410-44D7-B4B2-06D1AF3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E05-1486-4F72-9879-B24BC2D27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D25F-2695-4D3A-9363-62E5D986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eter_Tschaikows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lib-rar.com/images/knigi.jpg&amp;imgrefurl=http://lib-rar.com/lib_boks_109894.html&amp;h=395&amp;w=537&amp;sz=48&amp;tbnid=lmvQcnqhHVgg4M:&amp;tbnh=97&amp;tbnw=132&amp;prev=/images%3Fq%3D%25D0%25BA%25D0%25BD%25D0%25B8%25D0%25B3%25D0%25B8%2B%25D1%2584%25D0%25BE%25D1%2582%25D0%25BE&amp;zoom=1&amp;q=&#1082;&#1085;&#1080;&#1075;&#1080;+&#1092;&#1086;&#1090;&#1086;&amp;hl=ru&amp;usg=__ZK05mZV89ZtTbtPsnl7YpaXwIDw=&amp;sa=X&amp;ei=ilfsTKb8LoXtOeKUrXU&amp;ved=0CCYQ9QEwA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Portr&#228;t_des_Komponisten_Pjotr_I._Tschaikowski_(1840-1893)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chaikovsky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19320" y="4495680"/>
            <a:ext cx="5905440" cy="17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ётр Ильич Чайков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1840-1893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" descr="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9440" y="0"/>
            <a:ext cx="3273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ристрастие к литератур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Интерес к литературе у маленького Чайковского был с детств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Именно литература была самым интересным занятием для Чайковског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ниги проходят через всю жизнь композито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реди русских классиков: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Был первым и успешным композитором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Музыка его завоевала любовь многих слушателей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Формула успеха его таков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Чайковский не боялся быть искренним как с самим  собою, так и со слушателя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722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ервый рояль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248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Самые известные произведения П.И.Чайковского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Лебединое озеро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Щелкунчи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Балет «Спящая красавиц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Евгений Онегин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Пиковая дам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пера «Опричник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Музыка к сказке Островского «Снегурочк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имфонии к спектаклям «Ромео и Джульетта», «Гроза»; славянский марш и друг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«Времена год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Смерть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Жизнь великого композитора  оборвалась неожида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оехал писать 6 симфони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Через 9 дней умер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                              </a:t>
            </a:r>
            <a:r>
              <a:rPr b="0" lang="ru-RU" sz="3600" spc="-1" strike="noStrike">
                <a:solidFill>
                  <a:srgbClr val="009900"/>
                </a:solidFill>
                <a:latin typeface="Garamond"/>
              </a:rPr>
              <a:t>Версии: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несли стакан заражённой воды, Чайковский выпил его и заразился холерой…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Но и есть другая версия Великий русский Композитор покончил жизнь самоубийством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Причина смерти его  не известн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4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Дом- музей П.И.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91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Знакомы ли вы с творчеством П.И. Чайковского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3200400"/>
          <a:ext cx="5257800" cy="35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525780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зучали ли вы творчество И.П. Чайковского в школе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71600" y="3124080"/>
          <a:ext cx="518148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24080"/>
                    <a:ext cx="518148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лышали ли вы хотя бы одну из симфоний П.И. Чайковского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3200400"/>
          <a:ext cx="487656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200400"/>
                    <a:ext cx="487656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Хотели бы вы узнать больше о П.И. Чайковском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76520" y="3200400"/>
          <a:ext cx="502920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00400"/>
                    <a:ext cx="50292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Задачи работы: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Ознакомиться с жизнью Петра Ильича Чайковского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Понять почему Чайковский выбрал путь композитор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Ознакомиться с его жизненными интереса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Рассмотреть мнения ребят о Великом Русском Композитор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28600"/>
            <a:ext cx="1828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Опрос через Интернет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акое из произведений П.И. Чайковского больше всего тебе нравиться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Лебединое озеро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Щелкунчик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«Евгений Онегин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Году жизни П.И. Чайковского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ем были родители композитора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Любимое занятие П.И. Чайковского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Какие произведения написал П.И. Чайковский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457200"/>
            <a:ext cx="7010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запомнил ты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86600" y="2514600"/>
            <a:ext cx="1828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95280" y="609480"/>
            <a:ext cx="586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ложени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" descr="Книги"/>
          <p:cNvPicPr/>
          <p:nvPr/>
        </p:nvPicPr>
        <p:blipFill>
          <a:blip r:embed="rId1"/>
          <a:stretch/>
        </p:blipFill>
        <p:spPr>
          <a:xfrm>
            <a:off x="2971800" y="2362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Ведение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Пётр Ильич Чайковский, Великий русский композитор, его музыка популярна до сих пор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Мы можем сказать без сомнений: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Garamond"/>
              </a:rPr>
              <a:t>«Пётр Ильич Чайковский- лицо Росси!»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098200">
            <a:off x="7543800" y="304560"/>
            <a:ext cx="11239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Пётр Ильич Чайковский…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.И. Чайковский  великий русский композитор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оставил эпоху в истории мировой музыкальной культур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Жизнь- непрерывный настойчивый труд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Чайковский педагог, дирижёр, критик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1752480"/>
            <a:ext cx="1298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Начало творческой жизни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Родители Петра Ильича Чайковского были музыкантам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В доме часто проходили концерты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 самого детства маленький Пётр привыкал к музык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Юность П.И.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В 1866 году Чайковский временно переезжает в Москву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И, по требованию Рубинштейна, становиться учителем только что открывшейся консерватор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Тут же сочинил свои первые композиции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6114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емья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Семью у Чайковского была большая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Не бедная, так как родители музыканты и концерты в доме проходили каждый день(иногда не бесплатно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Пётр Ильич не упускал случая поглумиться над гербом и дворянской фамилии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Семья П.И. Чайковского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219320" y="304920"/>
            <a:ext cx="621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адьба Чайковского(музей)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2</cp:lastModifiedBy>
  <dcterms:modified xsi:type="dcterms:W3CDTF">2010-11-24T02:18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