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ACB31-9A56-458C-A189-11F944715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1028F-EF81-4A42-B6BE-D75DF875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40A4C-3A3B-49C6-9314-085A25C4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42921-2BCF-420F-A5A8-445BAED2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3F48-852E-4304-8FF4-F6FD8CE9E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9042-015E-4950-B2F5-DE883410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2DC9-9B51-495A-A549-69216819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96CA-3F1D-4133-8D0B-C7A2556A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8343-1FA4-4A07-9869-9FB0034C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AEBE-1033-4446-931B-DE40C19D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BFF9-24E0-4977-92CA-F254A838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84D65-5CA4-42C0-8459-B2FDF402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8068-B11B-45E1-BD00-F1EBDCD8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62F5-326B-4E51-99AB-0EDEEE4C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34BF-699F-47A8-A46B-ADEB5AF9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F169-6EE3-4B4E-A525-C98CC391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F10D-685D-403E-A88D-502713FB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88636-741C-4F4B-BE62-84BA9F90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9C286-38B3-4594-BBB5-1AB00891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7B365-2C3B-4062-8AE8-76ECC548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C46F2-DE26-4DA0-A1CC-432DFFEB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1CC9C-183A-44C9-A173-2944DAA0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7BEB4-C90B-43AE-A8B7-A1495355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D6335-D892-4F71-9195-6914FE9C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73D8-5016-4EA5-B2D9-C2FAA5253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6BDC-BD98-4075-8EDF-5DEA61A82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Peter_Tschaikowski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lib-rar.com/images/knigi.jpg&amp;imgrefurl=http://lib-rar.com/lib_boks_109894.html&amp;h=395&amp;w=537&amp;sz=48&amp;tbnid=lmvQcnqhHVgg4M:&amp;tbnh=97&amp;tbnw=132&amp;prev=/images%3Fq%3D%25D0%25BA%25D0%25BD%25D0%25B8%25D0%25B3%25D0%25B8%2B%25D1%2584%25D0%25BE%25D1%2582%25D0%25BE&amp;zoom=1&amp;q=&#1082;&#1085;&#1080;&#1075;&#1080;+&#1092;&#1086;&#1090;&#1086;&amp;hl=ru&amp;usg=__ZK05mZV89ZtTbtPsnl7YpaXwIDw=&amp;sa=X&amp;ei=ilfsTKb8LoXtOeKUrXU&amp;ved=0CCYQ9QEwAQ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Portr&#228;t_des_Komponisten_Pjotr_I._Tschaikowski_(1840-1893)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chaikovsky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219320" y="4495680"/>
            <a:ext cx="5905440" cy="174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ётр Ильич Чайков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1840-1893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" descr="фот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9440" y="0"/>
            <a:ext cx="3273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Пристрастие к литературе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Интерес к литературе у маленького Чайковского был с детств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Именно литература была самым интересным занятием для Чайковского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Книги проходят через всю жизнь композитор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Среди русских классиков: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Был первым и успешным композитором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Музыка его завоевала любовь многих слушателей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Формула успеха его такова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Чайковский не боялся быть искренним как с самим  собою, так и со слушателями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315200" y="4572000"/>
            <a:ext cx="1722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Первый рояль Чайковского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248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Самые известные произведения П.И.Чайковского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Балет «Лебединое озеро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Балет «Щелкунчик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Балет «Спящая красавиц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Опера «Евгений Онегин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Опера «Пиковая дам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Опера «Опричник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Музыка к сказке Островского «Снегурочк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Симфонии к спектаклям «Ромео и Джульетта», «Гроза»; славянский марш и друг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«Времена год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Garamond"/>
              </a:rPr>
              <a:t>Смерть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Жизнь великого композитора  оборвалась неожиданно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Поехал писать 6 симфонию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Через 9 дней умер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                              </a:t>
            </a:r>
            <a:r>
              <a:rPr b="0" lang="ru-RU" sz="3600" spc="-1" strike="noStrike">
                <a:solidFill>
                  <a:srgbClr val="009900"/>
                </a:solidFill>
                <a:latin typeface="Garamond"/>
              </a:rPr>
              <a:t>Версии: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Принесли стакан заражённой воды, Чайковский выпил его и заразился холерой…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о и есть другая версия Великий русский Композитор покончил жизнь самоубийством!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Причина смерти его  не известн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010280" y="56386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742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Дом- музей П.И. Чайковского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3914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Опрос через Интернет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Знакомы ли вы с творчеством П.И. Чайковского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19320" y="3200400"/>
          <a:ext cx="5257800" cy="35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200400"/>
                    <a:ext cx="5257800" cy="35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Опрос через Интернет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Изучали ли вы творчество И.П. Чайковского в школе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371600" y="3124080"/>
          <a:ext cx="5181480" cy="34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124080"/>
                    <a:ext cx="5181480" cy="34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Опрос через Интернет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Слышали ли вы хотя бы одну из симфоний П.И. Чайковского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447920" y="3200400"/>
          <a:ext cx="4876560" cy="32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200400"/>
                    <a:ext cx="487656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Опрос через Интернет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Хотели бы вы узнать больше о П.И. Чайковском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676520" y="3200400"/>
          <a:ext cx="5029200" cy="33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200400"/>
                    <a:ext cx="502920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Задачи работы: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Garamond"/>
              </a:rPr>
              <a:t>Ознакомиться с жизнью Петра Ильича Чайковского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Garamond"/>
              </a:rPr>
              <a:t>Понять почему Чайковский выбрал путь композитор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Garamond"/>
              </a:rPr>
              <a:t>Ознакомиться с его жизненными интересами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Garamond"/>
              </a:rPr>
              <a:t>Рассмотреть мнения ребят о Великом Русском Композиторе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228600"/>
            <a:ext cx="182880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Опрос через Интернет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Какое из произведений П.И. Чайковского больше всего тебе нравиться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«Лебединое озеро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«Щелкунчик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«Евгений Онегин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Году жизни П.И. Чайковского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Кем были родители композитора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Любимое занятие П.И. Чайковского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Какие произведения написал П.И. Чайковский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90720" y="457200"/>
            <a:ext cx="7010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запомнил ты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086600" y="2514600"/>
            <a:ext cx="182880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95280" y="609480"/>
            <a:ext cx="5867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ложение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8" name="" descr="Книги"/>
          <p:cNvPicPr/>
          <p:nvPr/>
        </p:nvPicPr>
        <p:blipFill>
          <a:blip r:embed="rId1"/>
          <a:stretch/>
        </p:blipFill>
        <p:spPr>
          <a:xfrm>
            <a:off x="2971800" y="2362320"/>
            <a:ext cx="3505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Ведение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Garamond"/>
              </a:rPr>
              <a:t>Пётр Ильич Чайковский, Великий русский композитор, его музыка популярна до сих пор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Garamond"/>
              </a:rPr>
              <a:t>Мы можем сказать без сомнений: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Garamond"/>
              </a:rPr>
              <a:t>«Пётр Ильич Чайковский- лицо Росси!»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0098200">
            <a:off x="7543800" y="304560"/>
            <a:ext cx="11239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Пётр Ильич Чайковский…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П.И. Чайковский  великий русский композитор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оставил эпоху в истории мировой музыкальной культуры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Жизнь- непрерывный настойчивый труд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Чайковский педагог, дирижёр, критик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1752480"/>
            <a:ext cx="12985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Начало творческой жизни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Родители Петра Ильича Чайковского были музыкантами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В доме часто проходили концерты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 самого детства маленький Пётр привыкал к музыке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657600" y="396252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Юность П.И.Чайковского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38480" y="1599840"/>
            <a:ext cx="4648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В 1866 году Чайковский временно переезжает в Москву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И, по требованию Рубинштейна, становиться учителем только что открывшейся консерватории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Тут же сочинил свои первые композиции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261144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Семья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емью у Чайковского была большая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Не бедная, так как родители музыканты и концерты в доме проходили каждый день(иногда не бесплатно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Пётр Ильич не упускал случая поглумиться над гербом и дворянской фамилии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Семья П.И. Чайковского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934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1219320" y="304920"/>
            <a:ext cx="621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адьба Чайковского(музей)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2</cp:lastModifiedBy>
  <dcterms:modified xsi:type="dcterms:W3CDTF">2010-11-24T02:18:4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