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ABA2-7265-4FC1-8215-EA2C9E483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E7AE-AF88-4305-937C-1E738597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6440-FE98-4B10-A71D-2B1BCEF35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369D-F13A-4B28-9F03-2B2BB4144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1BF1-343C-4068-BA07-DCC012229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D652-992A-4245-BDD4-128198A8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8091-2A94-441B-B110-EF14FBC3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5FB9-A2BB-43DD-B629-C3615C2A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E427-E943-4BC5-B714-48BC2E45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87F7-AB30-485F-941B-1167FB16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0B3D-0566-4C39-AC83-93B79E67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A12C-DBCC-4A57-A8FC-31BED310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D791-88DC-4A34-A56E-84A19F3A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5074-E6E2-495A-9B77-2FA0B9A0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4720-574F-4482-8BED-E46752AC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ACAA-E6AA-4D23-BAAF-A33F95494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DA23-7A6F-4895-8518-B960B16FC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014B-91BD-4ADE-94AC-1497BCD1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64F3-6C64-4ACC-8FAD-46B6514E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4A8C-9483-4A87-9130-F494F764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23A8-5B43-4CF9-A228-F1C77DFD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5477-E8C2-477D-878F-813CFA2D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9602-39DF-45F3-B083-222C6DD6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72FE-8D9F-4F6F-966A-38CDE9C7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A166-5A97-4FE1-8746-07DC21DF5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FBE2-F26C-42AE-A976-1A5CF97258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Kapitolinischer_Pythagoras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ibonacci2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ru.wikipedia.org/wiki/&#1060;&#1072;&#1081;&#1083;:Fibonacci2.jpg" TargetMode="Externa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4.xml"/><Relationship Id="rId6" Type="http://schemas.openxmlformats.org/officeDocument/2006/relationships/slide" Target="slide21.xml"/><Relationship Id="rId7" Type="http://schemas.openxmlformats.org/officeDocument/2006/relationships/slide" Target="slide22.xml"/><Relationship Id="rId8" Type="http://schemas.openxmlformats.org/officeDocument/2006/relationships/slide" Target="slide23.xml"/><Relationship Id="rId9" Type="http://schemas.openxmlformats.org/officeDocument/2006/relationships/slide" Target="slide24.xml"/><Relationship Id="rId10" Type="http://schemas.openxmlformats.org/officeDocument/2006/relationships/slideLayout" Target="../slideLayouts/slideLayout1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60;&#1072;&#1081;&#1083;:Magnitsky.djvu&amp;page=3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3850920" y="3449160"/>
            <a:ext cx="1047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979640" y="1268280"/>
            <a:ext cx="5040360" cy="407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Дроб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 spd="slow" advTm="1000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Система дробей в Вавилон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глиняных табличках видим подтверждение 60-ричной системы счисления 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Picture 1" descr=""/>
          <p:cNvPicPr/>
          <p:nvPr/>
        </p:nvPicPr>
        <p:blipFill>
          <a:blip r:embed="rId1"/>
          <a:stretch/>
        </p:blipFill>
        <p:spPr>
          <a:xfrm>
            <a:off x="1214280" y="2786040"/>
            <a:ext cx="3533760" cy="1371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2"/>
          <a:stretch/>
        </p:blipFill>
        <p:spPr>
          <a:xfrm>
            <a:off x="1214280" y="4643280"/>
            <a:ext cx="5762880" cy="103824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6"/>
          <p:cNvSpPr/>
          <p:nvPr/>
        </p:nvSpPr>
        <p:spPr>
          <a:xfrm>
            <a:off x="0" y="14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3794"/>
                </a:moveTo>
                <a:lnTo>
                  <a:pt x="33183" y="10800"/>
                </a:lnTo>
                <a:lnTo>
                  <a:pt x="1917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10800"/>
                </a:moveTo>
                <a:lnTo>
                  <a:pt x="33183" y="3794"/>
                </a:lnTo>
                <a:lnTo>
                  <a:pt x="33183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">
            <a:hlinkClick r:id="rId3" action="ppaction://hlinksldjump"/>
          </p:cNvPr>
          <p:cNvSpPr/>
          <p:nvPr/>
        </p:nvSpPr>
        <p:spPr>
          <a:xfrm>
            <a:off x="4282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2000">
    <p:wipe dir="d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600"/>
                            </p:stCondLst>
                            <p:childTnLst>
                              <p:par>
                                <p:cTn id="19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100"/>
                            </p:stCondLst>
                            <p:childTnLst>
                              <p:par>
                                <p:cTn id="19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Система дробей в Рим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нтересная система дробей была в Древнем Риме. Она основывалась на делении на 12 долей единицы веса, которая называлась асс. Двенадцатую долю асса называли унцией. А путь, время и другие величины сравнивали с наглядной вещью - весом. Например, римлянин мог сказать, что он прошел семь унций пути или прочел пять унций книги. При этом, конечно, речь не шла о взвешивании пути или книги. Имелось в виду, что пройдено 7/12 пути или прочтено 5/12 книги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3794"/>
                </a:moveTo>
                <a:lnTo>
                  <a:pt x="33183" y="10800"/>
                </a:lnTo>
                <a:lnTo>
                  <a:pt x="1917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10800"/>
                </a:moveTo>
                <a:lnTo>
                  <a:pt x="33183" y="3794"/>
                </a:lnTo>
                <a:lnTo>
                  <a:pt x="33183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">
            <a:hlinkClick r:id="rId1" action="ppaction://hlinksldjump"/>
          </p:cNvPr>
          <p:cNvSpPr/>
          <p:nvPr/>
        </p:nvSpPr>
        <p:spPr>
          <a:xfrm>
            <a:off x="4282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0">
    <p:wipe dir="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42560" y="214200"/>
            <a:ext cx="85438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дробей со знаменателем , кратным 12 , применялись особые названия , всего их было 18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/12 асса – унц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/24 асса – полунции – «семиунция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/2 асса – «семис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/6 асса – «секстанс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вот дробь 1/288 асса = 1/24 унции называлась «скрупулус» , откуда пошло современное слово «скрупулёзный»  - точный , подробный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3794"/>
                </a:moveTo>
                <a:lnTo>
                  <a:pt x="33183" y="10800"/>
                </a:lnTo>
                <a:lnTo>
                  <a:pt x="1917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10800"/>
                </a:moveTo>
                <a:lnTo>
                  <a:pt x="33183" y="3794"/>
                </a:lnTo>
                <a:lnTo>
                  <a:pt x="33183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4282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0">
    <p:wipe dir="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150"/>
                            </p:stCondLst>
                            <p:childTnLst>
                              <p:par>
                                <p:cTn id="22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300"/>
                            </p:stCondLst>
                            <p:childTnLst>
                              <p:par>
                                <p:cTn id="2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200"/>
                            </p:stCondLst>
                            <p:childTnLst>
                              <p:par>
                                <p:cTn id="24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8400"/>
                            </p:stCondLst>
                            <p:childTnLst>
                              <p:par>
                                <p:cTn id="25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9750"/>
                            </p:stCondLst>
                            <p:childTnLst>
                              <p:par>
                                <p:cTn id="2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85840" y="21384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имские купцы твёрдо знали , при сложении «триенса» и «секстанса» получается «семис»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умножении «беса» на «сескунцию» получается «унция»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4" name="Picture 1" descr=""/>
          <p:cNvPicPr/>
          <p:nvPr/>
        </p:nvPicPr>
        <p:blipFill>
          <a:blip r:embed="rId1"/>
          <a:stretch/>
        </p:blipFill>
        <p:spPr>
          <a:xfrm>
            <a:off x="2428920" y="1857240"/>
            <a:ext cx="2533680" cy="13716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0" y="1828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2"/>
          <a:stretch/>
        </p:blipFill>
        <p:spPr>
          <a:xfrm>
            <a:off x="2286000" y="4714920"/>
            <a:ext cx="2590920" cy="13716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6"/>
          <p:cNvSpPr/>
          <p:nvPr/>
        </p:nvSpPr>
        <p:spPr>
          <a:xfrm>
            <a:off x="0" y="1889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3794"/>
                </a:moveTo>
                <a:lnTo>
                  <a:pt x="33183" y="10800"/>
                </a:lnTo>
                <a:lnTo>
                  <a:pt x="1917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10800"/>
                </a:moveTo>
                <a:lnTo>
                  <a:pt x="33183" y="3794"/>
                </a:lnTo>
                <a:lnTo>
                  <a:pt x="33183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4282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0">
    <p:wipe dir="d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650"/>
                            </p:stCondLst>
                            <p:childTnLst>
                              <p:par>
                                <p:cTn id="2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650"/>
                            </p:stCondLst>
                            <p:childTnLst>
                              <p:par>
                                <p:cTn id="2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150"/>
                            </p:stCondLst>
                            <p:childTnLst>
                              <p:par>
                                <p:cTn id="29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Система долей в Гре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греческих сочинениях по математике дробей не встречалось. Греческие ученые считали, что математика должна заниматься только целыми числами. Возиться с дробями они предоставляли купцам, ремесленникам, а также астрономам, землемерам, механикам и другому "черному люду". Но старая пословица гласит: "Гони природу в дверь - она влетит в окно". Поэтому и в строго научные сочинения греков дроби проникали "с заднего хода". Кроме арифметики и геометрии, в греческую науку входила музыка. Музыкой греки называли учение о гармонии. Это учение опиралось на ту часть нашей арифметики, в которой говорится об отношениях и пропорциях. Греки знали: чем длиннее натянутая струна, тем ниже получается звук, который она издает, а короткая струна издает высокий звук. Но у всякого музыкального инструмента не одна, а несколько струн. Для того чтобы все струны при игре звучали "согласно", приятно для слуха, длины звучащих частей их должны быть в определенном отношении. Поэтому учение об отношениях и дробях использовалось в греческой теории музыки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3794"/>
                </a:moveTo>
                <a:lnTo>
                  <a:pt x="33183" y="10800"/>
                </a:lnTo>
                <a:lnTo>
                  <a:pt x="1917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10800"/>
                </a:moveTo>
                <a:lnTo>
                  <a:pt x="33183" y="3794"/>
                </a:lnTo>
                <a:lnTo>
                  <a:pt x="33183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4282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0">
    <p:wipe dir="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Содержимое 3" descr="Изображени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1071720"/>
            <a:ext cx="2793960" cy="37209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357720" y="214200"/>
            <a:ext cx="557208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ревнегреческий математик Пифагор так ответил на вопрос о количестве его учеников : «Половина моих учеников изучает математику , четвёртая часть изучает природу , седьмая часть проводит время в молчаливом размышлении , остальную часть составляют три девы». В современных обозначениях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ех учеников составляют 3 девы. Значит всего учеников 28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Прямоугольник 10"/>
          <p:cNvSpPr/>
          <p:nvPr/>
        </p:nvSpPr>
        <p:spPr>
          <a:xfrm>
            <a:off x="714240" y="57168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Πυθαγόρα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3"/>
          <a:stretch/>
        </p:blipFill>
        <p:spPr>
          <a:xfrm>
            <a:off x="4429080" y="4000680"/>
            <a:ext cx="3267000" cy="809280"/>
          </a:xfrm>
          <a:prstGeom prst="rect">
            <a:avLst/>
          </a:prstGeom>
          <a:ln w="0">
            <a:noFill/>
          </a:ln>
        </p:spPr>
      </p:pic>
      <p:sp>
        <p:nvSpPr>
          <p:cNvPr id="262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10800"/>
                </a:moveTo>
                <a:lnTo>
                  <a:pt x="33183" y="3794"/>
                </a:lnTo>
                <a:lnTo>
                  <a:pt x="33183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3794"/>
                </a:moveTo>
                <a:lnTo>
                  <a:pt x="33183" y="10800"/>
                </a:lnTo>
                <a:lnTo>
                  <a:pt x="1917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4282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0">
    <p:wipe dir="d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4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6000"/>
                            </p:stCondLst>
                            <p:childTnLst>
                              <p:par>
                                <p:cTn id="34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7000"/>
                            </p:stCondLst>
                            <p:childTnLst>
                              <p:par>
                                <p:cTn id="3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4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357120" y="213840"/>
            <a:ext cx="82677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ибольшего развития теория обыкновенных дробей в древности достигла в Индии . Современное обозначение дробей берет свое начало также в Древней Индии. В начал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олетия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дийцы знали и формулировали правила действий над обыкновенными дробями .Позже его стали использовать и арабы, а от них в Х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Х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еках оно было заимствовано европейцами. Вначале в записи дробей не использовалась дробная черта; например, число 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5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писывалось так    1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4"/>
              <p:cNvSpPr txBox="1"/>
              <p:nvPr/>
            </p:nvSpPr>
            <p:spPr>
              <a:xfrm>
                <a:off x="-4540320" y="3363840"/>
                <a:ext cx="1382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7" name="Text Box 5"/>
          <p:cNvSpPr/>
          <p:nvPr/>
        </p:nvSpPr>
        <p:spPr>
          <a:xfrm>
            <a:off x="-3282840" y="3179880"/>
            <a:ext cx="22860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-454032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539640" y="3852720"/>
            <a:ext cx="7272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-4539600" y="3630240"/>
            <a:ext cx="22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записывалось так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10800"/>
                </a:moveTo>
                <a:lnTo>
                  <a:pt x="33183" y="3794"/>
                </a:lnTo>
                <a:lnTo>
                  <a:pt x="33183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3794"/>
                </a:moveTo>
                <a:lnTo>
                  <a:pt x="33183" y="10800"/>
                </a:lnTo>
                <a:lnTo>
                  <a:pt x="1917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4282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0">
    <p:wipe dir="d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Содержимое 6" descr="http://upload.wikimedia.org/wikipedia/commons/thumb/3/35/Fibonacci2.jpg/180px-Fibonacci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1285920"/>
            <a:ext cx="2286000" cy="300996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999880" y="214200"/>
            <a:ext cx="59295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ерта дроби  стала постоянно использоваться лишь около 300 лет назад. Первым европейским ученым, который стал использовать и распространять современную запись дробей, был итальянский купец и путешественник, сын городского писаря Фибоначчи (Леонардо Пизанский) в 1202г в труде «Книга абака». Он ввел слово «дробь», черту дроби , стал приводить дроби к наименьшему общему знаменателю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7" name="Рисунок 10" descr="http://ru.wikipedia.org/skins-1.5/common/images/magnify-clip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57200"/>
            <a:ext cx="142920" cy="10476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4"/>
          <p:cNvSpPr/>
          <p:nvPr/>
        </p:nvSpPr>
        <p:spPr>
          <a:xfrm>
            <a:off x="142920" y="481680"/>
            <a:ext cx="2714760" cy="642600"/>
          </a:xfrm>
          <a:prstGeom prst="rect">
            <a:avLst/>
          </a:prstGeom>
          <a:solidFill>
            <a:srgbClr val="4d2600"/>
          </a:solidFill>
          <a:ln w="9360">
            <a:solidFill>
              <a:srgbClr val="4d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  <a:ea typeface="Times New Roman"/>
              </a:rPr>
              <a:t>Леонардо Пизанский           (Фибоначч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10800"/>
                </a:moveTo>
                <a:lnTo>
                  <a:pt x="33183" y="3794"/>
                </a:lnTo>
                <a:lnTo>
                  <a:pt x="33183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3794"/>
                </a:moveTo>
                <a:lnTo>
                  <a:pt x="33183" y="10800"/>
                </a:lnTo>
                <a:lnTo>
                  <a:pt x="1917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4282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0">
    <p:wipe dir="d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7250"/>
                            </p:stCondLst>
                            <p:childTnLst>
                              <p:par>
                                <p:cTn id="38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7750"/>
                            </p:stCondLst>
                            <p:childTnLst>
                              <p:par>
                                <p:cTn id="3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57120" y="285840"/>
            <a:ext cx="832968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звания «числитель» и «знаменатель» ввел в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I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еке Максим Плануд – греческий монах, ученый математик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кончательно установленную и ясную теорию обыкновенных дробей в Западной Европе дал в 1585 году фламандский инженер Симон Стевин , который сформулировал основное свойство дроби: Числитель и знаменатель дроби можно одновременно умножать или делить на одно и то же число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10800"/>
                </a:moveTo>
                <a:lnTo>
                  <a:pt x="33183" y="3794"/>
                </a:lnTo>
                <a:lnTo>
                  <a:pt x="33183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3794"/>
                </a:moveTo>
                <a:lnTo>
                  <a:pt x="33183" y="10800"/>
                </a:lnTo>
                <a:lnTo>
                  <a:pt x="1917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"/>
          <p:cNvSpPr/>
          <p:nvPr/>
        </p:nvSpPr>
        <p:spPr>
          <a:xfrm>
            <a:off x="4282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0">
    <p:wipe dir="d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bd71"/>
                </a:solidFill>
                <a:latin typeface="Arial"/>
              </a:rPr>
              <a:t>Леонтий Филлипович Магницкий</a:t>
            </a:r>
            <a:endParaRPr b="0" lang="en-US" sz="1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357720" y="213840"/>
            <a:ext cx="535752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усском языке слово «дробь» появилось в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еке, оно происходило от глагола «дробить» - разбивать, ломать на части. В первых учебниках математики ( в Х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еке) дроби так и называли – «ломаные числа». У других народов название дроби также связано с  глаголами «ломать», «разбивать», «раздроблять». В рукописях 16 века встречаются практические задачи с дробями. А первым серьёзным трудом по математике принято считать « Арифметику Магницкого» 1703года , написанную по приказу Петра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8" name="Содержимое 4" descr="http://www.peoples.ru/science/mathematics/magnickiy/magnickiy_2_s.jpg"/>
          <p:cNvPicPr/>
          <p:nvPr/>
        </p:nvPicPr>
        <p:blipFill>
          <a:blip r:embed="rId1"/>
          <a:stretch/>
        </p:blipFill>
        <p:spPr>
          <a:xfrm>
            <a:off x="468360" y="1916280"/>
            <a:ext cx="2730600" cy="3151080"/>
          </a:xfrm>
          <a:prstGeom prst="rect">
            <a:avLst/>
          </a:prstGeom>
          <a:ln w="0">
            <a:noFill/>
          </a:ln>
        </p:spPr>
      </p:pic>
      <p:sp>
        <p:nvSpPr>
          <p:cNvPr id="289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3794"/>
                </a:moveTo>
                <a:lnTo>
                  <a:pt x="33183" y="10800"/>
                </a:lnTo>
                <a:lnTo>
                  <a:pt x="1917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10800"/>
                </a:moveTo>
                <a:lnTo>
                  <a:pt x="33183" y="3794"/>
                </a:lnTo>
                <a:lnTo>
                  <a:pt x="33183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4282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0">
    <p:wipe dir="d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8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Оглавле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2560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1" action="ppaction://hlinksldjump"/>
              </a:rPr>
              <a:t>Из истории дроб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2" action="ppaction://hlinksldjump"/>
              </a:rPr>
              <a:t>Дроби в Египт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Дроби в Вавилон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4" action="ppaction://hlinksldjump"/>
              </a:rPr>
              <a:t>Дроби в Рим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5" action="ppaction://hlinksldjump"/>
              </a:rPr>
              <a:t>Дроби в Гре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16000" y="23270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6" action="ppaction://hlinksldjump"/>
              </a:rPr>
              <a:t>Операции с дробя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7" action="ppaction://hlinksldjump"/>
              </a:rPr>
              <a:t>Что такое дробь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8" action="ppaction://hlinksldjump"/>
              </a:rPr>
              <a:t>Как читать дробь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9" action="ppaction://hlinksldjump"/>
              </a:rPr>
              <a:t>Как считать дроб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0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bbd71"/>
                </a:solidFill>
                <a:latin typeface="Arial"/>
              </a:rPr>
              <a:t>Учебник «Арифметика, сиречь наука числительная и т. д.» </a:t>
            </a:r>
            <a:br>
              <a:rPr sz="2000"/>
            </a:b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499920" y="214200"/>
            <a:ext cx="5286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дача из учебника Магницк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кий человек на вопрос , сколько он имеет денег, ответил: «Аще придастся к моим деньгам толико же , елико имам , и полтолика , и 3/4 , и 2/3 , и убавится из всего 50 рублёв , и тогда будет у меня 100 рублёв, и ведательно есть , колико той человек имяше денег.» В современных обозначениях задача решается уравнени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4" name="Содержимое 6" descr="http://upload.wikimedia.org/wikipedia/commons/thumb/0/0e/Magnitsky.djvu/page3-200px-Magnitsky.djvu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1643040"/>
            <a:ext cx="3143160" cy="4643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" descr=""/>
          <p:cNvPicPr/>
          <p:nvPr/>
        </p:nvPicPr>
        <p:blipFill>
          <a:blip r:embed="rId3"/>
          <a:stretch/>
        </p:blipFill>
        <p:spPr>
          <a:xfrm>
            <a:off x="3786120" y="4500720"/>
            <a:ext cx="5191200" cy="7999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"/>
          <p:cNvPicPr/>
          <p:nvPr/>
        </p:nvPicPr>
        <p:blipFill>
          <a:blip r:embed="rId4"/>
          <a:stretch/>
        </p:blipFill>
        <p:spPr>
          <a:xfrm>
            <a:off x="5072040" y="5500800"/>
            <a:ext cx="1486080" cy="799920"/>
          </a:xfrm>
          <a:prstGeom prst="rect">
            <a:avLst/>
          </a:prstGeom>
          <a:ln w="0">
            <a:noFill/>
          </a:ln>
        </p:spPr>
      </p:pic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3794"/>
                </a:moveTo>
                <a:lnTo>
                  <a:pt x="33183" y="10800"/>
                </a:lnTo>
                <a:lnTo>
                  <a:pt x="1917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10800"/>
                </a:moveTo>
                <a:lnTo>
                  <a:pt x="33183" y="3794"/>
                </a:lnTo>
                <a:lnTo>
                  <a:pt x="33183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"/>
          <p:cNvSpPr/>
          <p:nvPr/>
        </p:nvSpPr>
        <p:spPr>
          <a:xfrm>
            <a:off x="4282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30000">
    <p:blinds dir="vert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8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3500"/>
                            </p:stCondLst>
                            <p:childTnLst>
                              <p:par>
                                <p:cTn id="4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4500"/>
                            </p:stCondLst>
                            <p:childTnLst>
                              <p:par>
                                <p:cTn id="4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Операции с дробями в современной науке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 spd="slow" advTm="5000">
    <p:wheel spokes="1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Что такое дробь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788000" y="1844280"/>
            <a:ext cx="40384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обью называют одну или несколько равных долей целого. Дроби записывают двумя натуральными числами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зделенные чертой: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m/n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Число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записанное над черто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зывается числителем дроби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а число под чертой – знаменателем дроби. Знаменатель показывает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 сколько равных частей делят цело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а числитель – сколько таких частей взято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пример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 показывает, что целое разделено на 5 равных частей и взята 1 такая часть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3" name="Picture 4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2738520" cy="4962600"/>
          </a:xfrm>
          <a:prstGeom prst="rect">
            <a:avLst/>
          </a:prstGeom>
          <a:ln w="0">
            <a:noFill/>
          </a:ln>
        </p:spPr>
      </p:pic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3794"/>
                </a:moveTo>
                <a:lnTo>
                  <a:pt x="33183" y="10800"/>
                </a:lnTo>
                <a:lnTo>
                  <a:pt x="1917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10800"/>
                </a:moveTo>
                <a:lnTo>
                  <a:pt x="33183" y="3794"/>
                </a:lnTo>
                <a:lnTo>
                  <a:pt x="33183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4282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30000">
    <p:push dir="r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898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92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4" dur="192" fill="hold"/>
                                        <p:tgtEl>
                                          <p:spTgt spid="3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6" dur="192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8" dur="192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ак читать дробь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64292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При чтении дробей надо помнить: числитель дроби –количественное числительное женского род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9" name="Picture 4" descr="дробь2"/>
          <p:cNvPicPr/>
          <p:nvPr/>
        </p:nvPicPr>
        <p:blipFill>
          <a:blip r:embed="rId1">
            <a:grayscl/>
          </a:blip>
          <a:stretch/>
        </p:blipFill>
        <p:spPr>
          <a:xfrm>
            <a:off x="684360" y="1916280"/>
            <a:ext cx="3479760" cy="3600360"/>
          </a:xfrm>
          <a:prstGeom prst="rect">
            <a:avLst/>
          </a:prstGeom>
          <a:ln w="0">
            <a:noFill/>
          </a:ln>
        </p:spPr>
      </p:pic>
      <p:sp>
        <p:nvSpPr>
          <p:cNvPr id="310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3794"/>
                </a:moveTo>
                <a:lnTo>
                  <a:pt x="33183" y="10800"/>
                </a:lnTo>
                <a:lnTo>
                  <a:pt x="1917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10800"/>
                </a:moveTo>
                <a:lnTo>
                  <a:pt x="33183" y="3794"/>
                </a:lnTo>
                <a:lnTo>
                  <a:pt x="33183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4282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30000">
    <p:wipe dir="u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920"/>
                            </p:stCondLst>
                            <p:childTnLst>
                              <p:par>
                                <p:cTn id="5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420"/>
                            </p:stCondLst>
                            <p:childTnLst>
                              <p:par>
                                <p:cTn id="5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ак считать дроби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сли дроби имеют различные знаменатели, то предварительно их необходимо привести к общему знаменателю, т.е. превратить в дроби с одинаковыми знаменателя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971640" y="4149720"/>
                <a:ext cx="6913440" cy="20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3794"/>
                </a:moveTo>
                <a:lnTo>
                  <a:pt x="33183" y="10800"/>
                </a:lnTo>
                <a:lnTo>
                  <a:pt x="1917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10800"/>
                </a:moveTo>
                <a:lnTo>
                  <a:pt x="33183" y="3794"/>
                </a:lnTo>
                <a:lnTo>
                  <a:pt x="33183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82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30000">
    <p:fade thruBlk="true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7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500"/>
                            </p:stCondLst>
                            <p:childTnLst>
                              <p:par>
                                <p:cTn id="5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4"/>
          <p:cNvSpPr/>
          <p:nvPr/>
        </p:nvSpPr>
        <p:spPr>
          <a:xfrm>
            <a:off x="-4089240" y="3244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 помощью основного свойства дроби можно заменить данную дробь другой дробью, равной данной, но с меньшими числителем и знаменателем. Такая замена называется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сокращением дроб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411280" y="3860640"/>
                <a:ext cx="4176720" cy="201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3794"/>
                </a:moveTo>
                <a:lnTo>
                  <a:pt x="33183" y="10800"/>
                </a:lnTo>
                <a:lnTo>
                  <a:pt x="1917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10800"/>
                </a:moveTo>
                <a:lnTo>
                  <a:pt x="33183" y="3794"/>
                </a:lnTo>
                <a:lnTo>
                  <a:pt x="33183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4282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0">
    <p:wipe dir="d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1692360" y="1125360"/>
            <a:ext cx="6119640" cy="525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конец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 advTm="30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Из истории дробей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 древних времен людям приходилось не только считать предметы (для чего требовались натуральные числа), но и измерять длину, время, площади, вести расчет за купленные или проданные товары. Не всегда результат или стоимость товара удавалось выразить натуральным числом. Приходилось учитывать и части, доли меры. Так появились дроб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3794"/>
                </a:moveTo>
                <a:lnTo>
                  <a:pt x="33183" y="10800"/>
                </a:lnTo>
                <a:lnTo>
                  <a:pt x="1917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10800"/>
                </a:moveTo>
                <a:lnTo>
                  <a:pt x="33183" y="3794"/>
                </a:lnTo>
                <a:lnTo>
                  <a:pt x="33183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>
            <a:hlinkClick r:id="" action="ppaction://hlinkshowjump?jump=lastslide"/>
          </p:cNvPr>
          <p:cNvSpPr/>
          <p:nvPr/>
        </p:nvSpPr>
        <p:spPr>
          <a:xfrm>
            <a:off x="4282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аже в самых древних дошедших до нас письменных источниках – вавилонских глиняных табличках и египетских папирусах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тречаются не только натуральные числа, но и дроб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роби были нужны, чтобы выразить результат измерения длины, массы, площади в случаях, когда единица измерения не укладывалась в измеряемой величине целое число раз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гда вводили новую, меньшую единицу измерения. Название этих новых единиц измерения и стали первыми названиями дроб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3794"/>
                </a:moveTo>
                <a:lnTo>
                  <a:pt x="33183" y="10800"/>
                </a:lnTo>
                <a:lnTo>
                  <a:pt x="1917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10800"/>
                </a:moveTo>
                <a:lnTo>
                  <a:pt x="33183" y="3794"/>
                </a:lnTo>
                <a:lnTo>
                  <a:pt x="33183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4282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0"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55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вой дробью, с которой познакомились люди, была половина. Следующей дробью была треть. И у египтян, и у вавилонян были специальные обозначения для дробей 1/3 и 2/3 , не совпадавшие с обозначениями для других дробей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3794"/>
                </a:moveTo>
                <a:lnTo>
                  <a:pt x="33183" y="10800"/>
                </a:lnTo>
                <a:lnTo>
                  <a:pt x="1917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10800"/>
                </a:moveTo>
                <a:lnTo>
                  <a:pt x="33183" y="3794"/>
                </a:lnTo>
                <a:lnTo>
                  <a:pt x="33183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>
            <a:hlinkClick r:id="rId1" action="ppaction://hlinksldjump"/>
          </p:cNvPr>
          <p:cNvSpPr/>
          <p:nvPr/>
        </p:nvSpPr>
        <p:spPr>
          <a:xfrm>
            <a:off x="4282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0"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Система дробей в Египт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гиптяне все дроби старались записать как суммы «основных дробей», то есть дробей вида 1/n. Например, вместо 8/15 они писали 1/3 + 1/5. Но это часто было неудобно при выполнении действия сложения, ведь дроби вида 2/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египтяне не признавали :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15" descr=""/>
          <p:cNvPicPr/>
          <p:nvPr/>
        </p:nvPicPr>
        <p:blipFill>
          <a:blip r:embed="rId1"/>
          <a:stretch/>
        </p:blipFill>
        <p:spPr>
          <a:xfrm>
            <a:off x="3643200" y="5072040"/>
            <a:ext cx="1476360" cy="8002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7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3794"/>
                </a:moveTo>
                <a:lnTo>
                  <a:pt x="33183" y="10800"/>
                </a:lnTo>
                <a:lnTo>
                  <a:pt x="1917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10800"/>
                </a:moveTo>
                <a:lnTo>
                  <a:pt x="33183" y="3794"/>
                </a:lnTo>
                <a:lnTo>
                  <a:pt x="33183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>
            <a:hlinkClick r:id="rId2" action="ppaction://hlinksldjump"/>
          </p:cNvPr>
          <p:cNvSpPr/>
          <p:nvPr/>
        </p:nvSpPr>
        <p:spPr>
          <a:xfrm>
            <a:off x="4282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0">
    <p:wipe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950"/>
                            </p:stCondLst>
                            <p:childTnLst>
                              <p:par>
                                <p:cTn id="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950"/>
                            </p:stCondLst>
                            <p:childTnLst>
                              <p:par>
                                <p:cTn id="6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24000" y="476280"/>
            <a:ext cx="830088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апирусе Ахмеса приведены специальные таблицы перевода дробей в «основные»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помощью этих таблиц выполняли деление . Задача из этого папируса звучит так : « Раздели 7 хлебов между 8 людьми 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1" descr=""/>
          <p:cNvPicPr/>
          <p:nvPr/>
        </p:nvPicPr>
        <p:blipFill>
          <a:blip r:embed="rId1"/>
          <a:stretch/>
        </p:blipFill>
        <p:spPr>
          <a:xfrm>
            <a:off x="2928960" y="2143080"/>
            <a:ext cx="1476360" cy="8002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3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3794"/>
                </a:moveTo>
                <a:lnTo>
                  <a:pt x="33183" y="10800"/>
                </a:lnTo>
                <a:lnTo>
                  <a:pt x="1917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10800"/>
                </a:moveTo>
                <a:lnTo>
                  <a:pt x="33183" y="3794"/>
                </a:lnTo>
                <a:lnTo>
                  <a:pt x="33183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4282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0">
    <p:wipe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850"/>
                            </p:stCondLst>
                            <p:childTnLst>
                              <p:par>
                                <p:cTn id="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850"/>
                            </p:stCondLst>
                            <p:childTnLst>
                              <p:par>
                                <p:cTn id="8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285840" y="214200"/>
            <a:ext cx="84009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жно каждый хлеб разрезать на 8 куско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дать каждому 7 кусков , т. е. 7 раз по 1/8 . Делаем всего 49 разрезов . Египтяне решали с помощью таблиц так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десь каждому достаётся половина хлеба , одна четвёртая и одна восьмая часть . Всего делаем 20 разрезов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1"/>
          <a:stretch/>
        </p:blipFill>
        <p:spPr>
          <a:xfrm>
            <a:off x="1428840" y="2357280"/>
            <a:ext cx="5143320" cy="10288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8"/>
          <p:cNvSpPr/>
          <p:nvPr/>
        </p:nvSpPr>
        <p:spPr>
          <a:xfrm>
            <a:off x="0" y="1486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3794"/>
                </a:moveTo>
                <a:lnTo>
                  <a:pt x="33183" y="10800"/>
                </a:lnTo>
                <a:lnTo>
                  <a:pt x="1917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10800"/>
                </a:moveTo>
                <a:lnTo>
                  <a:pt x="33183" y="3794"/>
                </a:lnTo>
                <a:lnTo>
                  <a:pt x="33183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>
            <a:hlinkClick r:id="rId2" action="ppaction://hlinksldjump"/>
          </p:cNvPr>
          <p:cNvSpPr/>
          <p:nvPr/>
        </p:nvSpPr>
        <p:spPr>
          <a:xfrm>
            <a:off x="4282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0">
    <p:wipe dir="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78920" y="189000"/>
            <a:ext cx="83012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роби записывали та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Овал 3"/>
          <p:cNvSpPr/>
          <p:nvPr/>
        </p:nvSpPr>
        <p:spPr>
          <a:xfrm>
            <a:off x="1285920" y="1357200"/>
            <a:ext cx="1928880" cy="214560"/>
          </a:xfrm>
          <a:prstGeom prst="ellipse">
            <a:avLst/>
          </a:prstGeom>
          <a:solidFill>
            <a:srgbClr val="ba7c00"/>
          </a:solidFill>
          <a:ln w="25560">
            <a:solidFill>
              <a:srgbClr val="fff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Прямая соединительная линия 5"/>
          <p:cNvSpPr/>
          <p:nvPr/>
        </p:nvSpPr>
        <p:spPr>
          <a:xfrm>
            <a:off x="1571040" y="1714680"/>
            <a:ext cx="285480" cy="857160"/>
          </a:xfrm>
          <a:prstGeom prst="line">
            <a:avLst/>
          </a:prstGeom>
          <a:ln w="9360">
            <a:solidFill>
              <a:srgbClr val="fff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Прямая соединительная линия 7"/>
          <p:cNvSpPr/>
          <p:nvPr/>
        </p:nvSpPr>
        <p:spPr>
          <a:xfrm>
            <a:off x="2214000" y="1714680"/>
            <a:ext cx="285480" cy="857160"/>
          </a:xfrm>
          <a:prstGeom prst="line">
            <a:avLst/>
          </a:prstGeom>
          <a:ln w="9360">
            <a:solidFill>
              <a:srgbClr val="fff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Прямая соединительная линия 8"/>
          <p:cNvSpPr/>
          <p:nvPr/>
        </p:nvSpPr>
        <p:spPr>
          <a:xfrm>
            <a:off x="3000240" y="1714680"/>
            <a:ext cx="285840" cy="857160"/>
          </a:xfrm>
          <a:prstGeom prst="line">
            <a:avLst/>
          </a:prstGeom>
          <a:ln w="9360">
            <a:solidFill>
              <a:srgbClr val="fff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4929120" y="1000080"/>
            <a:ext cx="333360" cy="13716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6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Овал 16"/>
          <p:cNvSpPr/>
          <p:nvPr/>
        </p:nvSpPr>
        <p:spPr>
          <a:xfrm>
            <a:off x="1500120" y="3929040"/>
            <a:ext cx="1928880" cy="214200"/>
          </a:xfrm>
          <a:prstGeom prst="ellipse">
            <a:avLst/>
          </a:prstGeom>
          <a:solidFill>
            <a:srgbClr val="ba7c00"/>
          </a:solidFill>
          <a:ln w="25560">
            <a:solidFill>
              <a:srgbClr val="fff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Арка 19"/>
          <p:cNvSpPr/>
          <p:nvPr/>
        </p:nvSpPr>
        <p:spPr>
          <a:xfrm>
            <a:off x="1714680" y="4500720"/>
            <a:ext cx="1428480" cy="2143080"/>
          </a:xfrm>
          <a:prstGeom prst="pie">
            <a:avLst/>
          </a:prstGeom>
          <a:solidFill>
            <a:srgbClr val="ba7c00"/>
          </a:solidFill>
          <a:ln w="25560">
            <a:solidFill>
              <a:srgbClr val="fff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0" y="14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15" descr=""/>
          <p:cNvPicPr/>
          <p:nvPr/>
        </p:nvPicPr>
        <p:blipFill>
          <a:blip r:embed="rId2"/>
          <a:stretch/>
        </p:blipFill>
        <p:spPr>
          <a:xfrm>
            <a:off x="4643280" y="3929040"/>
            <a:ext cx="676440" cy="13716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17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3794"/>
                </a:moveTo>
                <a:lnTo>
                  <a:pt x="33183" y="10800"/>
                </a:lnTo>
                <a:lnTo>
                  <a:pt x="1917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10800"/>
                </a:moveTo>
                <a:lnTo>
                  <a:pt x="33183" y="3794"/>
                </a:lnTo>
                <a:lnTo>
                  <a:pt x="33183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">
            <a:hlinkClick r:id="rId3" action="ppaction://hlinksldjump"/>
          </p:cNvPr>
          <p:cNvSpPr/>
          <p:nvPr/>
        </p:nvSpPr>
        <p:spPr>
          <a:xfrm>
            <a:off x="4282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0">
    <p:wipe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850"/>
                            </p:stCondLst>
                            <p:childTnLst>
                              <p:par>
                                <p:cTn id="1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850"/>
                            </p:stCondLst>
                            <p:childTnLst>
                              <p:par>
                                <p:cTn id="14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850"/>
                            </p:stCondLst>
                            <p:childTnLst>
                              <p:par>
                                <p:cTn id="1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850"/>
                            </p:stCondLst>
                            <p:childTnLst>
                              <p:par>
                                <p:cTn id="1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0:39:53Z</dcterms:created>
  <dc:creator>нк</dc:creator>
  <dc:description/>
  <dc:language>en-US</dc:language>
  <cp:lastModifiedBy>VIRUS®</cp:lastModifiedBy>
  <dcterms:modified xsi:type="dcterms:W3CDTF">2009-04-09T08:19:13Z</dcterms:modified>
  <cp:revision>45</cp:revision>
  <dc:subject/>
  <dc:title>ДРОБИ</dc:title>
</cp:coreProperties>
</file>