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6DF-DA40-4CBA-BA7E-AB523A46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27A-9D60-447D-B492-5140C48B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8FE-7098-4314-A42D-C3331E60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9EE-D024-4D01-8C68-52A7A797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C6F6-7600-49F4-9153-16F3CD4D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DA0F-B8DE-48FA-8DEA-65E4281D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9894-AD55-4C74-B948-6B9DB16C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2DA9-5702-4241-9517-4C3A081D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17CA-BAEF-42D4-8851-14C553FB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EC2A-B7E0-4A55-87A5-E6B2EC4D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9D86-ACF2-4DC3-8D72-1741C354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CD1-8933-48DC-94A5-D9D80620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65A1-7541-4749-BA28-C4CA96B3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42C2-168B-4DCF-8D0B-1F4E2081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3896-9B6D-46C5-81C4-5BEC8F99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F157-6E9C-4892-A87D-FFCDD4A7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6054-BB0F-4C12-AB62-8A99DEAA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54F-C80E-49A5-A535-1F318F58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C86-8917-4E7F-B2FF-844B5AE4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815-532F-4321-8E01-B353F7EB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8E4-DB5F-485B-9753-7093DBEC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59F-4FDD-42EA-B9F9-0BF75288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5EC-04B3-4369-8620-09574AC5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9C0-2D83-4816-9AFE-4C03B147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D503-5F73-40E1-9D0E-9321084C2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BED9-1B51-451E-B7A4-CDA22D6327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Kapitolinischer_Pythagoras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ibonacci2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ru.wikipedia.org/wiki/&#1060;&#1072;&#1081;&#1083;:Fibonacci2.jpg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4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Layout" Target="../slideLayouts/slideLayout1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72;&#1081;&#1083;:Magnitsky.djvu&amp;page=3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850920" y="3449160"/>
            <a:ext cx="1047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79640" y="1268280"/>
            <a:ext cx="5040360" cy="407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роб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 advTm="1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истема дробей в Вавилон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глиняных табличках видим подтверждение 60-ричной системы счисления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1214280" y="2786040"/>
            <a:ext cx="3533760" cy="1371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1214280" y="4643280"/>
            <a:ext cx="5762880" cy="1038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2000">
    <p:wipe dir="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600"/>
                            </p:stCondLst>
                            <p:childTnLst>
                              <p:par>
                                <p:cTn id="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100"/>
                            </p:stCondLst>
                            <p:childTnLst>
                              <p:par>
                                <p:cTn id="1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истема дробей в Рим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тересная система дробей была в Древнем Риме. Она основывалась на делении на 12 долей единицы веса, которая называлась асс. Двенадцатую долю асса называли унцией. А путь, время и другие величины сравнивали с наглядной вещью - весом. Например, римлянин мог сказать, что он прошел семь унций пути или прочел пять унций книги. При этом, конечно, речь не шла о взвешивании пути или книги. Имелось в виду, что пройдено 7/12 пути или прочтено 5/12 книги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42560" y="214200"/>
            <a:ext cx="8543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дробей со знаменателем , кратным 12 , применялись особые названия , всего их было 18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/12 асса – унц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/24 асса – полунции – «семиунц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/2 асса – «семи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/6 асса – «секстан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вот дробь 1/288 асса = 1/24 унции называлась «скрупулус» , откуда пошло современное слово «скрупулёзный»  - точный , подробный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150"/>
                            </p:stCondLst>
                            <p:childTnLst>
                              <p:par>
                                <p:cTn id="2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300"/>
                            </p:stCondLst>
                            <p:childTnLst>
                              <p:par>
                                <p:cTn id="2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200"/>
                            </p:stCondLst>
                            <p:childTnLst>
                              <p:par>
                                <p:cTn id="2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400"/>
                            </p:stCondLst>
                            <p:childTnLst>
                              <p:par>
                                <p:cTn id="2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9750"/>
                            </p:stCondLst>
                            <p:childTnLst>
                              <p:par>
                                <p:cTn id="2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8584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мские купцы твёрдо знали , при сложении «триенса» и «секстанса» получается «семис»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умножении «беса» на «сескунцию» получается «унция»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2428920" y="1857240"/>
            <a:ext cx="2533680" cy="1371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2286000" y="4714920"/>
            <a:ext cx="2590920" cy="13716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0" y="1889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650"/>
                            </p:stCondLst>
                            <p:childTnLst>
                              <p:par>
                                <p:cTn id="2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650"/>
                            </p:stCondLst>
                            <p:childTnLst>
                              <p:par>
                                <p:cTn id="2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150"/>
                            </p:stCondLst>
                            <p:childTnLst>
                              <p:par>
                                <p:cTn id="2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истема долей в Гре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греческих сочинениях по математике дробей не встречалось. Греческие ученые считали, что математика должна заниматься только целыми числами. Возиться с дробями они предоставляли купцам, ремесленникам, а также астрономам, землемерам, механикам и другому "черному люду". Но старая пословица гласит: "Гони природу в дверь - она влетит в окно". Поэтому и в строго научные сочинения греков дроби проникали "с заднего хода". Кроме арифметики и геометрии, в греческую науку входила музыка. Музыкой греки называли учение о гармонии. Это учение опиралось на ту часть нашей арифметики, в которой говорится об отношениях и пропорциях. Греки знали: чем длиннее натянутая струна, тем ниже получается звук, который она издает, а короткая струна издает высокий звук. Но у всякого музыкального инструмента не одна, а несколько струн. Для того чтобы все струны при игре звучали "согласно", приятно для слуха, длины звучащих частей их должны быть в определенном отношении. Поэтому учение об отношениях и дробях использовалось в греческой теории музыки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Содержимое 3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1071720"/>
            <a:ext cx="2793960" cy="37209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357720" y="214200"/>
            <a:ext cx="55720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ревнегреческий математик Пифагор так ответил на вопрос о количестве его учеников : «Половина моих учеников изучает математику , четвёртая часть изучает природу , седьмая часть проводит время в молчаливом размышлении , остальную часть составляют три девы». В современных обозначениях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х учеников составляют 3 девы. Значит всего учеников 28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Прямоугольник 10"/>
          <p:cNvSpPr/>
          <p:nvPr/>
        </p:nvSpPr>
        <p:spPr>
          <a:xfrm>
            <a:off x="714240" y="5716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Πυθαγόρα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3"/>
          <a:stretch/>
        </p:blipFill>
        <p:spPr>
          <a:xfrm>
            <a:off x="4429080" y="4000680"/>
            <a:ext cx="3267000" cy="80928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00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57120" y="213840"/>
            <a:ext cx="82677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большего развития теория обыкновенных дробей в древности достигла в Индии . Современное обозначение дробей берет свое начало также в Древней Индии. В начал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олет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дийцы знали и формулировали правила действий над обыкновенными дробями .Позже его стали использовать и арабы, а от них в 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ах оно было заимствовано европейцами. Вначале в записи дробей не использовалась дробная черта; например, число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5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исывалось так    1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-4540320" y="3363840"/>
                <a:ext cx="1382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Text Box 5"/>
          <p:cNvSpPr/>
          <p:nvPr/>
        </p:nvSpPr>
        <p:spPr>
          <a:xfrm>
            <a:off x="-3282840" y="3179880"/>
            <a:ext cx="2286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-454032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39640" y="3852720"/>
            <a:ext cx="727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-4539600" y="363024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записывалось та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Содержимое 6" descr="http://upload.wikimedia.org/wikipedia/commons/thumb/3/35/Fibonacci2.jpg/180px-Fibonacci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1285920"/>
            <a:ext cx="2286000" cy="30099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999880" y="214200"/>
            <a:ext cx="59295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рта дроби  стала постоянно использоваться лишь около 300 лет назад. Первым европейским ученым, который стал использовать и распространять современную запись дробей, был итальянский купец и путешественник, сын городского писаря Фибоначчи (Леонардо Пизанский) в 1202г в труде «Книга абака». Он ввел слово «дробь», черту дроби , стал приводить дроби к наименьшему общему знаменател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Рисунок 10" descr="http://ru.wikipedia.org/skins-1.5/common/images/magnify-clip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5720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142920" y="481680"/>
            <a:ext cx="2714760" cy="642600"/>
          </a:xfrm>
          <a:prstGeom prst="rect">
            <a:avLst/>
          </a:prstGeom>
          <a:solidFill>
            <a:srgbClr val="4d2600"/>
          </a:solidFill>
          <a:ln w="9360">
            <a:solidFill>
              <a:srgbClr val="4d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Леонардо Пизанский           (Фибоначч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250"/>
                            </p:stCondLst>
                            <p:childTnLst>
                              <p:par>
                                <p:cTn id="3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750"/>
                            </p:stCondLst>
                            <p:childTnLst>
                              <p:par>
                                <p:cTn id="3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57120" y="285840"/>
            <a:ext cx="832968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вания «числитель» и «знаменатель» ввел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ке Максим Плануд – греческий монах, ученый математи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кончательно установленную и ясную теорию обыкновенных дробей в Западной Европе дал в 1585 году фламандский инженер Симон Стевин , который сформулировал основное свойство дроби: Числитель и знаменатель дроби можно одновременно умножать или делить на одно и то же число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bd71"/>
                </a:solidFill>
                <a:latin typeface="Arial"/>
              </a:rPr>
              <a:t>Леонтий Филлипович Магницкий</a:t>
            </a:r>
            <a:endParaRPr b="0" lang="en-US" sz="1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57720" y="213840"/>
            <a:ext cx="53575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усском языке слово «дробь» появилось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еке, оно происходило от глагола «дробить» - разбивать, ломать на части. В первых учебниках математики ( в Х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еке) дроби так и называли – «ломаные числа». У других народов название дроби также связано с  глаголами «ломать», «разбивать», «раздроблять». В рукописях 16 века встречаются практические задачи с дробями. А первым серьёзным трудом по математике принято считать « Арифметику Магницкого» 1703года , написанную по приказу Петр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Содержимое 4" descr="http://www.peoples.ru/science/mathematics/magnickiy/magnickiy_2_s.jpg"/>
          <p:cNvPicPr/>
          <p:nvPr/>
        </p:nvPicPr>
        <p:blipFill>
          <a:blip r:embed="rId1"/>
          <a:stretch/>
        </p:blipFill>
        <p:spPr>
          <a:xfrm>
            <a:off x="468360" y="1916280"/>
            <a:ext cx="2730600" cy="3151080"/>
          </a:xfrm>
          <a:prstGeom prst="rect">
            <a:avLst/>
          </a:prstGeom>
          <a:ln w="0">
            <a:noFill/>
          </a:ln>
        </p:spPr>
      </p:pic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Оглавл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256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Из истории дроб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Дроби в Егип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Дроби в Вавило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Дроби в Ри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Дроби в Гре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6000" y="23270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Операции с дроб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7" action="ppaction://hlinksldjump"/>
              </a:rPr>
              <a:t>Что такое дроб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8" action="ppaction://hlinksldjump"/>
              </a:rPr>
              <a:t>Как читать дроб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  <a:hlinkClick r:id="rId9" action="ppaction://hlinksldjump"/>
              </a:rPr>
              <a:t>Как считать дроб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bbd71"/>
                </a:solidFill>
                <a:latin typeface="Arial"/>
              </a:rPr>
              <a:t>Учебник «Арифметика, сиречь наука числительная и т. д.» 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499920" y="214200"/>
            <a:ext cx="5286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из учебника Магниц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кий человек на вопрос , сколько он имеет денег, ответил: «Аще придастся к моим деньгам толико же , елико имам , и полтолика , и 3/4 , и 2/3 , и убавится из всего 50 рублёв , и тогда будет у меня 100 рублёв, и ведательно есть , колико той человек имяше денег.» В современных обозначениях задача решается уравн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Содержимое 6" descr="http://upload.wikimedia.org/wikipedia/commons/thumb/0/0e/Magnitsky.djvu/page3-200px-Magnitsky.djvu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643040"/>
            <a:ext cx="3143160" cy="464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"/>
          <p:cNvPicPr/>
          <p:nvPr/>
        </p:nvPicPr>
        <p:blipFill>
          <a:blip r:embed="rId3"/>
          <a:stretch/>
        </p:blipFill>
        <p:spPr>
          <a:xfrm>
            <a:off x="3786120" y="4500720"/>
            <a:ext cx="5191200" cy="799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4"/>
          <a:stretch/>
        </p:blipFill>
        <p:spPr>
          <a:xfrm>
            <a:off x="5072040" y="5500800"/>
            <a:ext cx="1486080" cy="799920"/>
          </a:xfrm>
          <a:prstGeom prst="rect">
            <a:avLst/>
          </a:prstGeom>
          <a:ln w="0">
            <a:noFill/>
          </a:ln>
        </p:spPr>
      </p:pic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0">
    <p:blinds dir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Операции с дробями в современной науке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slow" advTm="5000">
    <p:wheel spokes="1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Что такое дробь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788000" y="184428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обью называют одну или несколько равных долей целого. Дроби записывают двумя натуральными числами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деленные чертой: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/n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Число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записанное над черт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зывается числителем дроби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а число под чертой – знаменателем дроби. Знаменатель показывает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 сколько равных частей делят цело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а числитель – сколько таких частей взято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пример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 показывает, что целое разделено на 5 равных частей и взята 1 такая часть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2738520" cy="4962600"/>
          </a:xfrm>
          <a:prstGeom prst="rect">
            <a:avLst/>
          </a:prstGeom>
          <a:ln w="0">
            <a:noFill/>
          </a:ln>
        </p:spPr>
      </p:pic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0">
    <p:push dir="r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98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92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192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192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192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читать дробь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ри чтении дробей надо помнить: числитель дроби –количественное числительное женского род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9" name="Picture 4" descr="дробь2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1916280"/>
            <a:ext cx="3479760" cy="3600360"/>
          </a:xfrm>
          <a:prstGeom prst="rect">
            <a:avLst/>
          </a:prstGeom>
          <a:ln w="0">
            <a:noFill/>
          </a:ln>
        </p:spPr>
      </p:pic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0">
    <p:wipe dir="u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920"/>
                            </p:stCondLst>
                            <p:childTnLst>
                              <p:par>
                                <p:cTn id="5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420"/>
                            </p:stCondLst>
                            <p:childTnLst>
                              <p:par>
                                <p:cTn id="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 считать дроб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дроби имеют различные знаменатели, то предварительно их необходимо привести к общему знаменателю, т.е. превратить в дроби с одинаковыми знаменателя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971640" y="4149720"/>
                <a:ext cx="691344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0">
    <p:fade thruBlk="true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4"/>
          <p:cNvSpPr/>
          <p:nvPr/>
        </p:nvSpPr>
        <p:spPr>
          <a:xfrm>
            <a:off x="-408924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помощью основного свойства дроби можно заменить данную дробь другой дробью, равной данной, но с меньшими числителем и знаменателем. Такая замена называется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сокращением дроб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411280" y="3860640"/>
                <a:ext cx="4176720" cy="20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692360" y="1125360"/>
            <a:ext cx="6119640" cy="525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онец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advTm="30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з истории дробе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древних времен людям приходилось не только считать предметы (для чего требовались натуральные числа), но и измерять длину, время, площади, вести расчет за купленные или проданные товары. Не всегда результат или стоимость товара удавалось выразить натуральным числом. Приходилось учитывать и части, доли меры. Так появились дроб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>
            <a:hlinkClick r:id="" action="ppaction://hlinkshowjump?jump=lastslide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же в самых древних дошедших до нас письменных источниках – вавилонских глиняных табличках и египетских папируса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речаются не только натуральные числа, но и дроб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оби были нужны, чтобы выразить результат измерения длины, массы, площади в случаях, когда единица измерения не укладывалась в измеряемой величине целое число ра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гда вводили новую, меньшую единицу измерения. Название этих новых единиц измерения и стали первыми названиями дроб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5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ой дробью, с которой познакомились люди, была половина. Следующей дробью была треть. И у египтян, и у вавилонян были специальные обозначения для дробей 1/3 и 2/3 , не совпадавшие с обозначениями для других дробей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истема дробей в Египт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гиптяне все дроби старались записать как суммы «основных дробей», то есть дробей вида 1/n. Например, вместо 8/15 они писали 1/3 + 1/5. Но это часто было неудобно при выполнении действия сложения, ведь дроби вида 2/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египтяне не признавали :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15" descr=""/>
          <p:cNvPicPr/>
          <p:nvPr/>
        </p:nvPicPr>
        <p:blipFill>
          <a:blip r:embed="rId1"/>
          <a:stretch/>
        </p:blipFill>
        <p:spPr>
          <a:xfrm>
            <a:off x="3643200" y="5072040"/>
            <a:ext cx="1476360" cy="800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7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95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950"/>
                            </p:stCondLst>
                            <p:childTnLst>
                              <p:par>
                                <p:cTn id="6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4000" y="476280"/>
            <a:ext cx="830088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апирусе Ахмеса приведены специальные таблицы перевода дробей в «основные»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помощью этих таблиц выполняли деление . Задача из этого папируса звучит так : « Раздели 7 хлебов между 8 людьми 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2928960" y="2143080"/>
            <a:ext cx="1476360" cy="80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85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850"/>
                            </p:stCondLst>
                            <p:childTnLst>
                              <p:par>
                                <p:cTn id="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85840" y="214200"/>
            <a:ext cx="8400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жно каждый хлеб разрезать на 8 куск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дать каждому 7 кусков , т. е. 7 раз по 1/8 . Делаем всего 49 разрезов . Египтяне решали с помощью таблиц так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десь каждому достаётся половина хлеба , одна четвёртая и одна восьмая часть . Всего делаем 20 разрезов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1428840" y="2357280"/>
            <a:ext cx="5143320" cy="10288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8"/>
          <p:cNvSpPr/>
          <p:nvPr/>
        </p:nvSpPr>
        <p:spPr>
          <a:xfrm>
            <a:off x="0" y="1486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8920" y="189000"/>
            <a:ext cx="8301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роби записывали т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Овал 3"/>
          <p:cNvSpPr/>
          <p:nvPr/>
        </p:nvSpPr>
        <p:spPr>
          <a:xfrm>
            <a:off x="1285920" y="1357200"/>
            <a:ext cx="1928880" cy="214560"/>
          </a:xfrm>
          <a:prstGeom prst="ellipse">
            <a:avLst/>
          </a:prstGeom>
          <a:solidFill>
            <a:srgbClr val="ba7c00"/>
          </a:solidFill>
          <a:ln w="25560">
            <a:solidFill>
              <a:srgbClr val="fff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Прямая соединительная линия 5"/>
          <p:cNvSpPr/>
          <p:nvPr/>
        </p:nvSpPr>
        <p:spPr>
          <a:xfrm>
            <a:off x="1571040" y="1714680"/>
            <a:ext cx="285480" cy="857160"/>
          </a:xfrm>
          <a:prstGeom prst="line">
            <a:avLst/>
          </a:prstGeom>
          <a:ln w="9360">
            <a:solidFill>
              <a:srgbClr val="fff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Прямая соединительная линия 7"/>
          <p:cNvSpPr/>
          <p:nvPr/>
        </p:nvSpPr>
        <p:spPr>
          <a:xfrm>
            <a:off x="2214000" y="1714680"/>
            <a:ext cx="285480" cy="857160"/>
          </a:xfrm>
          <a:prstGeom prst="line">
            <a:avLst/>
          </a:prstGeom>
          <a:ln w="9360">
            <a:solidFill>
              <a:srgbClr val="fff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Прямая соединительная линия 8"/>
          <p:cNvSpPr/>
          <p:nvPr/>
        </p:nvSpPr>
        <p:spPr>
          <a:xfrm>
            <a:off x="3000240" y="1714680"/>
            <a:ext cx="285840" cy="857160"/>
          </a:xfrm>
          <a:prstGeom prst="line">
            <a:avLst/>
          </a:prstGeom>
          <a:ln w="9360">
            <a:solidFill>
              <a:srgbClr val="fff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4929120" y="1000080"/>
            <a:ext cx="33336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Овал 16"/>
          <p:cNvSpPr/>
          <p:nvPr/>
        </p:nvSpPr>
        <p:spPr>
          <a:xfrm>
            <a:off x="1500120" y="3929040"/>
            <a:ext cx="1928880" cy="214200"/>
          </a:xfrm>
          <a:prstGeom prst="ellipse">
            <a:avLst/>
          </a:prstGeom>
          <a:solidFill>
            <a:srgbClr val="ba7c00"/>
          </a:solidFill>
          <a:ln w="25560">
            <a:solidFill>
              <a:srgbClr val="fff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Арка 19"/>
          <p:cNvSpPr/>
          <p:nvPr/>
        </p:nvSpPr>
        <p:spPr>
          <a:xfrm>
            <a:off x="1714680" y="4500720"/>
            <a:ext cx="1428480" cy="2143080"/>
          </a:xfrm>
          <a:prstGeom prst="pie">
            <a:avLst/>
          </a:prstGeom>
          <a:solidFill>
            <a:srgbClr val="ba7c00"/>
          </a:solidFill>
          <a:ln w="25560">
            <a:solidFill>
              <a:srgbClr val="ffff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15" descr=""/>
          <p:cNvPicPr/>
          <p:nvPr/>
        </p:nvPicPr>
        <p:blipFill>
          <a:blip r:embed="rId2"/>
          <a:stretch/>
        </p:blipFill>
        <p:spPr>
          <a:xfrm>
            <a:off x="4643280" y="3929040"/>
            <a:ext cx="676440" cy="13716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7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3794"/>
                </a:moveTo>
                <a:lnTo>
                  <a:pt x="33183" y="10800"/>
                </a:lnTo>
                <a:lnTo>
                  <a:pt x="1917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19170" y="10800"/>
                </a:moveTo>
                <a:lnTo>
                  <a:pt x="33183" y="3794"/>
                </a:lnTo>
                <a:lnTo>
                  <a:pt x="3318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428292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0"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50"/>
                            </p:stCondLst>
                            <p:childTnLst>
                              <p:par>
                                <p:cTn id="1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850"/>
                            </p:stCondLst>
                            <p:childTnLst>
                              <p:par>
                                <p:cTn id="1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850"/>
                            </p:stCondLst>
                            <p:childTnLst>
                              <p:par>
                                <p:cTn id="1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850"/>
                            </p:stCondLst>
                            <p:childTnLst>
                              <p:par>
                                <p:cTn id="1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39:53Z</dcterms:created>
  <dc:creator>нк</dc:creator>
  <dc:description/>
  <dc:language>en-US</dc:language>
  <cp:lastModifiedBy>VIRUS®</cp:lastModifiedBy>
  <dcterms:modified xsi:type="dcterms:W3CDTF">2009-04-09T08:19:13Z</dcterms:modified>
  <cp:revision>45</cp:revision>
  <dc:subject/>
  <dc:title>ДРОБИ</dc:title>
</cp:coreProperties>
</file>