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7FE-28C0-469D-B8BB-AE3D83B5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695-BC64-4835-83A9-A15EAFB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9EB3-F218-4B4B-91F1-ADCBE81A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88E-534B-4210-9E26-EF57A9A8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67F-7DFB-4491-B9D7-A27A5C42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80A-C5F2-4FCE-A26A-F957D57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E3E-084B-46F5-86F5-EE4D4499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40A-FA38-4634-A8F7-3769D38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BA0-7887-478C-89A4-955FCFA5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A2CB-F18B-41FE-B2A2-ED8790A8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5D2E-630B-4A4E-92F3-7207923C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9B6-648B-4E5C-9B3B-7F771F3B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4DC-5F17-452C-B9E5-13395A2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0ADB-85BC-490C-BCED-C316FAE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5EA-6515-419F-9314-1D75DDCD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DF0C-C413-4212-ACB6-F9C0A92A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5C25-A3D4-4B16-B0F0-57FC702B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BAB-CFF6-4D5D-931D-80D36FDB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FB5-7BF4-4BF8-B464-7E72C2FA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A4C-234E-4010-BD9E-58473EF9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9DE-B07B-4366-8F1F-14F1CD56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B2C-CE47-4520-B1B1-72BF82CF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5B8-E0AD-4808-B554-517939DF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BF-4113-4885-8248-1032FBB1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2204-32C4-4EA0-8976-D6FB122B21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8997-EF65-4CBF-A18D-B18EB64AB7C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ff"/>
                </a:solidFill>
                <a:latin typeface="Arial"/>
              </a:rPr>
              <a:t>Future Simpl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Arial"/>
              </a:rPr>
              <a:t>Will, shall +V</a:t>
            </a:r>
            <a:r>
              <a:rPr b="1" i="1" lang="en-US" sz="6000" spc="-1" strike="noStrike" baseline="-25000">
                <a:solidFill>
                  <a:srgbClr val="ff33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111560" cy="5257800"/>
          </a:xfrm>
          <a:prstGeom prst="rect">
            <a:avLst/>
          </a:prstGeom>
          <a:solidFill>
            <a:srgbClr val="fbdc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You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e(she,it)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e wi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hey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ill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475920"/>
            <a:ext cx="3673800" cy="5257800"/>
          </a:xfrm>
          <a:prstGeom prst="rect">
            <a:avLst/>
          </a:prstGeom>
          <a:solidFill>
            <a:srgbClr val="fbdca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You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e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e’ll 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hey’ll</a:t>
            </a:r>
            <a:r>
              <a:rPr b="0" lang="ru-RU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work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ff"/>
                </a:solidFill>
                <a:latin typeface="Comic Sans MS"/>
              </a:rPr>
              <a:t>Сигнал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Tomorrow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завтр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the future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в будуще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Next year 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month, week)-</a:t>
            </a:r>
            <a:r>
              <a:rPr b="0" lang="ru-RU" sz="3600" spc="-1" strike="noStrike">
                <a:solidFill>
                  <a:srgbClr val="ff3399"/>
                </a:solidFill>
                <a:latin typeface="Comic Sans MS"/>
              </a:rPr>
              <a:t>в следующем году(месяце, неделе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two years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через два г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In a day-</a:t>
            </a:r>
            <a:r>
              <a:rPr b="0" lang="ru-RU" sz="4000" spc="-1" strike="noStrike">
                <a:solidFill>
                  <a:srgbClr val="ff3399"/>
                </a:solidFill>
                <a:latin typeface="Comic Sans MS"/>
              </a:rPr>
              <a:t> через ден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Comic Sans MS"/>
              </a:rPr>
              <a:t>Постановка вопросов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learn English in a y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рицательная форма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learn English in a yea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щи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e learn English in a ye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ьтернатив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e learn English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r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rman in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ye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ециаль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          2           3            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e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il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ear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ngl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прос к подлежащем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will learn English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зделительный вопрос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       2         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will learn English, will not we? (won't we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7:16:41Z</dcterms:created>
  <dc:creator>ССШ</dc:creator>
  <dc:description/>
  <dc:language>en-US</dc:language>
  <cp:lastModifiedBy>1</cp:lastModifiedBy>
  <dcterms:modified xsi:type="dcterms:W3CDTF">2009-11-12T15:35:04Z</dcterms:modified>
  <cp:revision>3</cp:revision>
  <dc:subject/>
  <dc:title>Слайд 1</dc:title>
</cp:coreProperties>
</file>