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0A73-26E5-4A8B-9123-E893FE552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141A-0920-4040-B441-5189E8EE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DE98-F3DE-4970-8A0D-3694CB1BD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E964-AB02-4A98-BA47-45CE19F44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14A0-47C5-45A5-BA75-1496E3551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CDAF-54FA-4F57-8DEF-A43BCF19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E09B-9D0F-4129-BF4F-745B4381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8752-CB4A-47DE-B264-2EA70925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AED3-839B-4F37-988E-6368678A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CDE4-0B26-4C66-B7ED-7BFE0A77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B454-8600-4DC8-9480-86D09253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F160-1328-4322-B8B8-560AD6E1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C746-68AE-4083-B11A-3853FBF0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3CB6-D28B-460B-AEAA-F4E36959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B58A-66D6-4011-84A5-12540707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ABC7-5605-4A51-BE27-D1454C107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38E6-FF21-404E-AE57-8E3EA7AE5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0014-BBD7-4F1B-BE07-D12D5CDB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C0B7-EE4B-48B5-9F73-BBB8920C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3B70-0482-418B-A1EB-BDA39617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43EC-098A-4C89-8626-753EC371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B780-AC08-47D1-B08F-C324EADE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FAB3-F22D-4F88-B460-55ED712A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381A-BBA0-4DF1-A598-9209098C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BC9D-855D-4128-A3F6-B419742CEA0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25C9-2B2E-4C01-A8F9-3ADD7E97B52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00ff"/>
                </a:solidFill>
                <a:latin typeface="Arial"/>
              </a:rPr>
              <a:t>Future Simpl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99"/>
                </a:solidFill>
                <a:latin typeface="Arial"/>
              </a:rPr>
              <a:t>Will, shall +V</a:t>
            </a:r>
            <a:r>
              <a:rPr b="1" i="1" lang="en-US" sz="6000" spc="-1" strike="noStrike" baseline="-25000">
                <a:solidFill>
                  <a:srgbClr val="ff33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4111560" cy="5257800"/>
          </a:xfrm>
          <a:prstGeom prst="rect">
            <a:avLst/>
          </a:prstGeom>
          <a:solidFill>
            <a:srgbClr val="fbdca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I will work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You will work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He(she,it) will work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We will work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They</a:t>
            </a:r>
            <a:r>
              <a:rPr b="0" lang="ru-RU" sz="4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will</a:t>
            </a:r>
            <a:r>
              <a:rPr b="0" lang="ru-RU" sz="4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work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2920" y="475920"/>
            <a:ext cx="3673800" cy="5257800"/>
          </a:xfrm>
          <a:prstGeom prst="rect">
            <a:avLst/>
          </a:prstGeom>
          <a:solidFill>
            <a:srgbClr val="fbdca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I’ll work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You’ll work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He’ll work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We’ll work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They’ll</a:t>
            </a:r>
            <a:r>
              <a:rPr b="0" lang="ru-RU" sz="4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work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ff"/>
                </a:solidFill>
                <a:latin typeface="Comic Sans MS"/>
              </a:rPr>
              <a:t>Сигналы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Comic Sans MS"/>
              </a:rPr>
              <a:t>Tomorrow-</a:t>
            </a:r>
            <a:r>
              <a:rPr b="0" lang="ru-RU" sz="4000" spc="-1" strike="noStrike">
                <a:solidFill>
                  <a:srgbClr val="ff3399"/>
                </a:solidFill>
                <a:latin typeface="Comic Sans MS"/>
              </a:rPr>
              <a:t>завтр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Comic Sans MS"/>
              </a:rPr>
              <a:t>In the future-</a:t>
            </a:r>
            <a:r>
              <a:rPr b="0" lang="ru-RU" sz="4000" spc="-1" strike="noStrike">
                <a:solidFill>
                  <a:srgbClr val="ff3399"/>
                </a:solidFill>
                <a:latin typeface="Comic Sans MS"/>
              </a:rPr>
              <a:t>в будущем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Comic Sans MS"/>
              </a:rPr>
              <a:t>Next year </a:t>
            </a:r>
            <a:r>
              <a:rPr b="0" lang="ru-RU" sz="4000" spc="-1" strike="noStrike">
                <a:solidFill>
                  <a:srgbClr val="ff3399"/>
                </a:solidFill>
                <a:latin typeface="Comic Sans MS"/>
              </a:rPr>
              <a:t>(</a:t>
            </a:r>
            <a:r>
              <a:rPr b="0" lang="en-US" sz="4000" spc="-1" strike="noStrike">
                <a:solidFill>
                  <a:srgbClr val="ff3399"/>
                </a:solidFill>
                <a:latin typeface="Comic Sans MS"/>
              </a:rPr>
              <a:t>month, week)-</a:t>
            </a:r>
            <a:r>
              <a:rPr b="0" lang="ru-RU" sz="3600" spc="-1" strike="noStrike">
                <a:solidFill>
                  <a:srgbClr val="ff3399"/>
                </a:solidFill>
                <a:latin typeface="Comic Sans MS"/>
              </a:rPr>
              <a:t>в следующем году(месяце, неделе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Comic Sans MS"/>
              </a:rPr>
              <a:t>In two years-</a:t>
            </a:r>
            <a:r>
              <a:rPr b="0" lang="ru-RU" sz="4000" spc="-1" strike="noStrike">
                <a:solidFill>
                  <a:srgbClr val="ff3399"/>
                </a:solidFill>
                <a:latin typeface="Comic Sans MS"/>
              </a:rPr>
              <a:t>через два год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Comic Sans MS"/>
              </a:rPr>
              <a:t>In a day-</a:t>
            </a:r>
            <a:r>
              <a:rPr b="0" lang="ru-RU" sz="4000" spc="-1" strike="noStrike">
                <a:solidFill>
                  <a:srgbClr val="ff3399"/>
                </a:solidFill>
                <a:latin typeface="Comic Sans MS"/>
              </a:rPr>
              <a:t> через ден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ff"/>
                </a:solidFill>
                <a:latin typeface="Comic Sans MS"/>
              </a:rPr>
              <a:t>Постановка вопросов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will learn English in a year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рицательная форма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will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no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learn English in a year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щий вопрос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ill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e learn English in a year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льтернативный вопрос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ill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e learn English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or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rman in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year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пециальный вопрос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               2           3             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he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ill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lear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English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прос к подлежащему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ho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ill learn English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Разделительный вопрос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            2          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will learn English, will not we? (won't we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07:16:41Z</dcterms:created>
  <dc:creator>ССШ</dc:creator>
  <dc:description/>
  <dc:language>en-US</dc:language>
  <cp:lastModifiedBy>1</cp:lastModifiedBy>
  <dcterms:modified xsi:type="dcterms:W3CDTF">2009-11-12T15:35:04Z</dcterms:modified>
  <cp:revision>3</cp:revision>
  <dc:subject/>
  <dc:title>Слайд 1</dc:title>
</cp:coreProperties>
</file>