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2D3-9904-4346-85E1-F1B1C4F5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9280" y="396648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F1F-B469-4F91-9EE2-72902DD1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52096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89A-0460-4CCB-B9B7-4A605489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2644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11360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3928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2644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11360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367-1861-4AB9-8A99-A56A5BF7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370B-55F7-49C8-BC4B-6CF3F482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263F-CA1F-4657-BCD8-AB024BB3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6381-565E-413D-BFAA-51DF9DFC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8413-1F7B-40E8-8F5E-F81D4550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29D1-67AA-4D0C-A881-990EEB66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9280" y="277920"/>
            <a:ext cx="9721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CE5-F41B-4187-AA1F-654A7A47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D50E-3A9C-49AD-B207-5411A946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D25-8F60-497C-85F6-0D67B95E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52096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FB57-2551-4AAF-A32F-8AAB0AE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5BEA-834C-4558-97E8-3ADBAC4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9280" y="396648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EE6-9E98-47F8-9322-D7D08485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52096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F955-45A5-4B61-A3C9-C42042DD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2644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113600" y="159984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3928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2644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7113600" y="3966480"/>
            <a:ext cx="3130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6A2C-E5D6-4EC1-88A9-3E757AD1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B00-043B-4935-8CE2-08480D5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39B-5A66-46C1-8F64-A926F9D6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99B6-5F74-44B6-AE09-A59C99C3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39280" y="277920"/>
            <a:ext cx="97218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7D2-DBBD-4630-81A1-4D1AA8DB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4C0-E404-4BF8-8EEF-57E5269F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20960" y="396648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78B-B18E-4E36-8A6F-42D77C09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520960" y="1599840"/>
            <a:ext cx="47440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9280" y="3966480"/>
            <a:ext cx="9721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CCC-6E11-446B-B559-04BA0102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570640" y="5345280"/>
            <a:ext cx="5230440" cy="1512720"/>
            <a:chOff x="5570640" y="5345280"/>
            <a:chExt cx="5230440" cy="1512720"/>
          </a:xfrm>
        </p:grpSpPr>
        <p:sp>
          <p:nvSpPr>
            <p:cNvPr id="1" name=""/>
            <p:cNvSpPr/>
            <p:nvPr/>
          </p:nvSpPr>
          <p:spPr>
            <a:xfrm>
              <a:off x="5570640" y="5345280"/>
              <a:ext cx="52304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629560" y="6372360"/>
              <a:ext cx="2196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618040" y="6343560"/>
              <a:ext cx="111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713160" y="5678640"/>
              <a:ext cx="57024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222120" y="5640480"/>
              <a:ext cx="58896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813520" y="5869080"/>
              <a:ext cx="51516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79440" y="5888160"/>
              <a:ext cx="3992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48160" y="6248520"/>
              <a:ext cx="31284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88160" y="6381720"/>
              <a:ext cx="31104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1760" y="6410160"/>
              <a:ext cx="44424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88960" y="6486480"/>
              <a:ext cx="36756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517440" y="6458040"/>
              <a:ext cx="35604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943960" y="6648480"/>
              <a:ext cx="43092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707440" y="6696000"/>
              <a:ext cx="16704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279800" y="5345280"/>
              <a:ext cx="52128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9721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539280" y="6243480"/>
            <a:ext cx="252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691080" y="6248520"/>
            <a:ext cx="341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7740720" y="6243480"/>
            <a:ext cx="252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D3B5-69C9-450A-B320-FE0BAE39B13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539280" y="1599840"/>
            <a:ext cx="97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5570640" y="5345280"/>
            <a:ext cx="5230440" cy="1512720"/>
            <a:chOff x="5570640" y="5345280"/>
            <a:chExt cx="5230440" cy="1512720"/>
          </a:xfrm>
        </p:grpSpPr>
        <p:sp>
          <p:nvSpPr>
            <p:cNvPr id="58" name=""/>
            <p:cNvSpPr/>
            <p:nvPr/>
          </p:nvSpPr>
          <p:spPr>
            <a:xfrm>
              <a:off x="5570640" y="5345280"/>
              <a:ext cx="52304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29560" y="6372360"/>
              <a:ext cx="2196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18040" y="6343560"/>
              <a:ext cx="1116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713160" y="5678640"/>
              <a:ext cx="57024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222120" y="5640480"/>
              <a:ext cx="58896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13520" y="5869080"/>
              <a:ext cx="51516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79440" y="5888160"/>
              <a:ext cx="3992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48160" y="6248520"/>
              <a:ext cx="31284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88160" y="6381720"/>
              <a:ext cx="31104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31760" y="6410160"/>
              <a:ext cx="44424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88960" y="6486480"/>
              <a:ext cx="36756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7440" y="6458040"/>
              <a:ext cx="35604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960" y="6648480"/>
              <a:ext cx="43092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07440" y="6696000"/>
              <a:ext cx="16704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279800" y="5345280"/>
              <a:ext cx="52128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9640" y="1600200"/>
            <a:ext cx="9182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539280" y="6243480"/>
            <a:ext cx="252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691080" y="6248520"/>
            <a:ext cx="3419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740720" y="6243480"/>
            <a:ext cx="252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DB6E-C9CB-45A1-BA72-279FC154ECD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8280" y="476280"/>
            <a:ext cx="4049640" cy="3816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75480" y="3068640"/>
            <a:ext cx="3494160" cy="3290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76360" y="4869000"/>
            <a:ext cx="5688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"Мёртвые душ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00720" y="907920"/>
            <a:ext cx="446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Н. В. Гог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92080" y="0"/>
            <a:ext cx="910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92080" y="58680"/>
            <a:ext cx="92710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99522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986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7680" y="28440"/>
            <a:ext cx="85899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2600" y="1484280"/>
            <a:ext cx="98247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000" y="1484280"/>
            <a:ext cx="102470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3809880" cy="4648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192720" y="1700280"/>
            <a:ext cx="38102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6320" y="88920"/>
            <a:ext cx="89326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24360" y="765000"/>
            <a:ext cx="5113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000" y="115920"/>
            <a:ext cx="103345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Главная книг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июне 1836 Гоголь (снова вместе с Данилевским) уезжает за границу, где он провел в общей сложности более 12 лет, если не считать двух приездов в Россию — в 1839-40 и в 1841-42. Писатель жил в Германии, Швейцарии, Франции, Австрии, Чехии, но дольше всего в Италии, продолжая работу над «Мертвыми душами», сюжет которых (как и «Ревизора») был подсказан ему Пушкиным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31920" y="0"/>
            <a:ext cx="854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2720" y="620640"/>
            <a:ext cx="4819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82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13080" y="836640"/>
            <a:ext cx="45291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3800" y="66600"/>
            <a:ext cx="87166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0" y="549360"/>
            <a:ext cx="45738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3800" y="0"/>
            <a:ext cx="87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147680" y="0"/>
            <a:ext cx="846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3800" y="0"/>
            <a:ext cx="876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38280" y="692280"/>
            <a:ext cx="95695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0"/>
            <a:ext cx="1033452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лавная книг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йственная Гоголю обобщенность масштаба получала теперь пространственное выражение: по мере развития чичиковской аферы (покупка «ревизских душ» умерших людей) русская жизнь должна была раскрыться многообразно — не только со стороны «низменных рядов ее», но и в более высоких, значительных проявлениях. Одновременно раскрывалась и вся глубина ключевого мотива поэмы: понятие «мертвая душа» и вытекавшая отсюда антитеза «живой» — «мертвый» из сферы конкретного словоупотребления (умерший крестьянин, «ревизская душа») передвигались в сферу переносной и символической семанти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08200" y="836640"/>
            <a:ext cx="92278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08200" y="476280"/>
            <a:ext cx="91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264360" y="2681280"/>
            <a:ext cx="3905280" cy="3678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6360" y="476280"/>
            <a:ext cx="36878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97000" y="115920"/>
            <a:ext cx="10334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Главная книг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никала проблема омертвления и оживления человеческой души, и в связи с этим — общества в целом, русского мира прежде всего, но через него и всего современного человечества. Со сложностью замысла связана жанровая специфика «Мертвых душ» (обозначение «поэма» указывало на символический смысл произведения, особую роль повествователя и позитивного авторского идеала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3800" y="0"/>
            <a:ext cx="884520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6320" y="184320"/>
            <a:ext cx="880272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2600" y="836640"/>
            <a:ext cx="98247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38280" y="0"/>
            <a:ext cx="978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2600" y="1341360"/>
            <a:ext cx="97819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22:50Z</dcterms:created>
  <dc:creator>userOK</dc:creator>
  <dc:description/>
  <dc:language>en-US</dc:language>
  <cp:lastModifiedBy>userOK</cp:lastModifiedBy>
  <dcterms:modified xsi:type="dcterms:W3CDTF">2010-02-28T16:50:24Z</dcterms:modified>
  <cp:revision>3</cp:revision>
  <dc:subject/>
  <dc:title>Слайд 1</dc:title>
</cp:coreProperties>
</file>