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10799763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980B4-636C-4254-949C-CB687D975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9280" y="277920"/>
            <a:ext cx="97218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39280" y="1599840"/>
            <a:ext cx="9721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539280" y="3966480"/>
            <a:ext cx="9721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6E01F-140D-4DF8-9ECC-9B8229818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9280" y="277920"/>
            <a:ext cx="97218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39280" y="1599840"/>
            <a:ext cx="47440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520960" y="1599840"/>
            <a:ext cx="47440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539280" y="3966480"/>
            <a:ext cx="47440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520960" y="3966480"/>
            <a:ext cx="47440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07093-C91E-4CA9-97A5-C2485692D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280" y="277920"/>
            <a:ext cx="97218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9280" y="1599840"/>
            <a:ext cx="31302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826440" y="1599840"/>
            <a:ext cx="31302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7113600" y="1599840"/>
            <a:ext cx="31302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539280" y="3966480"/>
            <a:ext cx="31302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826440" y="3966480"/>
            <a:ext cx="31302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7113600" y="3966480"/>
            <a:ext cx="31302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422AE-DE47-4CCE-830B-721E8ECEF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00651-FF78-404D-880A-26E3C93A0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9280" y="277920"/>
            <a:ext cx="97218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539280" y="1599840"/>
            <a:ext cx="97218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F6170-534B-4500-B893-BA65E0F39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9280" y="277920"/>
            <a:ext cx="97218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9280" y="1599840"/>
            <a:ext cx="9721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25303-69CC-4AAC-BC19-6F6BF0FD4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9280" y="277920"/>
            <a:ext cx="97218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39280" y="1599840"/>
            <a:ext cx="47440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520960" y="1599840"/>
            <a:ext cx="47440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3F923-C9D7-4E75-8F5B-6334A5059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9280" y="277920"/>
            <a:ext cx="97218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1FC02-416A-49D9-B523-E757EEA77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539280" y="277920"/>
            <a:ext cx="97218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E1147-5963-49DC-B4D5-8D26BC71D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9280" y="277920"/>
            <a:ext cx="97218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39280" y="1599840"/>
            <a:ext cx="47440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520960" y="1599840"/>
            <a:ext cx="47440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539280" y="3966480"/>
            <a:ext cx="47440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F09E8-19CA-411C-B564-1D3F31717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9280" y="277920"/>
            <a:ext cx="97218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539280" y="1599840"/>
            <a:ext cx="97218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172E1-71E4-48CA-A796-82BF316F3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9280" y="277920"/>
            <a:ext cx="97218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39280" y="1599840"/>
            <a:ext cx="47440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520960" y="1599840"/>
            <a:ext cx="47440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520960" y="3966480"/>
            <a:ext cx="47440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A775A-9351-430B-B321-9CFAEA7D3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9280" y="277920"/>
            <a:ext cx="97218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39280" y="1599840"/>
            <a:ext cx="47440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520960" y="1599840"/>
            <a:ext cx="47440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39280" y="3966480"/>
            <a:ext cx="9721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7558F-8C98-4938-8471-1E460E91A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77920"/>
            <a:ext cx="97218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39280" y="1599840"/>
            <a:ext cx="9721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39280" y="3966480"/>
            <a:ext cx="9721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3C4A5-2CC6-419D-849E-30B16F4DD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9280" y="277920"/>
            <a:ext cx="97218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9280" y="1599840"/>
            <a:ext cx="47440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520960" y="1599840"/>
            <a:ext cx="47440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39280" y="3966480"/>
            <a:ext cx="47440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5520960" y="3966480"/>
            <a:ext cx="47440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56D91-25EF-4F60-8BAF-7C47027EE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9280" y="277920"/>
            <a:ext cx="97218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9280" y="1599840"/>
            <a:ext cx="31302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826440" y="1599840"/>
            <a:ext cx="31302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7113600" y="1599840"/>
            <a:ext cx="31302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539280" y="3966480"/>
            <a:ext cx="31302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826440" y="3966480"/>
            <a:ext cx="31302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7113600" y="3966480"/>
            <a:ext cx="31302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F9FA5-3961-4D5D-ABA0-D492B17D6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9280" y="277920"/>
            <a:ext cx="97218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9280" y="1599840"/>
            <a:ext cx="9721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29AE1-465B-458E-B685-CC77D640E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9280" y="277920"/>
            <a:ext cx="97218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9280" y="1599840"/>
            <a:ext cx="47440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520960" y="1599840"/>
            <a:ext cx="47440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133EA-59AD-46AC-A7C6-687670F26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9280" y="277920"/>
            <a:ext cx="97218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3B8FA-61C3-4631-83F6-DE145712C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539280" y="277920"/>
            <a:ext cx="97218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D681F-5E2E-4E29-A88A-D49633BBA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9280" y="277920"/>
            <a:ext cx="97218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9280" y="1599840"/>
            <a:ext cx="47440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520960" y="1599840"/>
            <a:ext cx="47440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39280" y="3966480"/>
            <a:ext cx="47440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6AC39-97C4-4E94-84ED-74A8F10B7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9280" y="277920"/>
            <a:ext cx="97218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9280" y="1599840"/>
            <a:ext cx="47440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520960" y="1599840"/>
            <a:ext cx="47440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520960" y="3966480"/>
            <a:ext cx="47440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591C7-9018-40EF-BA2A-8B24325A1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9280" y="277920"/>
            <a:ext cx="97218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9280" y="1599840"/>
            <a:ext cx="47440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520960" y="1599840"/>
            <a:ext cx="47440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39280" y="3966480"/>
            <a:ext cx="9721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AA445-1713-4F6E-879D-F24FE813F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570640" y="5345280"/>
            <a:ext cx="5230440" cy="1512720"/>
            <a:chOff x="5570640" y="5345280"/>
            <a:chExt cx="5230440" cy="1512720"/>
          </a:xfrm>
        </p:grpSpPr>
        <p:sp>
          <p:nvSpPr>
            <p:cNvPr id="1" name=""/>
            <p:cNvSpPr/>
            <p:nvPr/>
          </p:nvSpPr>
          <p:spPr>
            <a:xfrm>
              <a:off x="5570640" y="5345280"/>
              <a:ext cx="52304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629560" y="6372360"/>
              <a:ext cx="2196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618040" y="6343560"/>
              <a:ext cx="1116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713160" y="5678640"/>
              <a:ext cx="57024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9222120" y="5640480"/>
              <a:ext cx="58896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813520" y="5869080"/>
              <a:ext cx="51516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479440" y="5888160"/>
              <a:ext cx="3992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048160" y="6248520"/>
              <a:ext cx="31284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7688160" y="6381720"/>
              <a:ext cx="31104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7331760" y="6410160"/>
              <a:ext cx="44424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888960" y="6486480"/>
              <a:ext cx="36756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517440" y="6458040"/>
              <a:ext cx="35604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943960" y="6648480"/>
              <a:ext cx="43092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707440" y="6696000"/>
              <a:ext cx="16704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0279800" y="5345280"/>
              <a:ext cx="52128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9280" y="277920"/>
            <a:ext cx="97218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539280" y="6243480"/>
            <a:ext cx="252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691080" y="6248520"/>
            <a:ext cx="3419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7740720" y="6243480"/>
            <a:ext cx="2520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094E9-D8CE-402B-A8B3-04FFD53D4B3F}" type="slidenum">
              <a:rPr b="0" lang="ru-RU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539280" y="1599840"/>
            <a:ext cx="9721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5570640" y="5345280"/>
            <a:ext cx="5230440" cy="1512720"/>
            <a:chOff x="5570640" y="5345280"/>
            <a:chExt cx="5230440" cy="1512720"/>
          </a:xfrm>
        </p:grpSpPr>
        <p:sp>
          <p:nvSpPr>
            <p:cNvPr id="58" name=""/>
            <p:cNvSpPr/>
            <p:nvPr/>
          </p:nvSpPr>
          <p:spPr>
            <a:xfrm>
              <a:off x="5570640" y="5345280"/>
              <a:ext cx="52304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629560" y="6372360"/>
              <a:ext cx="2196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618040" y="6343560"/>
              <a:ext cx="1116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9713160" y="5678640"/>
              <a:ext cx="57024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9222120" y="5640480"/>
              <a:ext cx="58896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13520" y="5869080"/>
              <a:ext cx="51516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479440" y="5888160"/>
              <a:ext cx="3992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048160" y="6248520"/>
              <a:ext cx="31284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7688160" y="6381720"/>
              <a:ext cx="31104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331760" y="6410160"/>
              <a:ext cx="44424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888960" y="6486480"/>
              <a:ext cx="36756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517440" y="6458040"/>
              <a:ext cx="35604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960" y="6648480"/>
              <a:ext cx="43092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707440" y="6696000"/>
              <a:ext cx="16704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0279800" y="5345280"/>
              <a:ext cx="52128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09640" y="1600200"/>
            <a:ext cx="918216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539280" y="6243480"/>
            <a:ext cx="252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691080" y="6248520"/>
            <a:ext cx="3419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7740720" y="6243480"/>
            <a:ext cx="2520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E94F5-976A-4CA1-A744-9BE128563FA6}" type="slidenum">
              <a:rPr b="0" lang="ru-RU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638280" y="476280"/>
            <a:ext cx="4049640" cy="381636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6675480" y="3068640"/>
            <a:ext cx="3494160" cy="329076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 txBox="1"/>
          <p:nvPr/>
        </p:nvSpPr>
        <p:spPr>
          <a:xfrm>
            <a:off x="576360" y="4869000"/>
            <a:ext cx="5688000" cy="14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"/>
              </a:rPr>
              <a:t>"Мёртвые души"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400720" y="907920"/>
            <a:ext cx="446400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"/>
              </a:rPr>
              <a:t>Н. В. Гогол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892080" y="0"/>
            <a:ext cx="9102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892080" y="58680"/>
            <a:ext cx="9271080" cy="679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466560" y="765000"/>
            <a:ext cx="9952200" cy="55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66560" y="0"/>
            <a:ext cx="9866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147680" y="28440"/>
            <a:ext cx="8589960" cy="682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552600" y="1484280"/>
            <a:ext cx="9824760" cy="473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97000" y="1484280"/>
            <a:ext cx="1024704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576360" y="404640"/>
            <a:ext cx="3809880" cy="46483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6192720" y="1700280"/>
            <a:ext cx="3810240" cy="41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976320" y="88920"/>
            <a:ext cx="8932680" cy="67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3024360" y="765000"/>
            <a:ext cx="5113080" cy="54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297000" y="115920"/>
            <a:ext cx="10334520" cy="47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Главная книга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В июне 1836 Гоголь (снова вместе с Данилевским) уезжает за границу, где он провел в общей сложности более 12 лет, если не считать двух приездов в Россию — в 1839-40 и в 1841-42. Писатель жил в Германии, Швейцарии, Франции, Австрии, Чехии, но дольше всего в Италии, продолжая работу над «Мертвыми душами», сюжет которых (как и «Ревизора») был подсказан ему Пушкиным.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231920" y="0"/>
            <a:ext cx="8547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2952720" y="620640"/>
            <a:ext cx="481968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80820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313080" y="836640"/>
            <a:ext cx="4529160" cy="50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1063800" y="66600"/>
            <a:ext cx="8716680" cy="679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40000" y="549360"/>
            <a:ext cx="4573800" cy="569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1063800" y="0"/>
            <a:ext cx="8716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147680" y="0"/>
            <a:ext cx="8462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063800" y="0"/>
            <a:ext cx="8761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638280" y="692280"/>
            <a:ext cx="9569520" cy="43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287280" y="0"/>
            <a:ext cx="10334520" cy="64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Главная книга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Свойственная Гоголю обобщенность масштаба получала теперь пространственное выражение: по мере развития чичиковской аферы (покупка «ревизских душ» умерших людей) русская жизнь должна была раскрыться многообразно — не только со стороны «низменных рядов ее», но и в более высоких, значительных проявлениях. Одновременно раскрывалась и вся глубина ключевого мотива поэмы: понятие «мертвая душа» и вытекавшая отсюда антитеза «живой» — «мертвый» из сферы конкретного словоупотребления (умерший крестьянин, «ревизская душа») передвигались в сферу переносной и символической семантики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808200" y="836640"/>
            <a:ext cx="922788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808200" y="476280"/>
            <a:ext cx="9144000" cy="53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6264360" y="2681280"/>
            <a:ext cx="3905280" cy="3678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576360" y="476280"/>
            <a:ext cx="368784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297000" y="115920"/>
            <a:ext cx="103345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Главная книга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Возникала проблема омертвления и оживления человеческой души, и в связи с этим — общества в целом, русского мира прежде всего, но через него и всего современного человечества. Со сложностью замысла связана жанровая специфика «Мертвых душ» (обозначение «поэма» указывало на символический смысл произведения, особую роль повествователя и позитивного авторского идеала)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063800" y="0"/>
            <a:ext cx="8845200" cy="668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976320" y="184320"/>
            <a:ext cx="8802720" cy="667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552600" y="836640"/>
            <a:ext cx="982476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638280" y="0"/>
            <a:ext cx="9780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552600" y="1341360"/>
            <a:ext cx="9781920" cy="381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5T18:22:50Z</dcterms:created>
  <dc:creator>userOK</dc:creator>
  <dc:description/>
  <dc:language>en-US</dc:language>
  <cp:lastModifiedBy>userOK</cp:lastModifiedBy>
  <dcterms:modified xsi:type="dcterms:W3CDTF">2010-02-28T16:50:24Z</dcterms:modified>
  <cp:revision>3</cp:revision>
  <dc:subject/>
  <dc:title>Слайд 1</dc:title>
</cp:coreProperties>
</file>