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046-96D6-4164-A166-91B9E880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334-8478-4FD3-8A65-12D30255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234-4338-4C99-9B4D-2314F38B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159-8070-4C93-8290-60BACE34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81C-62FE-48EB-9A24-BE68580C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980-8D9B-4622-8386-34FCC1DE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E30F-1C5B-47E4-8C9F-F5272480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3EF-1D36-4D03-8367-4B73E32A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327-271A-4F69-B34E-E05D37A4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118-D8EC-4A6A-B8B1-672FE9A8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0E2-DA13-4E1C-99AA-106A946F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B9B-9365-4991-9C27-925808F2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4788-DFCA-41D7-9224-BD86FFEB4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Инфини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неличная форма глагола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которая называет действие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но не указывает ни лица ни числа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русском языке отвечает на вопрос </a:t>
            </a: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что дела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английском языке частица 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to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тоящая перед глаголом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является признаком </a:t>
            </a: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инфинитива</a:t>
            </a: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Инфинитив  сочетает в себе свойства </a:t>
            </a:r>
            <a:r>
              <a:rPr b="1" lang="ru-RU" sz="3600" spc="-1" strike="noStrike">
                <a:solidFill>
                  <a:srgbClr val="3399ff"/>
                </a:solidFill>
                <a:latin typeface="Arial"/>
              </a:rPr>
              <a:t>глагола и существительного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и имеет следующие формы: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92360" y="189000"/>
            <a:ext cx="532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oper Black"/>
              </a:rPr>
              <a:t>Формы инфинит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981000"/>
          <a:ext cx="9144000" cy="5497560"/>
        </p:xfrm>
        <a:graphic>
          <a:graphicData uri="http://schemas.openxmlformats.org/drawingml/2006/table">
            <a:tbl>
              <a:tblPr/>
              <a:tblGrid>
                <a:gridCol w="1522440"/>
                <a:gridCol w="1681200"/>
                <a:gridCol w="2201760"/>
                <a:gridCol w="1749600"/>
                <a:gridCol w="1989000"/>
              </a:tblGrid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n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oi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er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rfect 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c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pri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be prin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hate prin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have been print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be prin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o have been prin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49360"/>
            <a:ext cx="914400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cc3300"/>
                </a:solidFill>
                <a:latin typeface="Arial Black"/>
              </a:rPr>
              <a:t>.</a:t>
            </a: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 Present Simple Active 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Jane was sad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o learn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the tr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 Black"/>
              </a:rPr>
              <a:t>Джейн было грустно узнать правду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2</a:t>
            </a: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.</a:t>
            </a: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Present Simple Passive 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She was happy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o be taught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Fre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 Black"/>
              </a:rPr>
              <a:t>Она была счастлива что её обучают французскому языку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cc3300"/>
                </a:solidFill>
                <a:latin typeface="Arial Black"/>
              </a:rPr>
              <a:t>. Present Perfect Pa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Kate was sad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o have been told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 a l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 Black"/>
              </a:rPr>
              <a:t>Кейт было грустно что ей сказали неправду</a:t>
            </a:r>
            <a:r>
              <a:rPr b="1" lang="en-US" sz="28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Употребление инфинитива</a:t>
            </a: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(в предложении инфинитив может употребляться в функциях: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длежащег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переводится инфинитивом или существительны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spea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glish is very pleas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ворить по- английски прият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Части составного именного сказуемого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ереводится инфинитивом или существительны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plan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g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ш план – поехать (поездка) в Испа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32508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ополн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ереводится инфинити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e promis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com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in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н обещал (что?) приехать вовремя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пределения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тоящего после определяемого слова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ереводитя инфинитив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еже существительн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ли прилагательны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ли придаточным определительным предложен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’ve got muc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У меня много работы(какой?) которую надо сдела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бстоя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а) цели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водится придаточным предложен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водимым союзом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чтобы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he took a taxi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b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Она взяла такси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(для чего?)чтобы быть вовремя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б) следств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 словами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oo(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лишком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), enough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(достаточ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Your tea is too ho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drink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Ваш чай слишком горячий(для чего?) чтобы пить его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036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борот «Объектный падеж с инфинитивом»</a:t>
            </a: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(Сложное дополнение)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Complex Object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Существительное в и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п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 или местоимение в объектном падеже(указательное) + инфини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Mother wants </a:t>
            </a:r>
            <a:r>
              <a:rPr b="1" i="1" lang="en-US" sz="4000" spc="-1" strike="noStrike" u="sng">
                <a:solidFill>
                  <a:srgbClr val="cc3300"/>
                </a:solidFill>
                <a:uFillTx/>
                <a:latin typeface="Arial"/>
              </a:rPr>
              <a:t>Peter to do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Mother wants </a:t>
            </a:r>
            <a:r>
              <a:rPr b="1" i="1" lang="en-US" sz="4000" spc="-1" strike="noStrike" u="sng">
                <a:solidFill>
                  <a:srgbClr val="cc3300"/>
                </a:solidFill>
                <a:uFillTx/>
                <a:latin typeface="Arial"/>
              </a:rPr>
              <a:t>him to do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57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8964720" cy="69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mplex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реводится придаточными изъяснительными предложениям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которые вводятся союзами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что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 чтоб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сле глаголо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o see, hear, watch, feel,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реводе употребляется союз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ка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стоимение 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объектном падеж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ереводится на русский язык местоимением 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именительном падеж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личны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 want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him to translate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this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Я хочу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чтобы он перевёл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этот текст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He watches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them play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Он наблюдает </a:t>
            </a:r>
            <a:r>
              <a:rPr b="1" lang="ru-RU" sz="3200" spc="-1" strike="noStrike" u="sng">
                <a:solidFill>
                  <a:srgbClr val="008000"/>
                </a:solidFill>
                <a:uFillTx/>
                <a:latin typeface="Arial"/>
              </a:rPr>
              <a:t>как они играют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5920"/>
            <a:ext cx="9144000" cy="59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После глаголов вос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see, hear, watch, feel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 и глаголов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make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и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 let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инфинитив употребляется </a:t>
            </a:r>
            <a:r>
              <a:rPr b="1" lang="ru-RU" sz="4000" spc="-1" strike="noStrike" u="sng">
                <a:solidFill>
                  <a:srgbClr val="660066"/>
                </a:solidFill>
                <a:uFillTx/>
                <a:latin typeface="Arial"/>
              </a:rPr>
              <a:t>без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частицы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Don’t let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your son come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home late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Не позволяйте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вашему сыну приходить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домой поздно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I see 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him park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the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Я вижу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,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(что)как он паркует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машину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9:19:05Z</dcterms:created>
  <dc:creator>Admin</dc:creator>
  <dc:description/>
  <dc:language>en-US</dc:language>
  <cp:lastModifiedBy>Admin</cp:lastModifiedBy>
  <dcterms:modified xsi:type="dcterms:W3CDTF">2012-02-05T20:29:33Z</dcterms:modified>
  <cp:revision>2</cp:revision>
  <dc:subject/>
  <dc:title>Слайд 1</dc:title>
</cp:coreProperties>
</file>