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.wmf" ContentType="image/x-wmf"/>
  <Override PartName="/ppt/media/image2.png" ContentType="image/png"/>
  <Override PartName="/ppt/media/image2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36DA-4F67-4BB0-AF45-721488AF8E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1DB-80AC-45C6-B6B2-F3616949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1A4F-8986-4327-934A-1EB09CC1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7020-68A7-437E-9A54-2330A12C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1C12-3E31-4951-8FA9-31699A96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901C-8B1F-4405-A28C-805C874B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B478-7B0F-4295-89A4-53D57241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3F3-FF40-4550-AAA2-DD6EE6D6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4734-9BD1-42D0-96ED-18F0F3EA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A137-35C6-4FBE-AE34-6BE73719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FE3-19E5-4752-A1C1-4B48DF5F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F73A-022C-419A-83C6-9961D85E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2DD3-9920-488D-99C3-FEDF9DA2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088D-6E85-4C7C-9771-7281ADB15E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. Пог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. Проверка домашнего задани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ларгония (геран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1341000"/>
            <a:ext cx="43876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ларгония относится к семейств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ераниевых. Родина пеларгонии Южна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фрика.  Название рода происходит о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еческого "pelargos" - аист: из-з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ходства плодов с клювом аиста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иходное название: Герань. Это одно из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мых распространен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тений.   Пеларгонии - неприхотлив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тения. Они появились в Европе уже 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нце XVII - начале XVIII в.   И н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дивительно, что пеларгонии во всем мир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к любят. За ними легко ухаживать,  он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лго цветут крупными и красочным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цветиями. Эти растения любители обычн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зывают цветущей геранью. Небольшу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у душистых пеларгоний обычн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ращивают не из-за цветков, а из-з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роматных листье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57200" y="1600200"/>
            <a:ext cx="3827520" cy="4060800"/>
            <a:chOff x="457200" y="1600200"/>
            <a:chExt cx="3827520" cy="4060800"/>
          </a:xfrm>
        </p:grpSpPr>
        <p:pic>
          <p:nvPicPr>
            <p:cNvPr id="89" name="Текст 2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3827520" cy="40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 txBox="1"/>
            <p:nvPr/>
          </p:nvSpPr>
          <p:spPr>
            <a:xfrm>
              <a:off x="457200" y="1600200"/>
              <a:ext cx="3827520" cy="4060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2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лю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1484280"/>
            <a:ext cx="3600360" cy="3816360"/>
            <a:chOff x="0" y="1484280"/>
            <a:chExt cx="3600360" cy="3816360"/>
          </a:xfrm>
        </p:grpSpPr>
        <p:pic>
          <p:nvPicPr>
            <p:cNvPr id="93" name="Текст 2" descr=""/>
            <p:cNvPicPr/>
            <p:nvPr/>
          </p:nvPicPr>
          <p:blipFill>
            <a:blip r:embed="rId1"/>
            <a:stretch/>
          </p:blipFill>
          <p:spPr>
            <a:xfrm>
              <a:off x="0" y="1484280"/>
              <a:ext cx="3600360" cy="38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 txBox="1"/>
            <p:nvPr/>
          </p:nvSpPr>
          <p:spPr>
            <a:xfrm>
              <a:off x="0" y="1484280"/>
              <a:ext cx="3600360" cy="381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780000" y="907920"/>
            <a:ext cx="5184720" cy="58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лющ - одно из сам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пространенных растений сред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юбителей комнатных цветов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дина Южный Крым, Юж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вропа, Кавказ, Северная Афр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лющ в народе иногда называю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ьюном, наверное, за его вьющие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цепляющиеся за опору вет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гут вырасти такие экземпляр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торые своими плет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крывают не только стену, но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толок комнаты. Плющ ищ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ору и прикрепляется к 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здушными корнями. Поэтом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му необходима опора. Цветки 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люща мелк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 по тетр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Текст 2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2170080" cy="2621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948360" y="1052640"/>
            <a:ext cx="1944720" cy="280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116000" y="4076640"/>
            <a:ext cx="2448000" cy="252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564000" y="1413000"/>
            <a:ext cx="2160360" cy="2376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003640" y="4076640"/>
            <a:ext cx="2376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хочешь научиться выращивать такие цветы? (учебник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2736720" cy="3022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348000" y="2492280"/>
            <a:ext cx="2592360" cy="3170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300720" y="1628640"/>
            <a:ext cx="2737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astellar"/>
              </a:rPr>
              <a:t>А какую пользу приносят комнатные раст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знай об этом в атла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Комнатные растени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771640" y="2809800"/>
            <a:ext cx="33130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Задание на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8036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гадай тему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Текст 2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4535280" cy="3527640"/>
          </a:xfrm>
          <a:prstGeom prst="rect">
            <a:avLst/>
          </a:prstGeom>
          <a:ln w="0">
            <a:noFill/>
          </a:ln>
        </p:spPr>
      </p:pic>
      <p:pic>
        <p:nvPicPr>
          <p:cNvPr id="52" name="Текст 2" descr=""/>
          <p:cNvPicPr/>
          <p:nvPr/>
        </p:nvPicPr>
        <p:blipFill>
          <a:blip r:embed="rId2"/>
          <a:stretch/>
        </p:blipFill>
        <p:spPr>
          <a:xfrm>
            <a:off x="5651640" y="1773360"/>
            <a:ext cx="280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Комнат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ни так прекрасны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Рисунок 3" descr="цветы.jpeg"/>
          <p:cNvPicPr/>
          <p:nvPr/>
        </p:nvPicPr>
        <p:blipFill>
          <a:blip r:embed="rId1"/>
          <a:stretch/>
        </p:blipFill>
        <p:spPr>
          <a:xfrm>
            <a:off x="1547640" y="2349360"/>
            <a:ext cx="1928880" cy="1643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Program Files\Microsoft Office\MEDIA\CAGCAT10\j0281904.wmf"/>
          <p:cNvPicPr/>
          <p:nvPr/>
        </p:nvPicPr>
        <p:blipFill>
          <a:blip r:embed="rId2"/>
          <a:stretch/>
        </p:blipFill>
        <p:spPr>
          <a:xfrm>
            <a:off x="6372360" y="1989000"/>
            <a:ext cx="1825560" cy="1725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D:\Мои документы\Комнатные цветы\ц.jpeg"/>
          <p:cNvPicPr/>
          <p:nvPr/>
        </p:nvPicPr>
        <p:blipFill>
          <a:blip r:embed="rId3"/>
          <a:stretch/>
        </p:blipFill>
        <p:spPr>
          <a:xfrm>
            <a:off x="539640" y="4653000"/>
            <a:ext cx="2217960" cy="1658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D:\Мои документы\Комнатные цветы\с.ц..jpeg"/>
          <p:cNvPicPr/>
          <p:nvPr/>
        </p:nvPicPr>
        <p:blipFill>
          <a:blip r:embed="rId4"/>
          <a:stretch/>
        </p:blipFill>
        <p:spPr>
          <a:xfrm>
            <a:off x="4788000" y="4508640"/>
            <a:ext cx="1631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авни внешний вид комнатных растений с растениями в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15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15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3313080" cy="2158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71640" y="4076640"/>
            <a:ext cx="3816360" cy="2592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076720" y="1773360"/>
            <a:ext cx="3816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507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ь на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916280"/>
            <a:ext cx="8229600" cy="4209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натные растения – это хорошо или плох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 знаете ли вы: сколько существует названий комнатных растени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 какие растения у вас дом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 почему одно растение имеет несколько названи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А если хотите,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давайте узнае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Times New Roman"/>
              </a:rPr>
              <a:t>Сделаем жизнь прекрасней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C:\Program Files\Microsoft Office\MEDIA\CAGCAT10\j0281904.wmf"/>
          <p:cNvPicPr/>
          <p:nvPr/>
        </p:nvPicPr>
        <p:blipFill>
          <a:blip r:embed="rId1"/>
          <a:stretch/>
        </p:blipFill>
        <p:spPr>
          <a:xfrm>
            <a:off x="714240" y="3786120"/>
            <a:ext cx="2611440" cy="2154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Program Files\Microsoft Office\MEDIA\CAGCAT10\j0284916.jpg"/>
          <p:cNvPicPr/>
          <p:nvPr/>
        </p:nvPicPr>
        <p:blipFill>
          <a:blip r:embed="rId2"/>
          <a:stretch/>
        </p:blipFill>
        <p:spPr>
          <a:xfrm>
            <a:off x="5500800" y="3714840"/>
            <a:ext cx="2857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тус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Текст 2" descr=""/>
          <p:cNvPicPr/>
          <p:nvPr/>
        </p:nvPicPr>
        <p:blipFill>
          <a:blip r:embed="rId1"/>
          <a:stretch/>
        </p:blipFill>
        <p:spPr>
          <a:xfrm>
            <a:off x="3419640" y="1557360"/>
            <a:ext cx="2385720" cy="2044800"/>
          </a:xfrm>
          <a:prstGeom prst="rect">
            <a:avLst/>
          </a:prstGeom>
          <a:ln w="0">
            <a:noFill/>
          </a:ln>
        </p:spPr>
      </p:pic>
      <p:pic>
        <p:nvPicPr>
          <p:cNvPr id="72" name="Текст 2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2155680" cy="2405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788000" y="4508640"/>
            <a:ext cx="2868480" cy="216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692360" y="422100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6300720" y="1628640"/>
            <a:ext cx="2737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льза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39640" y="2133720"/>
            <a:ext cx="3322800" cy="3528720"/>
            <a:chOff x="539640" y="2133720"/>
            <a:chExt cx="3322800" cy="3528720"/>
          </a:xfrm>
        </p:grpSpPr>
        <p:pic>
          <p:nvPicPr>
            <p:cNvPr id="78" name="Текст 2" descr=""/>
            <p:cNvPicPr/>
            <p:nvPr/>
          </p:nvPicPr>
          <p:blipFill>
            <a:blip r:embed="rId1"/>
            <a:stretch/>
          </p:blipFill>
          <p:spPr>
            <a:xfrm>
              <a:off x="539640" y="2133720"/>
              <a:ext cx="332280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 txBox="1"/>
            <p:nvPr/>
          </p:nvSpPr>
          <p:spPr>
            <a:xfrm>
              <a:off x="539640" y="2133720"/>
              <a:ext cx="3322800" cy="352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066920" y="1844280"/>
            <a:ext cx="482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одом из  Восточной Афри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Европе впервые появилось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596 году. В народе нос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звание огонек - за ярку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краску цветов, распускаю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ольшую часть года. Стеб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рупкие и сочные, лег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омаются. Листья мясист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ветки красные, пурпуров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озовы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адеска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427280" y="1599840"/>
            <a:ext cx="4259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дина традесканций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опическая и Север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мерика. Очень известное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прихотливое растен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тет и в теплых и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хладных помещениях;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рошо освещенных и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тененных местах. Очен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гко размнож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еренками весной, осен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ли лет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7200" y="1916280"/>
            <a:ext cx="3683160" cy="3889080"/>
            <a:chOff x="457200" y="1916280"/>
            <a:chExt cx="3683160" cy="3889080"/>
          </a:xfrm>
        </p:grpSpPr>
        <p:pic>
          <p:nvPicPr>
            <p:cNvPr id="84" name="Текст 2" descr=""/>
            <p:cNvPicPr/>
            <p:nvPr/>
          </p:nvPicPr>
          <p:blipFill>
            <a:blip r:embed="rId1"/>
            <a:stretch/>
          </p:blipFill>
          <p:spPr>
            <a:xfrm>
              <a:off x="457200" y="1916280"/>
              <a:ext cx="3683160" cy="38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 txBox="1"/>
            <p:nvPr/>
          </p:nvSpPr>
          <p:spPr>
            <a:xfrm>
              <a:off x="457200" y="1916280"/>
              <a:ext cx="3683160" cy="38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0:41:51Z</dcterms:created>
  <dc:creator>Admin</dc:creator>
  <dc:description/>
  <dc:language>en-US</dc:language>
  <cp:lastModifiedBy>User</cp:lastModifiedBy>
  <dcterms:modified xsi:type="dcterms:W3CDTF">2011-11-13T10:42:33Z</dcterms:modified>
  <cp:revision>49</cp:revision>
  <dc:subject/>
  <dc:title>Комнатные растения</dc:title>
</cp:coreProperties>
</file>