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2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4575-DB95-43AC-9D26-84B678A0CD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83B-5019-48A4-B0C3-F584DEE2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D74-4337-4733-A678-8085540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3DE-7286-4A49-A9A7-A1D40DD3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747-173A-427E-BC1F-16967C43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8D6-9470-4D56-A501-47D37FC6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593-0A53-47AE-9DE5-46CF0BB6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058-0937-416E-800D-FC2B97D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C6C-1F08-4548-9590-BD9EC3D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8D6-529A-4B65-A13F-6AE26DB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1AC-5E80-4AE4-90D7-2D8E108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312-98C3-4444-A2E5-150F6F9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6C7-E692-42CE-B6A7-7CA3AE5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BBBC-D33D-4894-B76F-7B5D2294A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По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Проверка домашнего задания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ларгония (гера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ларгония относится к семейств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аниевых. Родина пеларгонии Юж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фрика.  Название рода происходит о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еческого "pelargos" - аист: из-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ходства плодов с клювом аиста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иходное название: Герань. Это одно из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ых распростран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й.   Пеларгонии - неприхотлив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тения. Они появились в Европе уже 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це XVII - начале XVIII в.   И н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дивительно, что пеларгонии во всем ми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ак любят. За ними легко ухаживать, 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олго цветут крупными и красочны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цветиями. Эти растения любители обыч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ывают цветущей геранью. Небольш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у душистых пеларгоний обыч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ращивают не из-за цветков, а из-з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роматных листье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1600200"/>
            <a:ext cx="3827520" cy="4060800"/>
            <a:chOff x="457200" y="1600200"/>
            <a:chExt cx="3827520" cy="4060800"/>
          </a:xfrm>
        </p:grpSpPr>
        <p:pic>
          <p:nvPicPr>
            <p:cNvPr id="89" name="Текст 2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382752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457200" y="1600200"/>
              <a:ext cx="3827520" cy="406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лю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1484280"/>
            <a:ext cx="3600360" cy="3816360"/>
            <a:chOff x="0" y="1484280"/>
            <a:chExt cx="3600360" cy="3816360"/>
          </a:xfrm>
        </p:grpSpPr>
        <p:pic>
          <p:nvPicPr>
            <p:cNvPr id="93" name="Текст 2" descr=""/>
            <p:cNvPicPr/>
            <p:nvPr/>
          </p:nvPicPr>
          <p:blipFill>
            <a:blip r:embed="rId1"/>
            <a:stretch/>
          </p:blipFill>
          <p:spPr>
            <a:xfrm>
              <a:off x="0" y="1484280"/>
              <a:ext cx="36003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0" y="1484280"/>
              <a:ext cx="3600360" cy="38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80000" y="907920"/>
            <a:ext cx="518472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ющ - одно из сам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ространенных растений сре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юбителей комнатных цветов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дина Южный Крым, Ю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вропа, Кавказ, Северная Афр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ющ в народе иногда называю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ьюном, наверное, за его вьющие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цепляющиеся за опору вет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т вырасти такие экземпляр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торые своими плет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рывают не только стену, но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олок комнаты. Плющ ищ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ору и прикрепляется к 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здушными корнями. Поэт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му необходима опора. Цветки 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юща мелк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по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Текст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170080" cy="2621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948360" y="1052640"/>
            <a:ext cx="1944720" cy="280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2448000" cy="252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564000" y="141300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003640" y="407664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хочешь научиться выращивать такие цветы? (учебни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2736720" cy="3022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592360" cy="3170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300720" y="1628640"/>
            <a:ext cx="2737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astellar"/>
              </a:rPr>
              <a:t>А какую пользу приносят комнатные раст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знай об этом в атла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Комнатные растени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771640" y="2809800"/>
            <a:ext cx="3313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8036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гадай тему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4535280" cy="3527640"/>
          </a:xfrm>
          <a:prstGeom prst="rect">
            <a:avLst/>
          </a:prstGeom>
          <a:ln w="0">
            <a:noFill/>
          </a:ln>
        </p:spPr>
      </p:pic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Комнат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ни так прекрасн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3" descr="цветы.jpeg"/>
          <p:cNvPicPr/>
          <p:nvPr/>
        </p:nvPicPr>
        <p:blipFill>
          <a:blip r:embed="rId1"/>
          <a:stretch/>
        </p:blipFill>
        <p:spPr>
          <a:xfrm>
            <a:off x="1547640" y="234936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6372360" y="198900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Мои документы\Комнатные цветы\ц.jpeg"/>
          <p:cNvPicPr/>
          <p:nvPr/>
        </p:nvPicPr>
        <p:blipFill>
          <a:blip r:embed="rId3"/>
          <a:stretch/>
        </p:blipFill>
        <p:spPr>
          <a:xfrm>
            <a:off x="539640" y="4653000"/>
            <a:ext cx="2217960" cy="1658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:\Мои документы\Комнатные цветы\с.ц..jpeg"/>
          <p:cNvPicPr/>
          <p:nvPr/>
        </p:nvPicPr>
        <p:blipFill>
          <a:blip r:embed="rId4"/>
          <a:stretch/>
        </p:blipFill>
        <p:spPr>
          <a:xfrm>
            <a:off x="4788000" y="4508640"/>
            <a:ext cx="1631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и внешний вид комнатных растений с растениями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15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15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331308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816360" cy="2592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507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ь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натные растения – это хорошо или плох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знаете ли вы: сколько существует названий комнатных раст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какие растения у вас до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почему одно растение имеет несколько назва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А если хотите,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давайте узнае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Times New Roman"/>
              </a:rPr>
              <a:t>Сделаем жизнь прекрасней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714240" y="3786120"/>
            <a:ext cx="2611440" cy="2154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Program Files\Microsoft Office\MEDIA\CAGCAT10\j0284916.jpg"/>
          <p:cNvPicPr/>
          <p:nvPr/>
        </p:nvPicPr>
        <p:blipFill>
          <a:blip r:embed="rId2"/>
          <a:stretch/>
        </p:blipFill>
        <p:spPr>
          <a:xfrm>
            <a:off x="5500800" y="3714840"/>
            <a:ext cx="2857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тус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Текст 2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385720" cy="2044800"/>
          </a:xfrm>
          <a:prstGeom prst="rect">
            <a:avLst/>
          </a:prstGeom>
          <a:ln w="0">
            <a:noFill/>
          </a:ln>
        </p:spPr>
      </p:pic>
      <p:pic>
        <p:nvPicPr>
          <p:cNvPr id="72" name="Текст 2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2155680" cy="240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88000" y="4508640"/>
            <a:ext cx="2868480" cy="21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692360" y="422100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300720" y="1628640"/>
            <a:ext cx="2737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льза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39640" y="2133720"/>
            <a:ext cx="3322800" cy="3528720"/>
            <a:chOff x="539640" y="2133720"/>
            <a:chExt cx="3322800" cy="3528720"/>
          </a:xfrm>
        </p:grpSpPr>
        <p:pic>
          <p:nvPicPr>
            <p:cNvPr id="78" name="Текст 2" descr=""/>
            <p:cNvPicPr/>
            <p:nvPr/>
          </p:nvPicPr>
          <p:blipFill>
            <a:blip r:embed="rId1"/>
            <a:stretch/>
          </p:blipFill>
          <p:spPr>
            <a:xfrm>
              <a:off x="539640" y="2133720"/>
              <a:ext cx="332280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39640" y="2133720"/>
              <a:ext cx="3322800" cy="35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6920" y="1844280"/>
            <a:ext cx="482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ом из  Восточной Афр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Европе впервые появилось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596 году. В народе нос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вание огонек - за ярку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раску цветов, распускаю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льшую часть года. Стеб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рупкие и сочные, лег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омаются. Листья мясист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Цветки красные, пурпурово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зов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84f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деск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дина традесканций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пическая и Севе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ерика. Очень известно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прихотливое растен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тет и в теплых и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дных помещениях;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ошо освещенных и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тененных местах. Оч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гко размнож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енками весной, осен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 ле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916280"/>
            <a:ext cx="3683160" cy="3889080"/>
            <a:chOff x="457200" y="1916280"/>
            <a:chExt cx="3683160" cy="3889080"/>
          </a:xfrm>
        </p:grpSpPr>
        <p:pic>
          <p:nvPicPr>
            <p:cNvPr id="84" name="Текст 2" descr=""/>
            <p:cNvPicPr/>
            <p:nvPr/>
          </p:nvPicPr>
          <p:blipFill>
            <a:blip r:embed="rId1"/>
            <a:stretch/>
          </p:blipFill>
          <p:spPr>
            <a:xfrm>
              <a:off x="457200" y="1916280"/>
              <a:ext cx="3683160" cy="38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 txBox="1"/>
            <p:nvPr/>
          </p:nvSpPr>
          <p:spPr>
            <a:xfrm>
              <a:off x="457200" y="1916280"/>
              <a:ext cx="3683160" cy="38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0:41:51Z</dcterms:created>
  <dc:creator>Admin</dc:creator>
  <dc:description/>
  <dc:language>en-US</dc:language>
  <cp:lastModifiedBy>User</cp:lastModifiedBy>
  <dcterms:modified xsi:type="dcterms:W3CDTF">2011-11-13T10:42:33Z</dcterms:modified>
  <cp:revision>49</cp:revision>
  <dc:subject/>
  <dc:title>Комнатные растения</dc:title>
</cp:coreProperties>
</file>