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8B1-63C9-45F8-AFFB-E684A3E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DAE-768A-4706-B0BA-9762F58D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7B7-19ED-4338-A468-EE3F70AD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B15-B2CE-46FC-97E5-7D490CB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ECE-2D13-480F-AEE9-4236738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977-5A8A-4425-BCC7-36749292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D419-BAE5-49A8-A350-B2FC0B8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379-1FF9-4EB7-918E-B444A8C1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5877-6B89-4C88-BAE9-E81554F6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6DF-2A66-4FBF-B10F-BC1030D5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488-9D78-4886-94A9-EEF8E64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734-D911-44B9-991B-CD44D6BE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349E-6753-4C5E-8D2C-E602713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381F-A804-4CDF-AC7E-39FD0EB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45CB-B47B-4529-B00F-F30CB56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C6E-D3A2-467A-88C6-401DFEED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C23-6D92-4705-BC61-53FF3B1B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C73-D865-4ED3-AD96-464D1D2C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E1D-730F-40DB-BDE6-392D467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0BA-A296-401D-A0F6-B13AA22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C55-632F-48AC-9BBF-F1579D9E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3A4-C8E8-4B71-A014-FB36F70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1E5-A2AA-4A31-91EF-64FBA5E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987-1EED-45C8-8C96-1B755A57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5E5-587E-4A74-820D-3E8EB76FDE8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9FB-51DF-42F0-9692-6DAAB01DC55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Verdana"/>
              </a:rPr>
              <a:t>Прямая и косвенная речь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Direct and Indirect Speech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(правила перевода из прямой речи в косвенную)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Специальный вопро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опросительное слов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John: “ Where does Tom go every week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у: «Куда Том ходит каждую неделю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John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re</a:t>
            </a:r>
            <a:r>
              <a:rPr b="1" lang="ru-RU" sz="32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om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goes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every wee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а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уда Том ходит каждую недел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Вопрос к подлежаще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рядок слов не меняет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 “Who likes pop music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: «Кто любит поп музыку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who likes pop mus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то любит поп музыку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, tell smb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Verdana"/>
              </a:rPr>
              <a:t>.</a:t>
            </a: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ask smb.+ 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сить кого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, “Give me your hand, pleas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: «Дай мн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пожалуйста руку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 give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im her hand.-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ос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ать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ему руку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.</a:t>
            </a:r>
            <a:r>
              <a:rPr b="1" i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tell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mb. +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“Mary, bring some milk from the kitchen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: «Мэр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ринеси молока из кухн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Mar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 bring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ome milk from the kitche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эр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нести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олока из кухн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a)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Tell smb., say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на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ask sm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don’t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Please don’t come home lat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: «Не приходи домой поздно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ожалуйст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ask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come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 home l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с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у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приходи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омой позд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say to smb.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tell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don’t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o children: “Don’t open your book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етям: «Не открывайте книг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 children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open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ir book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детям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открыва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книг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Повествовательные 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предлож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Say to smb., tell to smb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. + 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(that)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торостепенные чле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I see my friends every day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он видит своих друзей каждый день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едл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, “I don’t like poetry.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говорит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м: «Я не люблю поэзию»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that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что не любит поэзи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бщи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if (whether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 в нужном времен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Did they write anything interesting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Они написали что-нибудь интересное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f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the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rot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ything interest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написали ли они что- нибудь интересно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льтернативны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., say to smb.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длежащее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азуемое в нужном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Will you play football or basketball, Andrew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ты будешь играть в футбол или баскетбол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drew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ill pla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foolball or basketba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будет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и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он играть в футбол или баскетбол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8:35:30Z</dcterms:created>
  <dc:creator>Admin</dc:creator>
  <dc:description/>
  <dc:language>en-US</dc:language>
  <cp:lastModifiedBy>Admin</cp:lastModifiedBy>
  <dcterms:modified xsi:type="dcterms:W3CDTF">2012-02-08T20:14:47Z</dcterms:modified>
  <cp:revision>2</cp:revision>
  <dc:subject/>
  <dc:title>Прямая и косвенная речь</dc:title>
</cp:coreProperties>
</file>