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D3B-1CF0-4185-A09C-B65844A0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375-B6B6-4B40-AB32-EFB70BAA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67F-E0B2-456F-AE85-0F63FD06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EBBF-63DB-46E3-8EA4-A34772BC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BC7C-4816-41A0-87E7-95D5F0FF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9B96-405F-484C-AC3A-89FFEA77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96C3-35E6-455A-AE3F-0827B178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464-F398-4C10-BD18-BC5ED7E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BEFE-50A0-4B79-9AB1-F1E1F974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258C-74E8-4D91-8F7F-9851B0FD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1382-A7D0-4742-8534-17AB211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94C-2B02-440B-9D9C-5D9A8310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76BF-EFA5-45BE-8561-DED8B8B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C3D1-DB98-4B13-87DB-CCEC461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3567-9DB8-42BD-A1BB-0D193FAA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1957-6199-4147-A3C1-AE472B11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C6F1-D3A8-48D2-8D81-C510AB53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E36-1470-479C-A106-A851356C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ECE-5020-42FE-B9B9-80A575D8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0E4-F9DE-4394-BEE2-27F9E628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89D-A37E-4696-B9AB-85F0BCC5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97B-05B5-4610-B499-0CE0EED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DC3-034A-43A6-A04C-869087D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EB1-DC06-4F21-B9CF-F6051320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7362-A6AC-4D01-AACA-FD69FB3F2F4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CF7F-9545-45FC-B84D-1D0815AC851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964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Verdana"/>
              </a:rPr>
              <a:t>Прямая и косвенная речь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3429000"/>
            <a:ext cx="8640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Direct and Indirect Speech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Verdana"/>
              </a:rPr>
              <a:t>(правила перевода из прямой речи в косвенную)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Специальный вопро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, say to smb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вопросительное слово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азуем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John: “ Where does Tom go every week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Джону: «Куда Том ходит каждую неделю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s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John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here</a:t>
            </a:r>
            <a:r>
              <a:rPr b="1" lang="ru-RU" sz="32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om</a:t>
            </a:r>
            <a:r>
              <a:rPr b="1" lang="ru-RU" sz="32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goes</a:t>
            </a:r>
            <a:r>
              <a:rPr b="1" lang="ru-RU" sz="32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every wee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Джона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куда Том ходит каждую неделю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Вопрос к подлежащем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рядок слов не меняет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, “Who likes pop music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: «Кто любит поп музыку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sks 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who likes pop mus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кто любит поп музыку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Положительные просьб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ay to smb, tell smb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Verdana"/>
              </a:rPr>
              <a:t>.</a:t>
            </a:r>
            <a:r>
              <a:rPr b="1" lang="ru-RU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сказать кому-то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ask smb.+ to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сить кого-то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Jane, “Give me your hand, please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Джейн: «Дай мне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пожалуйста руку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Jan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 give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him her hand.-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прос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Джей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дать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ему руку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Положительные приказ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ay to smb.</a:t>
            </a:r>
            <a:r>
              <a:rPr b="1" i="1" lang="en-US" sz="32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tell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велеть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3200" spc="-1" strike="noStrike" u="sng">
                <a:solidFill>
                  <a:srgbClr val="006600"/>
                </a:solidFill>
                <a:uFillTx/>
                <a:latin typeface="Verdana"/>
              </a:rPr>
              <a:t>smb. +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Nick</a:t>
            </a:r>
            <a:r>
              <a:rPr b="1" i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, 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“Mary, bring some milk from the kitchen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Ник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: «Мэр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принеси молока из кухни»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Nick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Mar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o bring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ome milk from the kitche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Ник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ел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Мэр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инести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молока из кухн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осьб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a)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Tell smb., say smb.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 </a:t>
            </a:r>
            <a:r>
              <a:rPr b="1" i="1" lang="ru-RU" sz="3200" spc="-1" strike="noStrike">
                <a:solidFill>
                  <a:srgbClr val="006600"/>
                </a:solidFill>
                <a:latin typeface="Verdana"/>
              </a:rPr>
              <a:t>на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ask smb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b)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don’t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6600"/>
                </a:solidFill>
                <a:latin typeface="Verdana"/>
              </a:rPr>
              <a:t>not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, “Please don’t come home late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я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е: «Не приходи домой поздно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пожалуйста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y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ask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not to come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 home lat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и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ося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у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не приходить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домой позд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иказ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а)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say to smb.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сказать кому-то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tell smb.</a:t>
            </a: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велеть кому-то</a:t>
            </a: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Verdana"/>
              </a:rPr>
              <a:t>b)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don’t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еняется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</a:t>
            </a: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Verdana"/>
              </a:rPr>
              <a:t>not t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 teacher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o children: “Don’t open your books.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Учи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детям: «Не открывайте книги»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The  teacher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he children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not to open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their book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Учитель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велит 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детям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не открывать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книги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Повествовательные 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 предлож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Say to smb., tell to smb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. + 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(that)</a:t>
            </a:r>
            <a:r>
              <a:rPr b="1" i="1" lang="en-US" sz="28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сказуемое</a:t>
            </a: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торостепенные член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o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, “I see my friends every day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at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e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ee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is friend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every da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Lena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at 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he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1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sees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his friend</a:t>
            </a:r>
            <a:r>
              <a:rPr b="1" i="1" lang="ru-RU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 every da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Лене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что</a:t>
            </a:r>
            <a:r>
              <a:rPr b="1" i="1" lang="ru-RU" sz="2800" spc="-1" strike="noStrike">
                <a:solidFill>
                  <a:srgbClr val="cc0000"/>
                </a:solidFill>
                <a:latin typeface="Verdana"/>
              </a:rPr>
              <a:t> он видит своих друзей каждый день</a:t>
            </a:r>
            <a:r>
              <a:rPr b="1" i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трицательные предлож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, “I don’t like poetry.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говорит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им: «Я не люблю поэзию»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ys to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(that)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he doesn’t like poet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ells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them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that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he doesn’t like poetr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что не любит поэзию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Общие вопро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, say to smb.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ask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прашивать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+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if (whether)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и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подлежащее </a:t>
            </a:r>
            <a:r>
              <a:rPr b="1" lang="ru-RU" sz="3200" spc="-1" strike="noStrike">
                <a:solidFill>
                  <a:srgbClr val="cc0000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сказуемое в нужном времени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 “Did they write anything interesting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говори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: «Они написали что-нибудь интересное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f</a:t>
            </a:r>
            <a:r>
              <a:rPr b="1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they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wrot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anything interest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написали ли они что- нибудь интересное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Verdana"/>
              </a:rPr>
              <a:t>Альтернативные вопрос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tell smb., say to smb.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меняется на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ask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прашивать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+</a:t>
            </a: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whether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и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одлежащее</a:t>
            </a:r>
            <a:r>
              <a:rPr b="1" lang="ru-RU" sz="3200" spc="-1" strike="noStrike">
                <a:solidFill>
                  <a:srgbClr val="990000"/>
                </a:solidFill>
                <a:latin typeface="Verdana"/>
              </a:rPr>
              <a:t> +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казуемое в нужном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ay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 “Will you play football or basketball, Andrew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?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 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: «Эндрю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ты будешь играть в футбол или баскетбол?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S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sks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Andrew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ther</a:t>
            </a:r>
            <a:r>
              <a:rPr b="1" lang="en-US" sz="2800" spc="-1" strike="noStrike" baseline="30000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h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will play</a:t>
            </a:r>
            <a:r>
              <a:rPr b="1" lang="en-US" sz="2800" spc="-1" strike="noStrike" baseline="30000">
                <a:solidFill>
                  <a:srgbClr val="cc0000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foolball or basketball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Она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спрашивает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Эндрю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будет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ли</a:t>
            </a: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 он играть в футбол или баскетбол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8:35:30Z</dcterms:created>
  <dc:creator>Admin</dc:creator>
  <dc:description/>
  <dc:language>en-US</dc:language>
  <cp:lastModifiedBy>Admin</cp:lastModifiedBy>
  <dcterms:modified xsi:type="dcterms:W3CDTF">2012-02-08T20:14:47Z</dcterms:modified>
  <cp:revision>2</cp:revision>
  <dc:subject/>
  <dc:title>Прямая и косвенная речь</dc:title>
</cp:coreProperties>
</file>