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C3F-13F3-4F01-89E0-EA0199D0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29-74A1-4074-B2B9-66C7C301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DF8-315B-40D9-974C-2F5E7287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5AE-A348-4E80-81F0-459AA1F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CC8-65CD-423A-BBED-055EFABF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0E-C751-4080-92F2-DF28CC7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DCD-26A6-4946-9468-DFD8742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B87-ED7A-4760-98F2-B7620A48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54B-AFF3-4BE1-9A3D-7B7608D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54C-2A38-44A4-92DA-73C1FE9E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F25-AA87-4E2A-A34F-56CA5523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0BC-EB60-442C-8D7E-9987C96C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0CBC-452D-4C25-87EC-08F12EE31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5040360" cy="5040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17784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Государственный природный заказник “Пижемский”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940360" y="1431720"/>
            <a:ext cx="378000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2002 году создан государственный природный заказник "Пижемский", расположенный на землях Котельнического, Тужинского, Арбажского, Пижанского и Советского районов. 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бщая площадь 30539,1 га. Протяженность по руслу реки Немды 42 км, по руслу Пижмы 202 км.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87520" y="5040360"/>
            <a:ext cx="87724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Заказник имеет ценное значение для сохранения в естественном состоянии уникальных природных объектов, сохранения редких видов растений и животных.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46000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4708800" cy="306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3440" y="603720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Медя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80000" y="2879640"/>
            <a:ext cx="4079880" cy="30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61120" y="589608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Бородатая неяс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-90000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ГПЗ “Пижемский” выявлено 18 видов наземных позвоночных животных, занесенных в Красную книгу Российской Федерации и Красную книгу Кировской области. Много растений, редких для флоры нашей области и занесенных в Красную книгу России и Международную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160" y="360360"/>
            <a:ext cx="6072120" cy="2554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1440" y="32400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2360" y="459756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ибирский углоз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23080" y="117648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ибирская мин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0960" y="-410040"/>
            <a:ext cx="860904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ля пяти видов растений берега Немды являются единственным известным в Кировской области местом произрастания. Это шиверекия подольская, молочай стройный, лапчатка пенсильванская, костеней постенный, живокость клиновидная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0360" y="2736720"/>
            <a:ext cx="4228920" cy="33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40360" y="272880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720" y="4858920"/>
            <a:ext cx="55800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енерин башмачок - одна из наших самых изящных орхидей. Включен в список охраняемых видов Международной Красной книги. </a:t>
            </a:r>
            <a:br>
              <a:rPr sz="2400"/>
            </a:b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219640" cy="391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80000" y="2879640"/>
            <a:ext cx="29689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80000" y="360360"/>
            <a:ext cx="41403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Шиверекия подольская - реликтовое растение, сохранившееся со времен великих оледе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528480"/>
            <a:ext cx="8788680" cy="702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кала “Часовой”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а реке Немд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84600" y="360360"/>
            <a:ext cx="6935760" cy="464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0360" y="5040360"/>
            <a:ext cx="9612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9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onburi"/>
              </a:rPr>
              <a:t>Немдинские известняки произошли в пермском периоде конца палеозойской эры, когда большую часть области заливали теплые воды мелководного казанского мо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0160" y="357120"/>
            <a:ext cx="8978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9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onburi"/>
              </a:rPr>
              <a:t>Окаменелые остатки и отпечатки морских животных часто встречаются среди осыпей разрушающихся утесов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61080" y="1800360"/>
            <a:ext cx="449892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9880" y="1800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580000"/>
            <a:ext cx="972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Окаменелые стебельки морских лилий и отпечатки мша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61928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Береснятский водопад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2120" y="1357200"/>
            <a:ext cx="6348240" cy="4762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199280" y="-179280"/>
            <a:ext cx="2536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кальная стенка водопада содержит множество остатков и следов жизнедеятельности древних морски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70760" y="3970440"/>
            <a:ext cx="2828880" cy="21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51320" y="1778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Лежнинское озеро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2720" y="4500720"/>
            <a:ext cx="847728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Озеро имеет карстово-суффозионное происхождение. Озеро почти правильной круглой формы имеет глубину 36,6 метра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0720" y="1938240"/>
            <a:ext cx="8999640" cy="16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6:25:04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Gosha</cp:lastModifiedBy>
  <dcterms:modified xsi:type="dcterms:W3CDTF">2012-10-24T15:15:37Z</dcterms:modified>
  <cp:revision>2</cp:revision>
  <dc:subject/>
  <dc:title>Предложение стратегии</dc:title>
</cp:coreProperties>
</file>