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25D-6629-49C8-8FE2-1C5F267D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3A1-EC7E-4B72-AEB7-26D82FC0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73C-8259-429A-86EA-6B564A4F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130-6271-4D14-817C-B7C5DE8C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A54-7C3E-4842-B54F-39A31315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2D5-6732-4AE7-BA15-5BE5BD40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7F3-8394-4DF2-8282-44211AE9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A78-7313-4CDD-A180-BB46A11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328-5E22-476B-9824-2F8C873A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E72-D2D5-4F01-9A82-D5EB70C2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D81-99A6-4B57-8ADC-96D85DE3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03C-7A94-4B20-B85C-10840242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0620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71160" y="196344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124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0620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71160" y="4540680"/>
            <a:ext cx="28234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4760" y="454068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4760" y="1963440"/>
            <a:ext cx="427932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1240" y="4540680"/>
            <a:ext cx="87696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40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768A4-D366-49DD-8C06-06400D272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440000"/>
            <a:ext cx="5040360" cy="5040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17784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Государственный природный заказник “Пижемский”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940360" y="1431720"/>
            <a:ext cx="378000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2002 году создан государственный природный заказник "Пижемский", расположенный на землях Котельнического, Тужинского, Арбажского, Пижанского и Советского районов. 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Общая площадь 30539,1 га. Протяженность по руслу реки Немды 42 км, по руслу Пижмы 202 км.</a:t>
            </a: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87520" y="5040360"/>
            <a:ext cx="877248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 algn="just">
              <a:lnSpc>
                <a:spcPct val="93000"/>
              </a:lnSpc>
              <a:buNone/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Заказник имеет ценное значение для сохранения в естественном состоянии уникальных природных объектов, сохранения редких видов растений и животных. </a:t>
            </a: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8460000" cy="41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2879640"/>
            <a:ext cx="4708800" cy="3060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03440" y="603720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Медя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80000" y="2879640"/>
            <a:ext cx="4079880" cy="3060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61120" y="589608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Бородатая неяс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-900000"/>
            <a:ext cx="84772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ГПЗ “Пижемский” выявлено 18 видов наземных позвоночных животных, занесенных в Красную книгу Российской Федерации и Красную книгу Кировской области. Много растений, редких для флоры нашей области и занесенных в Красную книгу России и Международную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7160" y="360360"/>
            <a:ext cx="6072120" cy="2554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81440" y="324000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2360" y="459756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Сибирский углоз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23080" y="1176480"/>
            <a:ext cx="45180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Сибирская мин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0960" y="-410040"/>
            <a:ext cx="860904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Для пяти видов растений берега Немды являются единственным известным в Кировской области местом произрастания. Это шиверекия подольская, молочай стройный, лапчатка пенсильванская, костеней постенный, живокость клиновидная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0360" y="2736720"/>
            <a:ext cx="4228920" cy="3382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40360" y="272880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0720" y="4858920"/>
            <a:ext cx="55800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Венерин башмачок - одна из наших самых изящных орхидей. Включен в список охраняемых видов Международной Красной книги. </a:t>
            </a:r>
            <a:br>
              <a:rPr sz="2400"/>
            </a:b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219640" cy="391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80000" y="2879640"/>
            <a:ext cx="29689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80000" y="360360"/>
            <a:ext cx="414036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Шиверекия подольская - реликтовое растение, сохранившееся со времен великих оледе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528480"/>
            <a:ext cx="8788680" cy="702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Скала “Часовой” </a:t>
            </a:r>
            <a:br>
              <a:rPr sz="2400"/>
            </a:b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на реке Немде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84600" y="360360"/>
            <a:ext cx="6935760" cy="464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60360" y="5040360"/>
            <a:ext cx="9612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9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onburi"/>
              </a:rPr>
              <a:t>Немдинские известняки произошли в пермском периоде конца палеозойской эры, когда большую часть области заливали теплые воды мелководного казанского мор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0160" y="357120"/>
            <a:ext cx="89787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9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honburi"/>
              </a:rPr>
              <a:t>Окаменелые остатки и отпечатки морских животных часто встречаются среди осыпей разрушающихся утесов.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861080" y="1800360"/>
            <a:ext cx="4498920" cy="36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39880" y="1800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5580000"/>
            <a:ext cx="9720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Окаменелые стебельки морских лилий и отпечатки мша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619280" y="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Береснятский водопад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2120" y="1357200"/>
            <a:ext cx="6348240" cy="4762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199280" y="-179280"/>
            <a:ext cx="25369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Скальная стенка водопада содержит множество остатков и следов жизнедеятельности древних морски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70760" y="3970440"/>
            <a:ext cx="2828880" cy="214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51320" y="17784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Лежнинское озеро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2720" y="4500720"/>
            <a:ext cx="8477280" cy="1947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806400"/>
                <a:tab algn="l" pos="1525680"/>
                <a:tab algn="l" pos="2244600"/>
                <a:tab algn="l" pos="2963880"/>
                <a:tab algn="l" pos="3683160"/>
                <a:tab algn="l" pos="4402080"/>
                <a:tab algn="l" pos="5121360"/>
                <a:tab algn="l" pos="5840280"/>
                <a:tab algn="l" pos="6559560"/>
                <a:tab algn="l" pos="7278840"/>
                <a:tab algn="l" pos="7997760"/>
                <a:tab algn="l" pos="8717040"/>
                <a:tab algn="l" pos="9435960"/>
                <a:tab algn="l" pos="10155240"/>
                <a:tab algn="l" pos="1087452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Озеро имеет карстово-суффозионное происхождение. Озеро почти правильной круглой формы имеет глубину 36,6 метра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0720" y="1938240"/>
            <a:ext cx="8999640" cy="16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6:25:04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Gosha</cp:lastModifiedBy>
  <dcterms:modified xsi:type="dcterms:W3CDTF">2012-10-24T15:15:37Z</dcterms:modified>
  <cp:revision>2</cp:revision>
  <dc:subject/>
  <dc:title>Предложение стратегии</dc:title>
</cp:coreProperties>
</file>