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956-21EB-4BBF-B5CA-E8AEF054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D4A-135D-4D9D-9163-A4C5247D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E5A-2EFA-4F39-9F31-7375CEFE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10C-748A-4968-B934-0EDC7133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2114-4EE1-42E9-9DA7-E4657BA9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0D6D-C029-44D8-B112-D5FF731A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3B2A-436B-440E-B6D8-631CBA43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8BF2-C820-473F-A8FD-9FDA45F7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28F6-52F0-4A45-8933-C4714129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1855-AB4E-4BBA-8F17-6720C89C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01F4-9147-4BCB-8660-4BF4418A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B49-BA4B-4ED9-93D6-ED32765A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27EF-9629-4597-A599-3D3F56E5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2212-AEF2-4A4D-A46E-11F7A53A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965E-AE87-4042-AAE9-F0E6C2CC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A6DB-7772-408D-AB88-443500ED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0173-CCA8-45E3-87A0-D8AF9432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67C-5C09-471F-9411-FBE14F55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97B-DF2F-49DE-8EEE-BFF9E90B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B93-F2CD-4D89-B982-A44DEFED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CA5-8004-47D2-8109-3CF0A2DB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218-2BAE-4759-8ED9-F8BA5430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7BC-BF29-4B18-A0D4-8A0E2C29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E0D-CD87-4300-A576-D6B1CA8B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44A4-A1DE-4BB7-B217-27899BDD862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C585-F43E-448B-AE49-8185D0BEFBF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Множественное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число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имён существительных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Форма множественного числа существительных обычно образуется с помощью оконча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-s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ли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–es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торое прибавляется к основе единственного чис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ook – book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oy – boy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ass - class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Окончание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es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во мн. числе имеют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существительные,оканчивающиеся в ед.ч. на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, ss, sh,ch, tch, x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us –buse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ass – class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ush –bush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eech –speech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tch –match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x -boxes             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существительные, оканчивающиеся в ед.ч. н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ro –hero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tato – potato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mato – tomato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Исключения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hoto – photo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iano – piano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ero - zero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существительные, оканчивающиеся в ед. ч. на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перед которым стоит согласная(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при этом меняется на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rmy – arm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г) некоторые существительные, оканчивающиеся в ед. ч. на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f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или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fe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f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при этом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еняется на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v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af-leav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helf-shelv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fe-wiv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ществительные,образующи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н. ч.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не по правилам (исключения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n-men (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ужчины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man-women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женщины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ild-children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дет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ot-feet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ступн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oth-teeth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зубы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ose-geese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гус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use-mice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мыш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heep-sheep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овцы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er-deer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олен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5:35:04Z</dcterms:created>
  <dc:creator>1</dc:creator>
  <dc:description/>
  <dc:language>en-US</dc:language>
  <cp:lastModifiedBy>ССШ</cp:lastModifiedBy>
  <dcterms:modified xsi:type="dcterms:W3CDTF">2009-12-17T06:57:34Z</dcterms:modified>
  <cp:revision>3</cp:revision>
  <dc:subject/>
  <dc:title>Множественное число  имён существительных</dc:title>
</cp:coreProperties>
</file>