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D0A-4C9A-4D28-879B-37AD6682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2BB-D0FB-4D7B-81CA-6301B0D2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D12B-9A7D-4C11-A681-8FD80810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199-06EC-4E04-BD53-7F86D873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614B-D7FA-444D-8587-D3E8914E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50D8-84D4-496B-B935-3829A14A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D17E-CBBC-4F02-96B2-7B2E6541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90E0-7566-4F53-80DC-EC218A6A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9A78-67A1-43D4-8BE7-F2D57CE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CAD5-D5E8-4B1B-AA65-7E9FE0EE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8C23-CDBC-4A63-AF92-72F49AD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058-5B1D-461B-9D43-D19DF78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2C27-8CE7-43F1-BD2C-4B5F8DD7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0C33-1B86-4337-A913-698BDF8A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902-2A88-4E7B-AAE4-F1D1FC64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33D-533E-4227-833E-A78522B9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5599-88D0-417D-9F62-36820F29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196-0444-4608-B2D6-AAA8D18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597-6D4F-426B-8268-E98CF429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D9E-7F80-4009-A050-A633A7DF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BB0-CCFE-4F16-A870-305900F1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331-7B7A-4262-98FF-2FB9B4B0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641-9AF0-4CB3-B29B-6A2FC8CE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EA9-FBF0-462D-88EA-0FBCCFA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F68-4E75-47C4-AA12-3FAE55D1AF1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B139-1ECF-455A-99A7-D5B02825FE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Множественное</a:t>
            </a: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eaeaea"/>
                </a:solidFill>
                <a:latin typeface="Arial"/>
              </a:rPr>
              <a:t>число</a:t>
            </a: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имён существительных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орма множественного числа существительных обычно образуется с помощью оконча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-s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ли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–es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оторое прибавляется к основе единственного чис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ok – book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Boy – boy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ass - class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кончание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es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о мн. числе имеют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)существительные,оканчивающиеся в ед.ч. на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s, ss, sh,ch, tch, x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us –bus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ass – class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ush –bush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ech –speech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tch –match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 -boxes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)существительные, оканчивающиеся в ед.ч. на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o –her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tato – potat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mato – tomat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сключе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oto – phot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ano – pian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zero - zero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) существительные, оканчивающиеся в ед. ч. на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еред которым стоит согласная(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ри этом меняется на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my – arm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) некоторые существительные, оканчивающиеся в ед. ч. на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или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e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при это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еняется на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v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f-leav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elf-shelv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fe-wiv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ществительные,образующ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н. ч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не по правилам (исключения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n-men (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ужчины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man-women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женщины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ld-children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дет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ot-feet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ступн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oth-teeth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зубы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se-geese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гус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use-mice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мыш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eep-sheep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овцы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er-deer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(олен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5:35:04Z</dcterms:created>
  <dc:creator>1</dc:creator>
  <dc:description/>
  <dc:language>en-US</dc:language>
  <cp:lastModifiedBy>ССШ</cp:lastModifiedBy>
  <dcterms:modified xsi:type="dcterms:W3CDTF">2009-12-17T06:57:34Z</dcterms:modified>
  <cp:revision>3</cp:revision>
  <dc:subject/>
  <dc:title>Множественное число  имён существительных</dc:title>
</cp:coreProperties>
</file>