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CCF-13D8-44F9-8FE3-46E06F43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80A-6543-4BA3-8C51-47F4B959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045-1319-434E-A176-12CF5EE1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44A-18A1-41C6-9A2B-C027B213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5B28-6F1E-4E96-9B40-E15D5D3C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3F5E-00C7-42FB-8D72-4A1F7A1A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5902-9123-4D74-9920-7010BF77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077-53C5-47B3-A933-91E5BBAB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816-57E6-459C-BAD2-061DEE21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B8E1-BE9B-436D-8EB2-29863AB9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7544-EDED-44F5-A69D-84D3470B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DDE-9F07-41CA-882C-DF9968B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C162-FABE-4D5B-B75A-7DDC1E02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5E1A-1ADB-49EE-869A-3203D9B1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026-69E8-4B14-AC4C-4475C857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E1FF-4510-433E-806D-11BF41BA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C43-CF2F-4A95-8182-8AE808BF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773F-1E1A-4823-94A3-9A0B792A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947F-813B-4E01-A05F-2CD97BCF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F4F38-A195-40A4-B07F-1BA88C0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F5F0-D8AE-4FFA-80D6-1188C4DC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8C016-7DCC-48F5-B090-A9EBB38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A7B-4F09-4280-90D6-39EC90F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E9BD1-0E93-4AF6-92F0-050E847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BF94-1535-48A7-B3D9-C167043C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1393-5688-4E04-9CF4-86EBC0E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30A62-D755-4D3A-9D95-20682E3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5780-5E07-4869-B1B8-2F3A32DA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B4A6-A010-4ED8-BBA5-D0C73287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3EE9-7BF5-47B4-BCC7-271E21F5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C7A-3DC9-4EAF-B7EF-A853E359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679-B05A-4A52-8533-D20A9725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D8D-D784-4AEF-8E8A-208D1E52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B01-36BD-41FD-9547-1FF48F04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E02-A1AE-4B0B-9D20-8A85D39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460-A962-4490-B3EA-59754E8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6DEE-55D4-4A12-BB3C-78355EFF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6894-CFB0-4735-B05A-3A6B961CC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940-C963-4389-A2A4-41AA2F712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54764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I can play the piano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I cannot swim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</a:rPr>
              <a:t>Can you sing</a:t>
            </a:r>
            <a:r>
              <a:rPr b="1" lang="ru-RU" sz="41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50600" y="1103040"/>
            <a:ext cx="7342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Can (could)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могу, умею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500" spc="-1" strike="noStrike">
                <a:solidFill>
                  <a:srgbClr val="cc0000"/>
                </a:solidFill>
                <a:latin typeface="Arial Black"/>
              </a:rPr>
              <a:t>Should</a:t>
            </a:r>
            <a:r>
              <a:rPr b="0" i="1" lang="en-US" sz="5500" spc="-1" strike="noStrike">
                <a:solidFill>
                  <a:srgbClr val="336666"/>
                </a:solidFill>
                <a:latin typeface="Arial Black"/>
              </a:rPr>
              <a:t>- </a:t>
            </a:r>
            <a:br>
              <a:rPr sz="5500"/>
            </a:br>
            <a:r>
              <a:rPr b="0" i="1" lang="ru-RU" sz="5500" spc="-1" strike="noStrike">
                <a:solidFill>
                  <a:srgbClr val="336666"/>
                </a:solidFill>
                <a:latin typeface="Arial Black"/>
              </a:rPr>
              <a:t>следовало бы</a:t>
            </a:r>
            <a:endParaRPr b="0" i="1" lang="en-US" sz="5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1640" y="3573360"/>
            <a:ext cx="7057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should do it.-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ам следовало бы сделать это (тепер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should not do it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. –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Вам не следовало бы делать этого(тепер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692280"/>
            <a:ext cx="77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doni MT Black"/>
              </a:rPr>
              <a:t>Обратите вним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773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have done it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едовало с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а вы не сдел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not have done it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следовало делать (а вы сдел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57336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doni MT"/>
              </a:rPr>
              <a:t>Сравнит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4508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needn’t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have done it.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огли  и не дел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это было необязатель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shouldn’t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ave done it.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следовало делать (плохо, что вы это сдела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24000" y="620640"/>
            <a:ext cx="45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773360"/>
            <a:ext cx="87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have done i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ледовало сделать (а вы не сдела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You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must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have done i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олжно быть сдел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71628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равнит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36572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should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have done it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-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ледовало сделать (а я не сдела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had to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do it.-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шлось сделать (сдела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0000"/>
                </a:solidFill>
                <a:latin typeface="Arial Black"/>
              </a:rPr>
              <a:t>Сравните: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23209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needn’t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have done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t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жно было не делать (а я сдела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 didn’t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have to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do it.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ожно было не делать ( я  и не дела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cc0000"/>
                </a:solidFill>
                <a:latin typeface="Arial Black"/>
              </a:rPr>
              <a:t>To be to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 – 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3700" spc="-1" strike="noStrike">
                <a:solidFill>
                  <a:srgbClr val="cc0000"/>
                </a:solidFill>
                <a:latin typeface="Arial Black"/>
              </a:rPr>
              <a:t>must 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i="1" lang="ru-RU" sz="3700" spc="-1" strike="noStrike">
                <a:solidFill>
                  <a:srgbClr val="336666"/>
                </a:solidFill>
                <a:latin typeface="Arial Black"/>
              </a:rPr>
              <a:t>необходимость по договорённости, плану или приказу</a:t>
            </a:r>
            <a:r>
              <a:rPr b="0" i="1" lang="en-US" sz="37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i="1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03280" y="3566880"/>
            <a:ext cx="6121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 am to go there.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должен, предстоит, договорились, расписание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 was to go there.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предстояло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c0000"/>
                </a:solidFill>
                <a:latin typeface="Arial Black"/>
              </a:rPr>
              <a:t>Need not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-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отсутствие необходимости (можно не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…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)</a:t>
            </a:r>
            <a:br>
              <a:rPr sz="4100"/>
            </a:br>
            <a:r>
              <a:rPr b="0" i="1" lang="en-US" sz="4100" spc="-1" strike="noStrike">
                <a:solidFill>
                  <a:srgbClr val="cc0000"/>
                </a:solidFill>
                <a:latin typeface="Arial Black"/>
              </a:rPr>
              <a:t>Need</a:t>
            </a:r>
            <a:r>
              <a:rPr b="0" i="1" lang="ru-RU" sz="4100" spc="-1" strike="noStrike">
                <a:solidFill>
                  <a:srgbClr val="cc0000"/>
                </a:solidFill>
                <a:latin typeface="Arial Black"/>
              </a:rPr>
              <a:t>?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- надо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…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?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You need not do it. –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можете не делат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Need I do it</a:t>
            </a: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?- 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надо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Сравните: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566880"/>
            <a:ext cx="6337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Ты не можешь делать этого-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You can not do i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Ты можешь не делать этого-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You need not do i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68360" y="404640"/>
            <a:ext cx="8064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ust –may – might – ca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значении 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349360"/>
            <a:ext cx="806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us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лжно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y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ожет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ight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может быть (но маловероятн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an’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е может бы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8964720" cy="75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н,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олжно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,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олжно быть, бы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st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Он,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, бы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y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и  на работе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хотя едва 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н и бы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работе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(хотя едва л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ight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 может бы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что он на 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’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жет быть, что он был на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n’t have b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53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Can</a:t>
            </a:r>
            <a:r>
              <a:rPr b="0" i="1" lang="ru-RU" sz="4900" spc="-1" strike="noStrike">
                <a:solidFill>
                  <a:srgbClr val="cc0000"/>
                </a:solidFill>
                <a:latin typeface="Arial Black"/>
              </a:rPr>
              <a:t> - 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неужели</a:t>
            </a: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…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?</a:t>
            </a:r>
            <a:br>
              <a:rPr sz="4500"/>
            </a:b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(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выражение недоумения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47640" y="3566880"/>
            <a:ext cx="6120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Can she have spent all the money</a:t>
            </a:r>
            <a:r>
              <a:rPr b="1" lang="ru-RU" sz="3700" spc="-1" strike="noStrike">
                <a:solidFill>
                  <a:srgbClr val="cc0000"/>
                </a:solidFill>
                <a:latin typeface="Arial"/>
              </a:rPr>
              <a:t>?-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333399"/>
                </a:solidFill>
                <a:latin typeface="Arial"/>
              </a:rPr>
              <a:t>Неужели она истратила все деньг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cc0000"/>
                </a:solidFill>
                <a:latin typeface="Arial Black"/>
              </a:rPr>
              <a:t>To be able to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5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4500" spc="-1" strike="noStrike">
                <a:solidFill>
                  <a:srgbClr val="336666"/>
                </a:solidFill>
                <a:latin typeface="Arial Black"/>
              </a:rPr>
              <a:t>can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76360" y="3357360"/>
            <a:ext cx="640872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is able to do it. 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может, в состоянии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was able to do it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yesterday. 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мог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will be able to do it tomorrow. 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сможет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He has been able to swim since childhood.</a:t>
            </a:r>
            <a:r>
              <a:rPr b="1" lang="ru-RU" sz="25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умеет с детства</a:t>
            </a:r>
            <a:r>
              <a:rPr b="1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ay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разрешение(можно)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76360" y="3566880"/>
            <a:ext cx="640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ay take my pen.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можете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ay not touch it.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нельзя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Мау </a:t>
            </a: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I come in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можно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May I go out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To be allowed to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ay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31640" y="3860640"/>
            <a:ext cx="6335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We are allowed to stay ay hom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нам разрешают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We were allowed to stay at home.(</a:t>
            </a: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нам разрешили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We will be allowed to stay at home.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2500" spc="-1" strike="noStrike">
                <a:solidFill>
                  <a:srgbClr val="333399"/>
                </a:solidFill>
                <a:latin typeface="Arial"/>
              </a:rPr>
              <a:t>нам разрешат</a:t>
            </a: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80643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ay</a:t>
            </a:r>
            <a:r>
              <a:rPr b="0" i="1" lang="ru-RU" sz="49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может быть(предположение)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03280" y="3566880"/>
            <a:ext cx="640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t may rain soon.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Может быть пойдёт дождь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Be careful: you may</a:t>
            </a: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fall.</a:t>
            </a:r>
            <a:r>
              <a:rPr b="1" lang="ru-RU" sz="33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можете упасть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Must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должен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ust respect your parents.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должны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You must not go there. 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нельзя</a:t>
            </a:r>
            <a:r>
              <a:rPr b="1" lang="en-US" sz="29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Must I learn it by heart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должен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79930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ust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должно быть(предположение)</a:t>
            </a:r>
            <a:endParaRPr b="0" i="1" lang="en-US" sz="4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</a:rPr>
              <a:t>It must be cold outside.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должно быть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To have to</a:t>
            </a:r>
            <a:r>
              <a:rPr b="0" i="1" lang="en-US" sz="4900" spc="-1" strike="noStrike">
                <a:solidFill>
                  <a:srgbClr val="336666"/>
                </a:solidFill>
                <a:latin typeface="Arial Black"/>
              </a:rPr>
              <a:t> - </a:t>
            </a:r>
            <a:r>
              <a:rPr b="0" i="1" lang="ru-RU" sz="4900" spc="-1" strike="noStrike">
                <a:solidFill>
                  <a:srgbClr val="336666"/>
                </a:solidFill>
                <a:latin typeface="Arial Black"/>
              </a:rPr>
              <a:t>эквивалент глагола </a:t>
            </a:r>
            <a:r>
              <a:rPr b="0" i="1" lang="en-US" sz="4900" spc="-1" strike="noStrike">
                <a:solidFill>
                  <a:srgbClr val="cc0000"/>
                </a:solidFill>
                <a:latin typeface="Arial Black"/>
              </a:rPr>
              <a:t>must</a:t>
            </a:r>
            <a:r>
              <a:rPr b="0" i="1" lang="ru-RU" sz="49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i="1" lang="ru-RU" sz="37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i="1" lang="ru-RU" sz="3300" spc="-1" strike="noStrike">
                <a:solidFill>
                  <a:srgbClr val="333399"/>
                </a:solidFill>
                <a:latin typeface="Arial Black"/>
              </a:rPr>
              <a:t>вынужденная необходимость)</a:t>
            </a:r>
            <a:endParaRPr b="0" i="1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547640" y="3500280"/>
            <a:ext cx="6491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Do you have to go there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надо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Did you have to go there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пришлось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0000"/>
                </a:solidFill>
                <a:latin typeface="Arial"/>
              </a:rPr>
              <a:t>Will you have to go there</a:t>
            </a:r>
            <a:r>
              <a:rPr b="1" lang="ru-RU" sz="2900" spc="-1" strike="noStrike">
                <a:solidFill>
                  <a:srgbClr val="cc0000"/>
                </a:solidFill>
                <a:latin typeface="Arial"/>
              </a:rPr>
              <a:t>? </a:t>
            </a:r>
            <a:r>
              <a:rPr b="1" lang="ru-RU" sz="2900" spc="-1" strike="noStrike">
                <a:solidFill>
                  <a:srgbClr val="333399"/>
                </a:solidFill>
                <a:latin typeface="Arial"/>
              </a:rPr>
              <a:t>(придётся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8:50:08Z</dcterms:created>
  <dc:creator>Admin</dc:creator>
  <dc:description/>
  <dc:language>en-US</dc:language>
  <cp:lastModifiedBy>Admin</cp:lastModifiedBy>
  <dcterms:modified xsi:type="dcterms:W3CDTF">2011-12-25T21:19:18Z</dcterms:modified>
  <cp:revision>3</cp:revision>
  <dc:subject/>
  <dc:title>Can- могу, умею</dc:title>
</cp:coreProperties>
</file>