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8569-771A-4E73-8D1A-380D8833D9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058-19A7-4FD9-B80C-29D702311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240-C0AF-4BF0-AA4C-96A2D497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82D-92EE-454E-AF14-0FBDBF0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20C-0A15-43F9-B74E-04EABA2C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991-8E62-4756-9E31-B5F7EBC3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97A-FA8D-434D-A2ED-A10E4381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459-BCCD-42FC-B54D-B55B044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A6C0-3698-4BB0-87B2-60C43D4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FE4-EF98-4248-AE96-2A626B04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38DA-419F-4911-A281-7EA56210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5F8D-F041-47FF-8479-12AF37E3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CE3-A202-426C-83D2-BAF850C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2E7-82F1-4133-BAAC-7C5FA145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CB23-0221-4B50-AD57-65A6FD2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A1C-00CB-4E7F-A5B8-98C8ED5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0F63-2CC2-4C93-8D87-A30C135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4646-F38E-4579-AC7D-6373A209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1930-68F9-4E97-A87C-D217AC6B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0162-E27A-479A-8449-B6FDE8B3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735D-7488-4F93-91A7-33A0D71A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AB4E-D7B4-494E-BA07-6FBED0C3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00BA-C1C3-4D05-8BA4-A965611B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A736-74A5-451B-9120-4D892D06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2E9-5EC5-4A03-91F6-8AA37F4B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3EDD-4386-4FA0-85B2-848222A5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8A77-3B1E-4C0A-A5C7-A274832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7453-4E67-4BFA-8EEE-173108E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9EEB-165A-44D2-AF11-FCDE1AC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6D91-FC7E-4646-B197-92C1113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DD94-F2B1-40BA-9FF8-99236E7E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33AF-407E-4125-9616-BB46ABAD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C15F-C704-4F4F-B001-10E842F3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A870-9D20-4239-8F7A-455291D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66F3-8F75-4148-A2C7-23236C40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54A-3C5A-4791-85B7-3E40135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2258-54AA-46A2-B6ED-41A5CB52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4D0B-430A-4A5C-9C1E-32E2B016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B52C-CC7B-486D-8075-4866E15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0645-F0B2-4AF9-A156-FA72AE19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CED2-8254-490D-A3CF-FA207BC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9343-E945-4ABB-AE10-B39305D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C31E0-923E-4B9C-B401-38420FA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7AC5-0062-4EAB-B88B-72B51C6A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0000-A60B-40AE-8404-1C3FA5B8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E58A-831A-4900-9154-99C3D299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BC5-6136-42A2-83ED-5DBF7D8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D072-7B29-44F3-95F6-2E4D9DEB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7FAE-FD89-470F-BD80-972E2150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F7D6-2B5F-46D9-B2C4-7E6DF44A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3462-0089-48D5-BAEF-5CB7BB38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67E0-6929-4CC1-9777-43E53F88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AC4C-320F-4881-AB45-58805DAA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EEE9-804B-4A0D-8550-0C01E0E8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E994C-6B97-4920-BA20-73442B6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A59E-C74E-4D28-A1A1-8F296D1B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E376-8A33-403C-B542-3AFE0930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E1A-4E7B-4025-8C09-21A31ED2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0173-D5D4-4B4C-96CE-3406A565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654EA-9EF4-44EF-B5F9-595846BD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BF6C-C847-46FF-A197-8EA4B58B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DE16-A442-48AA-BE97-48598A48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DF99-12B8-41A8-BD53-31AF065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29AE-C144-49DB-9279-F9736D9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AF8A-43A9-4693-BD01-E0C5684D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489E-FDC9-4E50-B4D5-33996D6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CD85-7774-4EC7-A320-D98860F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236A9-4C18-4CF9-B98A-3BC77F4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964-A1DE-4702-88B5-7DE4E02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417A-93CC-4D29-B858-B67F83C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659D-DB66-4DAB-A3A0-C27DF8AC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2201-A6E5-46B5-9EBE-316007D8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DBBB2-9C7A-4763-AB47-CC47501A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50C9-E749-40BF-92D1-BBB32A4F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CB04-8DB9-4DD3-B5EB-5ADC5F47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41EE-5159-4463-9A37-3EA9503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2365-F5BF-4321-8E7D-B7329D69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7F7EF-A838-4960-AC05-8300BF1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26F2-0632-48C3-887C-55F717DF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FEA-B785-4444-9437-DAF5CB4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9DA20-D43D-4418-B8E7-256854D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DABD-820C-4275-AA50-57648843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80CD-6242-41E2-8AF7-07BD93A9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FDDD-BB4A-400C-8D5D-2BDCB338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3C07A-482A-4174-BDE4-CAD6BBE8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4A1-9392-4843-A2D4-82EC795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B160-0487-4DDD-97F0-26742DC027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D476-3EEB-4D44-AAC2-C1E1DFD44E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E061-95EB-47BD-BD86-36559D177C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1DC-B8E8-4201-AC8E-9ADE46C7E3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A65F-29A8-40D0-B8A3-B24BC6683B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3C99-D062-40CE-BFD1-84478009B0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90E3-FA53-43A9-B966-6EF7A159BB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600" spc="-1" strike="noStrike">
                <a:solidFill>
                  <a:srgbClr val="feb80a"/>
                </a:solidFill>
                <a:latin typeface="바탕"/>
              </a:rPr>
              <a:t>My family</a:t>
            </a:r>
            <a:endParaRPr b="0" lang="en-US" sz="10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2654280" cy="353844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pic>
        <p:nvPicPr>
          <p:cNvPr id="327" name="Picture 6" descr="101_1128"/>
          <p:cNvPicPr/>
          <p:nvPr/>
        </p:nvPicPr>
        <p:blipFill>
          <a:blip r:embed="rId3"/>
          <a:stretch/>
        </p:blipFill>
        <p:spPr>
          <a:xfrm>
            <a:off x="6588000" y="1916280"/>
            <a:ext cx="2163960" cy="365760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pic>
        <p:nvPicPr>
          <p:cNvPr id="328" name="Picture 6" descr="Tyq5DceBDRc"/>
          <p:cNvPicPr/>
          <p:nvPr/>
        </p:nvPicPr>
        <p:blipFill>
          <a:blip r:embed="rId4"/>
          <a:stretch/>
        </p:blipFill>
        <p:spPr>
          <a:xfrm>
            <a:off x="3059280" y="3068640"/>
            <a:ext cx="4032000" cy="302436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바탕"/>
              </a:rPr>
              <a:t>Finland 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Picture 5" descr="101_1486"/>
          <p:cNvPicPr/>
          <p:nvPr/>
        </p:nvPicPr>
        <p:blipFill>
          <a:blip r:embed="rId1"/>
          <a:stretch/>
        </p:blipFill>
        <p:spPr>
          <a:xfrm>
            <a:off x="1042920" y="1700280"/>
            <a:ext cx="4680000" cy="263376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58" name="Picture 6" descr="101_1128"/>
          <p:cNvPicPr/>
          <p:nvPr/>
        </p:nvPicPr>
        <p:blipFill>
          <a:blip r:embed="rId2"/>
          <a:stretch/>
        </p:blipFill>
        <p:spPr>
          <a:xfrm>
            <a:off x="6084720" y="1413000"/>
            <a:ext cx="2563920" cy="455436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359" name="Text Box 7"/>
          <p:cNvSpPr/>
          <p:nvPr/>
        </p:nvSpPr>
        <p:spPr>
          <a:xfrm>
            <a:off x="1571760" y="4572000"/>
            <a:ext cx="400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Every month we go to Finland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,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there we enjoy walking along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the quiet streets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,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 visitting the 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a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kv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a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eb80a"/>
                </a:solidFill>
                <a:latin typeface="바탕"/>
              </a:rPr>
              <a:t>Finland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4" descr="101_0591"/>
          <p:cNvPicPr/>
          <p:nvPr/>
        </p:nvPicPr>
        <p:blipFill>
          <a:blip r:embed="rId1"/>
          <a:stretch/>
        </p:blipFill>
        <p:spPr>
          <a:xfrm>
            <a:off x="1403280" y="1628640"/>
            <a:ext cx="3328920" cy="44388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62" name="Picture 5" descr="101_0623"/>
          <p:cNvPicPr/>
          <p:nvPr/>
        </p:nvPicPr>
        <p:blipFill>
          <a:blip r:embed="rId2"/>
          <a:stretch/>
        </p:blipFill>
        <p:spPr>
          <a:xfrm>
            <a:off x="5148360" y="1628640"/>
            <a:ext cx="3490920" cy="4508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5"/>
          <p:cNvSpPr/>
          <p:nvPr/>
        </p:nvSpPr>
        <p:spPr>
          <a:xfrm>
            <a:off x="4214880" y="8571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My mother,</a:t>
            </a:r>
            <a:r>
              <a:rPr b="1" i="1" lang="ru-RU" sz="24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father , sister Sofia ,my grandmother Luda and I live in St.Petersbur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Grandmo</a:t>
            </a:r>
            <a:r>
              <a:rPr b="1" i="1" lang="en-US" sz="1800" spc="-1" strike="noStrike">
                <a:solidFill>
                  <a:srgbClr val="35436a"/>
                </a:solidFill>
                <a:latin typeface="Arial"/>
              </a:rPr>
              <a:t>ther</a:t>
            </a: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 Mary , grandfather Tolia and uncle Victor live  in Odessa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Grandmother  Luba and uncle Denis live in Lipetsk. They are Russi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Tyq5DceBDRc"/>
          <p:cNvPicPr/>
          <p:nvPr/>
        </p:nvPicPr>
        <p:blipFill>
          <a:blip r:embed="rId1"/>
          <a:stretch/>
        </p:blipFill>
        <p:spPr>
          <a:xfrm>
            <a:off x="250920" y="549360"/>
            <a:ext cx="3527280" cy="2646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31" name="Picture 9" descr="101_0481"/>
          <p:cNvPicPr/>
          <p:nvPr/>
        </p:nvPicPr>
        <p:blipFill>
          <a:blip r:embed="rId2"/>
          <a:stretch/>
        </p:blipFill>
        <p:spPr>
          <a:xfrm>
            <a:off x="250920" y="3573360"/>
            <a:ext cx="3490920" cy="2619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100_9575"/>
          <p:cNvPicPr/>
          <p:nvPr/>
        </p:nvPicPr>
        <p:blipFill>
          <a:blip r:embed="rId1"/>
          <a:stretch/>
        </p:blipFill>
        <p:spPr>
          <a:xfrm>
            <a:off x="500040" y="214200"/>
            <a:ext cx="4365720" cy="348948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333" name="Text Box 6"/>
          <p:cNvSpPr/>
          <p:nvPr/>
        </p:nvSpPr>
        <p:spPr>
          <a:xfrm>
            <a:off x="2050920" y="6021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0" descr="FPKidadkPCM"/>
          <p:cNvPicPr/>
          <p:nvPr/>
        </p:nvPicPr>
        <p:blipFill>
          <a:blip r:embed="rId2"/>
          <a:stretch/>
        </p:blipFill>
        <p:spPr>
          <a:xfrm>
            <a:off x="5435640" y="260280"/>
            <a:ext cx="3500280" cy="350064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335" name="Text Box 11"/>
          <p:cNvSpPr/>
          <p:nvPr/>
        </p:nvSpPr>
        <p:spPr>
          <a:xfrm>
            <a:off x="6286680" y="43578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500040" y="42148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At the moment mother is working as a manager of staff </a:t>
            </a:r>
            <a:r>
              <a:rPr b="1" i="1" lang="ru-RU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but before she worked at the Military Medical Academy</a:t>
            </a:r>
            <a:r>
              <a:rPr b="1" i="1" lang="ru-RU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she was a doctor. I enjoy my mothers knit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101_0829"/>
          <p:cNvPicPr/>
          <p:nvPr/>
        </p:nvPicPr>
        <p:blipFill>
          <a:blip r:embed="rId1"/>
          <a:stretch/>
        </p:blipFill>
        <p:spPr>
          <a:xfrm>
            <a:off x="1403280" y="549360"/>
            <a:ext cx="5851440" cy="329256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338" name="Rectangle 10"/>
          <p:cNvSpPr/>
          <p:nvPr/>
        </p:nvSpPr>
        <p:spPr>
          <a:xfrm>
            <a:off x="1332000" y="450864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Bodoni MT Black"/>
                <a:ea typeface="Aharoni"/>
              </a:rPr>
              <a:t>My fathers job  and his grandfathers is very interesting. They are sailors</a:t>
            </a:r>
            <a:r>
              <a:rPr b="1" i="1" lang="ru-RU" sz="2800" spc="-1" strike="noStrike">
                <a:solidFill>
                  <a:srgbClr val="000066"/>
                </a:solidFill>
                <a:latin typeface="Arial Rounded MT Bold"/>
                <a:ea typeface="Aharon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100_1835"/>
          <p:cNvPicPr/>
          <p:nvPr/>
        </p:nvPicPr>
        <p:blipFill>
          <a:blip r:embed="rId1"/>
          <a:stretch/>
        </p:blipFill>
        <p:spPr>
          <a:xfrm>
            <a:off x="2771640" y="1484280"/>
            <a:ext cx="3564000" cy="4753080"/>
          </a:xfrm>
          <a:prstGeom prst="rect">
            <a:avLst/>
          </a:prstGeom>
          <a:ln w="171360">
            <a:solidFill>
              <a:srgbClr val="ffcc99"/>
            </a:solidFill>
            <a:miter/>
          </a:ln>
        </p:spPr>
      </p:pic>
      <p:sp>
        <p:nvSpPr>
          <p:cNvPr id="340" name="Rectangle 6"/>
          <p:cNvSpPr/>
          <p:nvPr/>
        </p:nvSpPr>
        <p:spPr>
          <a:xfrm>
            <a:off x="1835280" y="333360"/>
            <a:ext cx="56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Bodoni MT Black"/>
              </a:rPr>
              <a:t>My grandmother L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5"/>
          <p:cNvSpPr/>
          <p:nvPr/>
        </p:nvSpPr>
        <p:spPr>
          <a:xfrm>
            <a:off x="1476360" y="4724280"/>
            <a:ext cx="66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Bodoni MT Black"/>
              </a:rPr>
              <a:t>Our family has a tradition to go to rest the seaside Odessa every sum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100_9438"/>
          <p:cNvPicPr/>
          <p:nvPr/>
        </p:nvPicPr>
        <p:blipFill>
          <a:blip r:embed="rId1"/>
          <a:stretch/>
        </p:blipFill>
        <p:spPr>
          <a:xfrm>
            <a:off x="1187280" y="260280"/>
            <a:ext cx="3329280" cy="44388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43" name="Picture 9" descr="100_9359"/>
          <p:cNvPicPr/>
          <p:nvPr/>
        </p:nvPicPr>
        <p:blipFill>
          <a:blip r:embed="rId2"/>
          <a:stretch/>
        </p:blipFill>
        <p:spPr>
          <a:xfrm>
            <a:off x="5002200" y="333360"/>
            <a:ext cx="3241800" cy="431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Arial"/>
              </a:rPr>
              <a:t>Odessa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4" descr="100_9468"/>
          <p:cNvPicPr/>
          <p:nvPr/>
        </p:nvPicPr>
        <p:blipFill>
          <a:blip r:embed="rId1"/>
          <a:stretch/>
        </p:blipFill>
        <p:spPr>
          <a:xfrm>
            <a:off x="539640" y="1628640"/>
            <a:ext cx="3254400" cy="433872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46" name="Picture 5" descr="100_9489"/>
          <p:cNvPicPr/>
          <p:nvPr/>
        </p:nvPicPr>
        <p:blipFill>
          <a:blip r:embed="rId2"/>
          <a:stretch/>
        </p:blipFill>
        <p:spPr>
          <a:xfrm>
            <a:off x="3059280" y="2205000"/>
            <a:ext cx="3200400" cy="42670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47" name="Picture 6" descr="100_9517"/>
          <p:cNvPicPr/>
          <p:nvPr/>
        </p:nvPicPr>
        <p:blipFill>
          <a:blip r:embed="rId3"/>
          <a:stretch/>
        </p:blipFill>
        <p:spPr>
          <a:xfrm>
            <a:off x="5670720" y="1413000"/>
            <a:ext cx="3078000" cy="4103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Arial"/>
              </a:rPr>
              <a:t>Odessa 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4" descr="100_9986"/>
          <p:cNvPicPr/>
          <p:nvPr/>
        </p:nvPicPr>
        <p:blipFill>
          <a:blip r:embed="rId1"/>
          <a:stretch/>
        </p:blipFill>
        <p:spPr>
          <a:xfrm>
            <a:off x="2050920" y="2133720"/>
            <a:ext cx="5851800" cy="4389480"/>
          </a:xfrm>
          <a:prstGeom prst="rect">
            <a:avLst/>
          </a:prstGeom>
          <a:ln w="88920">
            <a:solidFill>
              <a:srgbClr val="ffcc99"/>
            </a:solidFill>
            <a:miter/>
          </a:ln>
        </p:spPr>
      </p:pic>
      <p:pic>
        <p:nvPicPr>
          <p:cNvPr id="350" name="Picture 5" descr="101_0925"/>
          <p:cNvPicPr/>
          <p:nvPr/>
        </p:nvPicPr>
        <p:blipFill>
          <a:blip r:embed="rId2"/>
          <a:stretch/>
        </p:blipFill>
        <p:spPr>
          <a:xfrm>
            <a:off x="5867280" y="2133720"/>
            <a:ext cx="2962440" cy="4357440"/>
          </a:xfrm>
          <a:prstGeom prst="rect">
            <a:avLst/>
          </a:prstGeom>
          <a:ln w="88920">
            <a:solidFill>
              <a:srgbClr val="ffcc99"/>
            </a:solidFill>
            <a:miter/>
          </a:ln>
        </p:spPr>
      </p:pic>
      <p:pic>
        <p:nvPicPr>
          <p:cNvPr id="351" name="Picture 7" descr="101_0918"/>
          <p:cNvPicPr/>
          <p:nvPr/>
        </p:nvPicPr>
        <p:blipFill>
          <a:blip r:embed="rId3"/>
          <a:stretch/>
        </p:blipFill>
        <p:spPr>
          <a:xfrm>
            <a:off x="500040" y="2143080"/>
            <a:ext cx="2428920" cy="439416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352" name="Rectangle 8"/>
          <p:cNvSpPr/>
          <p:nvPr/>
        </p:nvSpPr>
        <p:spPr>
          <a:xfrm>
            <a:off x="3997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Arial"/>
              </a:rPr>
              <a:t>Odessa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6" descr="100_9123"/>
          <p:cNvPicPr/>
          <p:nvPr/>
        </p:nvPicPr>
        <p:blipFill>
          <a:blip r:embed="rId1"/>
          <a:stretch/>
        </p:blipFill>
        <p:spPr>
          <a:xfrm>
            <a:off x="611280" y="1844640"/>
            <a:ext cx="3200400" cy="42670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55" name="Picture 7" descr="100_9304"/>
          <p:cNvPicPr/>
          <p:nvPr/>
        </p:nvPicPr>
        <p:blipFill>
          <a:blip r:embed="rId2"/>
          <a:stretch/>
        </p:blipFill>
        <p:spPr>
          <a:xfrm>
            <a:off x="4643280" y="1844640"/>
            <a:ext cx="3241800" cy="43210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9:26:14Z</dcterms:created>
  <dc:creator>Юляша</dc:creator>
  <dc:description/>
  <dc:language>en-US</dc:language>
  <cp:lastModifiedBy>212</cp:lastModifiedBy>
  <dcterms:modified xsi:type="dcterms:W3CDTF">2012-10-24T13:10:45Z</dcterms:modified>
  <cp:revision>15</cp:revision>
  <dc:subject/>
  <dc:title>My family</dc:title>
</cp:coreProperties>
</file>