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6.jpeg" ContentType="image/jpeg"/>
  <Override PartName="/ppt/media/image15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1E64-9A49-4C36-94AD-037754973E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BE17-0584-4728-B5D6-7135BE9E1B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B808-50AA-4F25-8F09-5B41C5CE38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D907-06E9-4943-87B4-AF843C3F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0C95-F750-4655-8F8E-25E530BA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9E62-1872-4FCD-8F55-D1CBA694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892-15E3-4A5B-87C6-D4C9F88F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9393-82E0-4A23-A434-A92FDE12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4238-37C4-4CDC-8D9D-F7158E54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D810-E27E-4261-B520-BBE9747B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9FAF-FDF2-47F6-BA9F-6ADF162B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1A0A-E6B3-42F4-9A8C-88806D3B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0D5B-F5EA-4382-BB18-DB8E298B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C66D-C3A9-4E54-AF6A-C2878C83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2B91-FF6C-405E-ADD1-CAAF2E5B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459F-9AB1-45BE-B00B-B25BFFE3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8624-F16B-4697-B4A7-E8427043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F5D4-8ACE-4464-82C4-ED8DDFED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2624-5EF2-4EF5-B612-708318F9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88E2-FCDC-416D-981D-643EC187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CC338-2A57-4DB7-B662-9BC8AB7F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CDECE-7861-4402-A21C-90D0AF5A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4B485-4143-4FCE-A36F-A1D36A91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97C37-E23D-4833-BA06-0CF13E52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ACD1B-0A84-493F-951E-BE975663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8495-3009-48E9-8054-5FA0E1CC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7E021-1AB4-4906-95BF-EE65BFE2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97C81-1FBA-4AF2-BEBB-B5908277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8AC35-5F07-4FA7-8AFC-B4F55572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35A5E-8EE8-43A8-8798-0A04BADB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E85A8-A2F2-4956-833F-D8A32B99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D4B5F-4896-40FA-9B7B-27E1E290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098B5-BE0E-45A6-AFF2-DD4508D1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F685C-1B2B-4A74-9B88-559561CE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3F0B9-8301-4CCB-80EF-D2E11049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FF6EA-70B1-44F4-8233-0B15F269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EC43-8044-4E1A-9E81-954B3D52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EE0AA-251E-4ADB-BCAD-AD7B94E7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342EC-FB23-4719-AD19-BC78B4BA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91085-77AA-4F86-AE96-C6C483E7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8208B-473F-4F3B-9398-66707A37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55BB3-8F87-4505-A745-11A88542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AD280-7294-4597-A55D-BD97AFEC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4EBC5-1CFA-4489-9491-90B08EE4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633DB-9F1D-4C97-93D1-79636E77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77AF8-C58B-4B52-9BE2-F4E7AC4F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DC045-3D0B-40C0-AC94-6355F918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96D9-EB99-4781-9E3D-95F8C45F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6E4B9-6D72-4E86-9AAF-ECD31C0C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39606-F5F5-480A-AFB6-BD7AC959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7B6AB-C589-4380-BA93-6E10D757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C4905-78B7-4A6E-980B-927694B1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2894B-22CB-4B8A-A9BC-CAB08640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83F4D-5F16-46E5-B6D6-0ED9F8E8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EE44F-E339-458E-B86E-4F362245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1B777-EE49-4ED5-B1C8-38EDB9CF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08FF4-222A-40F6-BE09-8F82085D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72C97-D26D-4085-B9D6-C542B6D0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FE07-DA60-49D3-BD0A-9C602408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47FD3-1FF8-4AB3-B394-11A424B8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AD390-4211-4E19-9710-11DD0544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0FBF1-E8DD-4F37-A0B7-75772BAD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16421-2CB4-499E-A343-316D88A6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75862-6878-4CAA-89A9-5F12BD2D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FF88F-4541-45E2-96EC-D15D653C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48A92-58A5-4302-BB8A-B0A6786A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A0FD5-AE36-4DCD-972D-63F0377F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FDCD0-9271-447D-A967-DEB9D9E5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75813-A786-4C7E-9E1F-07822DBF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7D9F-F0A1-474A-AAA1-E18730CE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29D71-7790-4593-9DB7-2FEF7827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C0E6B-0141-4836-B357-8B6ECD63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2DB0C-C726-433C-AC5C-3E5E1E49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96A4F-1420-415A-BFFA-66443496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30509-8146-4EA5-847E-2B6EF848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77D8A-B3D5-463C-AD81-9ABCAC47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EE54B-99B3-4F14-BF99-476435E4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F97D1-0066-43B2-9A26-F9D48396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AF874-A7FF-4F45-9C80-C4ADD5BF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2626A-011F-41F8-A2B6-5041AE7E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690-C8C3-49A5-A23E-2D8ABFD8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50171-02B6-416D-8D1B-F58A89EF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0EE9F-1BB3-4A1C-8791-790F36F6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38BF2-AB0C-49DD-95E6-E0900002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F42AB-1595-4BCE-B0DC-1B5365F8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CDFAE-F685-49D8-89D5-4347ADA9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2574-3E34-4F6B-BD9F-C872D2BC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1235-7FB5-4D4B-8B54-BCA1AA6F210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0108-87A9-47B7-9CD0-8A22F86DA33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6207-A8D6-4C15-A895-F79CA570B38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5B2B-2C45-4C64-A1B1-03A9AF23F2A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3B15-B177-46BA-A638-AB3F04B297F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A23F-D5FE-41D7-90FA-44F27EE541E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B4F3-20BE-47D4-8A85-93E9721D828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1" descr=""/>
          <p:cNvPicPr/>
          <p:nvPr/>
        </p:nvPicPr>
        <p:blipFill>
          <a:blip r:embed="rId1"/>
          <a:stretch/>
        </p:blipFill>
        <p:spPr>
          <a:xfrm>
            <a:off x="1357200" y="3429000"/>
            <a:ext cx="3786480" cy="3071880"/>
          </a:xfrm>
          <a:prstGeom prst="rect">
            <a:avLst/>
          </a:prstGeom>
          <a:ln w="0">
            <a:noFill/>
          </a:ln>
        </p:spPr>
      </p:pic>
      <p:sp>
        <p:nvSpPr>
          <p:cNvPr id="326" name="TextBox 2"/>
          <p:cNvSpPr/>
          <p:nvPr/>
        </p:nvSpPr>
        <p:spPr>
          <a:xfrm>
            <a:off x="1357200" y="214200"/>
            <a:ext cx="67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Monotype Corsiva"/>
              </a:rPr>
              <a:t>Ур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Monotype Corsiva"/>
              </a:rPr>
              <a:t>изобразительного искус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Monotype Corsiva"/>
              </a:rPr>
              <a:t>5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1357200" y="1785960"/>
            <a:ext cx="7143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Monotype Corsiva"/>
              </a:rPr>
              <a:t>Татарский национльный ОРНАМЕН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5214960" y="4214880"/>
            <a:ext cx="3929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70c0"/>
                </a:solidFill>
                <a:uFillTx/>
                <a:latin typeface="Monotype Corsiva"/>
              </a:rPr>
              <a:t>Подготовил</a:t>
            </a: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Учитель изобразительного искус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Баязитов Расиль Р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Среднетиганской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Алексеев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Monotype Corsiva"/>
              </a:rPr>
              <a:t>р.Татарст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Рисунок 1" descr=""/>
          <p:cNvPicPr/>
          <p:nvPr/>
        </p:nvPicPr>
        <p:blipFill>
          <a:blip r:embed="rId1"/>
          <a:stretch/>
        </p:blipFill>
        <p:spPr>
          <a:xfrm>
            <a:off x="1143000" y="2071800"/>
            <a:ext cx="2357280" cy="378612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2" descr=""/>
          <p:cNvPicPr/>
          <p:nvPr/>
        </p:nvPicPr>
        <p:blipFill>
          <a:blip r:embed="rId2"/>
          <a:stretch/>
        </p:blipFill>
        <p:spPr>
          <a:xfrm>
            <a:off x="3429000" y="2857680"/>
            <a:ext cx="2000160" cy="308124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3" descr=""/>
          <p:cNvPicPr/>
          <p:nvPr/>
        </p:nvPicPr>
        <p:blipFill>
          <a:blip r:embed="rId3"/>
          <a:stretch/>
        </p:blipFill>
        <p:spPr>
          <a:xfrm>
            <a:off x="7215120" y="3714840"/>
            <a:ext cx="1928880" cy="202860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4" descr=""/>
          <p:cNvPicPr/>
          <p:nvPr/>
        </p:nvPicPr>
        <p:blipFill>
          <a:blip r:embed="rId4"/>
          <a:stretch/>
        </p:blipFill>
        <p:spPr>
          <a:xfrm>
            <a:off x="5500800" y="3714840"/>
            <a:ext cx="1714320" cy="194292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оугольник 5"/>
          <p:cNvSpPr/>
          <p:nvPr/>
        </p:nvSpPr>
        <p:spPr>
          <a:xfrm>
            <a:off x="1285920" y="35100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</a:t>
            </a:r>
            <a:r>
              <a:rPr b="0" lang="tt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үлмәк            Читек         Түбәтәй     Калф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1"/>
          <p:cNvSpPr/>
          <p:nvPr/>
        </p:nvSpPr>
        <p:spPr>
          <a:xfrm>
            <a:off x="1285920" y="714240"/>
            <a:ext cx="67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Monotype Corsiva"/>
              </a:rPr>
              <a:t>Что такое ОРНАМЕН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"/>
          <p:cNvSpPr/>
          <p:nvPr/>
        </p:nvSpPr>
        <p:spPr>
          <a:xfrm>
            <a:off x="1500120" y="3786120"/>
            <a:ext cx="614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-  узор, основанный на повторе и чередовании составляющих его элем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Группа 5"/>
          <p:cNvGrpSpPr/>
          <p:nvPr/>
        </p:nvGrpSpPr>
        <p:grpSpPr>
          <a:xfrm>
            <a:off x="1357200" y="2000160"/>
            <a:ext cx="6500880" cy="2431080"/>
            <a:chOff x="1357200" y="2000160"/>
            <a:chExt cx="6500880" cy="2431080"/>
          </a:xfrm>
        </p:grpSpPr>
        <p:sp>
          <p:nvSpPr>
            <p:cNvPr id="337" name="TextBox 3"/>
            <p:cNvSpPr/>
            <p:nvPr/>
          </p:nvSpPr>
          <p:spPr>
            <a:xfrm>
              <a:off x="1357200" y="2142720"/>
              <a:ext cx="6500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Corbel"/>
                </a:rPr>
                <a:t>ОРНАМЕН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00000"/>
                  </a:solidFill>
                  <a:latin typeface="Corbel"/>
                </a:rPr>
                <a:t>( лат. </a:t>
              </a:r>
              <a:r>
                <a:rPr b="1" lang="en-US" sz="3600" spc="-1" strike="noStrike">
                  <a:solidFill>
                    <a:srgbClr val="c00000"/>
                  </a:solidFill>
                  <a:latin typeface="Gill Sans MT"/>
                </a:rPr>
                <a:t>Ornamentum - </a:t>
              </a:r>
              <a:r>
                <a:rPr b="1" lang="ru-RU" sz="3600" spc="-1" strike="noStrike">
                  <a:solidFill>
                    <a:srgbClr val="c00000"/>
                  </a:solidFill>
                  <a:latin typeface="Corbel"/>
                </a:rPr>
                <a:t>украшение)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Прямая соединительная линия 9"/>
            <p:cNvSpPr/>
            <p:nvPr/>
          </p:nvSpPr>
          <p:spPr>
            <a:xfrm flipH="1">
              <a:off x="4572000" y="2000160"/>
              <a:ext cx="142560" cy="214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3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2"/>
          <p:cNvSpPr/>
          <p:nvPr/>
        </p:nvSpPr>
        <p:spPr>
          <a:xfrm>
            <a:off x="428760" y="714240"/>
            <a:ext cx="871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Monotype Corsiva"/>
              </a:rPr>
              <a:t>Какие виды орнаментов вам известн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Схема 4" descr=""/>
          <p:cNvPicPr/>
          <p:nvPr/>
        </p:nvPicPr>
        <p:blipFill>
          <a:blip r:embed="rId1"/>
          <a:stretch/>
        </p:blipFill>
        <p:spPr>
          <a:xfrm>
            <a:off x="133200" y="1341360"/>
            <a:ext cx="8871120" cy="5523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2071800" y="1143000"/>
            <a:ext cx="4887720" cy="4643280"/>
          </a:xfrm>
          <a:prstGeom prst="rect">
            <a:avLst/>
          </a:prstGeom>
          <a:ln w="0">
            <a:noFill/>
          </a:ln>
        </p:spPr>
      </p:pic>
      <p:sp>
        <p:nvSpPr>
          <p:cNvPr id="342" name="TextBox 1"/>
          <p:cNvSpPr/>
          <p:nvPr/>
        </p:nvSpPr>
        <p:spPr>
          <a:xfrm>
            <a:off x="1285920" y="0"/>
            <a:ext cx="671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Monotype Corsiva"/>
              </a:rPr>
              <a:t>Какой вид орнамента изображе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C:\Documents and Settings\123\Рабочий стол\орнамент 1\image002.gif"/>
          <p:cNvPicPr/>
          <p:nvPr/>
        </p:nvPicPr>
        <p:blipFill>
          <a:blip r:embed="rId2"/>
          <a:stretch/>
        </p:blipFill>
        <p:spPr>
          <a:xfrm>
            <a:off x="3143160" y="2143080"/>
            <a:ext cx="3054600" cy="33609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G:\орнамент\tat-ornament.jpg"/>
          <p:cNvPicPr/>
          <p:nvPr/>
        </p:nvPicPr>
        <p:blipFill>
          <a:blip r:embed="rId3"/>
          <a:stretch/>
        </p:blipFill>
        <p:spPr>
          <a:xfrm>
            <a:off x="2500200" y="2143080"/>
            <a:ext cx="4400640" cy="31053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G:\орнамент\орнаменты Индии 3.jpg"/>
          <p:cNvPicPr/>
          <p:nvPr/>
        </p:nvPicPr>
        <p:blipFill>
          <a:blip r:embed="rId4"/>
          <a:stretch/>
        </p:blipFill>
        <p:spPr>
          <a:xfrm>
            <a:off x="2571840" y="1357200"/>
            <a:ext cx="3819600" cy="4572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"/>
          <p:cNvPicPr/>
          <p:nvPr/>
        </p:nvPicPr>
        <p:blipFill>
          <a:blip r:embed="rId5"/>
          <a:stretch/>
        </p:blipFill>
        <p:spPr>
          <a:xfrm>
            <a:off x="2643120" y="1500120"/>
            <a:ext cx="3990960" cy="37846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G:\орнамент\003.jpg"/>
          <p:cNvPicPr/>
          <p:nvPr/>
        </p:nvPicPr>
        <p:blipFill>
          <a:blip r:embed="rId6"/>
          <a:srcRect l="0" t="0" r="0" b="4763"/>
          <a:stretch/>
        </p:blipFill>
        <p:spPr>
          <a:xfrm>
            <a:off x="2643120" y="785880"/>
            <a:ext cx="3783240" cy="54259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0" descr=""/>
          <p:cNvPicPr/>
          <p:nvPr/>
        </p:nvPicPr>
        <p:blipFill>
          <a:blip r:embed="rId7"/>
          <a:stretch/>
        </p:blipFill>
        <p:spPr>
          <a:xfrm>
            <a:off x="2428920" y="1000080"/>
            <a:ext cx="4430520" cy="5070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1" descr="G:\греческий орнамент\7_226.jpg"/>
          <p:cNvPicPr/>
          <p:nvPr/>
        </p:nvPicPr>
        <p:blipFill>
          <a:blip r:embed="rId8"/>
          <a:srcRect l="21874" t="10157" r="9573" b="13669"/>
          <a:stretch/>
        </p:blipFill>
        <p:spPr>
          <a:xfrm>
            <a:off x="2357280" y="1785960"/>
            <a:ext cx="4429440" cy="3691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2" descr="G:\греческий орнамент\image004.jpg"/>
          <p:cNvPicPr/>
          <p:nvPr/>
        </p:nvPicPr>
        <p:blipFill>
          <a:blip r:embed="rId9"/>
          <a:srcRect l="0" t="6736" r="0" b="6436"/>
          <a:stretch/>
        </p:blipFill>
        <p:spPr>
          <a:xfrm>
            <a:off x="2500200" y="1000080"/>
            <a:ext cx="3857760" cy="52866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3" descr="G:\греческий орнамент\img_6217.jpg"/>
          <p:cNvPicPr/>
          <p:nvPr/>
        </p:nvPicPr>
        <p:blipFill>
          <a:blip r:embed="rId10"/>
          <a:stretch/>
        </p:blipFill>
        <p:spPr>
          <a:xfrm>
            <a:off x="2500200" y="1071720"/>
            <a:ext cx="3926160" cy="4438440"/>
          </a:xfrm>
          <a:prstGeom prst="rect">
            <a:avLst/>
          </a:prstGeom>
          <a:ln w="0">
            <a:noFill/>
          </a:ln>
        </p:spPr>
      </p:pic>
      <p:pic>
        <p:nvPicPr>
          <p:cNvPr id="352" name="Группа 23" descr=""/>
          <p:cNvPicPr/>
          <p:nvPr/>
        </p:nvPicPr>
        <p:blipFill>
          <a:blip r:embed="rId11"/>
          <a:stretch/>
        </p:blipFill>
        <p:spPr>
          <a:xfrm>
            <a:off x="133200" y="731880"/>
            <a:ext cx="2799000" cy="1371600"/>
          </a:xfrm>
          <a:prstGeom prst="rect">
            <a:avLst/>
          </a:prstGeom>
          <a:ln w="0">
            <a:noFill/>
          </a:ln>
        </p:spPr>
      </p:pic>
      <p:pic>
        <p:nvPicPr>
          <p:cNvPr id="353" name="Группа 26" descr=""/>
          <p:cNvPicPr/>
          <p:nvPr/>
        </p:nvPicPr>
        <p:blipFill>
          <a:blip r:embed="rId12"/>
          <a:stretch/>
        </p:blipFill>
        <p:spPr>
          <a:xfrm>
            <a:off x="6205680" y="731880"/>
            <a:ext cx="2798640" cy="1371600"/>
          </a:xfrm>
          <a:prstGeom prst="rect">
            <a:avLst/>
          </a:prstGeom>
          <a:ln w="0">
            <a:noFill/>
          </a:ln>
        </p:spPr>
      </p:pic>
      <p:pic>
        <p:nvPicPr>
          <p:cNvPr id="354" name="Группа 30" descr=""/>
          <p:cNvPicPr/>
          <p:nvPr/>
        </p:nvPicPr>
        <p:blipFill>
          <a:blip r:embed="rId13"/>
          <a:stretch/>
        </p:blipFill>
        <p:spPr>
          <a:xfrm>
            <a:off x="133200" y="5443560"/>
            <a:ext cx="2799000" cy="1371600"/>
          </a:xfrm>
          <a:prstGeom prst="rect">
            <a:avLst/>
          </a:prstGeom>
          <a:ln w="0">
            <a:noFill/>
          </a:ln>
        </p:spPr>
      </p:pic>
      <p:pic>
        <p:nvPicPr>
          <p:cNvPr id="355" name="Группа 33" descr=""/>
          <p:cNvPicPr/>
          <p:nvPr/>
        </p:nvPicPr>
        <p:blipFill>
          <a:blip r:embed="rId14"/>
          <a:stretch/>
        </p:blipFill>
        <p:spPr>
          <a:xfrm>
            <a:off x="6132600" y="5443560"/>
            <a:ext cx="2803320" cy="1371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40518E-007 L 0.37014 -0.29371 E">
                                      <p:cBhvr>
                                        <p:cTn id="32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81036E-007 L -0.44896 -0.4408 E">
                                      <p:cBhvr>
                                        <p:cTn id="44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52451E-006 L 0.35434 -0.35662 E">
                                      <p:cBhvr>
                                        <p:cTn id="57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947E-006 L -0.40174 0.44056 E">
                                      <p:cBhvr>
                                        <p:cTn id="70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83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3469E-006 L -0.46476 -0.3462 E">
                                      <p:cBhvr>
                                        <p:cTn id="96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4.16281E-007 L 0.33074 -0.33557 E">
                                      <p:cBhvr>
                                        <p:cTn id="109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1878E-006 L -0.37813 -0.30411 E">
                                      <p:cBhvr>
                                        <p:cTn id="122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135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1.30435E-006 L 0.39376 -0.37766 E">
                                      <p:cBhvr>
                                        <p:cTn id="148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2" descr=""/>
          <p:cNvPicPr/>
          <p:nvPr/>
        </p:nvPicPr>
        <p:blipFill>
          <a:blip r:embed="rId1"/>
          <a:stretch/>
        </p:blipFill>
        <p:spPr>
          <a:xfrm>
            <a:off x="1285920" y="214200"/>
            <a:ext cx="7000920" cy="6143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1" descr=""/>
          <p:cNvPicPr/>
          <p:nvPr/>
        </p:nvPicPr>
        <p:blipFill>
          <a:blip r:embed="rId1"/>
          <a:stretch/>
        </p:blipFill>
        <p:spPr>
          <a:xfrm>
            <a:off x="928800" y="0"/>
            <a:ext cx="7500960" cy="5477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4:16:04Z</dcterms:created>
  <dc:creator>Valued Acer Customer</dc:creator>
  <dc:description/>
  <dc:language>en-US</dc:language>
  <cp:lastModifiedBy>home</cp:lastModifiedBy>
  <dcterms:modified xsi:type="dcterms:W3CDTF">2012-10-24T01:26:52Z</dcterms:modified>
  <cp:revision>58</cp:revision>
  <dc:subject/>
  <dc:title>Слайд 1</dc:title>
</cp:coreProperties>
</file>