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6DDA-A9D4-4759-8D22-88415FDEF7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9113-B4BD-41E5-B301-899A1DBC6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C42C-59CA-4D71-B1F5-1D44ABF39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B51-4887-48DD-919A-A161AFE5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1D5-34B1-427B-8B74-924A29A7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44A-B91A-4917-8B97-11DE889A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1D7-0420-4A28-8E8C-E0E513C1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BA38-4388-44C6-8515-90BD7712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139F-8F19-420C-BFAC-8B170EDD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5D1B-661D-4973-9D55-112BFEA3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C1B-9351-4E19-A8D5-CA212A19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18FE-7B64-45AF-AA92-B8EB0B6F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4C63-36D0-4BFF-93F6-A17DBB0A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1CE8-8428-41B8-929F-AF5D70B4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E08-FE31-4315-9B16-9987FC04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2BB-6B99-4671-8DE6-63A493A8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7D78-B144-4EB0-9950-C08BEA92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0C9D-FA0C-4B9B-9DDA-A9F2F5B1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9A5A-BB10-45D1-BFD4-3D7ED5BE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484E-8EDC-45C4-A158-8D82D6F5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B630-DAE0-4C6C-9EEA-E14C1DB7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3382-1BF9-4C7D-AC58-0B8BB181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67C3-F718-46D9-88F8-B72C607A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3CA8-449F-4868-A2B0-A7972661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4D89-9A0B-47E8-B535-13E42FA7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0D1-E4DC-4AD3-B9CA-1830A873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F80C-C2FA-4F40-AA65-1A67FA9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9B64-CDD8-4352-819E-D8ACBA5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2213-4443-4CCC-B48C-1240C14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0A7F-5406-4B68-88CF-EFE745F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B7A9-1FB8-4F18-8562-3FCAA731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0FF8-9E98-4C68-8357-DB0A4677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6BE1-0B64-4654-907C-95B9C71B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BAAA-8E12-4636-8F03-2D858202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C714-F280-40A6-B411-40FF37BC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74AB-EC6D-4D63-8F68-0AE5737F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3DC-7F73-44A8-B794-DE369F8F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2918-D474-4F83-A6D9-D90EA806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FAA46-1165-4064-8BAD-64EE76F9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94C33-659C-45C0-BC1C-129F2512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5341-5512-4139-A3CF-23094931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DF2A-B764-46AC-8DB6-58EC1C9E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CC80-A08B-4EAA-BB0E-67BC68DE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ECD4-18E0-44BF-9890-5B22C4FB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ACCB8-BD2F-48DE-BDEF-632735EA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96F0-664E-4442-9EA5-F9EE2D5B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918C-66D6-4DFD-8714-55021F06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CC8-7D7C-42C8-B85C-CEA9AA29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44977-030B-48AA-938A-95425773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21B91-DA6D-4CE7-9D4D-AE83F71B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652FF-548C-43A5-A025-0B8EAB2C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7F631-E4A7-4AF5-8645-CDB10CD9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63EA9-A193-447E-85DB-DF5E782E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119FB-A062-4319-B1C9-F6B79B27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10F4F-DD65-4E34-A312-DD728772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0BD93-9284-459F-8501-637D306F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B911-CEC4-4F14-98C1-0D7C1018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3A6D-CF25-4A5D-B911-E58334C0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79F-D1C2-4EF3-A80A-A3047564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6EA4-B0E8-495C-BF43-6FF633B0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4AB3D-1873-485D-ADBA-FBA40DA0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76438-A5B8-456D-9B3C-0C6799D7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7D43-AE64-4B7F-A064-D40EF97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4C77-5FCD-43F3-A960-094103D6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F6FCD-CF1B-4D4E-B3D5-3B2221E3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CA3D3-29F6-43BC-A00A-1E330ED4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7A500-4E21-448B-B3DD-0DE74BD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A0F11-5466-45C5-A787-79255A3C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B066C-8FB6-4C09-BFDF-5B4845B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37B-F759-4174-84CE-F7560B4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E35D5-4F9E-4448-87E3-94380776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31AE-F6E2-40D5-B487-4A799E83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BC1B3-2C87-41EE-878A-301FC9FC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57FF-C1E0-47B7-8710-11B844C9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03179-8EC5-419D-ADFD-16033CF7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A2CBE-B79F-4042-947E-6DB62E54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BE51C-DDB3-4A12-8396-0C73D86C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E576-096D-47F6-B23D-D06D4B03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18A58-EA75-4BCD-BEC3-5812E8B1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1A32D-98FD-45ED-B625-BA9C7DFF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62E-89CA-4B1F-B93A-1AEECB5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12D7-AA2F-4335-A317-88847F4A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8082B-42A3-469C-9501-D87109D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66C4C-316D-4777-ABDC-B0709F8A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C2227-B1B3-42E3-ACEE-E969BC18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58D4-080D-4478-84FA-2939A46C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EF0-F95D-40EB-A206-D63594E9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A820-3E2E-422B-B41A-3429AC2880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2CC1-6E16-4314-9809-E914E8BF5F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9A2F-928F-4F77-AF7F-098EB93F4C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BDBA-1AAE-422D-9085-991F384860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2574-D17F-49AC-9792-B2D2146F7E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C341-4FAC-41BF-87DF-4D97D979AC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4E2D-8AD5-4106-B423-44C15ABCB4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1357200" y="3429000"/>
            <a:ext cx="3786480" cy="30718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57200" y="21420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У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изобразительного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357200" y="1785960"/>
            <a:ext cx="7143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Monotype Corsiva"/>
              </a:rPr>
              <a:t>Татарский национльный ОРНАМ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5214960" y="421488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Monotype Corsiva"/>
              </a:rPr>
              <a:t>Подготовил</a:t>
            </a: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Учитель изобразительного 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Баязитов Расиль Р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Среднетиганской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Алексе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р.Татарст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2357280" cy="37861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2" descr=""/>
          <p:cNvPicPr/>
          <p:nvPr/>
        </p:nvPicPr>
        <p:blipFill>
          <a:blip r:embed="rId2"/>
          <a:stretch/>
        </p:blipFill>
        <p:spPr>
          <a:xfrm>
            <a:off x="3429000" y="2857680"/>
            <a:ext cx="2000160" cy="30812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" descr=""/>
          <p:cNvPicPr/>
          <p:nvPr/>
        </p:nvPicPr>
        <p:blipFill>
          <a:blip r:embed="rId3"/>
          <a:stretch/>
        </p:blipFill>
        <p:spPr>
          <a:xfrm>
            <a:off x="7215120" y="3714840"/>
            <a:ext cx="1928880" cy="202860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"/>
          <p:cNvPicPr/>
          <p:nvPr/>
        </p:nvPicPr>
        <p:blipFill>
          <a:blip r:embed="rId4"/>
          <a:stretch/>
        </p:blipFill>
        <p:spPr>
          <a:xfrm>
            <a:off x="5500800" y="3714840"/>
            <a:ext cx="1714320" cy="19429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5"/>
          <p:cNvSpPr/>
          <p:nvPr/>
        </p:nvSpPr>
        <p:spPr>
          <a:xfrm>
            <a:off x="1285920" y="3510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үлмәк            Читек         Түбәтәй     Калф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285920" y="71424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Что такое ОРНАМЕН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"/>
          <p:cNvSpPr/>
          <p:nvPr/>
        </p:nvSpPr>
        <p:spPr>
          <a:xfrm>
            <a:off x="1500120" y="378612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-  узор, основанный на повторе и чередовании составляющих его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Группа 5"/>
          <p:cNvGrpSpPr/>
          <p:nvPr/>
        </p:nvGrpSpPr>
        <p:grpSpPr>
          <a:xfrm>
            <a:off x="1357200" y="2000160"/>
            <a:ext cx="6500880" cy="2431080"/>
            <a:chOff x="1357200" y="2000160"/>
            <a:chExt cx="6500880" cy="2431080"/>
          </a:xfrm>
        </p:grpSpPr>
        <p:sp>
          <p:nvSpPr>
            <p:cNvPr id="337" name="TextBox 3"/>
            <p:cNvSpPr/>
            <p:nvPr/>
          </p:nvSpPr>
          <p:spPr>
            <a:xfrm>
              <a:off x="1357200" y="2142720"/>
              <a:ext cx="6500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Corbel"/>
                </a:rPr>
                <a:t>ОРНАМЕН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orbel"/>
                </a:rPr>
                <a:t>( лат. </a:t>
              </a:r>
              <a:r>
                <a:rPr b="1" lang="en-US" sz="3600" spc="-1" strike="noStrike">
                  <a:solidFill>
                    <a:srgbClr val="c00000"/>
                  </a:solidFill>
                  <a:latin typeface="Gill Sans MT"/>
                </a:rPr>
                <a:t>Ornamentum - </a:t>
              </a:r>
              <a:r>
                <a:rPr b="1" lang="ru-RU" sz="3600" spc="-1" strike="noStrike">
                  <a:solidFill>
                    <a:srgbClr val="c00000"/>
                  </a:solidFill>
                  <a:latin typeface="Corbel"/>
                </a:rPr>
                <a:t>украшение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9"/>
            <p:cNvSpPr/>
            <p:nvPr/>
          </p:nvSpPr>
          <p:spPr>
            <a:xfrm flipH="1">
              <a:off x="4572000" y="2000160"/>
              <a:ext cx="142560" cy="214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2"/>
          <p:cNvSpPr/>
          <p:nvPr/>
        </p:nvSpPr>
        <p:spPr>
          <a:xfrm>
            <a:off x="428760" y="714240"/>
            <a:ext cx="871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Какие виды орнаментов вам извест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Схема 4" descr=""/>
          <p:cNvPicPr/>
          <p:nvPr/>
        </p:nvPicPr>
        <p:blipFill>
          <a:blip r:embed="rId1"/>
          <a:stretch/>
        </p:blipFill>
        <p:spPr>
          <a:xfrm>
            <a:off x="133200" y="1341360"/>
            <a:ext cx="8871120" cy="552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2071800" y="1143000"/>
            <a:ext cx="4887720" cy="46432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"/>
          <p:cNvSpPr/>
          <p:nvPr/>
        </p:nvSpPr>
        <p:spPr>
          <a:xfrm>
            <a:off x="1285920" y="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Какой вид орнамента изображ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Documents and Settings\123\Рабочий стол\орнамент 1\image002.gif"/>
          <p:cNvPicPr/>
          <p:nvPr/>
        </p:nvPicPr>
        <p:blipFill>
          <a:blip r:embed="rId2"/>
          <a:stretch/>
        </p:blipFill>
        <p:spPr>
          <a:xfrm>
            <a:off x="3143160" y="2143080"/>
            <a:ext cx="3054600" cy="3360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G:\орнамент\tat-ornament.jpg"/>
          <p:cNvPicPr/>
          <p:nvPr/>
        </p:nvPicPr>
        <p:blipFill>
          <a:blip r:embed="rId3"/>
          <a:stretch/>
        </p:blipFill>
        <p:spPr>
          <a:xfrm>
            <a:off x="2500200" y="2143080"/>
            <a:ext cx="4400640" cy="3105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G:\орнамент\орнаменты Индии 3.jpg"/>
          <p:cNvPicPr/>
          <p:nvPr/>
        </p:nvPicPr>
        <p:blipFill>
          <a:blip r:embed="rId4"/>
          <a:stretch/>
        </p:blipFill>
        <p:spPr>
          <a:xfrm>
            <a:off x="2571840" y="1357200"/>
            <a:ext cx="3819600" cy="4572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5"/>
          <a:stretch/>
        </p:blipFill>
        <p:spPr>
          <a:xfrm>
            <a:off x="2643120" y="1500120"/>
            <a:ext cx="3990960" cy="3784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G:\орнамент\003.jpg"/>
          <p:cNvPicPr/>
          <p:nvPr/>
        </p:nvPicPr>
        <p:blipFill>
          <a:blip r:embed="rId6"/>
          <a:srcRect l="0" t="0" r="0" b="4763"/>
          <a:stretch/>
        </p:blipFill>
        <p:spPr>
          <a:xfrm>
            <a:off x="2643120" y="785880"/>
            <a:ext cx="3783240" cy="5425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"/>
          <p:cNvPicPr/>
          <p:nvPr/>
        </p:nvPicPr>
        <p:blipFill>
          <a:blip r:embed="rId7"/>
          <a:stretch/>
        </p:blipFill>
        <p:spPr>
          <a:xfrm>
            <a:off x="2428920" y="1000080"/>
            <a:ext cx="4430520" cy="5070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G:\греческий орнамент\7_226.jpg"/>
          <p:cNvPicPr/>
          <p:nvPr/>
        </p:nvPicPr>
        <p:blipFill>
          <a:blip r:embed="rId8"/>
          <a:srcRect l="21874" t="10157" r="9573" b="13669"/>
          <a:stretch/>
        </p:blipFill>
        <p:spPr>
          <a:xfrm>
            <a:off x="2357280" y="1785960"/>
            <a:ext cx="4429440" cy="3691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G:\греческий орнамент\image004.jpg"/>
          <p:cNvPicPr/>
          <p:nvPr/>
        </p:nvPicPr>
        <p:blipFill>
          <a:blip r:embed="rId9"/>
          <a:srcRect l="0" t="6736" r="0" b="6436"/>
          <a:stretch/>
        </p:blipFill>
        <p:spPr>
          <a:xfrm>
            <a:off x="2500200" y="1000080"/>
            <a:ext cx="3857760" cy="5286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G:\греческий орнамент\img_6217.jpg"/>
          <p:cNvPicPr/>
          <p:nvPr/>
        </p:nvPicPr>
        <p:blipFill>
          <a:blip r:embed="rId10"/>
          <a:stretch/>
        </p:blipFill>
        <p:spPr>
          <a:xfrm>
            <a:off x="2500200" y="1071720"/>
            <a:ext cx="3926160" cy="4438440"/>
          </a:xfrm>
          <a:prstGeom prst="rect">
            <a:avLst/>
          </a:prstGeom>
          <a:ln w="0">
            <a:noFill/>
          </a:ln>
        </p:spPr>
      </p:pic>
      <p:pic>
        <p:nvPicPr>
          <p:cNvPr id="352" name="Группа 23" descr=""/>
          <p:cNvPicPr/>
          <p:nvPr/>
        </p:nvPicPr>
        <p:blipFill>
          <a:blip r:embed="rId11"/>
          <a:stretch/>
        </p:blipFill>
        <p:spPr>
          <a:xfrm>
            <a:off x="133200" y="731880"/>
            <a:ext cx="279900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Группа 26" descr=""/>
          <p:cNvPicPr/>
          <p:nvPr/>
        </p:nvPicPr>
        <p:blipFill>
          <a:blip r:embed="rId12"/>
          <a:stretch/>
        </p:blipFill>
        <p:spPr>
          <a:xfrm>
            <a:off x="6205680" y="731880"/>
            <a:ext cx="2798640" cy="1371600"/>
          </a:xfrm>
          <a:prstGeom prst="rect">
            <a:avLst/>
          </a:prstGeom>
          <a:ln w="0">
            <a:noFill/>
          </a:ln>
        </p:spPr>
      </p:pic>
      <p:pic>
        <p:nvPicPr>
          <p:cNvPr id="354" name="Группа 30" descr=""/>
          <p:cNvPicPr/>
          <p:nvPr/>
        </p:nvPicPr>
        <p:blipFill>
          <a:blip r:embed="rId13"/>
          <a:stretch/>
        </p:blipFill>
        <p:spPr>
          <a:xfrm>
            <a:off x="133200" y="5443560"/>
            <a:ext cx="2799000" cy="1371600"/>
          </a:xfrm>
          <a:prstGeom prst="rect">
            <a:avLst/>
          </a:prstGeom>
          <a:ln w="0">
            <a:noFill/>
          </a:ln>
        </p:spPr>
      </p:pic>
      <p:pic>
        <p:nvPicPr>
          <p:cNvPr id="355" name="Группа 33" descr=""/>
          <p:cNvPicPr/>
          <p:nvPr/>
        </p:nvPicPr>
        <p:blipFill>
          <a:blip r:embed="rId14"/>
          <a:stretch/>
        </p:blipFill>
        <p:spPr>
          <a:xfrm>
            <a:off x="6132600" y="5443560"/>
            <a:ext cx="280332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40518E-007 L 0.37014 -0.29371 E">
                                      <p:cBhvr>
                                        <p:cTn id="32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036E-007 L -0.44896 -0.4408 E">
                                      <p:cBhvr>
                                        <p:cTn id="4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52451E-006 L 0.35434 -0.35662 E">
                                      <p:cBhvr>
                                        <p:cTn id="5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947E-006 L -0.40174 0.44056 E">
                                      <p:cBhvr>
                                        <p:cTn id="7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8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3469E-006 L -0.46476 -0.3462 E">
                                      <p:cBhvr>
                                        <p:cTn id="9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4.16281E-007 L 0.33074 -0.33557 E">
                                      <p:cBhvr>
                                        <p:cTn id="10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1878E-006 L -0.37813 -0.30411 E">
                                      <p:cBhvr>
                                        <p:cTn id="122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13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30435E-006 L 0.39376 -0.37766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2" descr=""/>
          <p:cNvPicPr/>
          <p:nvPr/>
        </p:nvPicPr>
        <p:blipFill>
          <a:blip r:embed="rId1"/>
          <a:stretch/>
        </p:blipFill>
        <p:spPr>
          <a:xfrm>
            <a:off x="1285920" y="214200"/>
            <a:ext cx="7000920" cy="6143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"/>
          <p:cNvPicPr/>
          <p:nvPr/>
        </p:nvPicPr>
        <p:blipFill>
          <a:blip r:embed="rId1"/>
          <a:stretch/>
        </p:blipFill>
        <p:spPr>
          <a:xfrm>
            <a:off x="928800" y="0"/>
            <a:ext cx="7500960" cy="5477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4:16:04Z</dcterms:created>
  <dc:creator>Valued Acer Customer</dc:creator>
  <dc:description/>
  <dc:language>en-US</dc:language>
  <cp:lastModifiedBy>home</cp:lastModifiedBy>
  <dcterms:modified xsi:type="dcterms:W3CDTF">2012-10-24T01:26:52Z</dcterms:modified>
  <cp:revision>58</cp:revision>
  <dc:subject/>
  <dc:title>Слайд 1</dc:title>
</cp:coreProperties>
</file>