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4.gif" ContentType="image/gif"/>
  <Override PartName="/ppt/media/image6.gif" ContentType="image/gif"/>
  <Override PartName="/ppt/media/image5.jpeg" ContentType="image/jpeg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FF8-8E99-4680-9EDA-C1BE5932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CD4-87CC-4E6E-85D9-99A90B79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D27-C566-4C52-8ED0-C677BE8F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2BE-B012-4357-84B3-5D0ECD82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DF39-654D-43B2-90C5-B73ABD19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6FA6-CC8C-4EE9-AFBA-8502C9A4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B186-CDB4-476F-9CAC-E41593DE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06FC-C640-4F0A-9BF4-8C212A48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B018-6BF5-4860-A54B-67D71C2A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7475-04B9-42D1-8A5E-9A5F67FB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0559-2CFD-4B9D-BB42-0ED35ECF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D8D-1673-4E91-A92D-03AD461F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FD9A-C899-4193-B3F9-76574B2D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BDE1-9D32-47B3-ABF8-09B1836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2C11-55FA-4C60-97C5-EC86A20D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99FB-6D5F-4F5C-B164-9BEB1BDF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AB46-6218-4F81-8EB5-AF7C4B46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880-7D06-49DA-9703-27A7D3BC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5FB-251E-4FBD-942A-A1201421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E31-1244-4442-B8DB-26C01A59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105-F449-4C48-A38E-9650D8C9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90C-7488-46E5-B3D1-B4C9B20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B62-602A-4629-ABB0-AADF6ED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19D-3F5F-48D7-BCE1-FC353E7A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.П.Калиниченко  2009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A488-B5B8-48EA-A4E0-BF2A857FBD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.П.Калиниченко  2009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530D-E3D1-4226-B1A5-C0F4A71C53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280" y="234900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одростковый возраст. Психологические особенност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79640" y="255240"/>
            <a:ext cx="53611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malch76[1]"/>
          <p:cNvPicPr/>
          <p:nvPr/>
        </p:nvPicPr>
        <p:blipFill>
          <a:blip r:embed="rId1"/>
          <a:stretch/>
        </p:blipFill>
        <p:spPr>
          <a:xfrm>
            <a:off x="3924360" y="3789360"/>
            <a:ext cx="1860480" cy="22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J0283652"/>
          <p:cNvPicPr/>
          <p:nvPr/>
        </p:nvPicPr>
        <p:blipFill>
          <a:blip r:embed="rId2"/>
          <a:stretch/>
        </p:blipFill>
        <p:spPr>
          <a:xfrm>
            <a:off x="900000" y="2492280"/>
            <a:ext cx="1535400" cy="158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30 а"/>
          <p:cNvPicPr/>
          <p:nvPr/>
        </p:nvPicPr>
        <p:blipFill>
          <a:blip r:embed="rId3"/>
          <a:stretch/>
        </p:blipFill>
        <p:spPr>
          <a:xfrm>
            <a:off x="468360" y="4292640"/>
            <a:ext cx="1940040" cy="230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child48[1]"/>
          <p:cNvPicPr/>
          <p:nvPr/>
        </p:nvPicPr>
        <p:blipFill>
          <a:blip r:embed="rId4"/>
          <a:stretch/>
        </p:blipFill>
        <p:spPr>
          <a:xfrm>
            <a:off x="7451640" y="4508640"/>
            <a:ext cx="1098720" cy="194472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5649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Чувство взрослост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осток  объективно не может включиться во взрослую жизнь, но стремиться к ней и претендует на равные со взрослыми права. Изменить он пока ничего не может, но внешне подражает взрослы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юда и появляются атрибуты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"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евдовзрослости"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урение сигарет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требление алкоголя, наркотиков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усовки 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внешнее проявление "я тоже имею свою личную жизнь"). Копирует любые взрослые отношени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CALVIN2"/>
          <p:cNvPicPr/>
          <p:nvPr/>
        </p:nvPicPr>
        <p:blipFill>
          <a:blip r:embed="rId1"/>
          <a:stretch/>
        </p:blipFill>
        <p:spPr>
          <a:xfrm>
            <a:off x="395280" y="3933720"/>
            <a:ext cx="1203480" cy="158292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756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Внешний вид подростка - еще один источник конфликт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Меняется походка, манеры, внешний облик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щё совсем недавно свободно, легко двигавшийся мальчик начинает ходить вразвалку, опустив руки глубоко в карманы и сплёвывая через плечо. У него появляются новые выражени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евочка начинает ревностно сравнивать свою одежду и причёску с образцами, которые она видит на улице и обложках журналов, выплёскивая на маму эмоции по поводу имеющихся расхождений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424720" y="6165720"/>
            <a:ext cx="719280" cy="692280"/>
          </a:xfrm>
          <a:custGeom>
            <a:avLst/>
            <a:gdLst>
              <a:gd name="textAreaLeft" fmla="*/ 44640 w 719280"/>
              <a:gd name="textAreaRight" fmla="*/ 674640 w 719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42" h="21600">
                <a:moveTo>
                  <a:pt x="0" y="0"/>
                </a:moveTo>
                <a:lnTo>
                  <a:pt x="22442" y="0"/>
                </a:lnTo>
                <a:lnTo>
                  <a:pt x="22442" y="21600"/>
                </a:lnTo>
                <a:lnTo>
                  <a:pt x="0" y="21600"/>
                </a:lnTo>
                <a:close/>
              </a:path>
              <a:path fill="lightenLess" w="22442" h="21600">
                <a:moveTo>
                  <a:pt x="0" y="0"/>
                </a:moveTo>
                <a:lnTo>
                  <a:pt x="22442" y="0"/>
                </a:lnTo>
                <a:lnTo>
                  <a:pt x="21042" y="1400"/>
                </a:lnTo>
                <a:lnTo>
                  <a:pt x="1400" y="1400"/>
                </a:lnTo>
                <a:close/>
              </a:path>
              <a:path fill="darken" w="22442" h="21600">
                <a:moveTo>
                  <a:pt x="22442" y="0"/>
                </a:moveTo>
                <a:lnTo>
                  <a:pt x="22442" y="21600"/>
                </a:lnTo>
                <a:lnTo>
                  <a:pt x="21042" y="20200"/>
                </a:lnTo>
                <a:lnTo>
                  <a:pt x="21042" y="1400"/>
                </a:lnTo>
                <a:close/>
              </a:path>
              <a:path fill="darkenLess" w="22442" h="21600">
                <a:moveTo>
                  <a:pt x="22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42" y="20200"/>
                </a:lnTo>
                <a:close/>
              </a:path>
              <a:path fill="lighten" w="22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42" h="21600">
                <a:moveTo>
                  <a:pt x="11221" y="3837"/>
                </a:moveTo>
                <a:lnTo>
                  <a:pt x="13797" y="6448"/>
                </a:ln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lnTo>
                  <a:pt x="18184" y="10800"/>
                </a:lnTo>
                <a:lnTo>
                  <a:pt x="16530" y="10800"/>
                </a:lnTo>
                <a:lnTo>
                  <a:pt x="16530" y="17989"/>
                </a:lnTo>
                <a:lnTo>
                  <a:pt x="5912" y="17989"/>
                </a:lnTo>
                <a:lnTo>
                  <a:pt x="5912" y="10800"/>
                </a:lnTo>
                <a:lnTo>
                  <a:pt x="4258" y="10800"/>
                </a:lnTo>
                <a:close/>
              </a:path>
              <a:path fill="darkenLess" w="22442" h="21600">
                <a:moveTo>
                  <a:pt x="13797" y="6448"/>
                </a:move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close/>
              </a:path>
              <a:path fill="darkenLess" w="22442" h="21600">
                <a:moveTo>
                  <a:pt x="10298" y="14299"/>
                </a:moveTo>
                <a:lnTo>
                  <a:pt x="12144" y="14299"/>
                </a:lnTo>
                <a:lnTo>
                  <a:pt x="12144" y="17989"/>
                </a:lnTo>
                <a:lnTo>
                  <a:pt x="16530" y="17989"/>
                </a:lnTo>
                <a:lnTo>
                  <a:pt x="16530" y="10800"/>
                </a:lnTo>
                <a:lnTo>
                  <a:pt x="5912" y="10800"/>
                </a:lnTo>
                <a:lnTo>
                  <a:pt x="5912" y="17989"/>
                </a:lnTo>
                <a:lnTo>
                  <a:pt x="1029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6" descr="CALVIN3"/>
          <p:cNvPicPr/>
          <p:nvPr/>
        </p:nvPicPr>
        <p:blipFill>
          <a:blip r:embed="rId1"/>
          <a:stretch/>
        </p:blipFill>
        <p:spPr>
          <a:xfrm>
            <a:off x="7380360" y="2421000"/>
            <a:ext cx="1512720" cy="12970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Arial"/>
              </a:rPr>
              <a:t>Половое созревание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«Став подростком, ты приступаешь к ежеутренним мучениям у зеркала. Какой еще подарочек преподнесла тебе мать-природа сегодня? Тело и лицо, к которым ты уже притерпелся, вдруг начинают изменяться с чудовищной скоростью. Порой ты уверен, что мать-природа — настоящая садистка, потому что иначе она не влепила бы тебе на лоб этот прыщ, его же видно за сто километров, это же вообще не прыщ, это рог растет».</a:t>
            </a:r>
            <a:br>
              <a:rPr sz="2100"/>
            </a:b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Ди Снайдер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8424720" y="6165720"/>
            <a:ext cx="719280" cy="692280"/>
          </a:xfrm>
          <a:custGeom>
            <a:avLst/>
            <a:gdLst>
              <a:gd name="textAreaLeft" fmla="*/ 44640 w 719280"/>
              <a:gd name="textAreaRight" fmla="*/ 674640 w 719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42" h="21600">
                <a:moveTo>
                  <a:pt x="0" y="0"/>
                </a:moveTo>
                <a:lnTo>
                  <a:pt x="22442" y="0"/>
                </a:lnTo>
                <a:lnTo>
                  <a:pt x="22442" y="21600"/>
                </a:lnTo>
                <a:lnTo>
                  <a:pt x="0" y="21600"/>
                </a:lnTo>
                <a:close/>
              </a:path>
              <a:path fill="lightenLess" w="22442" h="21600">
                <a:moveTo>
                  <a:pt x="0" y="0"/>
                </a:moveTo>
                <a:lnTo>
                  <a:pt x="22442" y="0"/>
                </a:lnTo>
                <a:lnTo>
                  <a:pt x="21042" y="1400"/>
                </a:lnTo>
                <a:lnTo>
                  <a:pt x="1400" y="1400"/>
                </a:lnTo>
                <a:close/>
              </a:path>
              <a:path fill="darken" w="22442" h="21600">
                <a:moveTo>
                  <a:pt x="22442" y="0"/>
                </a:moveTo>
                <a:lnTo>
                  <a:pt x="22442" y="21600"/>
                </a:lnTo>
                <a:lnTo>
                  <a:pt x="21042" y="20200"/>
                </a:lnTo>
                <a:lnTo>
                  <a:pt x="21042" y="1400"/>
                </a:lnTo>
                <a:close/>
              </a:path>
              <a:path fill="darkenLess" w="22442" h="21600">
                <a:moveTo>
                  <a:pt x="22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42" y="20200"/>
                </a:lnTo>
                <a:close/>
              </a:path>
              <a:path fill="lighten" w="22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42" h="21600">
                <a:moveTo>
                  <a:pt x="11221" y="3837"/>
                </a:moveTo>
                <a:lnTo>
                  <a:pt x="13797" y="6448"/>
                </a:ln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lnTo>
                  <a:pt x="18184" y="10800"/>
                </a:lnTo>
                <a:lnTo>
                  <a:pt x="16530" y="10800"/>
                </a:lnTo>
                <a:lnTo>
                  <a:pt x="16530" y="17989"/>
                </a:lnTo>
                <a:lnTo>
                  <a:pt x="5912" y="17989"/>
                </a:lnTo>
                <a:lnTo>
                  <a:pt x="5912" y="10800"/>
                </a:lnTo>
                <a:lnTo>
                  <a:pt x="4258" y="10800"/>
                </a:lnTo>
                <a:close/>
              </a:path>
              <a:path fill="darkenLess" w="22442" h="21600">
                <a:moveTo>
                  <a:pt x="13797" y="6448"/>
                </a:move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close/>
              </a:path>
              <a:path fill="darkenLess" w="22442" h="21600">
                <a:moveTo>
                  <a:pt x="10298" y="14299"/>
                </a:moveTo>
                <a:lnTo>
                  <a:pt x="12144" y="14299"/>
                </a:lnTo>
                <a:lnTo>
                  <a:pt x="12144" y="17989"/>
                </a:lnTo>
                <a:lnTo>
                  <a:pt x="16530" y="17989"/>
                </a:lnTo>
                <a:lnTo>
                  <a:pt x="16530" y="10800"/>
                </a:lnTo>
                <a:lnTo>
                  <a:pt x="5912" y="10800"/>
                </a:lnTo>
                <a:lnTo>
                  <a:pt x="5912" y="17989"/>
                </a:lnTo>
                <a:lnTo>
                  <a:pt x="1029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Внутренний конфликт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500720" y="1628640"/>
            <a:ext cx="4319280" cy="2592360"/>
          </a:xfrm>
          <a:prstGeom prst="wedgeEllipseCallout">
            <a:avLst>
              <a:gd name="adj1" fmla="val -48273"/>
              <a:gd name="adj2" fmla="val 82763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Я должен выглядеть как все в моей компании. Я не должен выделяться в класс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0" y="1628640"/>
            <a:ext cx="4427640" cy="2376720"/>
          </a:xfrm>
          <a:prstGeom prst="wedgeEllipseCallout">
            <a:avLst>
              <a:gd name="adj1" fmla="val 34078"/>
              <a:gd name="adj2" fmla="val 101037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Я – это я. Я сам всё знаю! Я буду делать всё  так, как считаю нужны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9" descr="AG00317_"/>
          <p:cNvPicPr/>
          <p:nvPr/>
        </p:nvPicPr>
        <p:blipFill>
          <a:blip r:embed="rId1"/>
          <a:stretch/>
        </p:blipFill>
        <p:spPr>
          <a:xfrm>
            <a:off x="3564000" y="4508640"/>
            <a:ext cx="1514520" cy="19447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/>
          <p:cNvSpPr/>
          <p:nvPr/>
        </p:nvSpPr>
        <p:spPr>
          <a:xfrm>
            <a:off x="8424720" y="6165720"/>
            <a:ext cx="719280" cy="692280"/>
          </a:xfrm>
          <a:custGeom>
            <a:avLst/>
            <a:gdLst>
              <a:gd name="textAreaLeft" fmla="*/ 44640 w 719280"/>
              <a:gd name="textAreaRight" fmla="*/ 674640 w 719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42" h="21600">
                <a:moveTo>
                  <a:pt x="0" y="0"/>
                </a:moveTo>
                <a:lnTo>
                  <a:pt x="22442" y="0"/>
                </a:lnTo>
                <a:lnTo>
                  <a:pt x="22442" y="21600"/>
                </a:lnTo>
                <a:lnTo>
                  <a:pt x="0" y="21600"/>
                </a:lnTo>
                <a:close/>
              </a:path>
              <a:path fill="lightenLess" w="22442" h="21600">
                <a:moveTo>
                  <a:pt x="0" y="0"/>
                </a:moveTo>
                <a:lnTo>
                  <a:pt x="22442" y="0"/>
                </a:lnTo>
                <a:lnTo>
                  <a:pt x="21042" y="1400"/>
                </a:lnTo>
                <a:lnTo>
                  <a:pt x="1400" y="1400"/>
                </a:lnTo>
                <a:close/>
              </a:path>
              <a:path fill="darken" w="22442" h="21600">
                <a:moveTo>
                  <a:pt x="22442" y="0"/>
                </a:moveTo>
                <a:lnTo>
                  <a:pt x="22442" y="21600"/>
                </a:lnTo>
                <a:lnTo>
                  <a:pt x="21042" y="20200"/>
                </a:lnTo>
                <a:lnTo>
                  <a:pt x="21042" y="1400"/>
                </a:lnTo>
                <a:close/>
              </a:path>
              <a:path fill="darkenLess" w="22442" h="21600">
                <a:moveTo>
                  <a:pt x="22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42" y="20200"/>
                </a:lnTo>
                <a:close/>
              </a:path>
              <a:path fill="lighten" w="22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42" h="21600">
                <a:moveTo>
                  <a:pt x="11221" y="3837"/>
                </a:moveTo>
                <a:lnTo>
                  <a:pt x="13797" y="6448"/>
                </a:ln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lnTo>
                  <a:pt x="18184" y="10800"/>
                </a:lnTo>
                <a:lnTo>
                  <a:pt x="16530" y="10800"/>
                </a:lnTo>
                <a:lnTo>
                  <a:pt x="16530" y="17989"/>
                </a:lnTo>
                <a:lnTo>
                  <a:pt x="5912" y="17989"/>
                </a:lnTo>
                <a:lnTo>
                  <a:pt x="5912" y="10800"/>
                </a:lnTo>
                <a:lnTo>
                  <a:pt x="4258" y="10800"/>
                </a:lnTo>
                <a:close/>
              </a:path>
              <a:path fill="darkenLess" w="22442" h="21600">
                <a:moveTo>
                  <a:pt x="13797" y="6448"/>
                </a:move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close/>
              </a:path>
              <a:path fill="darkenLess" w="22442" h="21600">
                <a:moveTo>
                  <a:pt x="10298" y="14299"/>
                </a:moveTo>
                <a:lnTo>
                  <a:pt x="12144" y="14299"/>
                </a:lnTo>
                <a:lnTo>
                  <a:pt x="12144" y="17989"/>
                </a:lnTo>
                <a:lnTo>
                  <a:pt x="16530" y="17989"/>
                </a:lnTo>
                <a:lnTo>
                  <a:pt x="16530" y="10800"/>
                </a:lnTo>
                <a:lnTo>
                  <a:pt x="5912" y="10800"/>
                </a:lnTo>
                <a:lnTo>
                  <a:pt x="5912" y="17989"/>
                </a:lnTo>
                <a:lnTo>
                  <a:pt x="1029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Борьба подростка:</a:t>
            </a:r>
            <a:br>
              <a:rPr sz="32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 то, чтобы перестать быть ребен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 утверждение среди сверст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 прекращение посягательства на его физическое начало, неприкосновен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тив замечаний, обсуждений по поводу его физической взросл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лавным для подростка со стороны семьи являетс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вери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авила для родителей подростков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мочь ребенку найти компромисс души и тел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е замечания делать в доброжелательном , спокойном тоне, без ярлык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мните, пока развивается тело ребенка, болит и ждет помощи его душ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перегружайте ребенка опекой и контроле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монстрируйте взаимное уважени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ивайте подростка. В отличие от награды поддержка нужна даже тогда, когда он не достигает успех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мейте мужество. Изменение в ребенке требуют практики и терп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1699920"/>
            <a:ext cx="731340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Monotype Corsiva"/>
              </a:rPr>
              <a:t>Успехов Вам, </a:t>
            </a:r>
            <a:br>
              <a:rPr sz="6600"/>
            </a:br>
            <a:r>
              <a:rPr b="1" lang="ru-RU" sz="6600" spc="-1" strike="noStrike">
                <a:solidFill>
                  <a:srgbClr val="006666"/>
                </a:solidFill>
                <a:latin typeface="Monotype Corsiva"/>
              </a:rPr>
              <a:t>уважаемые родители!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-581400"/>
            <a:ext cx="7313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58560" y="1700280"/>
            <a:ext cx="7885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уктура личности подростка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ней нет ничего устойчивого, окончательного и неподвижного. Все в ней- переход, все тече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987640" y="620640"/>
            <a:ext cx="569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Из психологического словаря: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Подростковый возраст — стадия онтогенетического развития между детством и взрослостью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(от 11–12 до 16–17 лет), которая характеризуется качественными изменениями, связанными с половым созреванием и вхождением во взрослую жизнь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podrb.jpg"/>
          <p:cNvPicPr/>
          <p:nvPr/>
        </p:nvPicPr>
        <p:blipFill>
          <a:blip r:embed="rId1"/>
          <a:stretch/>
        </p:blipFill>
        <p:spPr>
          <a:xfrm>
            <a:off x="611280" y="1557360"/>
            <a:ext cx="2466720" cy="33130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Кризис подросткового возрас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изис 13- 15 лет очень часто сравнивают с кризисом 3-х лет, только направлен он не на освоение пространства и предметные действия, а </a:t>
            </a: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на освоение социального пространства, пространства человеческих взаимоотношени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5867280" y="5661000"/>
            <a:ext cx="273708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Подростковый комплекс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69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оявления подросткового комплекс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ительность к оценке посторонних своей внеш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яя самонадеянность и безаппеляционные суждения в отношении окружающи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сть порой уживается с поразительной черствостью, болезненная застенчивость с развязностью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ональная неустойчивость и резкие колебания настроения . Пик эмоциональной неустойчивости – мальчики 11 – 13 лет, девочки 13 - 15 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baby21"/>
          <p:cNvPicPr/>
          <p:nvPr/>
        </p:nvPicPr>
        <p:blipFill>
          <a:blip r:embed="rId1"/>
          <a:stretch/>
        </p:blipFill>
        <p:spPr>
          <a:xfrm>
            <a:off x="611280" y="0"/>
            <a:ext cx="1657080" cy="16081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8317080" y="6093000"/>
            <a:ext cx="649080" cy="765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765000"/>
              <a:gd name="textAreaBottom" fmla="*/ 723240 h 765000"/>
            </a:gdLst>
            <a:ahLst/>
            <a:rect l="textAreaLeft" t="textAreaTop" r="textAreaRight" b="textAreaBottom"/>
            <a:pathLst>
              <a:path w="21600" h="25455">
                <a:moveTo>
                  <a:pt x="0" y="0"/>
                </a:moveTo>
                <a:lnTo>
                  <a:pt x="21600" y="0"/>
                </a:lnTo>
                <a:lnTo>
                  <a:pt x="21600" y="25455"/>
                </a:lnTo>
                <a:lnTo>
                  <a:pt x="0" y="25455"/>
                </a:lnTo>
                <a:close/>
              </a:path>
              <a:path fill="lightenLess" w="21600" h="25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55">
                <a:moveTo>
                  <a:pt x="21600" y="0"/>
                </a:moveTo>
                <a:lnTo>
                  <a:pt x="21600" y="25455"/>
                </a:lnTo>
                <a:lnTo>
                  <a:pt x="20200" y="24055"/>
                </a:lnTo>
                <a:lnTo>
                  <a:pt x="20200" y="1400"/>
                </a:lnTo>
                <a:close/>
              </a:path>
              <a:path fill="darkenLess" w="21600" h="25455">
                <a:moveTo>
                  <a:pt x="21600" y="25455"/>
                </a:moveTo>
                <a:lnTo>
                  <a:pt x="0" y="25455"/>
                </a:lnTo>
                <a:lnTo>
                  <a:pt x="1400" y="24055"/>
                </a:lnTo>
                <a:lnTo>
                  <a:pt x="20200" y="24055"/>
                </a:lnTo>
                <a:close/>
              </a:path>
              <a:path fill="lighten" w="21600" h="25455">
                <a:moveTo>
                  <a:pt x="0" y="25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55"/>
                </a:lnTo>
                <a:close/>
              </a:path>
              <a:path fill="darken" w="21600" h="25455">
                <a:moveTo>
                  <a:pt x="10800" y="5765"/>
                </a:moveTo>
                <a:lnTo>
                  <a:pt x="13376" y="8376"/>
                </a:lnTo>
                <a:lnTo>
                  <a:pt x="13376" y="6635"/>
                </a:lnTo>
                <a:lnTo>
                  <a:pt x="15152" y="6635"/>
                </a:lnTo>
                <a:lnTo>
                  <a:pt x="15152" y="10151"/>
                </a:lnTo>
                <a:lnTo>
                  <a:pt x="17763" y="12728"/>
                </a:lnTo>
                <a:lnTo>
                  <a:pt x="16109" y="12728"/>
                </a:lnTo>
                <a:lnTo>
                  <a:pt x="16109" y="19917"/>
                </a:lnTo>
                <a:lnTo>
                  <a:pt x="5491" y="19917"/>
                </a:lnTo>
                <a:lnTo>
                  <a:pt x="5491" y="12728"/>
                </a:lnTo>
                <a:lnTo>
                  <a:pt x="3837" y="12728"/>
                </a:lnTo>
                <a:close/>
              </a:path>
              <a:path fill="darkenLess" w="21600" h="25455">
                <a:moveTo>
                  <a:pt x="13376" y="8376"/>
                </a:moveTo>
                <a:lnTo>
                  <a:pt x="13376" y="6635"/>
                </a:lnTo>
                <a:lnTo>
                  <a:pt x="15152" y="6635"/>
                </a:lnTo>
                <a:lnTo>
                  <a:pt x="15152" y="10151"/>
                </a:lnTo>
                <a:close/>
              </a:path>
              <a:path fill="darkenLess" w="21600" h="25455">
                <a:moveTo>
                  <a:pt x="9877" y="16227"/>
                </a:moveTo>
                <a:lnTo>
                  <a:pt x="11723" y="16227"/>
                </a:lnTo>
                <a:lnTo>
                  <a:pt x="11723" y="19917"/>
                </a:lnTo>
                <a:lnTo>
                  <a:pt x="16109" y="19917"/>
                </a:lnTo>
                <a:lnTo>
                  <a:pt x="16109" y="12728"/>
                </a:lnTo>
                <a:lnTo>
                  <a:pt x="5491" y="12728"/>
                </a:lnTo>
                <a:lnTo>
                  <a:pt x="5491" y="19917"/>
                </a:lnTo>
                <a:lnTo>
                  <a:pt x="9877" y="19917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ля подростков характерна полярность психики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1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Целеустремленность, настойчив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быстро сменяется 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импульсивностью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Развязн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в поведении порой сочетается с </a:t>
            </a: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застенчивостью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Романтические настроен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нередко граничат с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цинизмом, расчетливостью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Нежность, ласков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бывают на фоне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едетской жестокости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еустойчивость интере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арадоксы подростковой псих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одросток хочет вырваться из-под опеки взрослых, получить свободу, при этом не зная, что с ней делат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нтересно все сразу и ничег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Хочется всего, сразу и если позже- «то вообще тогда зачем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ри всей своей самоуверенности подросток очень неуверен в себ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550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Смена настро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137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Потребность в общен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меняется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желанием уединитьс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Нежность, ласков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бывают на фоне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недетской жестокост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Веселье, рад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может  быстро смениться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апат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вышенная самоуверенность, безаппеляционность в суждения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быстро сменяется 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ранимостью и неуверенностью в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Романтические настро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ередко граничат с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цинизмом, расчетливостью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Неустойчивость интере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BOY7"/>
          <p:cNvPicPr/>
          <p:nvPr/>
        </p:nvPicPr>
        <p:blipFill>
          <a:blip r:embed="rId1"/>
          <a:stretch/>
        </p:blipFill>
        <p:spPr>
          <a:xfrm>
            <a:off x="755640" y="189000"/>
            <a:ext cx="998640" cy="122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BOY4"/>
          <p:cNvPicPr/>
          <p:nvPr/>
        </p:nvPicPr>
        <p:blipFill>
          <a:blip r:embed="rId2"/>
          <a:stretch/>
        </p:blipFill>
        <p:spPr>
          <a:xfrm>
            <a:off x="7596360" y="4508640"/>
            <a:ext cx="1245960" cy="12967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BOY6"/>
          <p:cNvPicPr/>
          <p:nvPr/>
        </p:nvPicPr>
        <p:blipFill>
          <a:blip r:embed="rId3"/>
          <a:stretch/>
        </p:blipFill>
        <p:spPr>
          <a:xfrm>
            <a:off x="7740720" y="2421000"/>
            <a:ext cx="1041480" cy="12240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1692360" y="189000"/>
            <a:ext cx="720072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603ab"/>
              </a:gs>
              <a:gs pos="50000">
                <a:srgbClr val="0066ff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ковы ощуще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дрост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2050920" y="4581360"/>
            <a:ext cx="4824720" cy="1800360"/>
          </a:xfrm>
          <a:prstGeom prst="roundRect">
            <a:avLst>
              <a:gd name="adj" fmla="val 16667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фли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– уникальная лич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– такой же как и вс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0" descr="22"/>
          <p:cNvPicPr/>
          <p:nvPr/>
        </p:nvPicPr>
        <p:blipFill>
          <a:blip r:embed="rId1"/>
          <a:stretch/>
        </p:blipFill>
        <p:spPr>
          <a:xfrm>
            <a:off x="395280" y="260280"/>
            <a:ext cx="13381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4"/>
          <p:cNvGrpSpPr/>
          <p:nvPr/>
        </p:nvGrpSpPr>
        <p:grpSpPr>
          <a:xfrm>
            <a:off x="179280" y="2205000"/>
            <a:ext cx="2952720" cy="3570480"/>
            <a:chOff x="179280" y="2205000"/>
            <a:chExt cx="2952720" cy="3570480"/>
          </a:xfrm>
        </p:grpSpPr>
        <p:sp>
          <p:nvSpPr>
            <p:cNvPr id="127" name="AutoShape 5"/>
            <p:cNvSpPr/>
            <p:nvPr/>
          </p:nvSpPr>
          <p:spPr>
            <a:xfrm>
              <a:off x="179280" y="2781360"/>
              <a:ext cx="2952720" cy="151128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Чувство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взрослости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28" name="Picture 9" descr="5"/>
            <p:cNvPicPr/>
            <p:nvPr/>
          </p:nvPicPr>
          <p:blipFill>
            <a:blip r:embed="rId2"/>
            <a:stretch/>
          </p:blipFill>
          <p:spPr>
            <a:xfrm>
              <a:off x="394920" y="4508640"/>
              <a:ext cx="12668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11"/>
            <p:cNvSpPr/>
            <p:nvPr/>
          </p:nvSpPr>
          <p:spPr>
            <a:xfrm flipH="1">
              <a:off x="1834920" y="2205000"/>
              <a:ext cx="21600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" name="Group 15"/>
          <p:cNvGrpSpPr/>
          <p:nvPr/>
        </p:nvGrpSpPr>
        <p:grpSpPr>
          <a:xfrm>
            <a:off x="6067440" y="2276640"/>
            <a:ext cx="3076560" cy="2980800"/>
            <a:chOff x="6067440" y="2276640"/>
            <a:chExt cx="3076560" cy="2980800"/>
          </a:xfrm>
        </p:grpSpPr>
        <p:sp>
          <p:nvSpPr>
            <p:cNvPr id="131" name="AutoShape 7"/>
            <p:cNvSpPr/>
            <p:nvPr/>
          </p:nvSpPr>
          <p:spPr>
            <a:xfrm>
              <a:off x="6067440" y="2779560"/>
              <a:ext cx="2952720" cy="151092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Половое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созре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2" name="Picture 8" descr="BABY15"/>
            <p:cNvPicPr/>
            <p:nvPr/>
          </p:nvPicPr>
          <p:blipFill>
            <a:blip r:embed="rId3"/>
            <a:stretch/>
          </p:blipFill>
          <p:spPr>
            <a:xfrm>
              <a:off x="7724880" y="4076640"/>
              <a:ext cx="141912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Line 12"/>
            <p:cNvSpPr/>
            <p:nvPr/>
          </p:nvSpPr>
          <p:spPr>
            <a:xfrm>
              <a:off x="6859800" y="2276640"/>
              <a:ext cx="360360" cy="36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" name="Group 26"/>
          <p:cNvGrpSpPr/>
          <p:nvPr/>
        </p:nvGrpSpPr>
        <p:grpSpPr>
          <a:xfrm>
            <a:off x="3276720" y="1700280"/>
            <a:ext cx="2590560" cy="2736720"/>
            <a:chOff x="3276720" y="1700280"/>
            <a:chExt cx="2590560" cy="2736720"/>
          </a:xfrm>
        </p:grpSpPr>
        <p:sp>
          <p:nvSpPr>
            <p:cNvPr id="135" name="AutoShape 21"/>
            <p:cNvSpPr/>
            <p:nvPr/>
          </p:nvSpPr>
          <p:spPr>
            <a:xfrm>
              <a:off x="3276720" y="2349360"/>
              <a:ext cx="259056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100000">
                  <a:srgbClr val="0033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Быстрая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смена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настроени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2"/>
            <p:cNvSpPr/>
            <p:nvPr/>
          </p:nvSpPr>
          <p:spPr>
            <a:xfrm>
              <a:off x="4643280" y="1700280"/>
              <a:ext cx="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24"/>
            <p:cNvSpPr/>
            <p:nvPr/>
          </p:nvSpPr>
          <p:spPr>
            <a:xfrm>
              <a:off x="5435640" y="1916280"/>
              <a:ext cx="28872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9:21:14Z</dcterms:created>
  <dc:creator>Admin</dc:creator>
  <dc:description/>
  <dc:language>en-US</dc:language>
  <cp:lastModifiedBy>Андрей</cp:lastModifiedBy>
  <dcterms:modified xsi:type="dcterms:W3CDTF">2012-10-21T16:22:51Z</dcterms:modified>
  <cp:revision>13</cp:revision>
  <dc:subject/>
  <dc:title>Подростковый возраст. Психологические особенности</dc:title>
</cp:coreProperties>
</file>