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508-35CD-4CEE-925D-BB38C9F9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D4DB-75D8-401E-BE74-D2BFFDBC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53C-DCBF-409C-994E-9486FEB6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B84-203E-4EC9-9852-467DFF14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FB7C-9BD8-42A8-BB95-CE2B6874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89EA-A79D-44A7-9E7B-1EB6BAA5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1063-037D-4A65-9C31-9B0933A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C292-F695-485A-9FB2-20D47C00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9801-35F7-4096-9AD2-EA40AC6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721-F3B3-4B0D-A911-78910BE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8B9-0ABF-4307-88B5-BA87F434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392-8CCB-4A55-A874-9980047F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E9D0-1E30-40AD-B0CA-911F9EDB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EF32-CD20-4B60-92B7-EE08372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8EB-2972-4E1F-993A-727AA1E2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4ED0-6B02-4441-901F-44245CB5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212-FEED-4B87-B09B-F89B9D19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6F4-EDA6-48E8-A5FD-3FAF8204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DB4-3160-4A20-8159-41B03BA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333-32C0-4906-AA20-0A485232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EB9-D900-448A-8FCE-01C15499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DCB6-3637-4DAA-998A-9110E5B0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B1A-09F5-4A5A-A291-C4781F1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799-C1C3-40BE-96F2-29F0A15F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.П.Калиниченко 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2514-3C60-442A-AD05-1A7F049F1A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.П.Калиниченко  2009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8B1-1D46-4303-B950-C8CB76E4AC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280" y="234900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одростковый возраст. Психологические особенност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79640" y="255240"/>
            <a:ext cx="53611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alch76[1]"/>
          <p:cNvPicPr/>
          <p:nvPr/>
        </p:nvPicPr>
        <p:blipFill>
          <a:blip r:embed="rId1"/>
          <a:stretch/>
        </p:blipFill>
        <p:spPr>
          <a:xfrm>
            <a:off x="3924360" y="3789360"/>
            <a:ext cx="1860480" cy="223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J0283652"/>
          <p:cNvPicPr/>
          <p:nvPr/>
        </p:nvPicPr>
        <p:blipFill>
          <a:blip r:embed="rId2"/>
          <a:stretch/>
        </p:blipFill>
        <p:spPr>
          <a:xfrm>
            <a:off x="900000" y="2492280"/>
            <a:ext cx="153540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30 а"/>
          <p:cNvPicPr/>
          <p:nvPr/>
        </p:nvPicPr>
        <p:blipFill>
          <a:blip r:embed="rId3"/>
          <a:stretch/>
        </p:blipFill>
        <p:spPr>
          <a:xfrm>
            <a:off x="468360" y="4292640"/>
            <a:ext cx="1940040" cy="230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child48[1]"/>
          <p:cNvPicPr/>
          <p:nvPr/>
        </p:nvPicPr>
        <p:blipFill>
          <a:blip r:embed="rId4"/>
          <a:stretch/>
        </p:blipFill>
        <p:spPr>
          <a:xfrm>
            <a:off x="7451640" y="4508640"/>
            <a:ext cx="1098720" cy="194472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5649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Чувство взрослост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 объективно не может включиться во взрослую жизнь, но стремиться к ней и претендует на равные со взрослыми права. Изменить он пока ничего не может, но внешне подражает взрослы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юда и появляются атрибуты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евдовзрослости"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урение сигарет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требление алкоголя, наркотиков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усовки 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внешнее проявление "я тоже имею свою личную жизнь"). Копирует любые взрослые отношени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CALVIN2"/>
          <p:cNvPicPr/>
          <p:nvPr/>
        </p:nvPicPr>
        <p:blipFill>
          <a:blip r:embed="rId1"/>
          <a:stretch/>
        </p:blipFill>
        <p:spPr>
          <a:xfrm>
            <a:off x="395280" y="3933720"/>
            <a:ext cx="1203480" cy="15829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756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нешний вид подростка - еще один источник конфликт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Меняется походка, манеры, внешний облик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щё совсем недавно свободно, легко двигавшийся мальчик начинает ходить вразвалку, опустив руки глубоко в карманы и сплёвывая через плечо. У него появляются новые выраже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вочка начинает ревностно сравнивать свою одежду и причёску с образцами, которые она видит на улице и обложках журналов, выплёскивая на маму эмоции по поводу имеющихся расхождений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CALVIN3"/>
          <p:cNvPicPr/>
          <p:nvPr/>
        </p:nvPicPr>
        <p:blipFill>
          <a:blip r:embed="rId1"/>
          <a:stretch/>
        </p:blipFill>
        <p:spPr>
          <a:xfrm>
            <a:off x="7380360" y="2421000"/>
            <a:ext cx="1512720" cy="12970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Arial"/>
              </a:rPr>
              <a:t>Половое созревание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«Став подростком, ты приступаешь к ежеутренним мучениям у зеркала. Какой еще подарочек преподнесла тебе мать-природа сегодня? Тело и лицо, к которым ты уже притерпелся, вдруг начинают изменяться с чудовищной скоростью. Порой ты уверен, что мать-природа — настоящая садистка, потому что иначе она не влепила бы тебе на лоб этот прыщ, его же видно за сто километров, это же вообще не прыщ, это рог растет».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Ди Снайдер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Внутренний конфлик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500720" y="1628640"/>
            <a:ext cx="4319280" cy="2592360"/>
          </a:xfrm>
          <a:prstGeom prst="wedgeEllipseCallout">
            <a:avLst>
              <a:gd name="adj1" fmla="val -48273"/>
              <a:gd name="adj2" fmla="val 82763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должен выглядеть как все в моей компании. Я не должен выделяться в класс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0" y="1628640"/>
            <a:ext cx="4427640" cy="2376720"/>
          </a:xfrm>
          <a:prstGeom prst="wedgeEllipseCallout">
            <a:avLst>
              <a:gd name="adj1" fmla="val 34078"/>
              <a:gd name="adj2" fmla="val 10103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Я – это я. Я сам всё знаю! Я буду делать всё  так, как считаю нужны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9" descr="AG00317_"/>
          <p:cNvPicPr/>
          <p:nvPr/>
        </p:nvPicPr>
        <p:blipFill>
          <a:blip r:embed="rId1"/>
          <a:stretch/>
        </p:blipFill>
        <p:spPr>
          <a:xfrm>
            <a:off x="3564000" y="4508640"/>
            <a:ext cx="1514520" cy="19447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8424720" y="6165720"/>
            <a:ext cx="719280" cy="692280"/>
          </a:xfrm>
          <a:custGeom>
            <a:avLst/>
            <a:gdLst>
              <a:gd name="textAreaLeft" fmla="*/ 44640 w 719280"/>
              <a:gd name="textAreaRight" fmla="*/ 674640 w 719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42" h="21600">
                <a:moveTo>
                  <a:pt x="0" y="0"/>
                </a:moveTo>
                <a:lnTo>
                  <a:pt x="22442" y="0"/>
                </a:lnTo>
                <a:lnTo>
                  <a:pt x="22442" y="21600"/>
                </a:lnTo>
                <a:lnTo>
                  <a:pt x="0" y="21600"/>
                </a:lnTo>
                <a:close/>
              </a:path>
              <a:path fill="lightenLess" w="22442" h="21600">
                <a:moveTo>
                  <a:pt x="0" y="0"/>
                </a:moveTo>
                <a:lnTo>
                  <a:pt x="22442" y="0"/>
                </a:lnTo>
                <a:lnTo>
                  <a:pt x="21042" y="1400"/>
                </a:lnTo>
                <a:lnTo>
                  <a:pt x="1400" y="1400"/>
                </a:lnTo>
                <a:close/>
              </a:path>
              <a:path fill="darken" w="22442" h="21600">
                <a:moveTo>
                  <a:pt x="22442" y="0"/>
                </a:moveTo>
                <a:lnTo>
                  <a:pt x="22442" y="21600"/>
                </a:lnTo>
                <a:lnTo>
                  <a:pt x="21042" y="20200"/>
                </a:lnTo>
                <a:lnTo>
                  <a:pt x="21042" y="1400"/>
                </a:lnTo>
                <a:close/>
              </a:path>
              <a:path fill="darkenLess" w="22442" h="21600">
                <a:moveTo>
                  <a:pt x="22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42" y="20200"/>
                </a:lnTo>
                <a:close/>
              </a:path>
              <a:path fill="lighten" w="22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42" h="21600">
                <a:moveTo>
                  <a:pt x="11221" y="3837"/>
                </a:moveTo>
                <a:lnTo>
                  <a:pt x="13797" y="6448"/>
                </a:ln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lnTo>
                  <a:pt x="18184" y="10800"/>
                </a:lnTo>
                <a:lnTo>
                  <a:pt x="16530" y="10800"/>
                </a:lnTo>
                <a:lnTo>
                  <a:pt x="16530" y="17989"/>
                </a:lnTo>
                <a:lnTo>
                  <a:pt x="5912" y="17989"/>
                </a:lnTo>
                <a:lnTo>
                  <a:pt x="5912" y="10800"/>
                </a:lnTo>
                <a:lnTo>
                  <a:pt x="4258" y="10800"/>
                </a:lnTo>
                <a:close/>
              </a:path>
              <a:path fill="darkenLess" w="22442" h="21600">
                <a:moveTo>
                  <a:pt x="13797" y="6448"/>
                </a:moveTo>
                <a:lnTo>
                  <a:pt x="13797" y="4707"/>
                </a:lnTo>
                <a:lnTo>
                  <a:pt x="15573" y="4707"/>
                </a:lnTo>
                <a:lnTo>
                  <a:pt x="15573" y="8224"/>
                </a:lnTo>
                <a:close/>
              </a:path>
              <a:path fill="darkenLess" w="22442" h="21600">
                <a:moveTo>
                  <a:pt x="10298" y="14299"/>
                </a:moveTo>
                <a:lnTo>
                  <a:pt x="12144" y="14299"/>
                </a:lnTo>
                <a:lnTo>
                  <a:pt x="12144" y="17989"/>
                </a:lnTo>
                <a:lnTo>
                  <a:pt x="16530" y="17989"/>
                </a:lnTo>
                <a:lnTo>
                  <a:pt x="16530" y="10800"/>
                </a:lnTo>
                <a:lnTo>
                  <a:pt x="5912" y="10800"/>
                </a:lnTo>
                <a:lnTo>
                  <a:pt x="5912" y="17989"/>
                </a:lnTo>
                <a:lnTo>
                  <a:pt x="1029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орьба подростка:</a:t>
            </a:r>
            <a:br>
              <a:rPr sz="32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то, чтобы перестать быть ребен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утверждение среди сверст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 прекращение посягательства на его физическое начало, неприкосновенн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ив замечаний, обсуждений по поводу его физической взросл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лавным для подростка со стороны семьи являе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вер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авила для родителей подростков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мочь ребенку найти компромисс души и тел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се замечания делать в доброжелательном , спокойном тоне, без ярлык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мните, пока развивается тело ребенка, болит и ждет помощи его душ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перегружайте ребенка опекой и контрол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емонстрируйте взаимное уважени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ивайте подростка. В отличие от награды поддержка нужна даже тогда, когда он не достигает успех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мейте мужество. Изменение в ребенке требуют практики и терп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1699920"/>
            <a:ext cx="731340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Monotype Corsiva"/>
              </a:rPr>
              <a:t>Успехов Вам, </a:t>
            </a:r>
            <a:br>
              <a:rPr sz="6600"/>
            </a:br>
            <a:r>
              <a:rPr b="1" lang="ru-RU" sz="6600" spc="-1" strike="noStrike">
                <a:solidFill>
                  <a:srgbClr val="006666"/>
                </a:solidFill>
                <a:latin typeface="Monotype Corsiva"/>
              </a:rPr>
              <a:t>уважаемые родители!</a:t>
            </a:r>
            <a:endParaRPr b="0" lang="en-US" sz="6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-581400"/>
            <a:ext cx="7313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560" y="1700280"/>
            <a:ext cx="7885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труктура личности подростка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ней нет ничего устойчивого, окончательного и неподвижного. Все в ней- переход, все течет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(Л.С.Выготский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987640" y="620640"/>
            <a:ext cx="569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Verdana"/>
              </a:rPr>
              <a:t>Из психологического словаря: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Подростковый возраст — стадия онтогенетического развития между детством и взрослостью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(от 11–12 до 16–17 лет), которая характеризуется качественными изменениями, связанными с половым созреванием и вхождением во взрослую жизнь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podrb.jpg"/>
          <p:cNvPicPr/>
          <p:nvPr/>
        </p:nvPicPr>
        <p:blipFill>
          <a:blip r:embed="rId1"/>
          <a:stretch/>
        </p:blipFill>
        <p:spPr>
          <a:xfrm>
            <a:off x="611280" y="1557360"/>
            <a:ext cx="2466720" cy="33130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Кризис подросткового возра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зис 13- 15 лет очень часто сравнивают с кризисом 3-х лет, только направлен он не на освоение пространства и предметные действия, а </a:t>
            </a: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на освоение социального пространства, пространства человеческих взаимоотношени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867280" y="5661000"/>
            <a:ext cx="273708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Arial"/>
              </a:rPr>
              <a:t>Подростковый комплекс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оявления подросткового комплекс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ствительность к оценке посторонних своей внеш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йняя самонадеянность и безаппеляционные суждения в отношении окружающи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сть порой уживается с поразительной черствостью, болезненная застенчивость с развязностью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ая неустойчивость и резкие колебания настроения . Пик эмоциональной неустойчивости – мальчики 11 – 13 лет, девочки 13 - 15 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baby21"/>
          <p:cNvPicPr/>
          <p:nvPr/>
        </p:nvPicPr>
        <p:blipFill>
          <a:blip r:embed="rId1"/>
          <a:stretch/>
        </p:blipFill>
        <p:spPr>
          <a:xfrm>
            <a:off x="611280" y="0"/>
            <a:ext cx="1657080" cy="16081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317080" y="6093000"/>
            <a:ext cx="649080" cy="76500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65000"/>
              <a:gd name="textAreaBottom" fmla="*/ 723240 h 765000"/>
            </a:gdLst>
            <a:ahLst/>
            <a:rect l="textAreaLeft" t="textAreaTop" r="textAreaRight" b="textAreaBottom"/>
            <a:pathLst>
              <a:path w="21600" h="25455">
                <a:moveTo>
                  <a:pt x="0" y="0"/>
                </a:moveTo>
                <a:lnTo>
                  <a:pt x="21600" y="0"/>
                </a:lnTo>
                <a:lnTo>
                  <a:pt x="21600" y="25455"/>
                </a:lnTo>
                <a:lnTo>
                  <a:pt x="0" y="25455"/>
                </a:lnTo>
                <a:close/>
              </a:path>
              <a:path fill="lightenLess" w="21600" h="25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455">
                <a:moveTo>
                  <a:pt x="21600" y="0"/>
                </a:moveTo>
                <a:lnTo>
                  <a:pt x="21600" y="25455"/>
                </a:lnTo>
                <a:lnTo>
                  <a:pt x="20200" y="24055"/>
                </a:lnTo>
                <a:lnTo>
                  <a:pt x="20200" y="1400"/>
                </a:lnTo>
                <a:close/>
              </a:path>
              <a:path fill="darkenLess" w="21600" h="25455">
                <a:moveTo>
                  <a:pt x="21600" y="25455"/>
                </a:moveTo>
                <a:lnTo>
                  <a:pt x="0" y="25455"/>
                </a:lnTo>
                <a:lnTo>
                  <a:pt x="1400" y="24055"/>
                </a:lnTo>
                <a:lnTo>
                  <a:pt x="20200" y="24055"/>
                </a:lnTo>
                <a:close/>
              </a:path>
              <a:path fill="lighten" w="21600" h="25455">
                <a:moveTo>
                  <a:pt x="0" y="25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055"/>
                </a:lnTo>
                <a:close/>
              </a:path>
              <a:path fill="darken" w="21600" h="25455">
                <a:moveTo>
                  <a:pt x="10800" y="5765"/>
                </a:moveTo>
                <a:lnTo>
                  <a:pt x="13376" y="8376"/>
                </a:ln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lnTo>
                  <a:pt x="17763" y="12728"/>
                </a:lnTo>
                <a:lnTo>
                  <a:pt x="16109" y="12728"/>
                </a:lnTo>
                <a:lnTo>
                  <a:pt x="16109" y="19917"/>
                </a:lnTo>
                <a:lnTo>
                  <a:pt x="5491" y="19917"/>
                </a:lnTo>
                <a:lnTo>
                  <a:pt x="5491" y="12728"/>
                </a:lnTo>
                <a:lnTo>
                  <a:pt x="3837" y="12728"/>
                </a:lnTo>
                <a:close/>
              </a:path>
              <a:path fill="darkenLess" w="21600" h="25455">
                <a:moveTo>
                  <a:pt x="13376" y="8376"/>
                </a:moveTo>
                <a:lnTo>
                  <a:pt x="13376" y="6635"/>
                </a:lnTo>
                <a:lnTo>
                  <a:pt x="15152" y="6635"/>
                </a:lnTo>
                <a:lnTo>
                  <a:pt x="15152" y="10151"/>
                </a:lnTo>
                <a:close/>
              </a:path>
              <a:path fill="darkenLess" w="21600" h="25455">
                <a:moveTo>
                  <a:pt x="9877" y="16227"/>
                </a:moveTo>
                <a:lnTo>
                  <a:pt x="11723" y="16227"/>
                </a:lnTo>
                <a:lnTo>
                  <a:pt x="11723" y="19917"/>
                </a:lnTo>
                <a:lnTo>
                  <a:pt x="16109" y="19917"/>
                </a:lnTo>
                <a:lnTo>
                  <a:pt x="16109" y="12728"/>
                </a:lnTo>
                <a:lnTo>
                  <a:pt x="5491" y="12728"/>
                </a:lnTo>
                <a:lnTo>
                  <a:pt x="5491" y="19917"/>
                </a:lnTo>
                <a:lnTo>
                  <a:pt x="9877" y="19917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подростков характерна полярность психики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Целеустремленность, настойчив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быстро сменяется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импульсивностью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Развязн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в поведении порой сочетается с </a:t>
            </a: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застенчивостью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Романтические настрое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нередко граничат с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цинизмом, расчетливостью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Нежность, ласков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бывают на фоне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детской жестокости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еустойчивость интере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радоксы подростковой псих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дросток хочет вырваться из-под опеки взрослых, получить свободу, при этом не зная, что с ней делать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Интересно все сразу и ничег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Хочется всего, сразу и если позже- «то вообще тогда зачем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ри всей своей самоуверенности подросток очень неуверен в себ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50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Arial"/>
              </a:rPr>
              <a:t>Смена настро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3137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Потребность в общен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меняет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желанием уединитьс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Нежность, ласков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вают на фоне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недетской жестокос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Веселье, рад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может  быстро смениться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апат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овышенная самоуверенность, безаппеляционность в суждения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быстро сменяется </a:t>
            </a: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ранимостью и неуверенностью в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Verdana"/>
              </a:rPr>
              <a:t>Романтические настро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ередко граничат с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цинизмом, расчетливостью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Неустойчивость интере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BOY7"/>
          <p:cNvPicPr/>
          <p:nvPr/>
        </p:nvPicPr>
        <p:blipFill>
          <a:blip r:embed="rId1"/>
          <a:stretch/>
        </p:blipFill>
        <p:spPr>
          <a:xfrm>
            <a:off x="755640" y="189000"/>
            <a:ext cx="99864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BOY4"/>
          <p:cNvPicPr/>
          <p:nvPr/>
        </p:nvPicPr>
        <p:blipFill>
          <a:blip r:embed="rId2"/>
          <a:stretch/>
        </p:blipFill>
        <p:spPr>
          <a:xfrm>
            <a:off x="7596360" y="4508640"/>
            <a:ext cx="1245960" cy="12967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837"/>
                </a:moveTo>
                <a:lnTo>
                  <a:pt x="13846" y="6448"/>
                </a:ln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lnTo>
                  <a:pt x="18233" y="10800"/>
                </a:lnTo>
                <a:lnTo>
                  <a:pt x="16579" y="10800"/>
                </a:lnTo>
                <a:lnTo>
                  <a:pt x="16579" y="17989"/>
                </a:lnTo>
                <a:lnTo>
                  <a:pt x="5960" y="17989"/>
                </a:lnTo>
                <a:lnTo>
                  <a:pt x="5960" y="10800"/>
                </a:lnTo>
                <a:lnTo>
                  <a:pt x="4307" y="10800"/>
                </a:lnTo>
                <a:close/>
              </a:path>
              <a:path fill="darkenLess" w="22539" h="21600">
                <a:moveTo>
                  <a:pt x="13846" y="6448"/>
                </a:moveTo>
                <a:lnTo>
                  <a:pt x="13846" y="4707"/>
                </a:lnTo>
                <a:lnTo>
                  <a:pt x="15621" y="4707"/>
                </a:lnTo>
                <a:lnTo>
                  <a:pt x="15621" y="8224"/>
                </a:lnTo>
                <a:close/>
              </a:path>
              <a:path fill="darkenLess" w="22539" h="21600">
                <a:moveTo>
                  <a:pt x="10347" y="14299"/>
                </a:moveTo>
                <a:lnTo>
                  <a:pt x="12192" y="14299"/>
                </a:lnTo>
                <a:lnTo>
                  <a:pt x="12192" y="17989"/>
                </a:lnTo>
                <a:lnTo>
                  <a:pt x="16579" y="17989"/>
                </a:lnTo>
                <a:lnTo>
                  <a:pt x="16579" y="10800"/>
                </a:lnTo>
                <a:lnTo>
                  <a:pt x="5960" y="10800"/>
                </a:lnTo>
                <a:lnTo>
                  <a:pt x="5960" y="17989"/>
                </a:lnTo>
                <a:lnTo>
                  <a:pt x="1034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BOY6"/>
          <p:cNvPicPr/>
          <p:nvPr/>
        </p:nvPicPr>
        <p:blipFill>
          <a:blip r:embed="rId3"/>
          <a:stretch/>
        </p:blipFill>
        <p:spPr>
          <a:xfrm>
            <a:off x="7740720" y="2421000"/>
            <a:ext cx="104148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1692360" y="189000"/>
            <a:ext cx="720072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603ab"/>
              </a:gs>
              <a:gs pos="50000">
                <a:srgbClr val="0066ff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аковы ощуще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дростк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050920" y="4581360"/>
            <a:ext cx="4824720" cy="1800360"/>
          </a:xfrm>
          <a:prstGeom prst="roundRect">
            <a:avLst>
              <a:gd name="adj" fmla="val 1666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– уникальная лич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Я – такой же как и в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22"/>
          <p:cNvPicPr/>
          <p:nvPr/>
        </p:nvPicPr>
        <p:blipFill>
          <a:blip r:embed="rId1"/>
          <a:stretch/>
        </p:blipFill>
        <p:spPr>
          <a:xfrm>
            <a:off x="395280" y="260280"/>
            <a:ext cx="1338120" cy="1944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179280" y="2205000"/>
            <a:ext cx="2952720" cy="3570480"/>
            <a:chOff x="179280" y="2205000"/>
            <a:chExt cx="2952720" cy="3570480"/>
          </a:xfrm>
        </p:grpSpPr>
        <p:sp>
          <p:nvSpPr>
            <p:cNvPr id="127" name="AutoShape 5"/>
            <p:cNvSpPr/>
            <p:nvPr/>
          </p:nvSpPr>
          <p:spPr>
            <a:xfrm>
              <a:off x="179280" y="2781360"/>
              <a:ext cx="2952720" cy="151128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Чувство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взрослост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28" name="Picture 9" descr="5"/>
            <p:cNvPicPr/>
            <p:nvPr/>
          </p:nvPicPr>
          <p:blipFill>
            <a:blip r:embed="rId2"/>
            <a:stretch/>
          </p:blipFill>
          <p:spPr>
            <a:xfrm>
              <a:off x="394920" y="4508640"/>
              <a:ext cx="126684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11"/>
            <p:cNvSpPr/>
            <p:nvPr/>
          </p:nvSpPr>
          <p:spPr>
            <a:xfrm flipH="1">
              <a:off x="1834920" y="2205000"/>
              <a:ext cx="21600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" name="Group 15"/>
          <p:cNvGrpSpPr/>
          <p:nvPr/>
        </p:nvGrpSpPr>
        <p:grpSpPr>
          <a:xfrm>
            <a:off x="6067440" y="2276640"/>
            <a:ext cx="3076560" cy="2980800"/>
            <a:chOff x="6067440" y="2276640"/>
            <a:chExt cx="3076560" cy="2980800"/>
          </a:xfrm>
        </p:grpSpPr>
        <p:sp>
          <p:nvSpPr>
            <p:cNvPr id="131" name="AutoShape 7"/>
            <p:cNvSpPr/>
            <p:nvPr/>
          </p:nvSpPr>
          <p:spPr>
            <a:xfrm>
              <a:off x="6067440" y="2779560"/>
              <a:ext cx="2952720" cy="1510920"/>
            </a:xfrm>
            <a:prstGeom prst="roundRect">
              <a:avLst>
                <a:gd name="adj" fmla="val 16667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Половое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озре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2" name="Picture 8" descr="BABY15"/>
            <p:cNvPicPr/>
            <p:nvPr/>
          </p:nvPicPr>
          <p:blipFill>
            <a:blip r:embed="rId3"/>
            <a:stretch/>
          </p:blipFill>
          <p:spPr>
            <a:xfrm>
              <a:off x="7724880" y="4076640"/>
              <a:ext cx="141912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12"/>
            <p:cNvSpPr/>
            <p:nvPr/>
          </p:nvSpPr>
          <p:spPr>
            <a:xfrm>
              <a:off x="6859800" y="2276640"/>
              <a:ext cx="360360" cy="36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3276720" y="1700280"/>
            <a:ext cx="2590560" cy="2736720"/>
            <a:chOff x="3276720" y="1700280"/>
            <a:chExt cx="2590560" cy="2736720"/>
          </a:xfrm>
        </p:grpSpPr>
        <p:sp>
          <p:nvSpPr>
            <p:cNvPr id="135" name="AutoShape 21"/>
            <p:cNvSpPr/>
            <p:nvPr/>
          </p:nvSpPr>
          <p:spPr>
            <a:xfrm>
              <a:off x="3276720" y="2349360"/>
              <a:ext cx="2590560" cy="208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33"/>
                </a:gs>
                <a:gs pos="100000">
                  <a:srgbClr val="0033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Быстрая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смена 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Verdana"/>
                </a:rPr>
                <a:t>настроения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4643280" y="1700280"/>
              <a:ext cx="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24"/>
            <p:cNvSpPr/>
            <p:nvPr/>
          </p:nvSpPr>
          <p:spPr>
            <a:xfrm>
              <a:off x="5435640" y="1916280"/>
              <a:ext cx="288720" cy="287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9:21:14Z</dcterms:created>
  <dc:creator>Admin</dc:creator>
  <dc:description/>
  <dc:language>en-US</dc:language>
  <cp:lastModifiedBy>Андрей</cp:lastModifiedBy>
  <dcterms:modified xsi:type="dcterms:W3CDTF">2012-10-21T16:22:51Z</dcterms:modified>
  <cp:revision>13</cp:revision>
  <dc:subject/>
  <dc:title>Подростковый возраст. Психологические особенности</dc:title>
</cp:coreProperties>
</file>