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3CCC-0EEA-4F5F-B629-26514C9DB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BC96-FD2D-48E6-A403-11638155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D731-3C52-40E8-BE20-C7CFFFDC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D1D0-C7CD-40A6-9557-19BD9E22A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DB80-0202-4A36-AC31-7EB481A24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4AF0-6B04-41C8-9CAB-49B6DD05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4680-8587-4ABD-A80B-E7A1A4BB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36D2-4CB0-42E6-9C80-BC9CBDB4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637F-621F-45C7-916F-18605EA5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84A2-A63B-40CD-ADAA-09F9C1A9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B057-648C-4A3E-936B-0325E9C0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F6C1-BF4B-4D7D-A411-52C21DEE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6A96-9395-49F9-9129-29DD133A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8F5C-A170-4266-9BAD-88C9C7B5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2085-9BE5-4437-9BE9-1BE0D629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8F29-AAEE-4FF0-8FE9-D5B893E74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4E70-0E37-42D6-8DD4-86D710E4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6717-8855-4254-B065-D3A13933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041C-AB14-4C3D-A7F6-382C4423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C45E-45DE-4D66-B862-1B994E38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0903-AC4F-4A05-9517-8E343BA7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AF96-4011-4179-8BA2-898A3B70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EED1-ACFE-4F9E-AE05-9233BA61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1FA3-B74F-4242-A8B1-466CBAFB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5d1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BCFD-E642-4E67-A0FF-228AAF3B5A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95d1d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5d1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95d1d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4EDD-985D-46A9-A293-AD8600A568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66ff33"/>
                </a:solidFill>
                <a:latin typeface="Calibri"/>
              </a:rPr>
              <a:t> </a:t>
            </a:r>
            <a:endParaRPr b="0" lang="en-US" sz="51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761760"/>
            <a:ext cx="5943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Bookman Old Style"/>
              </a:rPr>
              <a:t>"Портфолио в начальной школе"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6" descr="C:\Users\Лиза\Pictures\д1.jpg"/>
          <p:cNvPicPr/>
          <p:nvPr/>
        </p:nvPicPr>
        <p:blipFill>
          <a:blip r:embed="rId1"/>
          <a:stretch/>
        </p:blipFill>
        <p:spPr>
          <a:xfrm>
            <a:off x="6553080" y="3200400"/>
            <a:ext cx="236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РАЗДЕЛ "МОЁ ТВОРЧЕСТВО"</a:t>
            </a:r>
            <a:endParaRPr b="0" lang="en-US" sz="40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666520" y="1295280"/>
            <a:ext cx="6324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этот раздел ребенок помещает свои творческие работы: рисунки, сказки, стихи. Если выполнена объемная работа (поделка), нужно поместить ее фотографию. Родителям необходимо предоставить полную свободу ребенку при наполнении этого раздел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4" descr="C:\Users\Лиза\Pictures\93062dae3290t.jpg"/>
          <p:cNvPicPr/>
          <p:nvPr/>
        </p:nvPicPr>
        <p:blipFill>
          <a:blip r:embed="rId1"/>
          <a:stretch/>
        </p:blipFill>
        <p:spPr>
          <a:xfrm>
            <a:off x="152280" y="1981080"/>
            <a:ext cx="2378160" cy="339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РАЗДЕЛ "МОИ ВПЕЧАТЛЕНИЯ"</a:t>
            </a:r>
            <a:endParaRPr b="0" lang="en-US" sz="40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971800" y="2057040"/>
            <a:ext cx="601992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начальной школе дети принимают активное участие в экскурсионно-познавательных программах, ходят в театр, на выставки, посещают музе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C:\Users\Лиза\Pictures\8e9ff533d012t.jpg"/>
          <p:cNvPicPr/>
          <p:nvPr/>
        </p:nvPicPr>
        <p:blipFill>
          <a:blip r:embed="rId1"/>
          <a:stretch/>
        </p:blipFill>
        <p:spPr>
          <a:xfrm>
            <a:off x="380880" y="2057400"/>
            <a:ext cx="22100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РАЗДЕЛ "МОИ ДОСТИЖЕНИЯ"</a:t>
            </a:r>
            <a:r>
              <a:rPr b="1" lang="ru-RU" sz="4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0880" y="1599840"/>
            <a:ext cx="5639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десь размещаются грамоты, сертификаты, дипломы, благодарственные письма, а также итоговые аттестационные ведомости. Причем в начальной школе не следует разделять по важности успехи в учебе (похвальный лист) и успехи, например, в спорте (диплом)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C:\Users\Лиза\Pictures\568f04c48ba5t.jpg"/>
          <p:cNvPicPr/>
          <p:nvPr/>
        </p:nvPicPr>
        <p:blipFill>
          <a:blip r:embed="rId1"/>
          <a:stretch/>
        </p:blipFill>
        <p:spPr>
          <a:xfrm>
            <a:off x="6477120" y="1981080"/>
            <a:ext cx="228600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ЗАКЛЮЧИТЕЛЬНЫЙ РАЗДЕЛ "ОТЗЫВЫ И ПОЖЕЛАНИЯ"</a:t>
            </a:r>
            <a:endParaRPr b="0" lang="en-US" sz="40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124080" y="2057040"/>
            <a:ext cx="556272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портфолио ученика начальной школы этот раздел включает  положительную оценку педагогом его стараний</a:t>
            </a:r>
            <a:r>
              <a:rPr b="0" i="1" lang="ru-RU" sz="3200" spc="-1" strike="noStrike">
                <a:solidFill>
                  <a:srgbClr val="431b12"/>
                </a:solidFill>
                <a:latin typeface="Calibri"/>
              </a:rPr>
              <a:t>.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5" descr="C:\Users\Лиза\Pictures\включение в программу обучения.jpg"/>
          <p:cNvPicPr/>
          <p:nvPr/>
        </p:nvPicPr>
        <p:blipFill>
          <a:blip r:embed="rId1"/>
          <a:stretch/>
        </p:blipFill>
        <p:spPr>
          <a:xfrm>
            <a:off x="380880" y="2286000"/>
            <a:ext cx="228600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Bookman Old Style"/>
              </a:rPr>
              <a:t>Спасибо за внимание.</a:t>
            </a:r>
            <a:endParaRPr b="0" lang="en-US" sz="60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8" descr="C:\Users\Лиза\Pictures\книги перо.gif"/>
          <p:cNvPicPr/>
          <p:nvPr/>
        </p:nvPicPr>
        <p:blipFill>
          <a:blip r:embed="rId1"/>
          <a:stretch/>
        </p:blipFill>
        <p:spPr>
          <a:xfrm>
            <a:off x="533520" y="3200400"/>
            <a:ext cx="2438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Bookman Old Style"/>
              </a:rPr>
              <a:t>Нам всем придется привыкнуть к формуле:</a:t>
            </a: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28240" y="25905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АТТЕСТАТ + ПОРТФОЛИО =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образовательный РЕЙТИНГ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выпускника школы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ЦЕЛИ И ЗАДАЧИ </a:t>
            </a:r>
            <a:r>
              <a:rPr b="1" lang="ru-RU" sz="3200" spc="-1" strike="noStrike">
                <a:solidFill>
                  <a:srgbClr val="0000ff"/>
                </a:solidFill>
                <a:latin typeface="Bookman Old Style"/>
              </a:rPr>
              <a:t>ведения портфолио в начальных классах</a:t>
            </a:r>
            <a:endParaRPr b="0" lang="en-US" sz="32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ситуации успеха для каждого ученика;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максимальное раскрытие индивидуальных способностей ребенк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познавательных интересов учащихся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установки на творческую деятельность, развитие мотивации дальнейшего творческого рост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обретение навыков рефлекси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положительных моральных и нравственных качеств лич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ДЕВИЗ работы с портфолио ученика начальной школы</a:t>
            </a:r>
            <a:r>
              <a:rPr b="1" lang="ru-RU" sz="4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236196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"Каждодневный творческий процесс ученика должен быть зафиксирован".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Bookman Old Style"/>
              </a:rPr>
              <a:t>Как выглядит портфолио ученика начальной школы? </a:t>
            </a: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93840" y="1110960"/>
            <a:ext cx="6126120" cy="61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31b12"/>
                </a:solidFill>
                <a:latin typeface="Arial"/>
                <a:ea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Жестких требований (государственного образца) на данный момент не существует. И это радует! Ведь работа над портфолио - хорошая возможность проявить себя, подойти  творчески к этой задаче, придумать что-то свое, оригинальное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4" descr="C:\Users\Лиза\Pictures\533767.jpg"/>
          <p:cNvPicPr/>
          <p:nvPr/>
        </p:nvPicPr>
        <p:blipFill>
          <a:blip r:embed="rId1"/>
          <a:stretch/>
        </p:blipFill>
        <p:spPr>
          <a:xfrm>
            <a:off x="228600" y="2057400"/>
            <a:ext cx="2916360" cy="42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ТИТУЛЬНЫЙ ЛИСТ</a:t>
            </a:r>
            <a:endParaRPr b="0" lang="en-US" sz="40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0520" y="1523520"/>
            <a:ext cx="5410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держи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основную информац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амилия им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че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чебное завед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лас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контактную информацию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фот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учени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6" descr="C:\Users\Лиза\Pictures\0aa7f3efdf04t.jpg"/>
          <p:cNvPicPr/>
          <p:nvPr/>
        </p:nvPicPr>
        <p:blipFill>
          <a:blip r:embed="rId1"/>
          <a:stretch/>
        </p:blipFill>
        <p:spPr>
          <a:xfrm>
            <a:off x="6095880" y="2133720"/>
            <a:ext cx="2514600" cy="38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55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РАЗДЕЛ "МОЙ МИР"</a:t>
            </a:r>
            <a:endParaRPr b="0" lang="en-US" sz="40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144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31b12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C:\Users\Лиза\Pictures\f890d3fcfa5ct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990720" y="1905120"/>
            <a:ext cx="2514600" cy="390996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1"/>
          <p:cNvSpPr/>
          <p:nvPr/>
        </p:nvSpPr>
        <p:spPr>
          <a:xfrm>
            <a:off x="3733920" y="2274840"/>
            <a:ext cx="5105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Мое имя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Моя семь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Мой город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Мои друзь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Мои увлеч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я школ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Мои люби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кольные предметы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69644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РАЗДЕЛ "МОЯ УЧЁБА"</a:t>
            </a:r>
            <a:endParaRPr b="0" lang="en-US" sz="40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880" y="1295280"/>
            <a:ext cx="563904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ru-RU" sz="3200" spc="-1" strike="noStrike">
                <a:solidFill>
                  <a:srgbClr val="431b12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ченик наполняет этот раздел удачно написанными контрольными работами, интересными проектами, отзывами о прочитанных книгах, графиками роста скорости чтения, творческими работа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C:\Users\Лиза\Pictures\iCAOMKLU7.jpg"/>
          <p:cNvPicPr/>
          <p:nvPr/>
        </p:nvPicPr>
        <p:blipFill>
          <a:blip r:embed="rId1"/>
          <a:stretch/>
        </p:blipFill>
        <p:spPr>
          <a:xfrm>
            <a:off x="6400800" y="2286000"/>
            <a:ext cx="2362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РАЗДЕЛ "МОЯ ОБЩЕСТВЕННАЯ РАБОТА"</a:t>
            </a:r>
            <a:endParaRPr b="0" lang="en-US" sz="40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1676160"/>
            <a:ext cx="6310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се мероприятия, которые проводятся вне рамок учебной деятельности можно отнести к общественной работе (поручениям).  Оформлять этот раздел желательно с использованием фотографий и кратких сообщений на тем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C:\Users\Лиза\Pictures\девочка с косичками.jpg"/>
          <p:cNvPicPr/>
          <p:nvPr/>
        </p:nvPicPr>
        <p:blipFill>
          <a:blip r:embed="rId1"/>
          <a:stretch/>
        </p:blipFill>
        <p:spPr>
          <a:xfrm>
            <a:off x="6477120" y="1828800"/>
            <a:ext cx="220968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иза</dc:creator>
  <dc:description/>
  <dc:language>en-US</dc:language>
  <cp:lastModifiedBy>Лиза</cp:lastModifiedBy>
  <dcterms:modified xsi:type="dcterms:W3CDTF">2011-12-26T17:08:14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