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D9E0-A56A-4DCF-AC94-C974504F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D20C-1717-4395-8D9B-DD7621CD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C0B2-2D4E-4D63-AE72-21C354EF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80FF-70A3-4275-8AC7-336B184B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9FD7-3D10-4D15-9EFB-90190C7D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873B-C0DA-4167-83D4-75775783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7FEE-DB78-4253-B2BC-17178EB9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216A-D1BC-40BC-8A80-83B60300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A577-1141-412A-B3BC-B9F239B8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871E-9932-4A9C-B530-CE415EA4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4500-DAA0-4AAA-ADA1-B332B8F0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168-A7E5-4DB3-BD49-1EDFC1CB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DF6D-F4DB-4990-8981-BA1007F1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F534-9941-4355-8620-D23FD497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6F55-B992-44F2-9E54-3A2F4D5B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953E-DB30-424B-8BBC-F098F266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6254-9189-4A84-B6B1-97CD2339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CBD9-7468-4439-AFBE-4324D9E3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9EDC-75AB-4741-A6C7-B06537BF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B20B-B9AB-4190-A558-649BD295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A213-ECDD-4C1E-AB83-445BB21C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BAFB-71B7-498D-9FA7-4F89672D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F84A-F141-48F2-912B-10CE3559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7F1-7337-4789-B976-EE591EAB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5d1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01BF-8DA0-43B4-BE11-463B6560EE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95d1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d7d4b4"/>
                </a:gs>
                <a:gs pos="100000">
                  <a:srgbClr val="ece9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5d1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95d1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1B81-CF2B-4591-A406-424F395A8A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66ff33"/>
                </a:solidFill>
                <a:latin typeface="Calibri"/>
              </a:rPr>
              <a:t> </a:t>
            </a:r>
            <a:endParaRPr b="0" lang="en-US" sz="51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76176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Bookman Old Style"/>
              </a:rPr>
              <a:t>"Портфолио в начальной школе"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6" descr="C:\Users\Лиза\Pictures\д1.jpg"/>
          <p:cNvPicPr/>
          <p:nvPr/>
        </p:nvPicPr>
        <p:blipFill>
          <a:blip r:embed="rId1"/>
          <a:stretch/>
        </p:blipFill>
        <p:spPr>
          <a:xfrm>
            <a:off x="6553080" y="3200400"/>
            <a:ext cx="236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РАЗДЕЛ "МОЁ ТВОРЧЕСТВО"</a:t>
            </a:r>
            <a:endParaRPr b="0" lang="en-US" sz="40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666520" y="1295280"/>
            <a:ext cx="6324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этот раздел ребенок помещает свои творческие работы: рисунки, сказки, стихи. Если выполнена объемная работа (поделка), нужно поместить ее фотографию. Родителям необходимо предоставить полную свободу ребенку при наполнении этого раздел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C:\Users\Лиза\Pictures\93062dae3290t.jpg"/>
          <p:cNvPicPr/>
          <p:nvPr/>
        </p:nvPicPr>
        <p:blipFill>
          <a:blip r:embed="rId1"/>
          <a:stretch/>
        </p:blipFill>
        <p:spPr>
          <a:xfrm>
            <a:off x="152280" y="1981080"/>
            <a:ext cx="2378160" cy="339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РАЗДЕЛ "МОИ ВПЕЧАТЛЕНИЯ"</a:t>
            </a:r>
            <a:endParaRPr b="0" lang="en-US" sz="40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971800" y="2057040"/>
            <a:ext cx="60199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начальной школе дети принимают активное участие в экскурсионно-познавательных программах, ходят в театр, на выставки, посещают музе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C:\Users\Лиза\Pictures\8e9ff533d012t.jpg"/>
          <p:cNvPicPr/>
          <p:nvPr/>
        </p:nvPicPr>
        <p:blipFill>
          <a:blip r:embed="rId1"/>
          <a:stretch/>
        </p:blipFill>
        <p:spPr>
          <a:xfrm>
            <a:off x="380880" y="2057400"/>
            <a:ext cx="22100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РАЗДЕЛ "МОИ ДОСТИЖЕНИЯ"</a:t>
            </a:r>
            <a:r>
              <a:rPr b="1" lang="ru-RU" sz="4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0880" y="1599840"/>
            <a:ext cx="5639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десь размещаются грамоты, сертификаты, дипломы, благодарственные письма, а также итоговые аттестационные ведомости. Причем в начальной школе не следует разделять по важности успехи в учебе (похвальный лист) и успехи, например, в спорте (диплом)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C:\Users\Лиза\Pictures\568f04c48ba5t.jpg"/>
          <p:cNvPicPr/>
          <p:nvPr/>
        </p:nvPicPr>
        <p:blipFill>
          <a:blip r:embed="rId1"/>
          <a:stretch/>
        </p:blipFill>
        <p:spPr>
          <a:xfrm>
            <a:off x="6477120" y="1981080"/>
            <a:ext cx="22860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ЗАКЛЮЧИТЕЛЬНЫЙ РАЗДЕЛ "ОТЗЫВЫ И ПОЖЕЛАНИЯ"</a:t>
            </a:r>
            <a:endParaRPr b="0" lang="en-US" sz="40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124080" y="2057040"/>
            <a:ext cx="55627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портфолио ученика начальной школы этот раздел включает  положительную оценку педагогом его стараний</a:t>
            </a:r>
            <a:r>
              <a:rPr b="0" i="1" lang="ru-RU" sz="3200" spc="-1" strike="noStrike">
                <a:solidFill>
                  <a:srgbClr val="431b12"/>
                </a:solidFill>
                <a:latin typeface="Calibri"/>
              </a:rPr>
              <a:t>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5" descr="C:\Users\Лиза\Pictures\включение в программу обучения.jpg"/>
          <p:cNvPicPr/>
          <p:nvPr/>
        </p:nvPicPr>
        <p:blipFill>
          <a:blip r:embed="rId1"/>
          <a:stretch/>
        </p:blipFill>
        <p:spPr>
          <a:xfrm>
            <a:off x="380880" y="2286000"/>
            <a:ext cx="228600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Bookman Old Style"/>
              </a:rPr>
              <a:t>Спасибо за внимание.</a:t>
            </a:r>
            <a:endParaRPr b="0" lang="en-US" sz="60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8" descr="C:\Users\Лиза\Pictures\книги перо.gif"/>
          <p:cNvPicPr/>
          <p:nvPr/>
        </p:nvPicPr>
        <p:blipFill>
          <a:blip r:embed="rId1"/>
          <a:stretch/>
        </p:blipFill>
        <p:spPr>
          <a:xfrm>
            <a:off x="533520" y="3200400"/>
            <a:ext cx="2438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Bookman Old Style"/>
              </a:rPr>
              <a:t>Нам всем придется привыкнуть к формуле:</a:t>
            </a: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240" y="25905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АТТЕСТАТ + ПОРТФОЛИО =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образовательный РЕЙТИНГ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выпускника школ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ЦЕЛИ И ЗАДАЧИ </a:t>
            </a: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ведения портфолио в начальных классах</a:t>
            </a:r>
            <a:endParaRPr b="0" lang="en-US" sz="32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ситуации успеха для каждого ученика;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ьное раскрытие индивидуальных способностей ребенк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познавательных интересов учащихс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установки на творческую деятельность, развитие мотивации дальнейшего творческого роста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иобретение навыков рефлекси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положительных моральных и нравственных качеств лич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ДЕВИЗ работы с портфолио ученика начальной школы</a:t>
            </a:r>
            <a:r>
              <a:rPr b="1" lang="ru-RU" sz="4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23619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"Каждодневный творческий процесс ученика должен быть зафиксирован".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Bookman Old Style"/>
              </a:rPr>
              <a:t>Как выглядит портфолио ученика начальной школы? </a:t>
            </a:r>
            <a:endParaRPr b="0" lang="en-US" sz="44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93840" y="1110960"/>
            <a:ext cx="6126120" cy="61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31b12"/>
                </a:solidFill>
                <a:latin typeface="Arial"/>
                <a:ea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Жестких требований (государственного образца) на данный момент не существует. И это радует! Ведь работа над портфолио - хорошая возможность проявить себя, подойти  творчески к этой задаче, придумать что-то свое, оригинальное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C:\Users\Лиза\Pictures\533767.jpg"/>
          <p:cNvPicPr/>
          <p:nvPr/>
        </p:nvPicPr>
        <p:blipFill>
          <a:blip r:embed="rId1"/>
          <a:stretch/>
        </p:blipFill>
        <p:spPr>
          <a:xfrm>
            <a:off x="228600" y="2057400"/>
            <a:ext cx="291636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ТИТУЛЬНЫЙ ЛИСТ</a:t>
            </a:r>
            <a:endParaRPr b="0" lang="en-US" sz="40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520" y="1523520"/>
            <a:ext cx="5410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держи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сновную информац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амилия им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че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чебное завед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ас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онтактную информацию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фо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учен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6" descr="C:\Users\Лиза\Pictures\0aa7f3efdf04t.jpg"/>
          <p:cNvPicPr/>
          <p:nvPr/>
        </p:nvPicPr>
        <p:blipFill>
          <a:blip r:embed="rId1"/>
          <a:stretch/>
        </p:blipFill>
        <p:spPr>
          <a:xfrm>
            <a:off x="6095880" y="2133720"/>
            <a:ext cx="2514600" cy="38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55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РАЗДЕЛ "МОЙ МИР"</a:t>
            </a:r>
            <a:endParaRPr b="0" lang="en-US" sz="40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4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31b12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C:\Users\Лиза\Pictures\f890d3fcfa5ct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990720" y="1905120"/>
            <a:ext cx="2514600" cy="390996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1"/>
          <p:cNvSpPr/>
          <p:nvPr/>
        </p:nvSpPr>
        <p:spPr>
          <a:xfrm>
            <a:off x="3733920" y="2274840"/>
            <a:ext cx="5105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Мое имя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Моя семь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Мой горо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Мои друзь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Мои увлеч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я школ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«Мои люби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кольные предметы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69644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РАЗДЕЛ "МОЯ УЧЁБА"</a:t>
            </a:r>
            <a:endParaRPr b="0" lang="en-US" sz="40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1295280"/>
            <a:ext cx="56390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3200" spc="-1" strike="noStrike">
                <a:solidFill>
                  <a:srgbClr val="431b12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ченик наполняет этот раздел удачно написанными контрольными работами, интересными проектами, отзывами о прочитанных книгах, графиками роста скорости чтения, творческими работ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C:\Users\Лиза\Pictures\iCAOMKLU7.jpg"/>
          <p:cNvPicPr/>
          <p:nvPr/>
        </p:nvPicPr>
        <p:blipFill>
          <a:blip r:embed="rId1"/>
          <a:stretch/>
        </p:blipFill>
        <p:spPr>
          <a:xfrm>
            <a:off x="6400800" y="2286000"/>
            <a:ext cx="2362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РАЗДЕЛ "МОЯ ОБЩЕСТВЕННАЯ РАБОТА"</a:t>
            </a:r>
            <a:endParaRPr b="0" lang="en-US" sz="4000" spc="-1" strike="noStrike">
              <a:solidFill>
                <a:srgbClr val="895d1d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676160"/>
            <a:ext cx="6310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се мероприятия, которые проводятся вне рамок учебной деятельности можно отнести к общественной работе (поручениям).  Оформлять этот раздел желательно с использованием фотографий и кратких сообщений на тем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C:\Users\Лиза\Pictures\девочка с косичками.jpg"/>
          <p:cNvPicPr/>
          <p:nvPr/>
        </p:nvPicPr>
        <p:blipFill>
          <a:blip r:embed="rId1"/>
          <a:stretch/>
        </p:blipFill>
        <p:spPr>
          <a:xfrm>
            <a:off x="6477120" y="1828800"/>
            <a:ext cx="22096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иза</dc:creator>
  <dc:description/>
  <dc:language>en-US</dc:language>
  <cp:lastModifiedBy>Лиза</cp:lastModifiedBy>
  <dcterms:modified xsi:type="dcterms:W3CDTF">2011-12-26T17:08:14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