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EA0-5A3C-4034-8989-799E20ED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E4C6-80EC-4164-9D31-4E9BB16F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AF6-722E-49F7-A807-1CEFF64D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1FC-B6C0-4298-A5B3-1010F26E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09FF-8A02-4341-AF21-1C7655F3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361E-3A1E-4B19-859D-9FD7CF1F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7A0D-D4C3-44C1-9469-2DD48669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759C-F105-49FE-960E-E323B50F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5BA4-FEEF-40EE-AE45-85B12096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7C9F-AB6A-4201-87E1-5E96A01E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91BA-71D9-4183-B492-8B3B9958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480-88F7-4E90-9158-C05887B4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DD8F-19CA-4858-9133-165A2F85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95C5-4476-403A-8993-1A8C0F18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4EE8-B58A-4C18-88FB-52C3ABA8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52A1-52FA-4B04-81AB-9883F7C7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2884-F6DE-4429-AF28-D93532DF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E9D-46A8-4AA0-9495-08972C02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AB8-17FF-41BB-849D-19E1A430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88E-F6F5-45ED-9045-A319F7E3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C14-B7F6-4D9E-ABF6-6538AF2E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0D8-0F6E-4E41-9F53-4ABD8B87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80B-1B16-4521-8671-6FDB9981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FC1-A63F-46A1-BC96-76FCA0EB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D154-F73B-42EB-8738-1B98F4500D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D29A-4E6C-4BB1-8C2B-D35C252A91B4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700360" y="1125360"/>
            <a:ext cx="51134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0" lang="ru-RU" sz="2400" spc="-1" strike="noStrike" u="sng">
                <a:solidFill>
                  <a:srgbClr val="006699"/>
                </a:solidFill>
                <a:uFillTx/>
                <a:latin typeface="Arial"/>
              </a:rPr>
              <a:t>Презентация на тему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403280" y="227664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Arial"/>
              </a:rPr>
              <a:t>«Развитие устной речи дошкольников на занятиях предшкольной подготовки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101240" y="609300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дготовила: учитель нач. классов МБУ СОШ № 14 Уварова М.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146680" y="259560"/>
            <a:ext cx="59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дель 2. «На что похоже? – Чем отличается?»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581200" cy="29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042920" y="1197000"/>
          <a:ext cx="5257800" cy="295920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что похоже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 отличается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алерину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живо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зонти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дождя не укрое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гриб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ъедобны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87"/>
          <p:cNvSpPr/>
          <p:nvPr/>
        </p:nvSpPr>
        <p:spPr>
          <a:xfrm>
            <a:off x="1187280" y="4941360"/>
            <a:ext cx="76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Verdana"/>
              </a:rPr>
              <a:t>Итоговая загадк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«Как балерина, но неживой; как зонтик, но от дождя не укроет; как гриб, но съесть нельзя. Что это?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1965240" y="259560"/>
            <a:ext cx="55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дель 3. «Что делает?- Что делает так же?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5" descr="lagush46"/>
          <p:cNvPicPr/>
          <p:nvPr/>
        </p:nvPicPr>
        <p:blipFill>
          <a:blip r:embed="rId1"/>
          <a:stretch/>
        </p:blipFill>
        <p:spPr>
          <a:xfrm>
            <a:off x="6372360" y="4770360"/>
            <a:ext cx="2447640" cy="20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1692360" y="981000"/>
          <a:ext cx="5784840" cy="3240000"/>
        </p:xfrm>
        <a:graphic>
          <a:graphicData uri="http://schemas.openxmlformats.org/drawingml/2006/table">
            <a:tbl>
              <a:tblPr/>
              <a:tblGrid>
                <a:gridCol w="2892240"/>
                <a:gridCol w="28926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делает так же?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гае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ч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ряе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к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е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дочк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65"/>
          <p:cNvSpPr/>
          <p:nvPr/>
        </p:nvSpPr>
        <p:spPr>
          <a:xfrm>
            <a:off x="324000" y="4723920"/>
            <a:ext cx="580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Verdana"/>
              </a:rPr>
              <a:t>Загадка: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рыгает, но не мяч; ныряет, но не утка; плавает, как лодочк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1125873_1"/>
          <p:cNvPicPr/>
          <p:nvPr/>
        </p:nvPicPr>
        <p:blipFill>
          <a:blip r:embed="rId1"/>
          <a:stretch/>
        </p:blipFill>
        <p:spPr>
          <a:xfrm>
            <a:off x="6145200" y="189000"/>
            <a:ext cx="2998800" cy="3073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468360" y="259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дель 4. « Назови части объекта и сравни их с частями другого объекта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39640" y="1268280"/>
          <a:ext cx="5713560" cy="3218040"/>
        </p:xfrm>
        <a:graphic>
          <a:graphicData uri="http://schemas.openxmlformats.org/drawingml/2006/table">
            <a:tbl>
              <a:tblPr/>
              <a:tblGrid>
                <a:gridCol w="2857680"/>
                <a:gridCol w="2855880"/>
              </a:tblGrid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057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ая часть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057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какого объекта есть такая часть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лк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ас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фр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атематике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к лун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6" name="Rectangle 72"/>
          <p:cNvSpPr/>
          <p:nvPr/>
        </p:nvSpPr>
        <p:spPr>
          <a:xfrm>
            <a:off x="684360" y="4876560"/>
            <a:ext cx="775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Verdana"/>
              </a:rPr>
              <a:t>Загадка:</a:t>
            </a:r>
            <a:r>
              <a:rPr b="0" i="1" lang="ru-RU" sz="1800" spc="-1" strike="noStrike">
                <a:solidFill>
                  <a:srgbClr val="9933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трелки, но не как у компаса, цифры, но не из учебника математики, на  круге, но не лике луны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83" descr="1125873_1"/>
          <p:cNvPicPr/>
          <p:nvPr/>
        </p:nvPicPr>
        <p:blipFill>
          <a:blip r:embed="rId1"/>
          <a:stretch/>
        </p:blipFill>
        <p:spPr>
          <a:xfrm>
            <a:off x="6324480" y="4287960"/>
            <a:ext cx="2819520" cy="2570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1546560" y="188280"/>
            <a:ext cx="67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дель 5. « Назови части и их количество у объект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32000" y="836640"/>
          <a:ext cx="6156360" cy="3490920"/>
        </p:xfrm>
        <a:graphic>
          <a:graphicData uri="http://schemas.openxmlformats.org/drawingml/2006/table">
            <a:tbl>
              <a:tblPr/>
              <a:tblGrid>
                <a:gridCol w="1511280"/>
                <a:gridCol w="1800000"/>
                <a:gridCol w="2845080"/>
              </a:tblGrid>
              <a:tr h="158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кого или у чего столько же этих частей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к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ёзд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лк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к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елк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0" name="Rectangle 89"/>
          <p:cNvSpPr/>
          <p:nvPr/>
        </p:nvSpPr>
        <p:spPr>
          <a:xfrm>
            <a:off x="324000" y="508428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Verdana"/>
              </a:rPr>
              <a:t>Итог: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« Шестьдесят точек, как звёзды, с двумя стрелками, как указки, на одном круге, но не на тарелке.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513720" y="1700280"/>
            <a:ext cx="825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Monotype Corsiva"/>
              </a:rPr>
              <a:t>Спасибо за внимание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360" y="39024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d60093"/>
                </a:solidFill>
                <a:uFillTx/>
                <a:latin typeface="Arial"/>
              </a:rPr>
              <a:t>1. Развитие тонкой моторики ручной умелости в различных видах организованной деятельности.</a:t>
            </a:r>
            <a:endParaRPr b="0" lang="en-US" sz="21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824480" y="1699200"/>
            <a:ext cx="62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«Ум ребенка находится на кончиках его пальцев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921640" y="227592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.А.Сухомлински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71640" y="342792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Arial"/>
              </a:rPr>
              <a:t>Рука имеет самое большое «представительство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99"/>
                </a:solidFill>
                <a:latin typeface="Arial"/>
              </a:rPr>
              <a:t>в коре головного мозга, поэтому именно кисти принадлежит важная роль в формировании головного мозга и составлении речи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395280" y="187920"/>
            <a:ext cx="19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Таблица 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11280" y="981000"/>
          <a:ext cx="7846920" cy="4721400"/>
        </p:xfrm>
        <a:graphic>
          <a:graphicData uri="http://schemas.openxmlformats.org/drawingml/2006/table">
            <a:tbl>
              <a:tblPr/>
              <a:tblGrid>
                <a:gridCol w="1944720"/>
                <a:gridCol w="1944720"/>
                <a:gridCol w="2087280"/>
                <a:gridCol w="1870200"/>
              </a:tblGrid>
              <a:tr h="176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задания с карандашом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упражнения с предметам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упражнения без предметов (пальчиковая гимнастика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Другие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азличные виды орг. деят-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08"/>
          <p:cNvSpPr/>
          <p:nvPr/>
        </p:nvSpPr>
        <p:spPr>
          <a:xfrm>
            <a:off x="0" y="496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124000"/>
                <a:gridCol w="1943280"/>
                <a:gridCol w="2520720"/>
                <a:gridCol w="2556000"/>
              </a:tblGrid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задания с карандашом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упражнения с предметам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упражнения без предметов (пальчиковая гимнастика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Другие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азличные виды орг. деят-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Помоги машинам осветить дорогу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с пуговицам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Упражнения на сжимание и разжимание кулако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Разные действия и упражнения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ерекладывание кубиков, обрывание лепестков с цветка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Солнышко и тучка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с прищепкам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Упражнения на напряжение и расслабление пальце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линование и раскрашивание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Прилетела бабочка к цветку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с верёвочкой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Упражнения на потягивание кистей и пальцев рук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Рукоделие: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вышивание, плете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908000"/>
                <a:gridCol w="1943280"/>
                <a:gridCol w="2592360"/>
                <a:gridCol w="270036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задания с карандашом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упражнения с предметам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гры и упражнения без предметов (пальчиковая гимнастика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Другие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азличные виды орг. деят-т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4.Аквариум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Игры со шнурком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Упражнения на сгибание и разгибание всех пальцев вместе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Изготовление игрушек, поделок из бумаги, ткани, ваты, ниток, пластилина, бросового и природного материал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5.Белый парус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Игры с мячом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Упражнения на растягивание пальцев, напряжение и расслабление кистей ру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.Снеговик</a:t>
                      </a: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Игры с музыкальными инструментами</a:t>
                      </a: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Упражнение для запястья</a:t>
                      </a: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6"/>
          <p:cNvSpPr/>
          <p:nvPr/>
        </p:nvSpPr>
        <p:spPr>
          <a:xfrm rot="16200000">
            <a:off x="1476360" y="331920"/>
            <a:ext cx="5904000" cy="5618160"/>
          </a:xfrm>
          <a:prstGeom prst="verticalScroll">
            <a:avLst>
              <a:gd name="adj" fmla="val 10532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556000" y="1114560"/>
            <a:ext cx="414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Посмотри: моя ладош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Как весёлая гармошка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Пальчики я раздвигаю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А потом опять сдвига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Раз, два, три, раз, два, тр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Я играю, посмотри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Я ладошки раздвигаю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И на кнопки нажима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Раз, два, три, раз, два, тр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Monotype Corsiva"/>
              </a:rPr>
              <a:t>Я играю, посмотри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2771640" y="76500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99"/>
                </a:solidFill>
                <a:uFillTx/>
                <a:latin typeface="Monotype Corsiva"/>
              </a:rPr>
              <a:t>Пальчиковая гимнастик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6"/>
          <p:cNvSpPr/>
          <p:nvPr/>
        </p:nvSpPr>
        <p:spPr>
          <a:xfrm>
            <a:off x="971640" y="1341360"/>
            <a:ext cx="5040360" cy="2016360"/>
          </a:xfrm>
          <a:prstGeom prst="cloudCallout">
            <a:avLst>
              <a:gd name="adj1" fmla="val -55291"/>
              <a:gd name="adj2" fmla="val -7377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617480" y="1627560"/>
            <a:ext cx="35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Ёжик топал по дорожк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И грибочки нёс в лукошк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Чтоб грибочки сосчитать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Нужно пальцы загиб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64480" y="333360"/>
            <a:ext cx="71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99"/>
                </a:solidFill>
                <a:uFillTx/>
                <a:latin typeface="Verdana"/>
              </a:rPr>
              <a:t>Упражнения на сжимание и разжимание кулачко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39720" y="3499560"/>
            <a:ext cx="745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99"/>
                </a:solidFill>
                <a:uFillTx/>
                <a:latin typeface="Verdana"/>
              </a:rPr>
              <a:t>Упражнения на напряжение и расслабление пальцев</a:t>
            </a:r>
            <a:r>
              <a:rPr b="0" lang="ru-RU" sz="20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2050920" y="4365720"/>
            <a:ext cx="5834160" cy="2158920"/>
          </a:xfrm>
          <a:prstGeom prst="cloudCallout">
            <a:avLst>
              <a:gd name="adj1" fmla="val -61018"/>
              <a:gd name="adj2" fmla="val -6456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Наши пальчики сплетё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И соединим ладошк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А потом, как только сможем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Крепко-накрепко сожмё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98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Oval 7"/>
          <p:cNvSpPr/>
          <p:nvPr/>
        </p:nvSpPr>
        <p:spPr>
          <a:xfrm>
            <a:off x="1476360" y="260280"/>
            <a:ext cx="6408720" cy="1008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698120" y="475200"/>
            <a:ext cx="578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3399"/>
                </a:solidFill>
                <a:uFillTx/>
                <a:latin typeface="Arial"/>
              </a:rPr>
              <a:t>2.Обучение детей составлению загадок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332000" y="2057760"/>
            <a:ext cx="700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Задача педагога состоит в создании условий для самостоятельного составления загадок дошкольниками. Это позволит в дальнейшем выстраивать логические цепочки при отгадывании и получить радость от речевого творчеств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2411640" y="187920"/>
            <a:ext cx="49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ff"/>
                </a:solidFill>
                <a:uFillTx/>
                <a:latin typeface="Arial"/>
              </a:rPr>
              <a:t>Модели составления загадок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063800" y="907200"/>
            <a:ext cx="67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дель 1 . «Какой? -  Что такое же у другого объекта?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6" descr="222"/>
          <p:cNvPicPr/>
          <p:nvPr/>
        </p:nvPicPr>
        <p:blipFill>
          <a:blip r:embed="rId1"/>
          <a:stretch/>
        </p:blipFill>
        <p:spPr>
          <a:xfrm>
            <a:off x="6300720" y="1557360"/>
            <a:ext cx="259236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468360" y="1557360"/>
          <a:ext cx="5543640" cy="3024000"/>
        </p:xfrm>
        <a:graphic>
          <a:graphicData uri="http://schemas.openxmlformats.org/drawingml/2006/table">
            <a:tbl>
              <a:tblPr/>
              <a:tblGrid>
                <a:gridCol w="2771640"/>
                <a:gridCol w="277200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такое же у другого объекта?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естящи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ет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пящи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ка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заты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буз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58"/>
          <p:cNvSpPr/>
          <p:nvPr/>
        </p:nvSpPr>
        <p:spPr>
          <a:xfrm>
            <a:off x="826920" y="5084280"/>
            <a:ext cx="782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Verdana"/>
              </a:rPr>
              <a:t>Итоговая загадка про самовар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Блестящий, как начищенная монета; шипящий, как проснувшийся вулкан; пузатый, но неспелый арбуз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9:39:12Z</dcterms:created>
  <dc:creator>Евгения</dc:creator>
  <dc:description/>
  <dc:language>en-US</dc:language>
  <cp:lastModifiedBy>ММ</cp:lastModifiedBy>
  <dcterms:modified xsi:type="dcterms:W3CDTF">2012-10-03T17:02:03Z</dcterms:modified>
  <cp:revision>53</cp:revision>
  <dc:subject/>
  <dc:title>Слайд 1</dc:title>
</cp:coreProperties>
</file>