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BB3-635C-48BC-A195-FE7DCDF7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0BC-AF73-47B9-9350-3B9A5403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6E2-3D3E-4214-9CC0-CCF5B312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5FD-9D75-416E-AA7B-81321350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14F3-210D-444F-A08E-29AD78C1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72D7-C0F5-4845-BDD0-2A475303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C66-EE3B-4BAC-850B-C90C5A58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9B51-A159-486D-ABB5-6B9149DD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16A0-44C9-44FE-9A0E-9AC84D83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A651-2B90-45B1-AFFF-5367C6CE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F5A3-27BD-4DA8-865F-5DB7546B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73B-D601-46F7-8109-EDFB5DB9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39BF-6155-4BA3-A7AB-CE37D95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98E5-0B69-4B37-A139-63E3023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D26F-54D5-409B-9463-292C0523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7339-1FB6-48A9-87CE-F0BD7A90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E49D-63FB-497E-AC81-43A0E7DD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CA3-60DF-4F70-A9C0-3D5C8209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CB9-06DF-4FF5-8293-79FA1645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235-26E4-4414-A8D5-9B8B3F02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BE3-F1C1-4FAF-A2E6-AB463C29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07A-5D61-4609-BA26-9D730AC5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DA8-AB5D-46CD-AB76-7C75BEB6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8D6-542B-422E-84E3-D88A60C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658F-4256-4650-BC6F-2C29188C04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4BC7-C3C6-4E3C-AC80-EE7341DA6AD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700360" y="1125360"/>
            <a:ext cx="5113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0" lang="ru-RU" sz="2400" spc="-1" strike="noStrike" u="sng">
                <a:solidFill>
                  <a:srgbClr val="006699"/>
                </a:solidFill>
                <a:uFillTx/>
                <a:latin typeface="Arial"/>
              </a:rPr>
              <a:t>Презентация на тему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403280" y="227664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Arial"/>
              </a:rPr>
              <a:t>«Развитие устной речи дошкольников на занятиях предшкольной подготовки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101240" y="609300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готовила: учитель нач. классов МБУ СОШ № 14 Уварова М.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146680" y="259560"/>
            <a:ext cx="59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2. «На что похоже? – Чем отличается?»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58120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042920" y="1197000"/>
          <a:ext cx="5257800" cy="295920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что похоже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 отличается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лерин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иво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онти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дождя не укрое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гри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ъедобны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87"/>
          <p:cNvSpPr/>
          <p:nvPr/>
        </p:nvSpPr>
        <p:spPr>
          <a:xfrm>
            <a:off x="1187280" y="4941360"/>
            <a:ext cx="76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Verdana"/>
              </a:rPr>
              <a:t>Итоговая загадк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«Как балерина, но неживой; как зонтик, но от дождя не укроет; как гриб, но съесть нельзя. Что это?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1965240" y="25956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3. «Что делает?- Что делает так же?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5" descr="lagush46"/>
          <p:cNvPicPr/>
          <p:nvPr/>
        </p:nvPicPr>
        <p:blipFill>
          <a:blip r:embed="rId1"/>
          <a:stretch/>
        </p:blipFill>
        <p:spPr>
          <a:xfrm>
            <a:off x="6372360" y="4770360"/>
            <a:ext cx="244764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1692360" y="981000"/>
          <a:ext cx="5784840" cy="3240000"/>
        </p:xfrm>
        <a:graphic>
          <a:graphicData uri="http://schemas.openxmlformats.org/drawingml/2006/table">
            <a:tbl>
              <a:tblPr/>
              <a:tblGrid>
                <a:gridCol w="2892240"/>
                <a:gridCol w="28926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делает так же?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ае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ряе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е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доч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65"/>
          <p:cNvSpPr/>
          <p:nvPr/>
        </p:nvSpPr>
        <p:spPr>
          <a:xfrm>
            <a:off x="324000" y="4723920"/>
            <a:ext cx="580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Verdana"/>
              </a:rPr>
              <a:t>Загадка: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рыгает, но не мяч; ныряет, но не утка; плавает, как лодоч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1125873_1"/>
          <p:cNvPicPr/>
          <p:nvPr/>
        </p:nvPicPr>
        <p:blipFill>
          <a:blip r:embed="rId1"/>
          <a:stretch/>
        </p:blipFill>
        <p:spPr>
          <a:xfrm>
            <a:off x="6145200" y="189000"/>
            <a:ext cx="2998800" cy="3073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468360" y="259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4. « Назови части объекта и сравни их с частями другого объекта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9640" y="1268280"/>
          <a:ext cx="5713560" cy="3218040"/>
        </p:xfrm>
        <a:graphic>
          <a:graphicData uri="http://schemas.openxmlformats.org/drawingml/2006/table">
            <a:tbl>
              <a:tblPr/>
              <a:tblGrid>
                <a:gridCol w="2857680"/>
                <a:gridCol w="2855880"/>
              </a:tblGrid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057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 часть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057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какого объекта есть такая часть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лк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а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фр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атематик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к лун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72"/>
          <p:cNvSpPr/>
          <p:nvPr/>
        </p:nvSpPr>
        <p:spPr>
          <a:xfrm>
            <a:off x="684360" y="4876560"/>
            <a:ext cx="775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Verdana"/>
              </a:rPr>
              <a:t>Загадка:</a:t>
            </a:r>
            <a:r>
              <a:rPr b="0" i="1" lang="ru-RU" sz="1800" spc="-1" strike="noStrike">
                <a:solidFill>
                  <a:srgbClr val="9933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трелки, но не как у компаса, цифры, но не из учебника математики, на  круге, но не лике лун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83" descr="1125873_1"/>
          <p:cNvPicPr/>
          <p:nvPr/>
        </p:nvPicPr>
        <p:blipFill>
          <a:blip r:embed="rId1"/>
          <a:stretch/>
        </p:blipFill>
        <p:spPr>
          <a:xfrm>
            <a:off x="6324480" y="4287960"/>
            <a:ext cx="2819520" cy="2570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546560" y="188280"/>
            <a:ext cx="67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5. « Назови части и их количество у объект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32000" y="836640"/>
          <a:ext cx="6156360" cy="3490920"/>
        </p:xfrm>
        <a:graphic>
          <a:graphicData uri="http://schemas.openxmlformats.org/drawingml/2006/table">
            <a:tbl>
              <a:tblPr/>
              <a:tblGrid>
                <a:gridCol w="1511280"/>
                <a:gridCol w="1800000"/>
                <a:gridCol w="2845080"/>
              </a:tblGrid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кого или у чего столько же этих частей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ёзд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лк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к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ел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0" name="Rectangle 89"/>
          <p:cNvSpPr/>
          <p:nvPr/>
        </p:nvSpPr>
        <p:spPr>
          <a:xfrm>
            <a:off x="324000" y="50842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Verdana"/>
              </a:rPr>
              <a:t>Итог: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« Шестьдесят точек, как звёзды, с двумя стрелками, как указки, на одном круге, но не на тарелке.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13720" y="1700280"/>
            <a:ext cx="825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360" y="39024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d60093"/>
                </a:solidFill>
                <a:uFillTx/>
                <a:latin typeface="Arial"/>
              </a:rPr>
              <a:t>1. Развитие тонкой моторики ручной умелости в различных видах организованной деятельности.</a:t>
            </a:r>
            <a:endParaRPr b="0" lang="en-US" sz="21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824480" y="1699200"/>
            <a:ext cx="62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«Ум ребенка находится на кончиках его пальцев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921640" y="227592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.А.Сухомлински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71640" y="34279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Рука имеет самое большое «представительство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в коре головного мозга, поэтому именно кисти принадлежит важная роль в формировании головного мозга и составлении реч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95280" y="187920"/>
            <a:ext cx="19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Таблица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11280" y="981000"/>
          <a:ext cx="7846920" cy="472140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  <a:gridCol w="2087280"/>
                <a:gridCol w="1870200"/>
              </a:tblGrid>
              <a:tr h="176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задания с карандашом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с предмета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без предметов (пальчиковая гимнастика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ругие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азличные виды орг. деят-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08"/>
          <p:cNvSpPr/>
          <p:nvPr/>
        </p:nvSpPr>
        <p:spPr>
          <a:xfrm>
            <a:off x="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24000"/>
                <a:gridCol w="1943280"/>
                <a:gridCol w="2520720"/>
                <a:gridCol w="2556000"/>
              </a:tblGrid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задания с карандашом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с предмета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без предметов (пальчиковая гимнастика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ругие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азличные виды орг. деят-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Помоги машинам осветить дорогу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с пуговица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пражнения на сжимание и разжимание кулако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Разные действия и упражнения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ерекладывание кубиков, обрывание лепестков с цветка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Солнышко и тучка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с прищепка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пражнения на напряжение и расслабление пальце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инование и раскрашивание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Прилетела бабочка к цветку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с верёвочкой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пражнения на потягивание кистей и пальцев рук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Рукоделие: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вышивание, плет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908000"/>
                <a:gridCol w="1943280"/>
                <a:gridCol w="2592360"/>
                <a:gridCol w="270036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задания с карандашо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с предметам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без предметов (пальчиковая гимнастика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ругие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азличные виды орг. деят-т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.Аквариу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гры со шнурко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пражнения на сгибание и разгибание всех пальцев вместе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зготовление игрушек, поделок из бумаги, ткани, ваты, ниток, пластилина, бросового и природного материал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.Белый пару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гры с мячо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пражнения на растягивание пальцев, напряжение и расслабление кистей ру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.Снеговик</a:t>
                      </a: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Игры с музыкальными инструментами</a:t>
                      </a: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Упражнение для запястья</a:t>
                      </a: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6"/>
          <p:cNvSpPr/>
          <p:nvPr/>
        </p:nvSpPr>
        <p:spPr>
          <a:xfrm rot="16200000">
            <a:off x="1476360" y="331920"/>
            <a:ext cx="5904000" cy="5618160"/>
          </a:xfrm>
          <a:prstGeom prst="verticalScroll">
            <a:avLst>
              <a:gd name="adj" fmla="val 10532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556000" y="1114560"/>
            <a:ext cx="414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Посмотри: моя ладош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Как весёлая гармошка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Пальчики я раздвигаю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А потом опять сдвига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Раз, два, три, раз, два, тр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Я играю, посмотри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Я ладошки раздвигаю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И на кнопки нажима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Раз, два, три, раз, два, тр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Я играю, посмотри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771640" y="7650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Monotype Corsiva"/>
              </a:rPr>
              <a:t>Пальчиковая гимнастик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6"/>
          <p:cNvSpPr/>
          <p:nvPr/>
        </p:nvSpPr>
        <p:spPr>
          <a:xfrm>
            <a:off x="971640" y="1341360"/>
            <a:ext cx="5040360" cy="2016360"/>
          </a:xfrm>
          <a:prstGeom prst="cloudCallout">
            <a:avLst>
              <a:gd name="adj1" fmla="val -55291"/>
              <a:gd name="adj2" fmla="val -7377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617480" y="1627560"/>
            <a:ext cx="35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Ёжик топал по дорожк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И грибочки нёс в лукошк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Чтоб грибочки сосчитать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ужно пальцы загиб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64480" y="333360"/>
            <a:ext cx="71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Упражнения на сжимание и разжимание кулачко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39720" y="3499560"/>
            <a:ext cx="745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Упражнения на напряжение и расслабление пальцев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050920" y="4365720"/>
            <a:ext cx="5834160" cy="2158920"/>
          </a:xfrm>
          <a:prstGeom prst="cloudCallout">
            <a:avLst>
              <a:gd name="adj1" fmla="val -61018"/>
              <a:gd name="adj2" fmla="val -6456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аши пальчики сплетё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И соединим ладошк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А потом, как только сможе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Крепко-накрепко сожмё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9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7"/>
          <p:cNvSpPr/>
          <p:nvPr/>
        </p:nvSpPr>
        <p:spPr>
          <a:xfrm>
            <a:off x="1476360" y="260280"/>
            <a:ext cx="640872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698120" y="475200"/>
            <a:ext cx="578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3399"/>
                </a:solidFill>
                <a:uFillTx/>
                <a:latin typeface="Arial"/>
              </a:rPr>
              <a:t>2.Обучение детей составлению загадок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332000" y="2057760"/>
            <a:ext cx="700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Задача педагога состоит в создании условий для самостоятельного составления загадок дошкольниками. Это позволит в дальнейшем выстраивать логические цепочки при отгадывании и получить радость от речевого творчеств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2411640" y="187920"/>
            <a:ext cx="49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Arial"/>
              </a:rPr>
              <a:t>Модели составления загадок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063800" y="907200"/>
            <a:ext cx="67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1 . «Какой? -  Что такое же у другого объекта?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6" descr="222"/>
          <p:cNvPicPr/>
          <p:nvPr/>
        </p:nvPicPr>
        <p:blipFill>
          <a:blip r:embed="rId1"/>
          <a:stretch/>
        </p:blipFill>
        <p:spPr>
          <a:xfrm>
            <a:off x="6300720" y="1557360"/>
            <a:ext cx="259236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468360" y="1557360"/>
          <a:ext cx="5543640" cy="3024000"/>
        </p:xfrm>
        <a:graphic>
          <a:graphicData uri="http://schemas.openxmlformats.org/drawingml/2006/table">
            <a:tbl>
              <a:tblPr/>
              <a:tblGrid>
                <a:gridCol w="2771640"/>
                <a:gridCol w="277200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же у другого объекта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стящи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ет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пящи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ка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заты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буз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58"/>
          <p:cNvSpPr/>
          <p:nvPr/>
        </p:nvSpPr>
        <p:spPr>
          <a:xfrm>
            <a:off x="826920" y="5084280"/>
            <a:ext cx="78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Verdana"/>
              </a:rPr>
              <a:t>Итоговая загадка про самовар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Блестящий, как начищенная монета; шипящий, как проснувшийся вулкан; пузатый, но неспелый арбуз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9:39:12Z</dcterms:created>
  <dc:creator>Евгения</dc:creator>
  <dc:description/>
  <dc:language>en-US</dc:language>
  <cp:lastModifiedBy>ММ</cp:lastModifiedBy>
  <dcterms:modified xsi:type="dcterms:W3CDTF">2012-10-03T17:02:03Z</dcterms:modified>
  <cp:revision>53</cp:revision>
  <dc:subject/>
  <dc:title>Слайд 1</dc:title>
</cp:coreProperties>
</file>