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7FF-415F-4C85-991F-E067AB57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93B-A4FF-4929-9415-F86A2AAB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F01-9E01-44DD-8E44-017034D7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384-4A6F-4DAB-AEA5-69DF9A60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0116-0420-484C-8B59-3C729E03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ECE3-9CD1-4F31-8E32-716FC6CC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2016-83B9-4A0F-9B85-5C6ABB06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FFBC-9ED5-4A8E-AF15-018CF6A1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9393-2723-4C0D-931A-06FBC02E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6A96-077E-4B31-831C-C02198A4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4E7D-0461-4F14-90D2-7B79CD9E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E1F-EAF0-4F22-8A46-0D524BE9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6630-E265-4C5A-8ABA-50AC886B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428C-7AAD-469B-B206-679B858C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9B28-0BF6-40A0-ADC6-B55E0551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5CFB-BAA3-49AF-9DFF-56D881D8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B74C-EE52-48B9-A4BD-50A05058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C3D-5439-40AB-B35D-D7FD1EF2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AE4-86B1-4D45-BFEA-19485286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A8E-E01F-4766-8D26-0924750A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DBA-9611-4588-A029-B1901876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4D5-33B8-4D6A-9004-C39301E2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375-6301-4A36-9981-9C4585CE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F1D-4E08-4E38-8FB4-0CE30B10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D591-39C1-463D-8C0E-CAE95E7110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C1A8-DCB8-470B-92A5-BBE8C95A86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znayka1.ru/wp-content/uploads/2011/10/Devochka-risuet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fachildren.ru/images/kalendar/ytr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emianin.ru/uploads/posts/2011-07/1310969392_18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5el.com.ua/images/photo_set/razv_d_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g155.imageshack.us/img155/3762/resim2tb3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920" y="1052280"/>
            <a:ext cx="6400800" cy="4824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а воспитатель</a:t>
            </a:r>
            <a:br>
              <a:rPr sz="4800"/>
            </a:b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олина Екатерина </a:t>
            </a:r>
            <a:br>
              <a:rPr sz="4800"/>
            </a:b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оревна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532080"/>
            <a:ext cx="8061120" cy="770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66"/>
                </a:solidFill>
                <a:latin typeface="Times New Roman"/>
                <a:ea typeface="Times New Roman"/>
              </a:rPr>
              <a:t>Особенности грамматического строя у детей с недоразвитием речи представлены в работах В.К. Воробьёвой, Б.М. Гриншпуна, В.А. Ковшикова , Р.Е. Левиной , В.К. Орфинской,  </a:t>
            </a:r>
            <a:br>
              <a:rPr sz="2200"/>
            </a:br>
            <a:r>
              <a:rPr b="0" lang="ru-RU" sz="2200" spc="-1" strike="noStrike">
                <a:solidFill>
                  <a:srgbClr val="ff6666"/>
                </a:solidFill>
                <a:latin typeface="Times New Roman"/>
                <a:ea typeface="Times New Roman"/>
              </a:rPr>
              <a:t>Е.Ф. Соботович, С.Н Шаховской и др. Первоначально особенности грамматического строя речи анализировались с позиций психолого-педагогического подхода с целью выявления, изучения и анализа имеющихся нарушений. Были определены морфологические нарушения, проявляющиеся в нарушении словоизменения и словобразования. Аграмматизмы в речи детей с недоразвитием речи увеличиваются по мере расширения словарного запаса. Однако, по мнению Е.Ф. Соботович, структура грамматических ошибок является неоднородной, при этом имеют место как морфологические, проявляющиеся на уровне словосочетаний и предложений в неумении согласовывать слова, так и синтаксические нарушения, проявляющиеся в структурном и семантическом аграмматизмах. У детей не формируются операции программирования, отбора, синтеза языкового материала в процессе порождения речевого высказывания.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18920" y="-459000"/>
            <a:ext cx="7273800" cy="705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ервые термин «общее недоразвитие речи» был введен Р.Е. Левиной в 50-60-х годах 20 века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уровень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полное отсутствие речи, элементы речи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уровень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зачатки общеупотребительной речи, кроме жестов и лепетных слов, появляются хотя и искаженные, но достаточно постоянные общеупотребительные слова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уровень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речь более развернута, отсутствуют грубые отклонения в развитии фонетико – фонематической и лексико – грамматической стороны реч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0" y="46080"/>
            <a:ext cx="21240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6000" y="2781360"/>
            <a:ext cx="7632720" cy="40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Для детей с общим недоразвитием речи характерен низкий уровень развития основных свойств внимания. У некоторых из них отмечается недостаточная устойчивость внимания, ограниченные возможности его распределени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Невнимательность у детей"/>
          <p:cNvPicPr/>
          <p:nvPr/>
        </p:nvPicPr>
        <p:blipFill>
          <a:blip r:embed="rId1"/>
          <a:stretch/>
        </p:blipFill>
        <p:spPr>
          <a:xfrm>
            <a:off x="0" y="0"/>
            <a:ext cx="5796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846920" cy="601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чевое отставание отрицательно сказывается и на развитие памяти. При относительно сохранной смысловой, логической памяти у таких детей заметно снижение по сравнению с нормально говорящими сверстниками вербальная память и продуктивность запоминания. Дети часто забывают сложные инструкции (трёх – четырёхступенчатые), опускают некоторые их элементы, меняют последовательность предложенных заданий. Нередки ошибки дублирования при описании предметов, картинок.</a:t>
            </a:r>
            <a:br>
              <a:rPr sz="12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420640"/>
            <a:ext cx="8134200" cy="44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ладая полноценными предпосылками для овладения мыслительными операциями, доступными их возрасту, дети отстают в наглядно – образной сферы мышления, без специального обучения с трудом овладевают анализом и синтезом, сравнение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Картинка 14 из 1520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8440" y="0"/>
            <a:ext cx="4529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586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тям с недоразвитием речи наряду с общей соматической ослабленностью присуще и некоторое отставание в развитии двигательной сферы. У значительной части детей двигательная недостаточность выражается в виде плохой координации сложных движений, неуверенности в воспроизведении точных движений, снижении скорости и ловкости их выполнения. Наибольшие трудности представляет выполнение движений по словесной и особенно многоступенчатой инструкция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662960" cy="60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f8a00"/>
                </a:solidFill>
                <a:latin typeface="Times New Roman"/>
                <a:ea typeface="Times New Roman"/>
              </a:rPr>
              <a:t>Психическое развитие детей с ОНР, как правило, опережает их речевое развитие. У них отмечается критичность к собственной речевой недостаточности. Первичная патология речи, безусловно, тормозит формирование первоначально сохранных умственных способностей, однако по мере коррекции словесной речи происходит выравнивание интеллектуальных процесс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5640" y="242064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В настоящее время дошкольники с недостатками речевого развития составляют самую многочисленную группу детей с нарушениями развития. </a:t>
            </a:r>
            <a:br>
              <a:rPr sz="2800"/>
            </a:br>
            <a:r>
              <a:rPr b="0" lang="ru-RU" sz="28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На основе исследований закономерностей речевого развития детей с разной речевой патологией были разработаны пути преодоления речевой недостаточности, определено содержание и методы коррекционного обучения и воспит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Картинка 32 из 153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71360"/>
            <a:ext cx="5651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-532080"/>
            <a:ext cx="7921440" cy="705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НР сложная проблема, нуждающаяся в следующих методах формирования связной речи у детей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br>
              <a:rPr sz="1400"/>
            </a:br>
            <a:r>
              <a:rPr b="0" i="1" lang="ru-RU" sz="2400" spc="-1" strike="noStrike">
                <a:solidFill>
                  <a:srgbClr val="7f5c00"/>
                </a:solidFill>
                <a:latin typeface="Times New Roman"/>
                <a:ea typeface="Times New Roman"/>
              </a:rPr>
              <a:t>1. Обучение пересказу.</a:t>
            </a:r>
            <a:br>
              <a:rPr sz="2400"/>
            </a:br>
            <a:r>
              <a:rPr b="0" i="1" lang="ru-RU" sz="2400" spc="-1" strike="noStrike">
                <a:solidFill>
                  <a:srgbClr val="7f5c00"/>
                </a:solidFill>
                <a:latin typeface="Times New Roman"/>
                <a:ea typeface="Times New Roman"/>
              </a:rPr>
              <a:t>2. Обучение рассказыванию по картинкам.</a:t>
            </a:r>
            <a:br>
              <a:rPr sz="2400"/>
            </a:br>
            <a:r>
              <a:rPr b="0" i="1" lang="ru-RU" sz="2400" spc="-1" strike="noStrike">
                <a:solidFill>
                  <a:srgbClr val="7f5c00"/>
                </a:solidFill>
                <a:latin typeface="Times New Roman"/>
                <a:ea typeface="Times New Roman"/>
              </a:rPr>
              <a:t>3. Рассказывание по сериям сюжетных картинок, достаточно подробно изображающих развитие сюжетного действия.</a:t>
            </a:r>
            <a:br>
              <a:rPr sz="2400"/>
            </a:br>
            <a:r>
              <a:rPr b="0" i="1" lang="ru-RU" sz="2400" spc="-1" strike="noStrike">
                <a:solidFill>
                  <a:srgbClr val="7f5c00"/>
                </a:solidFill>
                <a:latin typeface="Times New Roman"/>
                <a:ea typeface="Times New Roman"/>
              </a:rPr>
              <a:t>4. Обучение рассказыванию по отдельно сюжетной картине с придумыванием детьми предшествующих и последующих событий( по опорным вопросам).</a:t>
            </a:r>
            <a:br>
              <a:rPr sz="2400"/>
            </a:br>
            <a:r>
              <a:rPr b="0" i="1" lang="ru-RU" sz="2400" spc="-1" strike="noStrike">
                <a:solidFill>
                  <a:srgbClr val="7f5c00"/>
                </a:solidFill>
                <a:latin typeface="Times New Roman"/>
                <a:ea typeface="Times New Roman"/>
              </a:rPr>
              <a:t>5.Описание пейзажной картины.</a:t>
            </a:r>
            <a:br>
              <a:rPr sz="2400"/>
            </a:br>
            <a:r>
              <a:rPr b="0" i="1" lang="ru-RU" sz="2400" spc="-1" strike="noStrike">
                <a:solidFill>
                  <a:srgbClr val="7f5c00"/>
                </a:solidFill>
                <a:latin typeface="Times New Roman"/>
                <a:ea typeface="Times New Roman"/>
              </a:rPr>
              <a:t>6. Обучение описанию предметов.</a:t>
            </a:r>
            <a:br>
              <a:rPr sz="1400"/>
            </a:br>
            <a:r>
              <a:rPr b="0" i="1" lang="ru-RU" sz="1400" spc="-1" strike="noStrike">
                <a:solidFill>
                  <a:srgbClr val="7f5c00"/>
                </a:solidFill>
                <a:latin typeface="Times New Roman"/>
                <a:ea typeface="Times New Roman"/>
              </a:rPr>
              <a:t>7. </a:t>
            </a:r>
            <a:r>
              <a:rPr b="0" i="1" lang="ru-RU" sz="2400" spc="-1" strike="noStrike">
                <a:solidFill>
                  <a:srgbClr val="7f5c00"/>
                </a:solidFill>
                <a:latin typeface="Times New Roman"/>
                <a:ea typeface="Times New Roman"/>
              </a:rPr>
              <a:t>Обучение рассказыванию с элементами творчества.</a:t>
            </a: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-316440"/>
            <a:ext cx="68706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И в заключени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692280"/>
            <a:ext cx="8280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Изучив  теоретическую литературу по поднятой проблеме, мы ознакомились с состоянием проблемы, изучили симптоматику общего недоразвития речи. Речевые нарушения затрудняют коммуникацию, отрицательно влияют на мыслительную деятельность, ведут к изменениям в эмоциональной сфере ребенка, ограничивают овладение понятийными значениями и речевыми образцами, препятствуют усвоению грамотой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Хорошая речь - важнейшее условие всестороннего полноценного развития детей. Чем богаче и правильнее речь ребенка, тем легче ему высказать свои мысли, тем шире его возможности в познании окружающей действительности, содержательнее и полноценнее отношения со сверстниками и взрослыми, тем активнее осуществляется его психическое развитие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9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формирования связной речи у детей с ОНР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080" y="3068640"/>
            <a:ext cx="8629560" cy="46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Эффективность процесса формирования связной речи зависит, прежде всего , от своевременного его начала и эффективности выбранного метода коррекционного воздействия с учетом выявленных нарушений и особенностей ребенка.</a:t>
            </a:r>
            <a:br>
              <a:rPr sz="2400"/>
            </a:br>
            <a:r>
              <a:rPr b="0" lang="ru-RU" sz="24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Также исследуя теоретическую  литературу  мы сделали вывод: логопедическую работу с детьми, отстающими в развитии речи, надо начинать в раннем возрасте. Выявление отклонений в речевом развитии, их правильная классификация и преодоление в раннем возрасте, когда языковое развитие ребенка далеко еще не завершено, представляется весьма сложным, но важным.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Картинка 158 из 153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00720" cy="3284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Картинка 328 из 1535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658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огопедический справочник логопеда Н.Н.Полушкина. – М.: АСТ:Астрель 2010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новы теории и практики логопедии под редакцией Р. Е. Левиной Просвещение – М – 1968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сновы логопедии Т. Б. Филичева, А. Н. Чевелева, Г. В. Чиркина, Просвещение М – 1989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пыт лингвистического анализа словаря детской речи А. В. Захарова Новсибирск -1975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еодоление общего недоразвития речи у дошкольников Н. С. Жукова, Е. М. Мастюкова, Т. Б. Филичева Просвещение М 1998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чь, как проводник информации Н. И. Жинкин –м -1982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1640" y="-100440"/>
            <a:ext cx="6985080" cy="748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ичева Т.Б., Туманова Т. В. Дети с общим недоразвитием речи. Воспитание и обучение. Учебно-методическое пособие. М.: «Издательство ГНОМ и Д», 2000. 128 с. (Коррекционная работа в специальных дошкольных учреждениях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обии представлены психолого-педагогическая характеристика детей, программа коррекционного обучения и воспитания детей, примерные конспекты занятий по развитию понимания речи, формированию лексико-грамматического строя и развитию связной речи у детей с ОНР в I, II и III периодах обучен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нятий с детьми с 1 уровнем ОНР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ешидзе Т. А. Система коррекционной работы с детьми раннего возраста с задержкой речевого развития. СПб.: Речь, 2004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иге изложена система коррекционной работы с детьми в возрасте двух-трех лет, страдающих задержкой речевого развития разного происхождения с использованием всех видов деятельности, доступных детям данного возраст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848720" cy="67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я. Преодоление общего недоразвития речи у дошкольников: Кн. для логопеда/ Жукова Н.С, Мастюкова Е.М., Филичева, 1999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одробно расписана работа по преодолению ОНР от 1 до 3 уровня. В сравнительном плане рассматривается процесс усвоения ребёнком русского языка в норме и патологи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менкова Л. Н. Формирование речи у дошкольников: (Дети с общим недоразвитием речи). Кн. для логопеда. 2-е изд., перераб. М.:Просвещение, 1985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ы описания игровых приёмов по развитию лексико-грамматического строя реч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енко Т.А. Учим говорить правильно. Система коррекции общего недоразвития речи у детей 5 лет., Москва, 2002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енко Т.А. Учим говорить правильно. Система коррекции общего недоразвития речи у детей 6 лет., Москва, 2002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е является частью учебно-методического комплекта, широко используемого современными логопедами-практикам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представлено планирование коррекционной логопедической работы в специализированных группах для детей с ОНР, приведены наиболее интересные конспекты занятий, игровых приём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000" y="151920"/>
            <a:ext cx="6767640" cy="630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щева Н. В. Система коррекционной работы в логопедической группе для детей с общим недоразвитием речи. СПб.:, 2004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е включает три раздела, посвященных логопедической работы в разных возрастных группах — средней (1-й год обучения), старшей (2-й год обучения) и подготовительной к школе (3-й год обучении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аздел состоит из перспективного плана работы логопедической группы на год и приложений. Перспективные планы составлены с опорой на типовую программу детских дошкольных учреждений и включают элементы программы «Детство» (учитываются особенное развития детей с нарушениями речи). Приложения содержит обширный дидактический материал к логопедическим занятиям (стихи, подвижные игры, упражнения пальчиковой гимнастики и др.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-243000"/>
            <a:ext cx="691344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3213000"/>
            <a:ext cx="687096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</a:t>
            </a:r>
            <a:br>
              <a:rPr sz="4400"/>
            </a:b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ИСЛОВИЕ</a:t>
            </a:r>
            <a:r>
              <a:rPr b="0" lang="ru-RU" sz="4400" spc="-1" strike="noStrike">
                <a:solidFill>
                  <a:srgbClr val="00b050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3933360"/>
            <a:ext cx="864072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f0000"/>
                </a:solidFill>
                <a:latin typeface="Times New Roman"/>
                <a:ea typeface="Times New Roman"/>
              </a:rPr>
              <a:t>Первые осмысленные слова появляются у детей к концу первого года жизни (10-12 слов); в конце второго года жизни лексический состав составляет 300-400 слов; к трём годам - 1500 слов; к четырём - 1900; в пять лет - до 2000 - 2500, в шесть семь лет - до 3500- 4000 сл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9" descr="C:\Users\Екатерина\Desktop\фоны\8914_razvitie_reci.gif"/>
          <p:cNvPicPr/>
          <p:nvPr/>
        </p:nvPicPr>
        <p:blipFill>
          <a:blip r:embed="rId1"/>
          <a:stretch/>
        </p:blipFill>
        <p:spPr>
          <a:xfrm>
            <a:off x="68400" y="-136440"/>
            <a:ext cx="533376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6870600" cy="489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ждый ребенок должен научиться содержательно, грамматически правильно, связно и последовательно излагать свои мысли. В тоже время речь ребенка должна быть живой, непосредственной, выразительной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язная речь неотделима от мира мыслей: связность речи – это связность мыслей. В связной речи отражаются логика, мышление ребенка, его умение осмысливать воспринимаемое и выражать его в правильной, четкой, логической реч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15840"/>
            <a:ext cx="687060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ая картина наблюдается при ОНР.  Общее недоразвитие речи может быть выраженно в разной степени: от полной невозможности соединять слова в фразы или от произнесения вместо слов отдельных звукоподражательных комплексов до развернутой речи с элементами фонетико – фонематического и лексического несовершенства. Отсюда и название дефекта – общее недоразвитие реч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997360"/>
            <a:ext cx="828036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Актуальность</a:t>
            </a:r>
            <a:br>
              <a:rPr sz="5400"/>
            </a:b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анной проблемы в том, что  у детей с общим недоразвитие речи, связная  речь нарушена всегда. Это происходит в связи с ухудшением экологической обстановки, увеличением психической травматизации и влияние различных вредоносных фактор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4500720" y="-100080"/>
            <a:ext cx="4643280" cy="3241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Картинка 34 из 153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00080"/>
            <a:ext cx="45007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6870960" cy="55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е недоразвитие речи - </a:t>
            </a:r>
            <a:br>
              <a:rPr sz="54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системное нарушение усвоения всех уровней языка</a:t>
            </a:r>
            <a:br>
              <a:rPr sz="3600"/>
            </a:b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вуковой стороны (фонетики) и смысловой стороны (лексики, грамматики),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бующего длительного и систематического логопедического воздейств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Основные признаки общего недоразвития речи:</a:t>
            </a:r>
            <a:r>
              <a:rPr b="1" i="1" lang="ru-RU" sz="40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днее начало развития реч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дленный темп речевого развит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раниченный, не соответствующий возрасту словарный запас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ушение формирования грамматического строя реч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ушение звукопроизношения и фонематического восприят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141360"/>
            <a:ext cx="8207280" cy="37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общего недоразвития речи как системного нарушения и выявлением особенностей связной речи у детей с ОНР занимались Р. Е. Левина, Л. Н. Ефименков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А. Ткачев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формирования связной речи изуча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И. Тихеева, А. А. Леонтьев, Л. С. Выготск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развития связной речи у детей с ОНР нашла свое отражение в работах В. П. Глухова, Т. Б. Филичевой, Л. Н. Ефименковой, Т. А. Ткаченко, Н. С. Жуковой и д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335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2195640" y="0"/>
            <a:ext cx="2236680" cy="3357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4432320" y="0"/>
            <a:ext cx="2227320" cy="3357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49:05Z</dcterms:created>
  <dc:creator/>
  <dc:description/>
  <dc:language>en-US</dc:language>
  <cp:lastModifiedBy/>
  <dcterms:modified xsi:type="dcterms:W3CDTF">2012-10-19T18:35:09Z</dcterms:modified>
  <cp:revision>1</cp:revision>
  <dc:subject/>
  <dc:title/>
</cp:coreProperties>
</file>