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CAAD-7AAB-473C-9F70-6A0B050F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051-584C-416B-B0CF-302E4DE0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F5D-A180-46AC-9984-1571C083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6184-ECA0-471D-825C-5399DF48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9A36-2964-4FDA-BEDE-6C78F741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FBDF-FCD3-4030-BA37-3A708F5A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4760-74EB-494B-B94B-7C6D6B82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B45A-F56A-4CDC-9C99-0A702784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D948-13A8-4C58-8163-C5258EDF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39CE-51ED-496D-A34A-617D0B59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BE6C-0BC0-4BF6-A3E0-AEC06338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BA3-09A3-4BE8-8051-035C6C0F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9474-D82B-44C6-A72F-70B7F7E8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2853-5955-426B-B4CC-341919D9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00A5-B452-4AF7-8206-749AD3E0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7EE3-841E-4F82-BA2B-1CDE9EEE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D4BC-4BF0-4994-A36F-76EFBF53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C84-6C2A-46F3-8C5E-5219FECB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9A33-A2B4-4C7B-BAB8-51F989E4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5C5-4A6F-4361-8DD3-9E3D3B83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798E-31B2-4927-BF9F-EB85CF84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3442-9280-4B2E-9570-B780F65F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FD7-61E3-4437-ACB2-A617195B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2FA-1E36-41BD-A931-2FED2F69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99AD-EC44-4CF5-AD7E-61B4D06D5C6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2B15-3DEF-4765-B8F7-E73858DB312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cc00"/>
                </a:solidFill>
                <a:latin typeface="Monotype Corsiva"/>
              </a:rPr>
              <a:t>Тема выступления :</a:t>
            </a:r>
            <a:br>
              <a:rPr sz="6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Использование электронных образовательных ресурсов (ЭОР) в преподавании русского языка и литературы»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зентацию подготовила учитель русского языка и литературы МБОУ «Быковская основная общеобразовательная школа Яковлевского района Белгородской области»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ласова Галина Михайл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уроках обобщения и повторения целесообразно использовать интерактивные таблицы, схемы. Они помогают систематизировать изученный материал. Возможно их использование и при объяснении нового материала. С помощью таблиц дети учатся анализировать языковые явления, делать выводы и обобщения, схематично представлять языковой материа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этапах повторения и закрепления материала использую интерактивные тесты. Это тесты, разработанные мною, и тесты, содержащиеся на дисках. Использование интерактивных тестов помогает не только экономить время, но и дает возможность учащимся самим оценить свои знания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ОР можно использовать на всех этапах урока и при любой организации учебного процесса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нение ИКТ на уроках литературы помогает добиться следующих результат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здавать учителем и учащимися базы, включающей в себя презентации по биографиям и творчеству писателей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вышает качество обуч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иливает интерес к изучению предме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воляет рационально распределять время урок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могает доходчиво объяснять материал, делать его интерес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обое место принадлежит такому эффективному педагогическому средству, как занимательность. Занимательность - внешний фактор, который не в состоянии обеспечить полного успеха деятельности. Но она может снять равнодушие, а это в работе по активизации мыслительной деятельности факт немаловаж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нообразие занимательных форм обучения на уроках (игры-упражнения, конкурсы, сигнальные карточки, живое, образное описание событий, эпизода, игры-путешествия, загадки, конкурс на быстрое отыскание ошибок и т.д.) создаёт положительный эмоциональный фон деятельности, располагает к выполнению тех заданий, которые считаются трудными и даже непреодолимым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ование ИКТ на уроках русского языка и литературы позволяет разнообразить формы работы, деятельность учащихся, повышает творческий потенциал личност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ким образом, ИКТ развивает самостоятельность учащихся, умение находить, отбирать и оформлять материал к уроку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читаю применение ИКТ на уроках эффективным средством повышения мотивации учащихся к изучению предме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ступление на школьном педагогическом совете:«Использование современных педтехнологий на уроках, эффективность и результативность их применен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2" descr="C:\Documents and Settings\Admin.MICROSOF-1391D0\Рабочий стол\Документы Власовой\фото\S7301506.JPG"/>
          <p:cNvPicPr/>
          <p:nvPr/>
        </p:nvPicPr>
        <p:blipFill>
          <a:blip r:embed="rId1"/>
          <a:stretch/>
        </p:blipFill>
        <p:spPr>
          <a:xfrm>
            <a:off x="2873520" y="1600200"/>
            <a:ext cx="3674880" cy="490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КТ - обобщающее понятие, описывающее различные устройства, механизмы, способы, алгоритмы обработки информации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преимущества ИКТ: позволяет разнообразить формы работы, деятельность учащихся, активизировать внимание, повышает творческий потенциал личност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нение средств ИКТ на уроках - эффективный метод формирования активизации познавательной деятельности. Использование компьютерной техники делает урок привлекательным и по-настоящему современным, происходит индивидуализация обучения, контроль и подведение итогов проходят объективно и своевременно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ование ЭОР на уроках русского языка позволяет разнообразить формы работы, деятельность учащихся, активизировать внимани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воей работе использую готовые программные продук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электронные энциклопедические словари, Интернет-ресурсы, текстовые материалы, тесты, презентации учебного материала и электронные пособ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тересна работа с использованием программы PowerPoint. Она приводит к ряду положительных эффектов: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огащает урок эмоциональной окрашенностью, облегчает процесс усвоения, возбуждает интерес к предмету, расширяет кругозор, повышает производительность труда учителя и учащихся на уро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троение схем, таблиц, презентаций позволяет экономить время, более эстетично оформить материал. Использование кроссвордов, иллюстраций, рисунков, различных занимательных заданий, тестов, воспитывают интерес к уроку, делают его интересне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объяснении нового материала на уроке использую иллюстрации, фотографии, портреты, видеофрагменты, видео-экскурс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3:40:55Z</dcterms:created>
  <dc:creator>настя</dc:creator>
  <dc:description/>
  <dc:language>en-US</dc:language>
  <cp:lastModifiedBy>Admin</cp:lastModifiedBy>
  <dcterms:modified xsi:type="dcterms:W3CDTF">2012-08-16T11:15:50Z</dcterms:modified>
  <cp:revision>30</cp:revision>
  <dc:subject/>
  <dc:title>Программа «Школа за здоровый образ жизн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