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D44-1F20-4194-B7BA-EBE3F015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7656-DC3B-4A47-8D5F-27788233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8D0-10BD-40A7-B0E3-46EAFA57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AEE-A41B-4DE8-9B5B-76D51DE2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2F47-F307-47E6-AA4D-90937D69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68C7-BE7D-4374-85CE-79239C30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B394-2141-4EE4-A38D-9E7B347A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AA82-8832-4F44-A9BC-19E404FA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74D4-66FB-4A0D-8D48-F4529B62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75D5-62D7-40CF-9086-FA874DA6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964F-3B96-4AA4-B9F1-906EC09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80C-2198-4FD8-B1E9-01D471C9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1617-8311-4CBB-8243-67AC7234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9C81-9BFA-4277-A60B-652EEE3D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1FCF-6D43-4E0E-9999-8DD5DDA2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7790-5030-431C-9225-76DB9A9A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F455-922C-485A-9F76-3ABD4EA3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7A4-EAD7-4735-A399-9166A5E4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1CF9-8E4B-4D46-848B-C8BE91BC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0D7-4191-4FAB-95F8-A64BF0E2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72E-37EC-40EA-BB46-A745B512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A53-1F41-415A-9037-BB9D28AB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E24-75C9-4970-8B4D-AEBC4444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93D-5895-4B0E-800C-63E20F1C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8D82-C0C8-404D-B122-09954EFEBC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E414-F225-4919-B899-1E24879D15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cc00"/>
                </a:solidFill>
                <a:latin typeface="Monotype Corsiva"/>
              </a:rPr>
              <a:t>Тема выступления :</a:t>
            </a:r>
            <a:br>
              <a:rPr sz="6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Использование электронных образовательных ресурсов (ЭОР) в преподавании русского языка и литературы»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ентацию подготовила учитель русского языка и литературы МБОУ «Быковская основная общеобразовательная школа Яковлевского района Белгородской области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ласова Галин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уроках обобщения и повторения целесообразно использовать интерактивные таблицы, схемы. Они помогают систематизировать изученный материал. Возможно их использование и при объяснении нового материала. С помощью таблиц дети учатся анализировать языковые явления, делать выводы и обобщения, схематично представлять языковой материа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этапах повторения и закрепления материала использую интерактивные тесты. Это тесты, разработанные мною, и тесты, содержащиеся на дисках. Использование интерактивных тестов помогает не только экономить время, но и дает возможность учащимся самим оценить свои знани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ОР можно использовать на всех этапах урока и при любой организации учебного процесса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нение ИКТ на уроках литературы помогает добиться следующих результа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здавать учителем и учащимися базы, включающей в себя презентации по биографиям и творчеству писателей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ышает качество обуч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иливает интерес к изучению предме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воляет рационально распределять время урок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могает доходчиво объяснять материал, делать его интерес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ое место принадлежит такому эффективному педагогическому средству, как занимательность. Занимательность - внешний фактор, который не в состоянии обеспечить полного успеха деятельности. Но она может снять равнодушие, а это в работе по активизации мыслительной деятельности факт немаловаж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нообразие занимательных форм обучения на уроках (игры-упражнения, конкурсы, сигнальные карточки, живое, образное описание событий, эпизода, игры-путешествия, загадки, конкурс на быстрое отыскание ошибок и т.д.) создаёт положительный эмоциональный фон деятельности, располагает к выполнению тех заданий, которые считаются трудными и даже непреодолимы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ИКТ на уроках русского языка и литературы позволяет разнообразить формы работы, деятельность учащихся, повышает творческий потенциал личн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им образом, ИКТ развивает самостоятельность учащихся, умение находить, отбирать и оформлять материал к уроку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читаю применение ИКТ на уроках эффективным средством повышения мотивации учащихся к изучению предме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ступление на школьном педагогическом совете:«Использование современных педтехнологий на уроках, эффективность и результативность их примене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C:\Documents and Settings\Admin.MICROSOF-1391D0\Рабочий стол\Документы Власовой\фото\S7301506.JPG"/>
          <p:cNvPicPr/>
          <p:nvPr/>
        </p:nvPicPr>
        <p:blipFill>
          <a:blip r:embed="rId1"/>
          <a:stretch/>
        </p:blipFill>
        <p:spPr>
          <a:xfrm>
            <a:off x="2873520" y="1600200"/>
            <a:ext cx="367488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КТ - обобщающее понятие, описывающее различные устройства, механизмы, способы, алгоритмы обработки информации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преимущества ИКТ: позволяет разнообразить формы работы, деятельность учащихся, активизировать внимание, повышает творческий потенциал личност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нение средств ИКТ на уроках - эффективный метод формирования активизации познавательной деятельности. Использование компьютерной техники делает урок привлекательным и по-настоящему современным, происходит индивидуализация обучения, контроль и подведение итогов проходят объективно и своевременно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ие ЭОР на уроках русского языка позволяет разнообразить формы работы, деятельность учащихся, активизировать внимани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воей работе использую готовые программные продук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электронные энциклопедические словари, Интернет-ресурсы, текстовые материалы, тесты, презентации учебного материала и электронные пособ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ресна работа с использованием программы PowerPoint. Она приводит к ряду положительных эффектов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огащает урок эмоциональной окрашенностью, облегчает процесс усвоения, возбуждает интерес к предмету, расширяет кругозор, повышает производительность труда учителя и учащихся на уро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роение схем, таблиц, презентаций позволяет экономить время, более эстетично оформить материал. Использование кроссвордов, иллюстраций, рисунков, различных занимательных заданий, тестов, воспитывают интерес к уроку, делают его интересне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электронных образовательных ресурсов (ЭОР) в преподавании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объяснении нового материала на уроке использую иллюстрации, фотографии, портреты, видеофрагменты, видео-экскур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3:40:55Z</dcterms:created>
  <dc:creator>настя</dc:creator>
  <dc:description/>
  <dc:language>en-US</dc:language>
  <cp:lastModifiedBy>Admin</cp:lastModifiedBy>
  <dcterms:modified xsi:type="dcterms:W3CDTF">2012-08-16T11:15:50Z</dcterms:modified>
  <cp:revision>30</cp:revision>
  <dc:subject/>
  <dc:title>Программа «Школа за здоровый образ жизн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