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1C7-3744-44DD-A5CF-A410529C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BB2-F16D-4FE8-BB53-9ADB0677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EDF-EEB2-4D4B-8E3C-8D1277EC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BD0-94B4-404F-944D-447E84AA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079-C021-4D69-A37B-B036007D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A68-37B2-445B-8B69-B58B2113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020-7462-43D5-8844-E700CDF0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F18-29BC-4D98-BB92-8D01C000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77A-378A-456A-87B5-D8E56357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FB5-2DE9-4C89-94E7-D2162388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053-51D6-4145-AA56-84893CEA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D84-3C58-4460-96D0-43D1716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4D13-FAD9-426E-B0EE-DC27E5972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udio-class.ru/i-verbs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4762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99ff"/>
                </a:solidFill>
                <a:latin typeface="Arial"/>
              </a:rPr>
              <a:t>Причастие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еличная форма глагола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которая обладает свойствами глагола, наречия и прилагательного. Соответствует в русском языке причастию и деепричастию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Имеет следующие формы: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08000" y="476280"/>
            <a:ext cx="90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)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бстоятельством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ч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Lost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 the woods he could not find the wa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ак как он потерялся, (потерянный), он не мог найти дорогу домо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Sent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y e-mail the letter was received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сланное по электронной почте, (так как его послали) письмо было получено очень быстр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Being laughed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t he felt un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ак как над ним смеялись, он чувствовал себя очень несчастны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1413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c)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бстоятельством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реме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Offered a job he was very ha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огда ему предложили работу, он был очень счастли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спользование сложного дополнения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 причастием прошедшего времени (Participle II)</a:t>
            </a:r>
            <a:br>
              <a:rPr sz="2400"/>
            </a:b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 такой конструкции обозначено, что не сам субъект выполняет действие, 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а кто-то другой делает это за него. </a:t>
            </a:r>
            <a:br>
              <a:rPr sz="2800"/>
            </a:b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глядит это следующим образом: 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to have one’s hair cut (подстричься)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to have one’s  eyes tested (проверить зрение)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to have one’s watch repaired (отдать часы в ремонт) и т.д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-12600" y="549360"/>
            <a:ext cx="9180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бъектный причастный оборо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omplex Object with Participle II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Это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лагол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have +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существительное в общем падеже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.)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или местоимение в объектном падеже (указательное)+ причастие 2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пример: </a:t>
            </a:r>
            <a:br>
              <a:rPr sz="24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he wants to have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her book pu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Она хочет, чтобы её книгу опубликовали(иметь книгу опубликованн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692360" y="2232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oper Black"/>
              </a:rPr>
              <a:t>Формы  причас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920" y="723960"/>
          <a:ext cx="9036000" cy="6210360"/>
        </p:xfrm>
        <a:graphic>
          <a:graphicData uri="http://schemas.openxmlformats.org/drawingml/2006/table">
            <a:tbl>
              <a:tblPr/>
              <a:tblGrid>
                <a:gridCol w="1612800"/>
                <a:gridCol w="3240360"/>
                <a:gridCol w="2232000"/>
                <a:gridCol w="1950840"/>
              </a:tblGrid>
              <a:tr h="1887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rticiple I </a:t>
                      </a: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esent Participle</a:t>
                      </a: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rticiple II </a:t>
                      </a: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st Participle</a:t>
                      </a: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r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rtici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using 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использующий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aving  used 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использовав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eing 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использующийся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использованный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aving been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после того как использовали</a:t>
                      </a:r>
                      <a:r>
                        <a:rPr b="1" lang="en-US" sz="20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549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Black"/>
              </a:rPr>
              <a:t>Present </a:t>
            </a:r>
            <a:r>
              <a:rPr b="1" lang="ru-RU" sz="36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 Black"/>
              </a:rPr>
              <a:t>Participl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to play + -</a:t>
            </a: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ing =p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to make + - ing = ma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 Black"/>
              </a:rPr>
              <a:t>(e-</a:t>
            </a:r>
            <a:r>
              <a:rPr b="1" lang="ru-RU" sz="3600" spc="-1" strike="noStrike">
                <a:solidFill>
                  <a:srgbClr val="002060"/>
                </a:solidFill>
                <a:latin typeface="Arial Black"/>
              </a:rPr>
              <a:t>опускается</a:t>
            </a:r>
            <a:r>
              <a:rPr b="1" lang="en-US" sz="3600" spc="-1" strike="noStrike">
                <a:solidFill>
                  <a:srgbClr val="00206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to forget +- ing = forg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 Black"/>
              </a:rPr>
              <a:t>(t- </a:t>
            </a:r>
            <a:r>
              <a:rPr b="1" lang="ru-RU" sz="3600" spc="-1" strike="noStrike">
                <a:solidFill>
                  <a:srgbClr val="002060"/>
                </a:solidFill>
                <a:latin typeface="Arial Black"/>
              </a:rPr>
              <a:t>удваивается, если глагол оканчивается на согласную и ударение падает на последний слог</a:t>
            </a:r>
            <a:r>
              <a:rPr b="1" lang="en-US" sz="3600" spc="-1" strike="noStrike">
                <a:solidFill>
                  <a:srgbClr val="00206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189000"/>
            <a:ext cx="932508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rticiple I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 предложении может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)определ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boy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riding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a bike is my friend’s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льчи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атающийс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на велосипеде,- сын моих друзе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shop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being built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 front of my house is very mod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газин,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троящийс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напротив моего дома, очень современен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08000" y="476280"/>
            <a:ext cx="90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b)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бстоятель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Reading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 newspaper she fell asleep.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Читая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газету, она уснул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Having parked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car he went h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Припарковав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машину, он отправился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омой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Having been signed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contract was paid.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После того как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нтракт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подписали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, он был оплачен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Having told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truth he felt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Сказав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правду, он почувствовал себя лучше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«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ложное дополнение с причастием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br>
              <a:rPr sz="3600"/>
            </a:b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Complex Object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ith Participle I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2491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уществительное в общем падеже (и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) или местоимение в объектном падеже(указательное) +  причас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I heard </a:t>
            </a:r>
            <a:r>
              <a:rPr b="1" i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them discussing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his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Я слышал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как они обсуждали 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эту проблему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857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82520" y="1039680"/>
            <a:ext cx="89647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omplex Object with Participle I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употребляется после глаго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feel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вств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ee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- вид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watch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-наблюд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hear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- слыш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260280"/>
            <a:ext cx="889308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ичастие 2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Participle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третья основная форма глагола (например: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do – did – d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done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– это  причастие 2 от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еправильного глагола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to do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Оно имеет одну неизменяемую форму и обозначает действие, которое испытывает на себе лицо или предмет, т.е. имеет страдательное или пассивное знач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34920" y="907920"/>
            <a:ext cx="91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ticiple I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предложении може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)определением, соответствуя в русском языке причастиям, оканчивающимся  на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- мый, -ный, -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The mail 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delivered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in the morning was very impor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рреспонденция,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доставленная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утром, была очень важно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9:19:05Z</dcterms:created>
  <dc:creator>Admin</dc:creator>
  <dc:description/>
  <dc:language>en-US</dc:language>
  <cp:lastModifiedBy>user</cp:lastModifiedBy>
  <dcterms:modified xsi:type="dcterms:W3CDTF">2012-05-13T15:06:26Z</dcterms:modified>
  <cp:revision>11</cp:revision>
  <dc:subject/>
  <dc:title>Слайд 1</dc:title>
</cp:coreProperties>
</file>