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8EA5-1344-487F-BFEC-90E68A67A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9A52-7BD7-4254-807A-6F19395E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AC97-6C8A-44BF-94F7-2C4C6CBAF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098D-DCE5-4112-AB42-F3FED81E5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428E-ABA4-4194-B978-9DBC386B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C013-BA8C-490B-8BBD-2880D585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3E29-15E1-4D80-9184-2C669017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0038-B4C7-4C6C-97E4-57890E30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C6C6-D8C2-4C3E-BB8F-A6D1E6A9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84F4-D1B5-408D-8658-F6D919D1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7395-2679-4AB3-BD16-9C306DC1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7830-5726-4B6A-8787-D447FD5E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2C3C-AE63-4422-9738-5AC719FC6F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udio-class.ru/i-verbs.html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47628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3399ff"/>
                </a:solidFill>
                <a:latin typeface="Arial"/>
              </a:rPr>
              <a:t>Причастие </a:t>
            </a:r>
            <a:r>
              <a:rPr b="1" lang="en-US" sz="4400" spc="-1" strike="noStrike">
                <a:solidFill>
                  <a:srgbClr val="3399ff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неличная форма глагола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 которая обладает свойствами глагола, наречия и прилагательного. Соответствует в русском языке причастию и деепричастию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Имеет следующие формы: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108000" y="476280"/>
            <a:ext cx="9036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)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Обстоятельством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ричи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Lost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n the woods he could not find the way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ак как он потерялся, (потерянный), он не мог найти дорогу домой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Sent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y e-mail the letter was received very quick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сланное по электронной почте, (так как его послали) письмо было получено очень быстро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00000"/>
                </a:solidFill>
                <a:uFillTx/>
                <a:latin typeface="Arial"/>
              </a:rPr>
              <a:t>Being laughed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at he felt unhap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ак как над ним смеялись, он чувствовал себя очень несчастным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0" y="14130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c)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Обстоятельством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времен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Offered a job he was very happ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огда ему предложили работу, он был очень счастлив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Использование сложного дополнения</a:t>
            </a:r>
            <a:br>
              <a:rPr sz="3200"/>
            </a:b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с причастием прошедшего времени (Participle II)</a:t>
            </a:r>
            <a:br>
              <a:rPr sz="2400"/>
            </a:b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В такой конструкции обозначено, что не сам субъект выполняет действие, </a:t>
            </a:r>
            <a:br>
              <a:rPr sz="2800"/>
            </a:b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а кто-то другой делает это за него. </a:t>
            </a:r>
            <a:br>
              <a:rPr sz="2800"/>
            </a:b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глядит это следующим образом: </a:t>
            </a:r>
            <a:br>
              <a:rPr sz="2800"/>
            </a:br>
            <a:br>
              <a:rPr sz="28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to have one’s hair cut (подстричься),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to have one’s  eyes tested (проверить зрение),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to have one’s watch repaired (отдать часы в ремонт) и т.д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-12600" y="549360"/>
            <a:ext cx="918036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Объектный причастный оборо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Complex Object with Participle II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)</a:t>
            </a:r>
            <a:br>
              <a:rPr sz="2800"/>
            </a:b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Это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глагол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have +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существительное в общем падеже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п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.)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или местоимение в объектном падеже (указательное)+ причастие 2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Например: </a:t>
            </a:r>
            <a:br>
              <a:rPr sz="2400"/>
            </a:b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She wants to have </a:t>
            </a: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her book publis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8000"/>
                </a:solidFill>
                <a:uFillTx/>
                <a:latin typeface="Arial"/>
              </a:rPr>
              <a:t>Она хочет, чтобы её книгу опубликовали(иметь книгу опубликованно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1692360" y="22320"/>
            <a:ext cx="53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oper Black"/>
              </a:rPr>
              <a:t>Формы  причаст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920" y="723960"/>
          <a:ext cx="9036000" cy="6210360"/>
        </p:xfrm>
        <a:graphic>
          <a:graphicData uri="http://schemas.openxmlformats.org/drawingml/2006/table">
            <a:tbl>
              <a:tblPr/>
              <a:tblGrid>
                <a:gridCol w="1612800"/>
                <a:gridCol w="3240360"/>
                <a:gridCol w="2232000"/>
                <a:gridCol w="1950840"/>
              </a:tblGrid>
              <a:tr h="1887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articiple I </a:t>
                      </a: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resent Participle</a:t>
                      </a: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articiple II </a:t>
                      </a: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ast Participle</a:t>
                      </a:r>
                      <a:r>
                        <a:rPr b="1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er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artici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ctiv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using </a:t>
                      </a:r>
                      <a:r>
                        <a:rPr b="1" lang="en-US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использующий</a:t>
                      </a:r>
                      <a:r>
                        <a:rPr b="1" lang="en-US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having  used </a:t>
                      </a:r>
                      <a:r>
                        <a:rPr b="1" lang="en-US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использовав</a:t>
                      </a:r>
                      <a:r>
                        <a:rPr b="1" lang="en-US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a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being us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использующийся</a:t>
                      </a:r>
                      <a:r>
                        <a:rPr b="1" lang="en-US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us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использованный</a:t>
                      </a:r>
                      <a:r>
                        <a:rPr b="1" lang="en-US" sz="28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having been u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20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после того как использовали</a:t>
                      </a:r>
                      <a:r>
                        <a:rPr b="1" lang="en-US" sz="20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54936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 Black"/>
              </a:rPr>
              <a:t>Present </a:t>
            </a:r>
            <a:r>
              <a:rPr b="1" lang="ru-RU" sz="3600" spc="-1" strike="noStrike">
                <a:solidFill>
                  <a:srgbClr val="cc33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 Black"/>
              </a:rPr>
              <a:t>Participle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Arial Black"/>
              </a:rPr>
              <a:t>to play + -</a:t>
            </a:r>
            <a:r>
              <a:rPr b="1" lang="ru-RU" sz="36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Arial Black"/>
              </a:rPr>
              <a:t>ing =pla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 Black"/>
              </a:rPr>
              <a:t>to make + - ing = mak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 Black"/>
              </a:rPr>
              <a:t>(e-</a:t>
            </a:r>
            <a:r>
              <a:rPr b="1" lang="ru-RU" sz="3600" spc="-1" strike="noStrike">
                <a:solidFill>
                  <a:srgbClr val="002060"/>
                </a:solidFill>
                <a:latin typeface="Arial Black"/>
              </a:rPr>
              <a:t>опускается</a:t>
            </a:r>
            <a:r>
              <a:rPr b="1" lang="en-US" sz="3600" spc="-1" strike="noStrike">
                <a:solidFill>
                  <a:srgbClr val="002060"/>
                </a:solidFill>
                <a:latin typeface="Arial Black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 Black"/>
              </a:rPr>
              <a:t>to forget +- ing = forget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Arial Black"/>
              </a:rPr>
              <a:t>(t- </a:t>
            </a:r>
            <a:r>
              <a:rPr b="1" lang="ru-RU" sz="3600" spc="-1" strike="noStrike">
                <a:solidFill>
                  <a:srgbClr val="002060"/>
                </a:solidFill>
                <a:latin typeface="Arial Black"/>
              </a:rPr>
              <a:t>удваивается, если глагол оканчивается на согласную и ударение падает на последний слог</a:t>
            </a:r>
            <a:r>
              <a:rPr b="1" lang="en-US" sz="3600" spc="-1" strike="noStrike">
                <a:solidFill>
                  <a:srgbClr val="002060"/>
                </a:solidFill>
                <a:latin typeface="Arial Black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0" y="189000"/>
            <a:ext cx="9325080" cy="64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Participle I 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в предложении может бы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)определ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The boy </a:t>
            </a:r>
            <a:r>
              <a:rPr b="1" lang="en-US" sz="3200" spc="-1" strike="noStrike" u="sng">
                <a:solidFill>
                  <a:srgbClr val="c00000"/>
                </a:solidFill>
                <a:uFillTx/>
                <a:latin typeface="Arial"/>
              </a:rPr>
              <a:t>riding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 a bike is my friend’s 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альчик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катающийся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на велосипеде,- сын моих друзей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The shop </a:t>
            </a:r>
            <a:r>
              <a:rPr b="1" lang="en-US" sz="3200" spc="-1" strike="noStrike" u="sng">
                <a:solidFill>
                  <a:srgbClr val="c00000"/>
                </a:solidFill>
                <a:uFillTx/>
                <a:latin typeface="Arial"/>
              </a:rPr>
              <a:t>being built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in front of my house is very mode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агазин,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строящийся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напротив моего дома, очень современен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108000" y="476280"/>
            <a:ext cx="9036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b)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обстоятель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00000"/>
                </a:solidFill>
                <a:uFillTx/>
                <a:latin typeface="Arial"/>
              </a:rPr>
              <a:t>Reading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a newspaper she fell asleep. </a:t>
            </a:r>
            <a:r>
              <a:rPr b="1" lang="ru-RU" sz="3200" spc="-1" strike="noStrike" u="sng">
                <a:solidFill>
                  <a:srgbClr val="008000"/>
                </a:solidFill>
                <a:uFillTx/>
                <a:latin typeface="Arial"/>
              </a:rPr>
              <a:t>Читая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газету, она уснула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00000"/>
                </a:solidFill>
                <a:uFillTx/>
                <a:latin typeface="Arial"/>
              </a:rPr>
              <a:t>Having parked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the car he went ho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    </a:t>
            </a:r>
            <a:r>
              <a:rPr b="1" lang="ru-RU" sz="3200" spc="-1" strike="noStrike" u="sng">
                <a:solidFill>
                  <a:srgbClr val="008000"/>
                </a:solidFill>
                <a:uFillTx/>
                <a:latin typeface="Arial"/>
              </a:rPr>
              <a:t>Припарковав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машину, он отправился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домой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00000"/>
                </a:solidFill>
                <a:uFillTx/>
                <a:latin typeface="Arial"/>
              </a:rPr>
              <a:t>Having been signed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the contract was paid. </a:t>
            </a:r>
            <a:r>
              <a:rPr b="1" lang="ru-RU" sz="3200" spc="-1" strike="noStrike" u="sng">
                <a:solidFill>
                  <a:srgbClr val="008000"/>
                </a:solidFill>
                <a:uFillTx/>
                <a:latin typeface="Arial"/>
              </a:rPr>
              <a:t>После того как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контракт </a:t>
            </a:r>
            <a:r>
              <a:rPr b="1" lang="ru-RU" sz="3200" spc="-1" strike="noStrike" u="sng">
                <a:solidFill>
                  <a:srgbClr val="008000"/>
                </a:solidFill>
                <a:uFillTx/>
                <a:latin typeface="Arial"/>
              </a:rPr>
              <a:t>подписали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, он был оплачен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00000"/>
                </a:solidFill>
                <a:uFillTx/>
                <a:latin typeface="Arial"/>
              </a:rPr>
              <a:t>Having told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the truth he felt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8000"/>
                </a:solidFill>
                <a:uFillTx/>
                <a:latin typeface="Arial"/>
              </a:rPr>
              <a:t>Сказав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правду, он почувствовал себя лучше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828036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«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Сложное дополнение с причастием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I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»</a:t>
            </a:r>
            <a:br>
              <a:rPr sz="3600"/>
            </a:b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 u="sng">
                <a:solidFill>
                  <a:srgbClr val="cc3300"/>
                </a:solidFill>
                <a:uFillTx/>
                <a:latin typeface="Arial"/>
              </a:rPr>
              <a:t>Complex Object</a:t>
            </a:r>
            <a:r>
              <a:rPr b="1" lang="ru-RU" sz="36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cc3300"/>
                </a:solidFill>
                <a:uFillTx/>
                <a:latin typeface="Arial"/>
              </a:rPr>
              <a:t>with Participle I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24919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66"/>
                </a:solidFill>
                <a:latin typeface="Arial"/>
              </a:rPr>
              <a:t>Существительное в общем падеже (и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.</a:t>
            </a:r>
            <a:r>
              <a:rPr b="1" i="1" lang="ru-RU" sz="3600" spc="-1" strike="noStrike">
                <a:solidFill>
                  <a:srgbClr val="660066"/>
                </a:solidFill>
                <a:latin typeface="Arial"/>
              </a:rPr>
              <a:t>п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.</a:t>
            </a:r>
            <a:r>
              <a:rPr b="1" i="1" lang="ru-RU" sz="3600" spc="-1" strike="noStrike">
                <a:solidFill>
                  <a:srgbClr val="660066"/>
                </a:solidFill>
                <a:latin typeface="Arial"/>
              </a:rPr>
              <a:t>) или местоимение в объектном падеже(указательное) +  причаст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I heard </a:t>
            </a:r>
            <a:r>
              <a:rPr b="1" i="1" lang="en-US" sz="3600" spc="-1" strike="noStrike" u="sng">
                <a:solidFill>
                  <a:srgbClr val="008000"/>
                </a:solidFill>
                <a:uFillTx/>
                <a:latin typeface="Arial"/>
              </a:rPr>
              <a:t>them discussing 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this probl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Arial"/>
              </a:rPr>
              <a:t>Я слышал </a:t>
            </a:r>
            <a:r>
              <a:rPr b="1" i="1" lang="ru-RU" sz="3600" spc="-1" strike="noStrike" u="sng">
                <a:solidFill>
                  <a:srgbClr val="008000"/>
                </a:solidFill>
                <a:uFillTx/>
                <a:latin typeface="Arial"/>
              </a:rPr>
              <a:t>как они обсуждали </a:t>
            </a:r>
            <a:r>
              <a:rPr b="1" i="1" lang="ru-RU" sz="3600" spc="-1" strike="noStrike">
                <a:solidFill>
                  <a:srgbClr val="008000"/>
                </a:solidFill>
                <a:latin typeface="Arial"/>
              </a:rPr>
              <a:t>эту проблему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0" y="857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82520" y="1039680"/>
            <a:ext cx="896472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Complex Object with Participle I </a:t>
            </a: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употребляется после глагол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o feel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чувство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o see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- вид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o watch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-наблюд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o hear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- слыш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250920" y="260280"/>
            <a:ext cx="889308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Причастие 2 </a:t>
            </a: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–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Participle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третья основная форма глагола (например: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do – did – don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done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– это  причастие 2 от 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неправильного глагола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to do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Оно имеет одну неизменяемую форму и обозначает действие, которое испытывает на себе лицо или предмет, т.е. имеет страдательное или пассивное значени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2"/>
          <p:cNvSpPr/>
          <p:nvPr/>
        </p:nvSpPr>
        <p:spPr>
          <a:xfrm>
            <a:off x="34920" y="907920"/>
            <a:ext cx="910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articiple I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в предложении может бы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)определением, соответствуя в русском языке причастиям, оканчивающимся  на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- мый, -ный, -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The mail </a:t>
            </a:r>
            <a:r>
              <a:rPr b="1" lang="en-US" sz="3600" spc="-1" strike="noStrike" u="sng">
                <a:solidFill>
                  <a:srgbClr val="c00000"/>
                </a:solidFill>
                <a:uFillTx/>
                <a:latin typeface="Arial"/>
              </a:rPr>
              <a:t>delivered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 in the morning was very importa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орреспонденция,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доставленная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утром, была очень важной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19:19:05Z</dcterms:created>
  <dc:creator>Admin</dc:creator>
  <dc:description/>
  <dc:language>en-US</dc:language>
  <cp:lastModifiedBy>user</cp:lastModifiedBy>
  <dcterms:modified xsi:type="dcterms:W3CDTF">2012-05-13T15:06:26Z</dcterms:modified>
  <cp:revision>11</cp:revision>
  <dc:subject/>
  <dc:title>Слайд 1</dc:title>
</cp:coreProperties>
</file>