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DCD-59C0-4182-A0BE-EA23FE78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C98E-5AFF-44BD-A597-053FFC8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CF6-D5C6-420D-8C20-1823BF39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400-3696-4FC6-A581-F6147C84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C08-18AD-49BE-9FBB-CD37F61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F468-5EDB-432C-A822-26E2865D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4708-0C3F-4937-9A1C-904869B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48A2-A81C-428F-815C-8497D049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531-6DE2-46F3-B7D5-5A1F6BD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AC7-83F9-4A74-B27E-1D9E5F8C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BDD-9722-4F05-9C03-FC67D3A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FC9-6091-4137-8332-6055585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DFF1-4057-4A6E-AC90-ADDDF9FB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46A4-7D6D-4579-9820-069FE905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425A-4157-47E6-A688-63A9EAC1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F5F-3AD2-4054-9565-EF15F726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D1E7-6971-4735-A2E4-881FF965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B18-C3AC-4787-8A11-2A25545F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A32-863B-4395-B6C8-E421786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E22-CC29-4FB1-91EE-2C42213B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35F-4F2D-4418-923C-C249C5A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7D2-885B-428F-966E-3CD000F4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C98-8FF3-4ADE-B55A-EC69EA1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EBC-39DC-4814-8581-347EE0FB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B1BC-A4CA-4A4C-B6A9-23356480AA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F113-A802-43F0-B397-7C9F925D629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ia-gold.ru/sun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journal.jpl.nasa.gov/jpeg/PIA07901.jp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ia-gold.ru/sun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11132.vkontakte.ru/u14661459/-6/x_dcab4a9b.jp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http://fotointeres.ru/wp-content/uploads/2012/01/z-bad-moon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Рисунок 3" descr="http://2.bp.blogspot.com/-AagqTP5uFs8/TyqJrYKaLhI/AAAAAAAAAG0/_XUeu0H3aEE/s1600/%D0%9F%D0%BE%D1%80%D1%82%D1%80%D0%B5%D1%82.jpg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i-main-pic" descr="Описание: Картинка 17 из 16481"/>
          <p:cNvPicPr/>
          <p:nvPr/>
        </p:nvPicPr>
        <p:blipFill>
          <a:blip r:embed="rId1"/>
          <a:stretch/>
        </p:blipFill>
        <p:spPr>
          <a:xfrm>
            <a:off x="1042920" y="476280"/>
            <a:ext cx="7321680" cy="602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Описание: http://s43.radikal.ru/i102/1008/69/5429e8d6447c.jpg"/>
          <p:cNvPicPr/>
          <p:nvPr/>
        </p:nvPicPr>
        <p:blipFill>
          <a:blip r:embed="rId1"/>
          <a:stretch/>
        </p:blipFill>
        <p:spPr>
          <a:xfrm>
            <a:off x="205092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http://i3.apollo.lv/img_thumbs/23_d7575/201209/318015.jpg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664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i-main-pic" descr="Описание: Картинка 2 из 16737"/>
          <p:cNvPicPr/>
          <p:nvPr/>
        </p:nvPicPr>
        <p:blipFill>
          <a:blip r:embed="rId1"/>
          <a:stretch/>
        </p:blipFill>
        <p:spPr>
          <a:xfrm>
            <a:off x="755640" y="476280"/>
            <a:ext cx="7913520" cy="5935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http://2.bp.blogspot.com/_mRYNnt0T-rs/S1QqMatWMyI/AAAAAAAAAvM/_sbykIWYtp4/s400/uroki_adobe_illustrator_starpict5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52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i-main-pic" descr="Описание: Картинка 8 из 80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986600" cy="59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i-main-pic" descr="Описание: Картинка 2 из 948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6200" y="-1179360"/>
            <a:ext cx="8497800" cy="849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i-main-pic" descr="Описание: Картинка 8 из 803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20640"/>
            <a:ext cx="7986600" cy="598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i-main-pic" descr="Описание: Картинка 11 из 59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347320" cy="6261120"/>
          </a:xfrm>
          <a:prstGeom prst="rect">
            <a:avLst/>
          </a:prstGeom>
          <a:ln w="0">
            <a:noFill/>
          </a:ln>
        </p:spPr>
      </p:pic>
      <p:pic>
        <p:nvPicPr>
          <p:cNvPr id="123" name="i-main-pic" descr="Описание: Картинка 4 из 104035"/>
          <p:cNvPicPr/>
          <p:nvPr/>
        </p:nvPicPr>
        <p:blipFill>
          <a:blip r:embed="rId3"/>
          <a:stretch/>
        </p:blipFill>
        <p:spPr>
          <a:xfrm>
            <a:off x="5508720" y="981000"/>
            <a:ext cx="2728800" cy="418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Рисунок 3" descr="http://mignews.com.ua/files/pictures/201008/1281075798526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59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Рисунок 3" descr="http://upload.wikimedia.org/wikipedia/commons/thumb/8/8b/Proton-K-Zarya.jpg/220px-Proton-K-Zarya.jpg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34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Рисунок 3" descr="http://svitk.ru/004_book_book/6b/1449_pervuhin-okkultniy_stalin.files/i_016.jpg"/>
          <p:cNvPicPr/>
          <p:nvPr/>
        </p:nvPicPr>
        <p:blipFill>
          <a:blip r:embed="rId1"/>
          <a:stretch/>
        </p:blipFill>
        <p:spPr>
          <a:xfrm>
            <a:off x="1332000" y="260280"/>
            <a:ext cx="6324480" cy="635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6:11:57Z</dcterms:created>
  <dc:creator>shmelev</dc:creator>
  <dc:description/>
  <dc:language>en-US</dc:language>
  <cp:lastModifiedBy>АНЯ</cp:lastModifiedBy>
  <dcterms:modified xsi:type="dcterms:W3CDTF">2012-09-27T06:43:38Z</dcterms:modified>
  <cp:revision>6</cp:revision>
  <dc:subject/>
  <dc:title>Слайд 1</dc:title>
</cp:coreProperties>
</file>