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4DC-1376-4B53-B309-F933A7A7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190-0820-4916-84EE-2990A26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293-B950-492D-90D9-E1667D2E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B1-9E8E-43DD-A94C-99566884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9BA-4BE4-4140-93EC-7F38EDE2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3CBE-3EC9-49CC-ADF5-5F2DC1A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86FC-7012-46EA-985F-D4F8F41A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C869-41BC-4F59-A475-FDA3E92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C1D7-46B8-4EB9-8E7B-683880D3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B044-3815-49B8-A8F2-94632714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A985-2F74-46A2-85EB-A84B51B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FCD-6090-4659-9B3D-012701AB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95FA-E581-48AA-A37B-C23AE45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45C-3975-4B84-9621-E1CFD66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E2A8-B744-42F7-A80C-DA09739D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20E1-EAF2-41D7-BB93-7B4596E5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3A2F-CBFA-4FBA-BDEA-B06382BE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4BB-8391-4141-BB1E-AF93330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E72-801E-489A-A45D-8C89C998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3D8-2B31-4E62-931C-50D359B6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379-AD66-4C50-89BF-30D1A8C4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16D-2EF6-4130-963C-5581E06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C9C-435C-457D-A11D-86557199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7D4-6BF2-458A-832C-F0D473ED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2AEC-9CD0-46E4-9F6D-560D6549AF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DFE-4A1A-4422-99D3-B54051645DE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ia-gold.ru/sun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journal.jpl.nasa.gov/jpeg/PIA07901.jp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ia-gold.ru/sun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s11132.vkontakte.ru/u14661459/-6/x_dcab4a9b.jp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http://fotointeres.ru/wp-content/uploads/2012/01/z-bad-moon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Рисунок 3" descr="http://2.bp.blogspot.com/-AagqTP5uFs8/TyqJrYKaLhI/AAAAAAAAAG0/_XUeu0H3aEE/s1600/%D0%9F%D0%BE%D1%80%D1%82%D1%80%D0%B5%D1%82.jpg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i-main-pic" descr="Описание: Картинка 17 из 16481"/>
          <p:cNvPicPr/>
          <p:nvPr/>
        </p:nvPicPr>
        <p:blipFill>
          <a:blip r:embed="rId1"/>
          <a:stretch/>
        </p:blipFill>
        <p:spPr>
          <a:xfrm>
            <a:off x="1042920" y="476280"/>
            <a:ext cx="7321680" cy="602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Описание: http://s43.radikal.ru/i102/1008/69/5429e8d6447c.jpg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http://i3.apollo.lv/img_thumbs/23_d7575/201209/318015.jpg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64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i-main-pic" descr="Описание: Картинка 2 из 16737"/>
          <p:cNvPicPr/>
          <p:nvPr/>
        </p:nvPicPr>
        <p:blipFill>
          <a:blip r:embed="rId1"/>
          <a:stretch/>
        </p:blipFill>
        <p:spPr>
          <a:xfrm>
            <a:off x="755640" y="476280"/>
            <a:ext cx="7913520" cy="593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http://2.bp.blogspot.com/_mRYNnt0T-rs/S1QqMatWMyI/AAAAAAAAAvM/_sbykIWYtp4/s400/uroki_adobe_illustrator_starpict5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i-main-pic" descr="Описание: Картинка 8 из 80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20640"/>
            <a:ext cx="7986600" cy="59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i-main-pic" descr="Описание: Картинка 2 из 948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6200" y="-1179360"/>
            <a:ext cx="8497800" cy="849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-main-pic" descr="Описание: Картинка 8 из 80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20640"/>
            <a:ext cx="7986600" cy="59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i-main-pic" descr="Описание: Картинка 11 из 59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8347320" cy="6261120"/>
          </a:xfrm>
          <a:prstGeom prst="rect">
            <a:avLst/>
          </a:prstGeom>
          <a:ln w="0">
            <a:noFill/>
          </a:ln>
        </p:spPr>
      </p:pic>
      <p:pic>
        <p:nvPicPr>
          <p:cNvPr id="123" name="i-main-pic" descr="Описание: Картинка 4 из 104035"/>
          <p:cNvPicPr/>
          <p:nvPr/>
        </p:nvPicPr>
        <p:blipFill>
          <a:blip r:embed="rId3"/>
          <a:stretch/>
        </p:blipFill>
        <p:spPr>
          <a:xfrm>
            <a:off x="5508720" y="981000"/>
            <a:ext cx="2728800" cy="418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Рисунок 3" descr="http://mignews.com.ua/files/pictures/201008/1281075798526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59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Рисунок 3" descr="http://upload.wikimedia.org/wikipedia/commons/thumb/8/8b/Proton-K-Zarya.jpg/220px-Proton-K-Zarya.jpg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34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Рисунок 3" descr="http://svitk.ru/004_book_book/6b/1449_pervuhin-okkultniy_stalin.files/i_016.jpg"/>
          <p:cNvPicPr/>
          <p:nvPr/>
        </p:nvPicPr>
        <p:blipFill>
          <a:blip r:embed="rId1"/>
          <a:stretch/>
        </p:blipFill>
        <p:spPr>
          <a:xfrm>
            <a:off x="1332000" y="260280"/>
            <a:ext cx="6324480" cy="635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11:57Z</dcterms:created>
  <dc:creator>shmelev</dc:creator>
  <dc:description/>
  <dc:language>en-US</dc:language>
  <cp:lastModifiedBy>АНЯ</cp:lastModifiedBy>
  <dcterms:modified xsi:type="dcterms:W3CDTF">2012-09-27T06:43:38Z</dcterms:modified>
  <cp:revision>6</cp:revision>
  <dc:subject/>
  <dc:title>Слайд 1</dc:title>
</cp:coreProperties>
</file>