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2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FC8-A141-4799-A6CA-A21E50420A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922-4B80-4801-A954-EFFD1EAFC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4E4-BEAD-48B8-B0E9-0D79D252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C59-73B8-42D8-BC26-B6F415CA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C75-093A-436B-95E6-7E0E7A55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972-83F7-4B31-B624-A32B371A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5A4-203E-4315-B1AF-1587C82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42B-B3FF-4917-BBE9-C5CB538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B38-B309-42A5-BD3F-567F143E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FBB-8887-4D46-AB5D-68F34332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39E-C9F4-48A9-8B41-4A6DCA5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BFF-C853-41B5-B676-8E0D9DB1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7FC-7461-4F80-9DFB-109B3B7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EC3-F12F-4464-A20B-BAB7101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7D2A-43FC-40F5-8CF3-CF39E1892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 чем секрет улыбк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МОУ СОШ № 100 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 «в» класс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ех,  и улыбка, помогает человеку находить друз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ех оказывает позитивное воздействие на все органы т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смеха учащается дыхание, разрабатывается диафрагма, шея, живот, лицо и плечи. Смех увеличивает содержание кислорода в крови, улучшает кровообращение и расширяет кровеносные сосуды, прилегающие к поверхности кожи. Вот почему от смеха у людей краснеет лицо. Смех уменьшает частоту сердцебиения, расширяет артерии, стимулирует аппетит и сжигает кал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Dom\Desktop\ля-ля-ля\мамино\фото\IMG_0559.JPG"/>
          <p:cNvPicPr/>
          <p:nvPr/>
        </p:nvPicPr>
        <p:blipFill>
          <a:blip r:embed="rId1"/>
          <a:stretch/>
        </p:blipFill>
        <p:spPr>
          <a:xfrm>
            <a:off x="4791240" y="2743200"/>
            <a:ext cx="37494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лыбки наших близ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Объект 4"/>
          <p:cNvGraphicFramePr/>
          <p:nvPr/>
        </p:nvGraphicFramePr>
        <p:xfrm>
          <a:off x="3665520" y="325440"/>
          <a:ext cx="4929120" cy="574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5520" y="325440"/>
                    <a:ext cx="492912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женщины улыбаются чаще, чем мужчины. Мы провели наблюдение за близкими (мамами, папами, братьями, сестрами и т.д.) В наблюдении участвовало 20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читав общий результа,у нас вышло за один день  женщины улыбнулись 2.432 раза, а мужчины 1. 327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ражнения для поднятия настро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73000"/>
            <a:ext cx="3754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вам будет грустно или вы устанете, постарайтесь вспомнить, какую-нибудь весёлую историю, посмеяться с родными, друзь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Dom\Desktop\ля-ля-ля\мамино\фото\IMG_0544.JPG"/>
          <p:cNvPicPr/>
          <p:nvPr/>
        </p:nvPicPr>
        <p:blipFill>
          <a:blip r:embed="rId1"/>
          <a:stretch/>
        </p:blipFill>
        <p:spPr>
          <a:xfrm>
            <a:off x="4836960" y="27795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Dom\Desktop\ля-ля-ля\нечем занятся\34c196b8adb4.gif"/>
          <p:cNvPicPr/>
          <p:nvPr/>
        </p:nvPicPr>
        <p:blipFill>
          <a:blip r:embed="rId1"/>
          <a:stretch/>
        </p:blipFill>
        <p:spPr>
          <a:xfrm>
            <a:off x="6946920" y="1890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ех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хотерапия способствует жизнерадостному мировосприятию. Смех абсолютно естественен, а значит безвреден. Смех разворачивает человека на позитивное восприятие жизни. Уходят страхи, переживания, тревоги. Оздоровление и восстановление происходит без лекарств. Каждый человек умеет смеяться. Только он часто и по разным причинам зажимает в себе эту способнос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ши высказы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4800" y="1413000"/>
            <a:ext cx="5111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в это время ощущаю прилив сил. После шутки настроение на весь день увеличивается. С настроением увеличивается энергия. (Фешин 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рослушивания смехатерапии, мне хочется бегать, прыгать и скакать. (Коробов 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чала у меня было очень плохое настроение, но когда я послушала  запись смеха оно поднялось. Я сразу вспомнила своего дедушку. Он  очень любит шутить. (Хижнякова 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опробовали в классе провести смехотерап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шали записи со смехом, записывали свой смех, рассказывали смешные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Dom\Desktop\ля-ля-ля\нечем занятся\20070919134519.gif"/>
          <p:cNvPicPr/>
          <p:nvPr/>
        </p:nvPicPr>
        <p:blipFill>
          <a:blip r:embed="rId1"/>
          <a:stretch/>
        </p:blipFill>
        <p:spPr>
          <a:xfrm>
            <a:off x="468360" y="4581360"/>
            <a:ext cx="31669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майл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октября отмечался Всемирный день улыбки.  Этот замечательный праздник  обязан американскому художнику Харви Бэлл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 обратились представители страховой компании State Mutual Life Assurance Company of America с просьбой придумать какой-нибудь яркий и запоминающийся символ — визитную карточку компан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ви не долго думал и предложил заказчикам то, что сейчас все без исключения пользователи интернета называют "смайликом«. Заказчики приняли работу, изготовили значки с этой рожицей и раздали всему персоналу компании. Успех такой "визитки" превзошел все ожидания.  Буквально через несколько месяцев было выпущено более десяти тысяч значков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семирный день улыбки первый раз отмечался в 1999 году. Художник считал, что этот день должен быть посвящен хорошему настро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38400" y="404640"/>
            <a:ext cx="13176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В чём секреты улыбки? (К каким выводам мы пришли)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1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огда люди улыбаются, они становятся крас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2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чёные подсчитали, что 80%успеха в жизни зависит от умения общаться с улыб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3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лыбка-сама есть способ общ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4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ажно уметь улыбаться, т.к. это помогает доброжелательно относиться друг к другу, добиваться расположения собеседника, помогает приобрести друз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5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 помощью улыбки можно улучшить своё настроение и настроение окружающих. Когда человек улыбается, в кровь поступают особые вещества- гормоны, которые отвечают за хорошее настро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6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оворят, что 5 минут смеха продлевает жизнь человека на 1 год. А отрицательные эмоции (обида, злоба, недовольство) вызывают болезни. Хандра приводит к смер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НЬТЕ СЕБЕ ЛУЧШИМИ ДРУЗЬЯМИ, УЛЫБАЙТЕСЬ ЧАЩЕ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Dom\Desktop\ля-ля-ля\нечем занятся\73755448_smayl1.gif"/>
          <p:cNvPicPr/>
          <p:nvPr/>
        </p:nvPicPr>
        <p:blipFill>
          <a:blip r:embed="rId1"/>
          <a:stretch/>
        </p:blipFill>
        <p:spPr>
          <a:xfrm>
            <a:off x="611280" y="189000"/>
            <a:ext cx="1728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е народное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ыбка никому не вредит.(пословицы сове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ыбка шутке помогает, настроение подним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слова привета, там улыбка для ответа. (русская 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Dom\Desktop\ля-ля-ля\нечем занятся\fc7a618f.gif"/>
          <p:cNvPicPr/>
          <p:nvPr/>
        </p:nvPicPr>
        <p:blipFill>
          <a:blip r:embed="rId1"/>
          <a:stretch/>
        </p:blipFill>
        <p:spPr>
          <a:xfrm>
            <a:off x="4932360" y="2997360"/>
            <a:ext cx="3479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ыбк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это – улыбка природы?  Или, может быть, просто чудо какое-то, созданное специально   для того, чтобы им ВОСХИЩАТЬСЯ …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Dom\Desktop\ля-ля-ля\пири пири\9fce6748efab.jpg"/>
          <p:cNvPicPr/>
          <p:nvPr/>
        </p:nvPicPr>
        <p:blipFill>
          <a:blip r:embed="rId1"/>
          <a:stretch/>
        </p:blipFill>
        <p:spPr>
          <a:xfrm>
            <a:off x="419040" y="2847960"/>
            <a:ext cx="1889280" cy="151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om\Desktop\ля-ля-ля\пири пири\default.jpeg"/>
          <p:cNvPicPr/>
          <p:nvPr/>
        </p:nvPicPr>
        <p:blipFill>
          <a:blip r:embed="rId2"/>
          <a:stretch/>
        </p:blipFill>
        <p:spPr>
          <a:xfrm>
            <a:off x="5076720" y="1341360"/>
            <a:ext cx="213840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 rot="756000">
            <a:off x="4735080" y="4592160"/>
            <a:ext cx="2278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 rot="2206200">
            <a:off x="6851160" y="2980800"/>
            <a:ext cx="1714680" cy="16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5"/>
          <a:stretch/>
        </p:blipFill>
        <p:spPr>
          <a:xfrm rot="20415600">
            <a:off x="3164040" y="2612520"/>
            <a:ext cx="1717560" cy="150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6"/>
          <a:stretch/>
        </p:blipFill>
        <p:spPr>
          <a:xfrm>
            <a:off x="1042920" y="4581360"/>
            <a:ext cx="2473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56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.Н. Уша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ой толковый словарь современного русского язы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40000" y="1557000"/>
            <a:ext cx="454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53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ыбка   - мимика лица, губ или глаз, показывающая расположение к смеху или выражающая привет, удовольствие либо иронию, насмеш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19 различных типов улыб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женная улыбка. Насмешливая улыбка. Широкая улыбка. Лукавая улыбка. Кислая улыбка. Ехидная улыб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тливая улыбка. Смущенная улыбка.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427880" y="4941720"/>
            <a:ext cx="1262160" cy="115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51240" y="1628640"/>
            <a:ext cx="3200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щитная улыб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, которая нас охран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Dom\Desktop\ля-ля-ля\мамино\фото\IMG_0554.JPG"/>
          <p:cNvPicPr/>
          <p:nvPr/>
        </p:nvPicPr>
        <p:blipFill>
          <a:blip r:embed="rId1"/>
          <a:stretch/>
        </p:blipFill>
        <p:spPr>
          <a:xfrm>
            <a:off x="3645000" y="1398600"/>
            <a:ext cx="4970520" cy="360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итуации неизвестности улыбка — наше первое оружие, способ расслабиться, который помогает сдержать наши собственные  порывы и нейтрализовать  страх,  который может испытывать по отношению к нам другой человек. Этот знак снятия напряжения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кавая улыб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Dom\Desktop\мама фото\IMG_0766.JPG"/>
          <p:cNvPicPr/>
          <p:nvPr/>
        </p:nvPicPr>
        <p:blipFill>
          <a:blip r:embed="rId1"/>
          <a:stretch/>
        </p:blipFill>
        <p:spPr>
          <a:xfrm>
            <a:off x="3564000" y="198900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ненный добродушно-веселого коварства, игривая, кокетливо-хитр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тливая улыбка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, что нас встреча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ка-приветствие, или улыбка вежливости, одновременно сближающая и сохраняющая дистанцию, способна сделать так, чтобы мы вдруг почувствовали себя в своей тарелке, даже если ничто не связывает нас с человеком, который нам улыб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11280" y="880920"/>
            <a:ext cx="1968480" cy="13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мама и библиотека\IMG_0234.JPG"/>
          <p:cNvPicPr/>
          <p:nvPr/>
        </p:nvPicPr>
        <p:blipFill>
          <a:blip r:embed="rId2"/>
          <a:stretch/>
        </p:blipFill>
        <p:spPr>
          <a:xfrm>
            <a:off x="3576600" y="1854360"/>
            <a:ext cx="51087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7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ажная улыб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Dom\Desktop\ля-ля-ля\мамино\IMG_0619.JPG"/>
          <p:cNvPicPr/>
          <p:nvPr/>
        </p:nvPicPr>
        <p:blipFill>
          <a:blip r:embed="rId1"/>
          <a:stretch/>
        </p:blipFill>
        <p:spPr>
          <a:xfrm>
            <a:off x="3348000" y="907920"/>
            <a:ext cx="5338800" cy="5185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008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ет нам уверенности в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тавляя себя улыбаться, мы тем самым запоминаем наши успехи, а не пораже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9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оворщицкая улыбка. Объединяет нас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576600" y="1284120"/>
            <a:ext cx="5108760" cy="383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3008160" cy="41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ворщицкая улыбка говорит о том, что у людей есть общее прошлое, что они пережили нечто важное вместе. Она выявляет глубокое взаимопонимание, близость с несколькими избранными людьми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лыбка - одно из лучших упражнений для мозга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Dom\Desktop\мама фото\SP_A0010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3368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следствие стимуляции подкорковых структур головного мозга, отвечающей за проявление эмоций и память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лучшается кратковременная и долговременная память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вышается настроение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ируются творческие способност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величивается работоспособ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е замечательное в улыбке - ее зараз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вы улыбаетесь кому-либо, человек обязательно улыбнется вам в отв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постоянная улыбка должна стать важной частью вашего языка телодвижений. Улыбайтесь даже тогда, когда вам этого не хоч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2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03884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4:41:38Z</dcterms:created>
  <dc:creator>Dom</dc:creator>
  <dc:description/>
  <dc:language>en-US</dc:language>
  <cp:lastModifiedBy>Dom</cp:lastModifiedBy>
  <dcterms:modified xsi:type="dcterms:W3CDTF">2012-10-24T16:52:27Z</dcterms:modified>
  <cp:revision>65</cp:revision>
  <dc:subject/>
  <dc:title>улыбка</dc:title>
</cp:coreProperties>
</file>