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153AB-E0BF-4CE4-9DB4-B32F735C3F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D467D-0DD0-4F5F-8DF4-8CCF17FFFA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79D67-E4AB-464C-86CB-D98787B526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1914B-6513-4B63-A529-D5E910932E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7844C-7B7E-477A-A0B6-A9144AA128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D8B45-EC9F-4118-8B42-7BB405B096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026CA-E656-461A-A440-2752B64BCC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3F921-0BF5-40B7-A32C-FFDF1D0EAC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FD91D-7340-4B12-9054-BB8AA7FFAA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4CBE3-29CE-4497-8B61-E6D1763572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CE297-56E7-4BB3-91A9-40F36E2BD5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E40-C176-431C-BCE2-4A0EE4B0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610-05FE-4C70-B7A1-54649C12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E15E-E68B-4716-814D-37632F62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D64-6A3F-43C6-A157-D69E6ABA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507-46EE-464A-93AB-FA806E10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1DD-8654-4ED6-A4AB-7017254D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421-0232-47F9-86DE-A2BD3461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1B00-057B-4007-9B4F-5998DF1E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F473-8A63-40B0-9C17-87D5EE4E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D9F2-3668-4A90-90A0-3C0335E1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914C-3EBA-4973-B532-9212299E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28E-92FB-4BB3-A3E2-E950710F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F4F56-25AF-4AEC-B4A1-93C9708A79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-360"/>
            <a:ext cx="9070920" cy="19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Камчатка - страна на краю света, страна вулканов и горячих источников, страна, встречающая первой восход солнц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368360" y="2050920"/>
            <a:ext cx="720108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1260360" y="946080"/>
            <a:ext cx="7620120" cy="571500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14940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авказские горы. Эльбру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 </a:t>
            </a:r>
            <a:r>
              <a:rPr b="0" lang="en-GB" sz="4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Среднесибирское плоскогорье</a:t>
            </a:r>
            <a:r>
              <a:rPr b="0" lang="ru-RU" sz="4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111320" y="1708200"/>
            <a:ext cx="7858080" cy="485784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2323dc"/>
                </a:solidFill>
                <a:latin typeface="Arial"/>
              </a:rPr>
              <a:t>Сая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79640" y="1619280"/>
            <a:ext cx="788976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2323dc"/>
                </a:solidFill>
                <a:latin typeface="Arial"/>
              </a:rPr>
              <a:t>Алта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079640" y="1619280"/>
            <a:ext cx="8099280" cy="540072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 </a:t>
            </a:r>
            <a:r>
              <a:rPr b="0" lang="en-GB" sz="4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Западно - Сибирская равнина</a:t>
            </a:r>
            <a:r>
              <a:rPr b="0" lang="ru-RU" sz="4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79640" y="1440000"/>
            <a:ext cx="7920000" cy="540036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Уральские горы</a:t>
            </a:r>
            <a:r>
              <a:rPr b="0" lang="ru-RU" sz="4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205000" y="1440000"/>
            <a:ext cx="5535720" cy="540036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 </a:t>
            </a:r>
            <a:r>
              <a:rPr b="0" lang="en-GB" sz="4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Восточно -Европейская равнина</a:t>
            </a:r>
            <a:r>
              <a:rPr b="0" lang="ru-RU" sz="44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260360" y="1440000"/>
            <a:ext cx="7620120" cy="570528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Карелия</a:t>
            </a:r>
            <a:r>
              <a:rPr b="0" lang="ru-RU" sz="4800" spc="-1" strike="noStrike">
                <a:solidFill>
                  <a:srgbClr val="2323dc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700360" y="1440000"/>
            <a:ext cx="4859280" cy="575928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GB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Хибины. Кольский полуостр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079640" y="1440000"/>
            <a:ext cx="7920000" cy="5400360"/>
          </a:xfrm>
          <a:prstGeom prst="rect">
            <a:avLst/>
          </a:prstGeom>
          <a:ln w="12600">
            <a:solidFill>
              <a:srgbClr val="000000"/>
            </a:solidFill>
            <a:round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24T15:17:36Z</dcterms:modified>
  <cp:revision>13</cp:revision>
  <dc:subject/>
  <dc:title>Камчатка - страна на краю света, страна вулканов и горячих источников, страна, встречающая первой восход солнца!</dc:title>
</cp:coreProperties>
</file>