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472E5-03FF-471D-883B-81496FA2AC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F9F22-17E4-4B2E-85FA-14F17F1F46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EBE5A-24DE-4CE0-90D8-E3D3152E35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C445C-A81A-4F0C-9250-83BEBF402D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C85B7-2FCA-45E9-B648-BAE4B359DA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6B099-A26A-4BFE-A652-B869A67F55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F6F1D-3B25-4BD7-8E03-441F35E2AD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8D15E-40C9-4045-B15E-96256302B5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AF105-5946-410D-B52A-CDD8E67EE6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1EB4B-670A-4994-930D-1F80971A19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5A54B-0135-4CC4-978A-F8ABDDDBEE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527-E9A7-43C2-8694-D3E6B149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EF0-0E52-4264-8788-DF87D111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678-DEF0-4188-A9BD-61E20EDD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EC2-9B12-4803-B8C0-787FC769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13E-5CCE-4A9D-A9AF-EF86609A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550-103F-4CB4-A583-EFAED521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A72-64D4-4719-8DBE-6D5CA7DB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DCC-D321-4DBB-8CD8-76A2DF0F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5F3-1389-4DB2-BCE6-72E0DFD8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B6E-53B9-43B1-AFE2-DDA83C4E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CB3-D7E3-40EF-9259-D09CD703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330-448F-4B27-BA53-BCD764B7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8B548-13B5-48B4-89A5-E56B2A568D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9070920" cy="19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Камчатка - страна на краю света, страна вулканов и горячих источников, страна, встречающая первой восход солн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368360" y="2050920"/>
            <a:ext cx="720108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260360" y="946080"/>
            <a:ext cx="7620120" cy="571500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14940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вказские горы. Эльбру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Среднесибирское плоскогорье</a:t>
            </a: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111320" y="1708200"/>
            <a:ext cx="7858080" cy="485784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2323dc"/>
                </a:solidFill>
                <a:latin typeface="Arial"/>
              </a:rPr>
              <a:t>Сая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79640" y="1619280"/>
            <a:ext cx="788976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2323dc"/>
                </a:solidFill>
                <a:latin typeface="Arial"/>
              </a:rPr>
              <a:t>Алт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79640" y="1619280"/>
            <a:ext cx="8099280" cy="540072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Западно - Сибирская равнина</a:t>
            </a: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79640" y="1440000"/>
            <a:ext cx="7920000" cy="54003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Уральские горы</a:t>
            </a: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05000" y="1440000"/>
            <a:ext cx="5535720" cy="54003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Восточно -Европейская равнина</a:t>
            </a: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60360" y="1440000"/>
            <a:ext cx="7620120" cy="5705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Карелия</a:t>
            </a:r>
            <a:r>
              <a:rPr b="0" lang="ru-RU" sz="48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700360" y="1440000"/>
            <a:ext cx="4859280" cy="575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Хибины. Кольский полуостр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79640" y="1440000"/>
            <a:ext cx="7920000" cy="54003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24T15:17:36Z</dcterms:modified>
  <cp:revision>13</cp:revision>
  <dc:subject/>
  <dc:title>Камчатка - страна на краю света, страна вулканов и горячих источников, страна, встречающая первой восход солнца!</dc:title>
</cp:coreProperties>
</file>