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29.png" ContentType="image/png"/>
  <Override PartName="/ppt/media/image31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7.png" ContentType="image/png"/>
  <Override PartName="/ppt/media/image18.png" ContentType="image/png"/>
  <Override PartName="/ppt/media/type.wav" ContentType="audio/x-wav"/>
  <Override PartName="/ppt/media/image11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9FA-DF40-461C-B2FD-4601A324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02A-82B6-4F7B-AA3F-38CB5D4C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3C04-1A43-448E-A89C-AA6D6726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DE85-21F2-4D8E-B627-04B75876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88D7-058F-4222-AE4F-56D37162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3474-E463-4E81-839E-47EAD5D0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65EF-3CC9-45D6-BE5E-830FAE00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CAF0-2754-4047-A9AD-FD115CB0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A26F-33A3-4659-99C8-02C0E88D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AC5A-B820-4DEE-9F66-CD4CA07C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7DBC-6A18-4317-A367-0E7EDBE9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ABC-9383-431A-9ABF-A893C54B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4E19-C759-4DF2-91D0-842F029E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D876-BB92-4B76-921D-20FEFE6F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6661-969E-41A9-BB8A-AF786392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46FB-788B-47F7-9013-0E60BCD6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7964-470C-4D0E-AC29-176D8942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BD6-19D0-4C9D-82E3-6B42D587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32F-E130-4FEF-95D4-33CACF33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1CC-BE0B-46D8-BC5F-DB23A8A7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A8D-8ABA-4456-9D07-0E744D6D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BC46-8011-47E9-90E0-BEC8C570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46F-CC40-4C18-8D3B-B0CC20EA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E5D-79E2-4CD9-BCAB-6FCDF2D7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1640" cy="2949480"/>
            <a:chOff x="0" y="3902040"/>
            <a:chExt cx="340164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16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444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128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128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900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604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5F0C-C693-4337-8423-73D69219990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1640" cy="2949480"/>
            <a:chOff x="0" y="3902040"/>
            <a:chExt cx="340164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16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444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128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128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900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604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99ff99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E7A7-F60B-4292-8307-4134ECBD9E8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744480" y="187488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Работа</a:t>
            </a:r>
            <a:endParaRPr b="0" lang="en-US" sz="4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284720" y="29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cc33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5135400" y="4105440"/>
            <a:ext cx="355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cc33"/>
                </a:solidFill>
                <a:latin typeface="Arial"/>
              </a:rPr>
              <a:t>мощность</a:t>
            </a:r>
            <a:endParaRPr b="0" lang="en-US" sz="4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6012000" y="1916280"/>
            <a:ext cx="216036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02" name="Picture 25" descr="AG00038_"/>
          <p:cNvPicPr/>
          <p:nvPr/>
        </p:nvPicPr>
        <p:blipFill>
          <a:blip r:embed="rId1"/>
          <a:stretch/>
        </p:blipFill>
        <p:spPr>
          <a:xfrm>
            <a:off x="6084720" y="1989000"/>
            <a:ext cx="2016360" cy="1158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6" descr="BD13771_"/>
          <p:cNvPicPr/>
          <p:nvPr/>
        </p:nvPicPr>
        <p:blipFill>
          <a:blip r:embed="rId2"/>
          <a:stretch/>
        </p:blipFill>
        <p:spPr>
          <a:xfrm>
            <a:off x="1332000" y="2984400"/>
            <a:ext cx="2303280" cy="21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3" presetSubtype="1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Clr clrSpc="rgb">
                                      <p:cBhvr>
                                        <p:cTn id="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autoRev="1" nodeType="withEffect" fill="hold" presetClass="emph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" autoRev="1" nodeType="withEffect" fill="hold" presetClass="emph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484360" y="63360"/>
            <a:ext cx="4427640" cy="70380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КОЭФФИЦИЕНТ ПОЛЕЗНОГО ДЕЙСТВИЯ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556000" y="800280"/>
            <a:ext cx="428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Какова доля А</a:t>
            </a:r>
            <a:r>
              <a:rPr b="0" lang="ru-RU" sz="2000" spc="-1" strike="noStrike" baseline="-25000">
                <a:solidFill>
                  <a:srgbClr val="99ff99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от А</a:t>
            </a:r>
            <a:r>
              <a:rPr b="0" lang="ru-RU" sz="2000" spc="-1" strike="noStrike" baseline="-25000">
                <a:solidFill>
                  <a:srgbClr val="99ff99"/>
                </a:solidFill>
                <a:latin typeface="Arial"/>
              </a:rPr>
              <a:t>з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3348000" y="1233360"/>
            <a:ext cx="2736720" cy="648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95" name="Picture 7" descr=""/>
          <p:cNvPicPr/>
          <p:nvPr/>
        </p:nvPicPr>
        <p:blipFill>
          <a:blip r:embed="rId2"/>
          <a:stretch/>
        </p:blipFill>
        <p:spPr>
          <a:xfrm>
            <a:off x="6481800" y="1125360"/>
            <a:ext cx="2411280" cy="8956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8"/>
          <p:cNvSpPr/>
          <p:nvPr/>
        </p:nvSpPr>
        <p:spPr>
          <a:xfrm>
            <a:off x="2124000" y="2079720"/>
            <a:ext cx="518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ru-RU" sz="2000" spc="-1" strike="noStrike" baseline="-25000">
                <a:solidFill>
                  <a:srgbClr val="99ff99"/>
                </a:solidFill>
                <a:latin typeface="Arial"/>
              </a:rPr>
              <a:t>тр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мало и массой простых механизмов можно  пренебречь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4716360" y="2781360"/>
            <a:ext cx="0" cy="287280"/>
          </a:xfrm>
          <a:prstGeom prst="line">
            <a:avLst/>
          </a:prstGeom>
          <a:ln w="1908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4067280" y="3033720"/>
            <a:ext cx="122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А</a:t>
            </a:r>
            <a:r>
              <a:rPr b="0" lang="ru-RU" sz="2000" spc="-1" strike="noStrike" baseline="-25000">
                <a:solidFill>
                  <a:srgbClr val="99ff99"/>
                </a:solidFill>
                <a:latin typeface="Arial"/>
              </a:rPr>
              <a:t>п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  <a:ea typeface="Arial"/>
              </a:rPr>
              <a:t>≈ А</a:t>
            </a:r>
            <a:r>
              <a:rPr b="0" lang="ru-RU" sz="2000" spc="-1" strike="noStrike" baseline="-25000">
                <a:solidFill>
                  <a:srgbClr val="99ff99"/>
                </a:solidFill>
                <a:latin typeface="Arial"/>
                <a:ea typeface="Arial"/>
              </a:rPr>
              <a:t>з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4680000" y="3429000"/>
            <a:ext cx="0" cy="287280"/>
          </a:xfrm>
          <a:prstGeom prst="line">
            <a:avLst/>
          </a:prstGeom>
          <a:ln w="1908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672000" y="3681360"/>
            <a:ext cx="19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99ff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99ff9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  <a:ea typeface="Arial"/>
              </a:rPr>
              <a:t>≈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 baseline="-25000">
                <a:solidFill>
                  <a:srgbClr val="99ff99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  <a:ea typeface="Arial"/>
              </a:rPr>
              <a:t>S</a:t>
            </a:r>
            <a:r>
              <a:rPr b="0" lang="en-US" sz="2000" spc="-1" strike="noStrike" baseline="-25000">
                <a:solidFill>
                  <a:srgbClr val="99ff99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4680000" y="4078440"/>
            <a:ext cx="0" cy="287280"/>
          </a:xfrm>
          <a:prstGeom prst="line">
            <a:avLst/>
          </a:prstGeom>
          <a:ln w="1908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503280" y="4476600"/>
            <a:ext cx="8389800" cy="163116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«ЗОЛОТОЕ ПРАВИЛО» МЕХАНИКИ: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ни один из простых механизмов </a:t>
            </a: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выигрыша в работе не дает!!!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о сколько раз </a:t>
            </a: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выигрываем в силе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, во столько раз </a:t>
            </a: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проигрываем в расстоянии!!!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124000" y="6273720"/>
            <a:ext cx="52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Герон Александрийский (греч.)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в. до н. э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16000" y="2541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33"/>
                </a:solidFill>
                <a:latin typeface="Arial"/>
              </a:rPr>
              <a:t>Основные вопросы</a:t>
            </a:r>
            <a:endParaRPr b="0" lang="en-US" sz="28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42920" y="1052640"/>
            <a:ext cx="73454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еханическая работа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ощность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Рычаг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Правило моментов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Блок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Другие механизмы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Коэффициент полезного действия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autoRev="1" nodeType="withEffect" fill="hold" presetClass="emph" presetID="3" presetSubtype="1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7">
                                  <p:stCondLst>
                                    <p:cond delay="360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5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2411280" y="190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Механическая работа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547640" y="549360"/>
            <a:ext cx="60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Ж. Понселе (фр.) 1826 г.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963880" y="1052640"/>
            <a:ext cx="3120840" cy="3283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09" name="Line 7"/>
          <p:cNvSpPr/>
          <p:nvPr/>
        </p:nvSpPr>
        <p:spPr>
          <a:xfrm flipH="1">
            <a:off x="2123640" y="1484280"/>
            <a:ext cx="1079640" cy="432000"/>
          </a:xfrm>
          <a:prstGeom prst="line">
            <a:avLst/>
          </a:prstGeom>
          <a:ln w="381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324000" y="1989000"/>
            <a:ext cx="2376360" cy="1487520"/>
          </a:xfrm>
          <a:prstGeom prst="rect">
            <a:avLst/>
          </a:prstGeom>
          <a:ln w="0">
            <a:noFill/>
          </a:ln>
        </p:spPr>
      </p:pic>
      <p:sp>
        <p:nvSpPr>
          <p:cNvPr id="111" name="Line 9"/>
          <p:cNvSpPr/>
          <p:nvPr/>
        </p:nvSpPr>
        <p:spPr>
          <a:xfrm>
            <a:off x="4572000" y="1484280"/>
            <a:ext cx="0" cy="504720"/>
          </a:xfrm>
          <a:prstGeom prst="line">
            <a:avLst/>
          </a:prstGeom>
          <a:ln w="381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3276720" y="2041560"/>
            <a:ext cx="2519280" cy="144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"/>
          <p:cNvPicPr/>
          <p:nvPr/>
        </p:nvPicPr>
        <p:blipFill>
          <a:blip r:embed="rId4"/>
          <a:stretch/>
        </p:blipFill>
        <p:spPr>
          <a:xfrm>
            <a:off x="6300720" y="2060640"/>
            <a:ext cx="2232000" cy="1446120"/>
          </a:xfrm>
          <a:prstGeom prst="rect">
            <a:avLst/>
          </a:prstGeom>
          <a:ln w="0">
            <a:noFill/>
          </a:ln>
        </p:spPr>
      </p:pic>
      <p:sp>
        <p:nvSpPr>
          <p:cNvPr id="114" name="Line 12"/>
          <p:cNvSpPr/>
          <p:nvPr/>
        </p:nvSpPr>
        <p:spPr>
          <a:xfrm>
            <a:off x="5796000" y="1484280"/>
            <a:ext cx="1008000" cy="504720"/>
          </a:xfrm>
          <a:prstGeom prst="line">
            <a:avLst/>
          </a:prstGeom>
          <a:ln w="3816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15" name="Picture 13" descr=""/>
          <p:cNvPicPr/>
          <p:nvPr/>
        </p:nvPicPr>
        <p:blipFill>
          <a:blip r:embed="rId5"/>
          <a:stretch/>
        </p:blipFill>
        <p:spPr>
          <a:xfrm>
            <a:off x="324000" y="5516640"/>
            <a:ext cx="2592360" cy="115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4"/>
          <p:cNvSpPr/>
          <p:nvPr/>
        </p:nvSpPr>
        <p:spPr>
          <a:xfrm>
            <a:off x="2340000" y="36799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Условия совершения работы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 flipH="1">
            <a:off x="2411280" y="4005360"/>
            <a:ext cx="719280" cy="21564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18" name="Picture 18" descr="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1476360" y="4222800"/>
            <a:ext cx="1295280" cy="790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"/>
          <p:cNvPicPr/>
          <p:nvPr/>
        </p:nvPicPr>
        <p:blipFill>
          <a:blip r:embed="rId7"/>
          <a:stretch/>
        </p:blipFill>
        <p:spPr>
          <a:xfrm>
            <a:off x="4067280" y="4292640"/>
            <a:ext cx="1441440" cy="776160"/>
          </a:xfrm>
          <a:prstGeom prst="rect">
            <a:avLst/>
          </a:prstGeom>
          <a:ln w="0">
            <a:noFill/>
          </a:ln>
        </p:spPr>
      </p:pic>
      <p:sp>
        <p:nvSpPr>
          <p:cNvPr id="120" name="Line 20"/>
          <p:cNvSpPr/>
          <p:nvPr/>
        </p:nvSpPr>
        <p:spPr>
          <a:xfrm>
            <a:off x="4786200" y="4003560"/>
            <a:ext cx="1800" cy="28908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6084720" y="4005360"/>
            <a:ext cx="648000" cy="28872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22" name="Picture 23" descr=""/>
          <p:cNvPicPr/>
          <p:nvPr/>
        </p:nvPicPr>
        <p:blipFill>
          <a:blip r:embed="rId8"/>
          <a:stretch/>
        </p:blipFill>
        <p:spPr>
          <a:xfrm>
            <a:off x="6732720" y="4179960"/>
            <a:ext cx="1439640" cy="977760"/>
          </a:xfrm>
          <a:prstGeom prst="rect">
            <a:avLst/>
          </a:prstGeom>
          <a:ln w="0">
            <a:noFill/>
          </a:ln>
        </p:spPr>
      </p:pic>
      <p:sp>
        <p:nvSpPr>
          <p:cNvPr id="123" name="Line 25"/>
          <p:cNvSpPr/>
          <p:nvPr/>
        </p:nvSpPr>
        <p:spPr>
          <a:xfrm>
            <a:off x="2916360" y="5084640"/>
            <a:ext cx="647640" cy="28908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4" name="Line 26"/>
          <p:cNvSpPr/>
          <p:nvPr/>
        </p:nvSpPr>
        <p:spPr>
          <a:xfrm flipH="1">
            <a:off x="5868720" y="5157720"/>
            <a:ext cx="718920" cy="21600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5" name="Line 27"/>
          <p:cNvSpPr/>
          <p:nvPr/>
        </p:nvSpPr>
        <p:spPr>
          <a:xfrm>
            <a:off x="4786200" y="5084640"/>
            <a:ext cx="1800" cy="289080"/>
          </a:xfrm>
          <a:prstGeom prst="line">
            <a:avLst/>
          </a:prstGeom>
          <a:ln w="2844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3635280" y="52642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иначе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А = 0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3492360" y="5734080"/>
            <a:ext cx="53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1 Дж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– это работа, которую совершает сила </a:t>
            </a: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 1 Н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на пути </a:t>
            </a: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 1 м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 направлении действия силы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"/>
          <p:cNvSpPr/>
          <p:nvPr/>
        </p:nvSpPr>
        <p:spPr>
          <a:xfrm>
            <a:off x="3060720" y="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Мощность -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826920" y="38736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физическая величина, показывающая работу, которая совершается за единицу времени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3348000" y="1492200"/>
            <a:ext cx="2808360" cy="5684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31" name="Picture 8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995640" y="2577960"/>
            <a:ext cx="1440000" cy="814680"/>
          </a:xfrm>
          <a:prstGeom prst="rect">
            <a:avLst/>
          </a:prstGeom>
          <a:ln w="19080">
            <a:solidFill>
              <a:srgbClr val="ff3300"/>
            </a:solidFill>
            <a:miter/>
          </a:ln>
        </p:spPr>
      </p:pic>
      <p:pic>
        <p:nvPicPr>
          <p:cNvPr id="132" name="Picture 9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977080" y="2468520"/>
            <a:ext cx="1728720" cy="276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012000" y="2854440"/>
            <a:ext cx="1873080" cy="287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6012000" y="3249720"/>
            <a:ext cx="2916000" cy="274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250920" y="4336920"/>
            <a:ext cx="2987640" cy="18637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3"/>
          <p:cNvSpPr/>
          <p:nvPr/>
        </p:nvSpPr>
        <p:spPr>
          <a:xfrm>
            <a:off x="3995640" y="5337000"/>
            <a:ext cx="47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1 Вт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– мощность, при которой за </a:t>
            </a: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1 с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совершается работа </a:t>
            </a: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1 Дж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4716360" y="3500280"/>
            <a:ext cx="432000" cy="397080"/>
          </a:xfrm>
          <a:prstGeom prst="line">
            <a:avLst/>
          </a:prstGeom>
          <a:ln w="1908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38" name="Picture 15" descr="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5327640" y="4076640"/>
            <a:ext cx="1549440" cy="6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3203640" y="44280"/>
            <a:ext cx="27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Рычаг -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3333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твердое тело, способное вращаться вокруг неподвижной опоры 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448000" y="836640"/>
            <a:ext cx="4429080" cy="398880"/>
          </a:xfrm>
          <a:prstGeom prst="rect">
            <a:avLst/>
          </a:prstGeom>
          <a:noFill/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Рычаг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дает </a:t>
            </a: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выигрыш в силе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441440" y="123336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подъемный кран, ножницы, кусачки, весы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780000" y="1898640"/>
            <a:ext cx="16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Древний Египет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87280" y="173664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2"/>
          <a:stretch/>
        </p:blipFill>
        <p:spPr>
          <a:xfrm>
            <a:off x="5867280" y="173520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1"/>
          <p:cNvSpPr/>
          <p:nvPr/>
        </p:nvSpPr>
        <p:spPr>
          <a:xfrm>
            <a:off x="3097080" y="375300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Правило рычага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Архимед (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в. до н. э.)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03280" y="4400640"/>
            <a:ext cx="2016000" cy="1731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4"/>
          <a:stretch/>
        </p:blipFill>
        <p:spPr>
          <a:xfrm>
            <a:off x="3960720" y="4575240"/>
            <a:ext cx="1224000" cy="8697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49" name="Picture 14" descr=""/>
          <p:cNvPicPr/>
          <p:nvPr/>
        </p:nvPicPr>
        <p:blipFill>
          <a:blip r:embed="rId5"/>
          <a:stretch/>
        </p:blipFill>
        <p:spPr>
          <a:xfrm>
            <a:off x="5867280" y="4616280"/>
            <a:ext cx="2735280" cy="6732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5"/>
          <p:cNvSpPr/>
          <p:nvPr/>
        </p:nvSpPr>
        <p:spPr>
          <a:xfrm>
            <a:off x="3132000" y="5624640"/>
            <a:ext cx="4680000" cy="100872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Рычаг находится в равновесии, если приложенные к нему силы обратно пропорциональны их плечам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503280" y="44280"/>
            <a:ext cx="82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Правило моментов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(П. Вариньон (фр.) 1687 г.)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68360" y="512640"/>
            <a:ext cx="83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Момент силы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характеризует вращающее действие силы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195640" y="1341360"/>
            <a:ext cx="1512720" cy="4190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154" name="Picture 7" descr=""/>
          <p:cNvPicPr/>
          <p:nvPr/>
        </p:nvPicPr>
        <p:blipFill>
          <a:blip r:embed="rId2"/>
          <a:stretch/>
        </p:blipFill>
        <p:spPr>
          <a:xfrm>
            <a:off x="4859280" y="1125360"/>
            <a:ext cx="3097440" cy="8845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1260360" y="2023920"/>
            <a:ext cx="324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так как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F</a:t>
            </a:r>
            <a:r>
              <a:rPr b="0" i="1" lang="en-US" sz="2400" spc="-1" strike="noStrike" baseline="-25000">
                <a:solidFill>
                  <a:srgbClr val="99ff99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l</a:t>
            </a:r>
            <a:r>
              <a:rPr b="0" i="1" lang="en-US" sz="2400" spc="-1" strike="noStrike" baseline="-25000">
                <a:solidFill>
                  <a:srgbClr val="99ff99"/>
                </a:solidFill>
                <a:latin typeface="Arial"/>
              </a:rPr>
              <a:t>1 </a:t>
            </a: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= F</a:t>
            </a:r>
            <a:r>
              <a:rPr b="0" i="1" lang="en-US" sz="2400" spc="-1" strike="noStrike" baseline="-25000">
                <a:solidFill>
                  <a:srgbClr val="99ff99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99ff99"/>
                </a:solidFill>
                <a:latin typeface="Arial"/>
              </a:rPr>
              <a:t>L</a:t>
            </a:r>
            <a:r>
              <a:rPr b="0" i="1" lang="en-US" sz="2400" spc="-1" strike="noStrike" baseline="-25000">
                <a:solidFill>
                  <a:srgbClr val="99ff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879640" y="2492280"/>
            <a:ext cx="0" cy="324000"/>
          </a:xfrm>
          <a:prstGeom prst="line">
            <a:avLst/>
          </a:prstGeom>
          <a:ln w="1908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57" name="Picture 10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050920" y="2924280"/>
            <a:ext cx="1657440" cy="4521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58" name="Text Box 11"/>
          <p:cNvSpPr/>
          <p:nvPr/>
        </p:nvSpPr>
        <p:spPr>
          <a:xfrm>
            <a:off x="4176720" y="2384280"/>
            <a:ext cx="4608360" cy="161856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Рычаг находится в равновесии, если момент силы, вращающей его по часовой стрелке, равен моменту силы вращающей его против часовой стрелки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008000" y="4508640"/>
            <a:ext cx="34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Правило моментов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справедливо для любого тела, вращающегося вокруг закрепленной оси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60" name="Picture 13" descr=""/>
          <p:cNvPicPr/>
          <p:nvPr/>
        </p:nvPicPr>
        <p:blipFill>
          <a:blip r:embed="rId4"/>
          <a:stretch/>
        </p:blipFill>
        <p:spPr>
          <a:xfrm>
            <a:off x="4859280" y="4545000"/>
            <a:ext cx="3565440" cy="14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3024360" y="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Блок -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431640" y="3142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устройство, имеющее форму колеса с желобом, по которому пропускают веревку, трос, или цепь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987640" y="1160640"/>
            <a:ext cx="3564000" cy="39888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НЕПОДВИЖНЫЙ БЛОК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1212840" y="1700280"/>
            <a:ext cx="1235160" cy="1717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2"/>
          <a:stretch/>
        </p:blipFill>
        <p:spPr>
          <a:xfrm>
            <a:off x="7020000" y="1916280"/>
            <a:ext cx="1214280" cy="14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3"/>
          <a:stretch/>
        </p:blipFill>
        <p:spPr>
          <a:xfrm>
            <a:off x="4248000" y="1844640"/>
            <a:ext cx="1116000" cy="907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2843280" y="2781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ыигрыша в силе НЕТ!!!         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2771640" y="3141720"/>
            <a:ext cx="39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Изменяется направление силы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2987640" y="3851280"/>
            <a:ext cx="3564000" cy="39888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ПОДВИЖНЫЙ БЛОК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70" name="Picture 13" descr=""/>
          <p:cNvPicPr/>
          <p:nvPr/>
        </p:nvPicPr>
        <p:blipFill>
          <a:blip r:embed="rId4"/>
          <a:stretch/>
        </p:blipFill>
        <p:spPr>
          <a:xfrm>
            <a:off x="1187280" y="4365720"/>
            <a:ext cx="1257480" cy="2232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"/>
          <p:cNvPicPr/>
          <p:nvPr/>
        </p:nvPicPr>
        <p:blipFill>
          <a:blip r:embed="rId5"/>
          <a:stretch/>
        </p:blipFill>
        <p:spPr>
          <a:xfrm>
            <a:off x="7016760" y="4616280"/>
            <a:ext cx="1227240" cy="1979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"/>
          <p:cNvPicPr/>
          <p:nvPr/>
        </p:nvPicPr>
        <p:blipFill>
          <a:blip r:embed="rId6"/>
          <a:stretch/>
        </p:blipFill>
        <p:spPr>
          <a:xfrm>
            <a:off x="4248000" y="4549680"/>
            <a:ext cx="1116000" cy="9669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6"/>
          <p:cNvSpPr/>
          <p:nvPr/>
        </p:nvSpPr>
        <p:spPr>
          <a:xfrm>
            <a:off x="3022560" y="573264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ыигрыш в силе в 2 раза!!!         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547640" y="297000"/>
            <a:ext cx="6264360" cy="39888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ПОДВИЖНЫЙ БЛОК + НЕПОДВИЖНЫЙ БЛОК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792000" y="873000"/>
            <a:ext cx="1608480" cy="2232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3672000" y="1015920"/>
            <a:ext cx="42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Изменяется направление силы + выигрыш в силе в 2 раза!!!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095640" y="1916280"/>
            <a:ext cx="5689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99"/>
                </a:solidFill>
                <a:latin typeface="Arial"/>
              </a:rPr>
              <a:t>Полиспаст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(греч. – поли – много, спао – тяну) 3 подвижных + 3 неподвижных блока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ыигрыш в силе в 6 раз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2916360" y="3608280"/>
            <a:ext cx="3563640" cy="39888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ПРОСТЫЕ МЕХАНИЗМЫ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863640" y="4076640"/>
            <a:ext cx="76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преобразуют направление или значение силы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1619280" y="4545000"/>
            <a:ext cx="2916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клин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инт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наклонная плоскость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орот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5292720" y="5084640"/>
            <a:ext cx="31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Архимед (Сиракузы)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2519280" y="5076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Коэффициент полезного действия (КПД)</a:t>
            </a:r>
            <a:endParaRPr b="0" lang="en-US" sz="24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068720" y="944640"/>
            <a:ext cx="1332000" cy="39888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Работа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4" name="Line 6"/>
          <p:cNvSpPr/>
          <p:nvPr/>
        </p:nvSpPr>
        <p:spPr>
          <a:xfrm flipH="1">
            <a:off x="3492360" y="1484280"/>
            <a:ext cx="719280" cy="216000"/>
          </a:xfrm>
          <a:prstGeom prst="line">
            <a:avLst/>
          </a:prstGeom>
          <a:ln w="1908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5640" y="1870200"/>
            <a:ext cx="1800000" cy="44064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полезная А</a:t>
            </a:r>
            <a:r>
              <a:rPr b="0" lang="ru-RU" sz="2000" spc="-1" strike="noStrike" baseline="-25000">
                <a:solidFill>
                  <a:srgbClr val="99ff99"/>
                </a:solidFill>
                <a:latin typeface="Arial"/>
              </a:rPr>
              <a:t>п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5183280" y="1484280"/>
            <a:ext cx="576000" cy="252360"/>
          </a:xfrm>
          <a:prstGeom prst="line">
            <a:avLst/>
          </a:prstGeom>
          <a:ln w="19080">
            <a:solidFill>
              <a:srgbClr val="99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5292720" y="1870200"/>
            <a:ext cx="2087640" cy="44064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затраченная А</a:t>
            </a:r>
            <a:r>
              <a:rPr b="0" lang="ru-RU" sz="2000" spc="-1" strike="noStrike" baseline="-25000">
                <a:solidFill>
                  <a:srgbClr val="99ff99"/>
                </a:solidFill>
                <a:latin typeface="Arial"/>
              </a:rPr>
              <a:t>з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4140360" y="1574640"/>
            <a:ext cx="104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ff99"/>
                </a:solidFill>
                <a:latin typeface="Arial"/>
              </a:rPr>
              <a:t>всегда </a:t>
            </a:r>
            <a:r>
              <a:rPr b="0" lang="en-US" sz="2000" spc="-1" strike="noStrike">
                <a:solidFill>
                  <a:srgbClr val="99ff99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99ff99"/>
              </a:solidFill>
              <a:latin typeface="Arial"/>
            </a:endParaRPr>
          </a:p>
        </p:txBody>
      </p:sp>
      <p:pic>
        <p:nvPicPr>
          <p:cNvPr id="189" name="Picture 12" descr=""/>
          <p:cNvPicPr/>
          <p:nvPr/>
        </p:nvPicPr>
        <p:blipFill>
          <a:blip r:embed="rId1"/>
          <a:stretch/>
        </p:blipFill>
        <p:spPr>
          <a:xfrm>
            <a:off x="179280" y="2673360"/>
            <a:ext cx="1467000" cy="2771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"/>
          <p:cNvPicPr/>
          <p:nvPr/>
        </p:nvPicPr>
        <p:blipFill>
          <a:blip r:embed="rId2"/>
          <a:stretch/>
        </p:blipFill>
        <p:spPr>
          <a:xfrm>
            <a:off x="1871640" y="2673360"/>
            <a:ext cx="2519280" cy="1467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5" descr=""/>
          <p:cNvPicPr/>
          <p:nvPr/>
        </p:nvPicPr>
        <p:blipFill>
          <a:blip r:embed="rId3"/>
          <a:stretch/>
        </p:blipFill>
        <p:spPr>
          <a:xfrm>
            <a:off x="4824360" y="2673360"/>
            <a:ext cx="334800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6:43:33Z</dcterms:created>
  <dc:creator>Anatoliy</dc:creator>
  <dc:description/>
  <dc:language>en-US</dc:language>
  <cp:lastModifiedBy>Анатолий</cp:lastModifiedBy>
  <dcterms:modified xsi:type="dcterms:W3CDTF">2012-10-24T01:34:24Z</dcterms:modified>
  <cp:revision>113</cp:revision>
  <dc:subject/>
  <dc:title>Слайд 1</dc:title>
</cp:coreProperties>
</file>