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29.png" ContentType="image/png"/>
  <Override PartName="/ppt/media/image31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image11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D1C-E374-43A6-9175-429246B4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1DA-E0EB-4971-A5CA-446D1B6F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673-1A0B-46D6-8A91-61513F2C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033-221A-4C72-ACAA-6A5BA19C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7307-FB1A-4C8A-B65D-B37EB4B8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CBD0-0743-4744-9D5F-99963552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0737-3BDC-401F-8C50-3E0197FC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DD94-2BA7-448C-B983-9A5E24F5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6CE4-5595-41A6-99C9-F3EC03F7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8DA0-1A8C-4761-9BAF-0AC1B66B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C74E-3C11-4BC3-BE80-41F84C23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695-4743-4D0C-B08C-B234E0ED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C0F4-A2E2-4DED-961C-B64C7153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F047-D5C7-48D2-936D-6ACE6659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BFB7-B248-4E34-B5B1-232BAB1B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4DF4-6B9A-4E9A-BEC8-6780D608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5B97-238C-4AB5-897E-A066A6AB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6BE-5D2E-4AB6-84AA-433FA149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EA5-A32D-45AF-8328-6E7435BD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6F2-7B74-40A1-90DB-9B8FD964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877-3432-4186-9236-7AC40FAB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6C7-AA4E-41BB-A6BD-4E5F2EB9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601-D132-424C-ACF2-1190599B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19E-8657-4B1C-A21B-ED18259E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1640" cy="2949480"/>
            <a:chOff x="0" y="3902040"/>
            <a:chExt cx="340164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16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444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128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128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900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604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CAF6-7DAC-4750-98BF-A4CCA458B8D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1640" cy="2949480"/>
            <a:chOff x="0" y="3902040"/>
            <a:chExt cx="340164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16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444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128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128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900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604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3013-0359-46F1-9636-5305FEE63BA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744480" y="18748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Работа</a:t>
            </a:r>
            <a:endParaRPr b="0" lang="en-US" sz="4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28472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cc33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135400" y="4105440"/>
            <a:ext cx="355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cc33"/>
                </a:solidFill>
                <a:latin typeface="Arial"/>
              </a:rPr>
              <a:t>мощность</a:t>
            </a:r>
            <a:endParaRPr b="0" lang="en-US" sz="4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6012000" y="1916280"/>
            <a:ext cx="216036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02" name="Picture 25" descr="AG00038_"/>
          <p:cNvPicPr/>
          <p:nvPr/>
        </p:nvPicPr>
        <p:blipFill>
          <a:blip r:embed="rId1"/>
          <a:stretch/>
        </p:blipFill>
        <p:spPr>
          <a:xfrm>
            <a:off x="6084720" y="1989000"/>
            <a:ext cx="20163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BD13771_"/>
          <p:cNvPicPr/>
          <p:nvPr/>
        </p:nvPicPr>
        <p:blipFill>
          <a:blip r:embed="rId2"/>
          <a:stretch/>
        </p:blipFill>
        <p:spPr>
          <a:xfrm>
            <a:off x="1332000" y="2984400"/>
            <a:ext cx="2303280" cy="21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Clr clrSpc="rgb">
                                      <p:cBhvr>
                                        <p:cTn id="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autoRev="1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" autoRev="1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484360" y="63360"/>
            <a:ext cx="4427640" cy="70380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КОЭФФИЦИЕНТ ПОЛЕЗНОГО ДЕЙСТВИЯ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556000" y="800280"/>
            <a:ext cx="428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Какова доля А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от А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</a:rPr>
              <a:t>з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3348000" y="1233360"/>
            <a:ext cx="2736720" cy="648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6481800" y="1125360"/>
            <a:ext cx="2411280" cy="8956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8"/>
          <p:cNvSpPr/>
          <p:nvPr/>
        </p:nvSpPr>
        <p:spPr>
          <a:xfrm>
            <a:off x="2124000" y="2079720"/>
            <a:ext cx="518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</a:rPr>
              <a:t>тр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мало и массой простых механизмов можно  пренебречь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4716360" y="2781360"/>
            <a:ext cx="0" cy="28728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067280" y="3033720"/>
            <a:ext cx="122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  <a:ea typeface="Arial"/>
              </a:rPr>
              <a:t>≈ А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  <a:ea typeface="Arial"/>
              </a:rPr>
              <a:t>з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4680000" y="3429000"/>
            <a:ext cx="0" cy="28728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672000" y="368136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99ff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99ff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  <a:ea typeface="Arial"/>
              </a:rPr>
              <a:t>≈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99ff99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 baseline="-25000">
                <a:solidFill>
                  <a:srgbClr val="99ff99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4680000" y="4078440"/>
            <a:ext cx="0" cy="28728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503280" y="4476600"/>
            <a:ext cx="8389800" cy="163116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«ЗОЛОТОЕ ПРАВИЛО» МЕХАНИКИ: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ни один из простых механизмов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выигрыша в работе не дает!!!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о сколько раз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выигрываем в силе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, во столько раз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проигрываем в расстоянии!!!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124000" y="6273720"/>
            <a:ext cx="52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Герон Александрийский (греч.)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в. до н. э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16000" y="2541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Arial"/>
              </a:rPr>
              <a:t>Основные вопросы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42920" y="1052640"/>
            <a:ext cx="7345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ханическая работа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ощность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Рычаг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Правило моментов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Блок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Другие механизмы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Коэффициент полезного действия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autoRev="1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360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411280" y="190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Механическая работа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547640" y="54936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Ж. Понселе (фр.) 1826 г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963880" y="1052640"/>
            <a:ext cx="3120840" cy="3283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09" name="Line 7"/>
          <p:cNvSpPr/>
          <p:nvPr/>
        </p:nvSpPr>
        <p:spPr>
          <a:xfrm flipH="1">
            <a:off x="2123640" y="1484280"/>
            <a:ext cx="1079640" cy="432000"/>
          </a:xfrm>
          <a:prstGeom prst="line">
            <a:avLst/>
          </a:prstGeom>
          <a:ln w="381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324000" y="1989000"/>
            <a:ext cx="2376360" cy="1487520"/>
          </a:xfrm>
          <a:prstGeom prst="rect">
            <a:avLst/>
          </a:prstGeom>
          <a:ln w="0">
            <a:noFill/>
          </a:ln>
        </p:spPr>
      </p:pic>
      <p:sp>
        <p:nvSpPr>
          <p:cNvPr id="111" name="Line 9"/>
          <p:cNvSpPr/>
          <p:nvPr/>
        </p:nvSpPr>
        <p:spPr>
          <a:xfrm>
            <a:off x="4572000" y="1484280"/>
            <a:ext cx="0" cy="504720"/>
          </a:xfrm>
          <a:prstGeom prst="line">
            <a:avLst/>
          </a:prstGeom>
          <a:ln w="381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276720" y="2041560"/>
            <a:ext cx="2519280" cy="144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4"/>
          <a:stretch/>
        </p:blipFill>
        <p:spPr>
          <a:xfrm>
            <a:off x="6300720" y="2060640"/>
            <a:ext cx="2232000" cy="1446120"/>
          </a:xfrm>
          <a:prstGeom prst="rect">
            <a:avLst/>
          </a:prstGeom>
          <a:ln w="0">
            <a:noFill/>
          </a:ln>
        </p:spPr>
      </p:pic>
      <p:sp>
        <p:nvSpPr>
          <p:cNvPr id="114" name="Line 12"/>
          <p:cNvSpPr/>
          <p:nvPr/>
        </p:nvSpPr>
        <p:spPr>
          <a:xfrm>
            <a:off x="5796000" y="1484280"/>
            <a:ext cx="1008000" cy="504720"/>
          </a:xfrm>
          <a:prstGeom prst="line">
            <a:avLst/>
          </a:prstGeom>
          <a:ln w="381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15" name="Picture 13" descr=""/>
          <p:cNvPicPr/>
          <p:nvPr/>
        </p:nvPicPr>
        <p:blipFill>
          <a:blip r:embed="rId5"/>
          <a:stretch/>
        </p:blipFill>
        <p:spPr>
          <a:xfrm>
            <a:off x="324000" y="5516640"/>
            <a:ext cx="2592360" cy="115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4"/>
          <p:cNvSpPr/>
          <p:nvPr/>
        </p:nvSpPr>
        <p:spPr>
          <a:xfrm>
            <a:off x="2340000" y="3679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Условия совершения работ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 flipH="1">
            <a:off x="2411280" y="4005360"/>
            <a:ext cx="719280" cy="21564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18" name="Picture 18" descr="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476360" y="4222800"/>
            <a:ext cx="1295280" cy="79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"/>
          <p:cNvPicPr/>
          <p:nvPr/>
        </p:nvPicPr>
        <p:blipFill>
          <a:blip r:embed="rId7"/>
          <a:stretch/>
        </p:blipFill>
        <p:spPr>
          <a:xfrm>
            <a:off x="4067280" y="4292640"/>
            <a:ext cx="1441440" cy="776160"/>
          </a:xfrm>
          <a:prstGeom prst="rect">
            <a:avLst/>
          </a:prstGeom>
          <a:ln w="0">
            <a:noFill/>
          </a:ln>
        </p:spPr>
      </p:pic>
      <p:sp>
        <p:nvSpPr>
          <p:cNvPr id="120" name="Line 20"/>
          <p:cNvSpPr/>
          <p:nvPr/>
        </p:nvSpPr>
        <p:spPr>
          <a:xfrm>
            <a:off x="4786200" y="4003560"/>
            <a:ext cx="1800" cy="28908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6084720" y="4005360"/>
            <a:ext cx="648000" cy="2887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22" name="Picture 23" descr=""/>
          <p:cNvPicPr/>
          <p:nvPr/>
        </p:nvPicPr>
        <p:blipFill>
          <a:blip r:embed="rId8"/>
          <a:stretch/>
        </p:blipFill>
        <p:spPr>
          <a:xfrm>
            <a:off x="6732720" y="4179960"/>
            <a:ext cx="1439640" cy="977760"/>
          </a:xfrm>
          <a:prstGeom prst="rect">
            <a:avLst/>
          </a:prstGeom>
          <a:ln w="0">
            <a:noFill/>
          </a:ln>
        </p:spPr>
      </p:pic>
      <p:sp>
        <p:nvSpPr>
          <p:cNvPr id="123" name="Line 25"/>
          <p:cNvSpPr/>
          <p:nvPr/>
        </p:nvSpPr>
        <p:spPr>
          <a:xfrm>
            <a:off x="2916360" y="5084640"/>
            <a:ext cx="647640" cy="28908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 flipH="1">
            <a:off x="5868720" y="5157720"/>
            <a:ext cx="718920" cy="21600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5" name="Line 27"/>
          <p:cNvSpPr/>
          <p:nvPr/>
        </p:nvSpPr>
        <p:spPr>
          <a:xfrm>
            <a:off x="4786200" y="5084640"/>
            <a:ext cx="1800" cy="28908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3635280" y="5264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иначе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А = 0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3492360" y="5734080"/>
            <a:ext cx="53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1 Дж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– это работа, которую совершает сила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 1 Н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на пути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 1 м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 направлении действия сил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3060720" y="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Мощность -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26920" y="38736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физическая величина, показывающая работу, которая совершается за единицу времени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3348000" y="1492200"/>
            <a:ext cx="2808360" cy="5684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31" name="Picture 8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995640" y="2577960"/>
            <a:ext cx="1440000" cy="814680"/>
          </a:xfrm>
          <a:prstGeom prst="rect">
            <a:avLst/>
          </a:prstGeom>
          <a:ln w="19080">
            <a:solidFill>
              <a:srgbClr val="ff3300"/>
            </a:solidFill>
            <a:miter/>
          </a:ln>
        </p:spPr>
      </p:pic>
      <p:pic>
        <p:nvPicPr>
          <p:cNvPr id="132" name="Picture 9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977080" y="2468520"/>
            <a:ext cx="1728720" cy="276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012000" y="2854440"/>
            <a:ext cx="1873080" cy="287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6012000" y="3249720"/>
            <a:ext cx="2916000" cy="274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250920" y="4336920"/>
            <a:ext cx="2987640" cy="1863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>
            <a:off x="3995640" y="533700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1 Вт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– мощность, при которой за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1 с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совершается работа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1 Дж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4716360" y="3500280"/>
            <a:ext cx="432000" cy="39708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38" name="Picture 15" descr="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5327640" y="4076640"/>
            <a:ext cx="1549440" cy="6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203640" y="44280"/>
            <a:ext cx="27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Рычаг -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333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твердое тело, способное вращаться вокруг неподвижной опоры 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448000" y="836640"/>
            <a:ext cx="4429080" cy="398880"/>
          </a:xfrm>
          <a:prstGeom prst="rect">
            <a:avLst/>
          </a:prstGeom>
          <a:noFill/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Рычаг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дает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выигрыш в силе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441440" y="12333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одъемный кран, ножницы, кусачки, вес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0000" y="1898640"/>
            <a:ext cx="16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Древний Египет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173664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2"/>
          <a:stretch/>
        </p:blipFill>
        <p:spPr>
          <a:xfrm>
            <a:off x="5867280" y="17352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1"/>
          <p:cNvSpPr/>
          <p:nvPr/>
        </p:nvSpPr>
        <p:spPr>
          <a:xfrm>
            <a:off x="3097080" y="375300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Правило рычага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Архимед (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в. до н. э.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03280" y="4400640"/>
            <a:ext cx="2016000" cy="1731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4"/>
          <a:stretch/>
        </p:blipFill>
        <p:spPr>
          <a:xfrm>
            <a:off x="3960720" y="4575240"/>
            <a:ext cx="1224000" cy="8697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49" name="Picture 14" descr=""/>
          <p:cNvPicPr/>
          <p:nvPr/>
        </p:nvPicPr>
        <p:blipFill>
          <a:blip r:embed="rId5"/>
          <a:stretch/>
        </p:blipFill>
        <p:spPr>
          <a:xfrm>
            <a:off x="5867280" y="4616280"/>
            <a:ext cx="2735280" cy="673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5"/>
          <p:cNvSpPr/>
          <p:nvPr/>
        </p:nvSpPr>
        <p:spPr>
          <a:xfrm>
            <a:off x="3132000" y="5624640"/>
            <a:ext cx="4680000" cy="100872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Рычаг находится в равновесии, если приложенные к нему силы обратно пропорциональны их плечам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503280" y="4428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Правило моментов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(П. Вариньон (фр.) 1687 г.)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68360" y="512640"/>
            <a:ext cx="83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Момент силы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характеризует вращающее действие сил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195640" y="1341360"/>
            <a:ext cx="1512720" cy="4190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4859280" y="1125360"/>
            <a:ext cx="3097440" cy="884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260360" y="2023920"/>
            <a:ext cx="324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так как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99ff99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l</a:t>
            </a:r>
            <a:r>
              <a:rPr b="0" i="1" lang="en-US" sz="2400" spc="-1" strike="noStrike" baseline="-25000">
                <a:solidFill>
                  <a:srgbClr val="99ff99"/>
                </a:solidFill>
                <a:latin typeface="Arial"/>
              </a:rPr>
              <a:t>1 </a:t>
            </a: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= F</a:t>
            </a:r>
            <a:r>
              <a:rPr b="0" i="1" lang="en-US" sz="2400" spc="-1" strike="noStrike" baseline="-25000">
                <a:solidFill>
                  <a:srgbClr val="99ff99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L</a:t>
            </a:r>
            <a:r>
              <a:rPr b="0" i="1" lang="en-US" sz="2400" spc="-1" strike="noStrike" baseline="-25000">
                <a:solidFill>
                  <a:srgbClr val="99ff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879640" y="2492280"/>
            <a:ext cx="0" cy="32400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57" name="Picture 10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050920" y="2924280"/>
            <a:ext cx="1657440" cy="4521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58" name="Text Box 11"/>
          <p:cNvSpPr/>
          <p:nvPr/>
        </p:nvSpPr>
        <p:spPr>
          <a:xfrm>
            <a:off x="4176720" y="2384280"/>
            <a:ext cx="4608360" cy="161856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Рычаг находится в равновесии, если момент силы, вращающей его по часовой стрелке, равен моменту силы вращающей его против часовой стрелки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008000" y="4508640"/>
            <a:ext cx="34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Правило моментов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справедливо для любого тела, вращающегося вокруг закрепленной оси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4"/>
          <a:stretch/>
        </p:blipFill>
        <p:spPr>
          <a:xfrm>
            <a:off x="4859280" y="4545000"/>
            <a:ext cx="356544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3024360" y="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Блок -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31640" y="314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устройство, имеющее форму колеса с желобом, по которому пропускают веревку, трос, или цепь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987640" y="1160640"/>
            <a:ext cx="3564000" cy="39888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НЕПОДВИЖНЫЙ БЛОК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1212840" y="1700280"/>
            <a:ext cx="1235160" cy="1717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2"/>
          <a:stretch/>
        </p:blipFill>
        <p:spPr>
          <a:xfrm>
            <a:off x="7020000" y="1916280"/>
            <a:ext cx="1214280" cy="14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3"/>
          <a:stretch/>
        </p:blipFill>
        <p:spPr>
          <a:xfrm>
            <a:off x="4248000" y="1844640"/>
            <a:ext cx="1116000" cy="907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2843280" y="2781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ыигрыша в силе НЕТ!!!         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771640" y="3141720"/>
            <a:ext cx="39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Изменяется направление сил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2987640" y="3851280"/>
            <a:ext cx="3564000" cy="39888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ОДВИЖНЫЙ БЛОК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70" name="Picture 13" descr=""/>
          <p:cNvPicPr/>
          <p:nvPr/>
        </p:nvPicPr>
        <p:blipFill>
          <a:blip r:embed="rId4"/>
          <a:stretch/>
        </p:blipFill>
        <p:spPr>
          <a:xfrm>
            <a:off x="1187280" y="4365720"/>
            <a:ext cx="1257480" cy="223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5"/>
          <a:stretch/>
        </p:blipFill>
        <p:spPr>
          <a:xfrm>
            <a:off x="7016760" y="4616280"/>
            <a:ext cx="1227240" cy="197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"/>
          <p:cNvPicPr/>
          <p:nvPr/>
        </p:nvPicPr>
        <p:blipFill>
          <a:blip r:embed="rId6"/>
          <a:stretch/>
        </p:blipFill>
        <p:spPr>
          <a:xfrm>
            <a:off x="4248000" y="4549680"/>
            <a:ext cx="1116000" cy="9669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6"/>
          <p:cNvSpPr/>
          <p:nvPr/>
        </p:nvSpPr>
        <p:spPr>
          <a:xfrm>
            <a:off x="3022560" y="573264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ыигрыш в силе в 2 раза!!!         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547640" y="297000"/>
            <a:ext cx="6264360" cy="39888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ОДВИЖНЫЙ БЛОК + НЕПОДВИЖНЫЙ БЛОК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792000" y="873000"/>
            <a:ext cx="1608480" cy="2232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3672000" y="10159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Изменяется направление силы + выигрыш в силе в 2 раза!!!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095640" y="1916280"/>
            <a:ext cx="5689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Полиспаст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(греч. – поли – много, спао – тяну) 3 подвижных + 3 неподвижных блока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ыигрыш в силе в 6 раз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916360" y="3608280"/>
            <a:ext cx="3563640" cy="39888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РОСТЫЕ МЕХАНИЗМ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863640" y="4076640"/>
            <a:ext cx="76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реобразуют направление или значение сил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619280" y="4545000"/>
            <a:ext cx="2916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клин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инт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наклонная плоскость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орот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5292720" y="5084640"/>
            <a:ext cx="31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Архимед (Сиракузы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2519280" y="507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Коэффициент полезного действия (КПД)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068720" y="944640"/>
            <a:ext cx="1332000" cy="39888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Работа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 flipH="1">
            <a:off x="3492360" y="1484280"/>
            <a:ext cx="719280" cy="21600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5640" y="1870200"/>
            <a:ext cx="1800000" cy="44064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олезная А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5183280" y="1484280"/>
            <a:ext cx="576000" cy="25236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5292720" y="1870200"/>
            <a:ext cx="2087640" cy="44064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затраченная А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4140360" y="1574640"/>
            <a:ext cx="10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сегда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89" name="Picture 12" descr=""/>
          <p:cNvPicPr/>
          <p:nvPr/>
        </p:nvPicPr>
        <p:blipFill>
          <a:blip r:embed="rId1"/>
          <a:stretch/>
        </p:blipFill>
        <p:spPr>
          <a:xfrm>
            <a:off x="179280" y="2673360"/>
            <a:ext cx="1467000" cy="2771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"/>
          <p:cNvPicPr/>
          <p:nvPr/>
        </p:nvPicPr>
        <p:blipFill>
          <a:blip r:embed="rId2"/>
          <a:stretch/>
        </p:blipFill>
        <p:spPr>
          <a:xfrm>
            <a:off x="1871640" y="2673360"/>
            <a:ext cx="2519280" cy="1467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"/>
          <p:cNvPicPr/>
          <p:nvPr/>
        </p:nvPicPr>
        <p:blipFill>
          <a:blip r:embed="rId3"/>
          <a:stretch/>
        </p:blipFill>
        <p:spPr>
          <a:xfrm>
            <a:off x="4824360" y="2673360"/>
            <a:ext cx="33480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6:43:33Z</dcterms:created>
  <dc:creator>Anatoliy</dc:creator>
  <dc:description/>
  <dc:language>en-US</dc:language>
  <cp:lastModifiedBy>Анатолий</cp:lastModifiedBy>
  <dcterms:modified xsi:type="dcterms:W3CDTF">2012-10-24T01:34:24Z</dcterms:modified>
  <cp:revision>113</cp:revision>
  <dc:subject/>
  <dc:title>Слайд 1</dc:title>
</cp:coreProperties>
</file>