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9BF3-CD0E-4752-B978-2FBEE3D27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F776-36DC-4217-A0DD-96A3EF58E0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3628-357E-4E12-8202-DEC8C1A5B0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3CE-8F6A-4033-A798-F18A53A8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CA3-F4B3-4CE5-9C42-264318ED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D7E-CDB5-4942-9D33-59F5A342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CE6-1544-4051-8F46-D475DD7E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47E-DC51-4797-B03C-0FBCF85C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50A-B3B6-4C7F-B270-BBF38A9E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4BB-C858-4EAC-B0DB-C0A77CFC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A92-E45A-438E-AC80-07AE09F7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CFC-E055-426A-A03C-CD34F030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75C-0D63-4909-87E7-6A704D1A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F8B-D338-4E34-A4BF-A0AE0DC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A97-5507-475B-B6B5-4D032681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8FAA-3A8C-43A9-A2B7-010D27775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nk_fabr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384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чинение-описан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артине П.П.Кончаловског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ир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азвития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 учителем русского языка и литературы Камьяновой Е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ArtRomantizmL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468360" y="765000"/>
            <a:ext cx="439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ётр Петрович Кончал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76 - 19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47840" y="1936800"/>
            <a:ext cx="361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19120" y="1865160"/>
            <a:ext cx="678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тюрморт – от фран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атюр» - природа, «морт» - мёрт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92200" y="2873520"/>
            <a:ext cx="441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35120" y="3016080"/>
            <a:ext cx="45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27120" y="3274920"/>
            <a:ext cx="30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71480" y="3141720"/>
            <a:ext cx="300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68360" y="4005360"/>
            <a:ext cx="653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 цветах есть всё, что существует в природе, только в более утончённых и сложных формах, и в каждом цветке, а особенно в сирени или букете полевых цветов, надо разбираться, как в лесной чащ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843280" y="3068640"/>
            <a:ext cx="63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«Я пишу цветы, как музыкант играет гам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ArtRomantizmL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сирень в стеклянной банке"/>
          <p:cNvPicPr/>
          <p:nvPr/>
        </p:nvPicPr>
        <p:blipFill>
          <a:blip r:embed="rId2"/>
          <a:stretch/>
        </p:blipFill>
        <p:spPr>
          <a:xfrm>
            <a:off x="324000" y="333360"/>
            <a:ext cx="4535280" cy="395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Picture 6" descr="Цветы"/>
          <p:cNvPicPr/>
          <p:nvPr/>
        </p:nvPicPr>
        <p:blipFill>
          <a:blip r:embed="rId3"/>
          <a:stretch/>
        </p:blipFill>
        <p:spPr>
          <a:xfrm>
            <a:off x="5435640" y="981000"/>
            <a:ext cx="3384360" cy="511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411120" y="5002200"/>
            <a:ext cx="4448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рень в стеклянной банке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272920" y="6183360"/>
            <a:ext cx="40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ы. Дигиталис. 19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Сирень в корзине 1933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pic>
        <p:nvPicPr>
          <p:cNvPr id="68" name="06. мендельсон - весенняя песня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439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ink_fabr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26920" y="981000"/>
            <a:ext cx="772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енда о сир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ой Пан, бог лесов и лугов, повстречал однажды прекрасную речную нимфу Сирингу – нежную вестницу утренней зари. И так залюбовался её нежной грацией и красотой, что забыл о своих забавах. Решил Пан заговорить с Сирингой, но та испугалась и убежала. Пан побежал следом, желая её успокоить, но нимфа неожиданно превратилась в благоухающий куст с нежными лиловыми цве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мя Сиринги и дало название дереву – си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что гласит древнегреческая лег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ArtRomantizmL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т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4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дно-роз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убова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ебри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ло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осн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ва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оле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ink_fabr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284720" y="76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ц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084720" y="404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ёз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547640" y="549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он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916360" y="227664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гроз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356000" y="2060640"/>
            <a:ext cx="16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я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708360" y="285264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835280" y="2924280"/>
            <a:ext cx="13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ыш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539640" y="2276640"/>
            <a:ext cx="18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еси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5511240" y="49417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348000" y="49417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364000" y="4221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ж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7308720" y="486900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кош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679840" y="1647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жё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529272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ома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20"/>
          <p:cNvCxnSpPr>
            <a:stCxn id="75" idx="2"/>
            <a:endCxn id="76" idx="1"/>
          </p:cNvCxnSpPr>
          <p:nvPr/>
        </p:nvCxnSpPr>
        <p:spPr>
          <a:xfrm flipV="1">
            <a:off x="4968720" y="588600"/>
            <a:ext cx="111672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AutoShape 21"/>
          <p:cNvCxnSpPr>
            <a:stCxn id="75" idx="1"/>
            <a:endCxn id="77" idx="3"/>
          </p:cNvCxnSpPr>
          <p:nvPr/>
        </p:nvCxnSpPr>
        <p:spPr>
          <a:xfrm flipH="1" flipV="1">
            <a:off x="3202920" y="732960"/>
            <a:ext cx="1081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042920" y="189000"/>
            <a:ext cx="547380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на весеннем прос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косу сбежать науга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унуться в душистое мо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лебнувшее дремлющий с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белых и тёмно-лил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оль ограды кустов разрос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ку тронешь – дождём лепестк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ыпается мокрая гроз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ёгкой капельке, свежей и чист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зился сверкающий д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саду каждой веткой роси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жествующе пахнет сир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Рождестве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pink_fabr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808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900000" y="1773360"/>
            <a:ext cx="727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Кончаловский – мастер изображения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десный букет сир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розд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и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у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 букете всё живёт, цветёт и радуется» (П.Кончаловск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9:19:28Z</dcterms:created>
  <dc:creator>Марина</dc:creator>
  <dc:description/>
  <dc:language>en-US</dc:language>
  <cp:lastModifiedBy>Пользователь Windows</cp:lastModifiedBy>
  <dcterms:modified xsi:type="dcterms:W3CDTF">2012-10-24T14:19:19Z</dcterms:modified>
  <cp:revision>16</cp:revision>
  <dc:subject/>
  <dc:title>Сочинение-описание  по картине П.П.Кончаловского «Сирень»</dc:title>
</cp:coreProperties>
</file>