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B57-A978-4C0E-8160-F8282DD3D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4665-E423-4074-913C-A433FB4E2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9451-9854-4DFF-97AD-B93AA14E8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92B-BE3C-4926-BBC8-B1A64A25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888-0F0C-4313-B871-84A81665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B42-C3C3-4EB7-A233-22751C32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96E-E719-425E-AD72-4C94B750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0BC-94DC-402C-9312-323AE2D6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B0C-83E0-4D13-8ECE-AB97E67D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9F4-3770-44F2-B2F2-7705E4AC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F58-522F-49C1-8659-9807EE27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43C-CDDB-47AA-A1D2-B7FED203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B07-94C4-4FC9-ABCF-1B05DC36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1C5-812E-4582-B333-69D764A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A17-8C83-45BE-8995-1C12CAFD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1DA-9009-4F53-BF7E-B8E58CE13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384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чинение-описан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артине П.П.Кончаловског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ире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азвития реч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 учителем русского языка и литературы Камьяновой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ArtRomantizmL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68360" y="765000"/>
            <a:ext cx="4390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ётр Петрович Кончал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76 - 19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47840" y="193680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19120" y="1865160"/>
            <a:ext cx="67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тюрморт – от фран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тюр» - природа, «морт» - мёрт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92200" y="2873520"/>
            <a:ext cx="441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35120" y="3016080"/>
            <a:ext cx="45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627120" y="327492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71480" y="3141720"/>
            <a:ext cx="300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68360" y="4005360"/>
            <a:ext cx="653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цветах есть всё, что существует в природе, только в более утончённых и сложных формах, и в каждом цветке, а особенно в сирени или букете полевых цветов, надо разбираться, как в лесной чащ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843280" y="3068640"/>
            <a:ext cx="63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«Я пишу цветы, как музыкант играет гам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ArtRomantizmL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сирень в стеклянной банке"/>
          <p:cNvPicPr/>
          <p:nvPr/>
        </p:nvPicPr>
        <p:blipFill>
          <a:blip r:embed="rId2"/>
          <a:stretch/>
        </p:blipFill>
        <p:spPr>
          <a:xfrm>
            <a:off x="324000" y="333360"/>
            <a:ext cx="4535280" cy="395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6" descr="Цветы"/>
          <p:cNvPicPr/>
          <p:nvPr/>
        </p:nvPicPr>
        <p:blipFill>
          <a:blip r:embed="rId3"/>
          <a:stretch/>
        </p:blipFill>
        <p:spPr>
          <a:xfrm>
            <a:off x="5435640" y="981000"/>
            <a:ext cx="3384360" cy="5113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Text Box 7"/>
          <p:cNvSpPr/>
          <p:nvPr/>
        </p:nvSpPr>
        <p:spPr>
          <a:xfrm>
            <a:off x="411120" y="5002200"/>
            <a:ext cx="4448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рень в стеклянной банке 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272920" y="6183360"/>
            <a:ext cx="40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ы. Дигиталис. 19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Сирень в корзине 1933"/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  <p:pic>
        <p:nvPicPr>
          <p:cNvPr id="68" name="06. мендельсон - весенняя песня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439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826920" y="981000"/>
            <a:ext cx="772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енда о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дой Пан, бог лесов и лугов, повстречал однажды прекрасную речную нимфу Сирингу – нежную вестницу утренней зари. И так залюбовался её нежной грацией и красотой, что забыл о своих забавах. Решил Пан заговорить с Сирингой, но та испугалась и убежала. Пан побежал следом, желая её успокоить, но нимфа неожиданно превратилась в благоухающий куст с нежными лиловыми цве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мя Сиринги и дало название дереву – си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что гласит древнегреческая леге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ArtRomantizmL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т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48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едно-роз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убова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ебрис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ло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осн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ва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олет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284720" y="76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ц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084720" y="404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ёзд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547640" y="549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он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916360" y="2276640"/>
            <a:ext cx="9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гроз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356000" y="2060640"/>
            <a:ext cx="16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708360" y="285264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835280" y="292428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539640" y="227664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есис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511240" y="49417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348000" y="4941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364000" y="4221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ж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7308720" y="4869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скош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679840" y="1647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жё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5292720" y="587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ома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20"/>
          <p:cNvCxnSpPr>
            <a:stCxn id="75" idx="2"/>
            <a:endCxn id="76" idx="1"/>
          </p:cNvCxnSpPr>
          <p:nvPr/>
        </p:nvCxnSpPr>
        <p:spPr>
          <a:xfrm flipV="1">
            <a:off x="4968720" y="588600"/>
            <a:ext cx="111672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AutoShape 21"/>
          <p:cNvCxnSpPr>
            <a:stCxn id="75" idx="1"/>
            <a:endCxn id="77" idx="3"/>
          </p:cNvCxnSpPr>
          <p:nvPr/>
        </p:nvCxnSpPr>
        <p:spPr>
          <a:xfrm flipH="1" flipV="1">
            <a:off x="3202920" y="732960"/>
            <a:ext cx="1081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ArtGeys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042920" y="189000"/>
            <a:ext cx="54738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шо на весеннем прос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косу сбежать науга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унуться в душистое мо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хлебнувшее дремлющий с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белых и тёмно-лил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оль ограды кустов разрос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тку тронешь – дождём лепестк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ыпается мокрая гроз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ёгкой капельке, свежей и чист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зился сверкающий де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саду каждой веткой роси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жествующе пахнет сир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Рождестве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ink_fabr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808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900000" y="177336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Кончаловский – мастер изображения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десный букет сир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розд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ист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у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 букете всё живёт, цветёт и радуется» (П.Кончаловск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09:19:28Z</dcterms:created>
  <dc:creator>Марина</dc:creator>
  <dc:description/>
  <dc:language>en-US</dc:language>
  <cp:lastModifiedBy>Пользователь Windows</cp:lastModifiedBy>
  <dcterms:modified xsi:type="dcterms:W3CDTF">2012-10-24T14:19:19Z</dcterms:modified>
  <cp:revision>16</cp:revision>
  <dc:subject/>
  <dc:title>Сочинение-описание  по картине П.П.Кончаловского «Сирень»</dc:title>
</cp:coreProperties>
</file>