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CC75-1B7C-4E75-881B-EB9CDAB93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DA1D-86E0-4ECC-AA72-9541662BB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E69D-6E6B-455A-A340-05334173A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31C7-B3D2-42CB-9349-BB322C9E4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5113-FC5B-48A2-A7F5-9089F0434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B372-38A3-4613-A1A5-FF1138A95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6D4F-82E5-4F8F-A68B-1686FABA6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7438-E106-4AF5-8587-20E010CB9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7EA5-63D9-4EEF-AD3E-F2D67850B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6927-ED53-44B4-B412-A8C9A599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914C-8DCF-44DB-BDF7-03248268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3315-60DB-42AF-9BB7-64583537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3D10A-8F01-434A-892D-99F0F84FF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5640" y="1341000"/>
            <a:ext cx="68706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Cooper Black"/>
              </a:rPr>
              <a:t>Степени сравнения прилагательны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760" y="-50760"/>
            <a:ext cx="449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ложительна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теп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90120" y="476280"/>
            <a:ext cx="44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равнительная степ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722120" y="0"/>
            <a:ext cx="42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евосходная степ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700280"/>
            <a:ext cx="270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днослож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овый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03600" y="1989000"/>
            <a:ext cx="2661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днослож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+-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new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er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нове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2600" y="1649520"/>
            <a:ext cx="3706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днослож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h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the new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st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(новейш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" y="4098960"/>
            <a:ext cx="243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вуслож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eauti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красивы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06880" y="4098960"/>
            <a:ext cx="2629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вуслож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ore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ore beauti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красиве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944680" y="4025880"/>
            <a:ext cx="32425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вуслож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e most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 most beauti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(самый красивы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71640" y="198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27640" y="8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32000" y="33336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236000" y="404640"/>
            <a:ext cx="0" cy="136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00000" y="306864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51280" y="328464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308720" y="292428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981080" y="155520"/>
            <a:ext cx="5183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oper Black"/>
              </a:rPr>
              <a:t>Исключени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20280" y="1557360"/>
            <a:ext cx="8200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Good-better-the b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Bad-worst-the wor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Much(many)-more-the mo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Little-less-the lea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60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9T18:52:02Z</dcterms:created>
  <dc:creator>1</dc:creator>
  <dc:description/>
  <dc:language>en-US</dc:language>
  <cp:lastModifiedBy>1</cp:lastModifiedBy>
  <dcterms:modified xsi:type="dcterms:W3CDTF">2009-12-19T20:06:29Z</dcterms:modified>
  <cp:revision>2</cp:revision>
  <dc:subject/>
  <dc:title>Степени сравнения прилагательных</dc:title>
</cp:coreProperties>
</file>