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0A0-E428-4FFE-B392-5BBFD915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E15-E0E2-4D9A-8C20-D36038B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4C0-33D9-43E2-AB9B-4782F57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731-8B2F-4B98-84F0-FEF70A7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9E9-5C20-4A12-86F6-5947C63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953-CC5E-4F9E-B3FD-2ADCC55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F5C-D710-42D3-8135-7A35ED51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0C0-CF74-4E64-9AE7-BCE584B6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619-4E90-4D44-B80C-1D987A3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A8F-6770-44CB-9BA6-24F8B090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93A-B878-45D8-9C53-1134EE6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0B4-680B-42C8-AB24-AE80BEF7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D25-F324-4BCF-B378-D58BFD51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6870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oper Black"/>
              </a:rPr>
              <a:t>Степени сравнения прилага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760" y="-5076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ительн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90120" y="47628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ительная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2120" y="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восходная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0280"/>
            <a:ext cx="27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ы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3600" y="1989000"/>
            <a:ext cx="266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ew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ове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2600" y="1649520"/>
            <a:ext cx="370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he new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новейш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098960"/>
            <a:ext cx="243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раси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6880" y="4098960"/>
            <a:ext cx="26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re 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расиве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4680" y="4025880"/>
            <a:ext cx="3242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mo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ost 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самый краси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8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33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404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3284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155520"/>
            <a:ext cx="51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Исключ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0280" y="1557360"/>
            <a:ext cx="820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ood-better-the b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d-worst-the wor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ch(many)-more-the m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ttle-less-the l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52:02Z</dcterms:created>
  <dc:creator>1</dc:creator>
  <dc:description/>
  <dc:language>en-US</dc:language>
  <cp:lastModifiedBy>1</cp:lastModifiedBy>
  <dcterms:modified xsi:type="dcterms:W3CDTF">2009-12-19T20:06:29Z</dcterms:modified>
  <cp:revision>2</cp:revision>
  <dc:subject/>
  <dc:title>Степени сравнения прилагательных</dc:title>
</cp:coreProperties>
</file>