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694-1650-42C1-9917-AE157190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7CC-2A01-4689-BBFC-E60B3B1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384-B8B3-4038-858A-BB904922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E71-CD79-4AA4-A63D-E3B35BBA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D344-8673-43DA-B206-20897C96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2BF3-DDE6-4407-A43B-92B0BCD9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93CD-E7B2-4D4E-92CF-DF5343CD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D770-0C97-4660-A5C3-3B99BD36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2539-8D88-47B4-8B25-A4FF0B7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7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5724-88A7-477F-BFB6-A36A9E9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D86E-9979-4BB9-9936-9D6BCD94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5C0-1669-427B-8918-1EE3CCF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7D7-44BC-4467-B1E1-3D1FDFB1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0825-67E6-4EE1-9FBE-7861E19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B11C-AABB-4DDD-A59C-3BDB10B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3EA0-B6E7-4EF7-A0A3-4884EB0C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D05D-C577-4EF5-9B0F-E4294DF1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CCA-9AD1-4D01-90FF-B0B0BCD9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843-6FE2-4DDE-98D0-0CF47CD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E48-023E-4BAD-952C-1815634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6E3-9135-49AE-814B-29C25ABC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41C-692A-4B3F-9D06-9C49D115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6D1-EAC0-4DB7-8DE3-9657A15B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2C9-5A12-49B5-A001-4DE0D23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1" name=""/>
            <p:cNvSpPr/>
            <p:nvPr/>
          </p:nvSpPr>
          <p:spPr>
            <a:xfrm>
              <a:off x="123840" y="220680"/>
              <a:ext cx="1630440" cy="6637320"/>
            </a:xfrm>
            <a:custGeom>
              <a:avLst/>
              <a:gdLst/>
              <a:ahLst/>
              <a:rect l="l" t="t" r="r" b="b"/>
              <a:pathLst>
                <a:path w="1027" h="4181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2"/>
                  </a:lnTo>
                  <a:lnTo>
                    <a:pt x="806" y="53"/>
                  </a:lnTo>
                  <a:lnTo>
                    <a:pt x="826" y="64"/>
                  </a:lnTo>
                  <a:lnTo>
                    <a:pt x="840" y="127"/>
                  </a:lnTo>
                  <a:lnTo>
                    <a:pt x="853" y="169"/>
                  </a:lnTo>
                  <a:lnTo>
                    <a:pt x="873" y="253"/>
                  </a:lnTo>
                  <a:lnTo>
                    <a:pt x="886" y="338"/>
                  </a:lnTo>
                  <a:lnTo>
                    <a:pt x="906" y="422"/>
                  </a:lnTo>
                  <a:lnTo>
                    <a:pt x="959" y="464"/>
                  </a:lnTo>
                  <a:lnTo>
                    <a:pt x="1012" y="485"/>
                  </a:lnTo>
                  <a:lnTo>
                    <a:pt x="1026" y="517"/>
                  </a:lnTo>
                  <a:lnTo>
                    <a:pt x="1026" y="580"/>
                  </a:lnTo>
                  <a:lnTo>
                    <a:pt x="1026" y="643"/>
                  </a:lnTo>
                  <a:lnTo>
                    <a:pt x="1026" y="706"/>
                  </a:lnTo>
                  <a:lnTo>
                    <a:pt x="1026" y="748"/>
                  </a:lnTo>
                  <a:lnTo>
                    <a:pt x="1019" y="832"/>
                  </a:lnTo>
                  <a:lnTo>
                    <a:pt x="1012" y="896"/>
                  </a:lnTo>
                  <a:lnTo>
                    <a:pt x="1005" y="980"/>
                  </a:lnTo>
                  <a:lnTo>
                    <a:pt x="999" y="1011"/>
                  </a:lnTo>
                  <a:lnTo>
                    <a:pt x="986" y="1033"/>
                  </a:lnTo>
                  <a:lnTo>
                    <a:pt x="972" y="1054"/>
                  </a:lnTo>
                  <a:lnTo>
                    <a:pt x="959" y="1085"/>
                  </a:lnTo>
                  <a:lnTo>
                    <a:pt x="919" y="1106"/>
                  </a:lnTo>
                  <a:lnTo>
                    <a:pt x="899" y="1127"/>
                  </a:lnTo>
                  <a:lnTo>
                    <a:pt x="886" y="1159"/>
                  </a:lnTo>
                  <a:lnTo>
                    <a:pt x="847" y="1169"/>
                  </a:lnTo>
                  <a:lnTo>
                    <a:pt x="806" y="1190"/>
                  </a:lnTo>
                  <a:lnTo>
                    <a:pt x="800" y="1254"/>
                  </a:lnTo>
                  <a:lnTo>
                    <a:pt x="793" y="1338"/>
                  </a:lnTo>
                  <a:lnTo>
                    <a:pt x="793" y="1369"/>
                  </a:lnTo>
                  <a:lnTo>
                    <a:pt x="793" y="1412"/>
                  </a:lnTo>
                  <a:lnTo>
                    <a:pt x="793" y="1517"/>
                  </a:lnTo>
                  <a:lnTo>
                    <a:pt x="793" y="1548"/>
                  </a:lnTo>
                  <a:lnTo>
                    <a:pt x="793" y="1612"/>
                  </a:lnTo>
                  <a:lnTo>
                    <a:pt x="793" y="1654"/>
                  </a:lnTo>
                  <a:lnTo>
                    <a:pt x="806" y="1759"/>
                  </a:lnTo>
                  <a:lnTo>
                    <a:pt x="847" y="1843"/>
                  </a:lnTo>
                  <a:lnTo>
                    <a:pt x="860" y="1875"/>
                  </a:lnTo>
                  <a:lnTo>
                    <a:pt x="860" y="1938"/>
                  </a:lnTo>
                  <a:lnTo>
                    <a:pt x="853" y="1980"/>
                  </a:lnTo>
                  <a:lnTo>
                    <a:pt x="840" y="2022"/>
                  </a:lnTo>
                  <a:lnTo>
                    <a:pt x="826" y="2085"/>
                  </a:lnTo>
                  <a:lnTo>
                    <a:pt x="813" y="2117"/>
                  </a:lnTo>
                  <a:lnTo>
                    <a:pt x="800" y="2148"/>
                  </a:lnTo>
                  <a:lnTo>
                    <a:pt x="793" y="2243"/>
                  </a:lnTo>
                  <a:lnTo>
                    <a:pt x="780" y="2306"/>
                  </a:lnTo>
                  <a:lnTo>
                    <a:pt x="773" y="2370"/>
                  </a:lnTo>
                  <a:lnTo>
                    <a:pt x="766" y="2433"/>
                  </a:lnTo>
                  <a:lnTo>
                    <a:pt x="760" y="2464"/>
                  </a:lnTo>
                  <a:lnTo>
                    <a:pt x="714" y="2496"/>
                  </a:lnTo>
                  <a:lnTo>
                    <a:pt x="661" y="2517"/>
                  </a:lnTo>
                  <a:lnTo>
                    <a:pt x="634" y="2549"/>
                  </a:lnTo>
                  <a:lnTo>
                    <a:pt x="568" y="2633"/>
                  </a:lnTo>
                  <a:lnTo>
                    <a:pt x="514" y="2696"/>
                  </a:lnTo>
                  <a:lnTo>
                    <a:pt x="508" y="2728"/>
                  </a:lnTo>
                  <a:lnTo>
                    <a:pt x="495" y="2770"/>
                  </a:lnTo>
                  <a:lnTo>
                    <a:pt x="495" y="2833"/>
                  </a:lnTo>
                  <a:lnTo>
                    <a:pt x="495" y="2917"/>
                  </a:lnTo>
                  <a:lnTo>
                    <a:pt x="495" y="2980"/>
                  </a:lnTo>
                  <a:lnTo>
                    <a:pt x="495" y="3064"/>
                  </a:lnTo>
                  <a:lnTo>
                    <a:pt x="495" y="3128"/>
                  </a:lnTo>
                  <a:lnTo>
                    <a:pt x="495" y="3159"/>
                  </a:lnTo>
                  <a:lnTo>
                    <a:pt x="514" y="3191"/>
                  </a:lnTo>
                  <a:lnTo>
                    <a:pt x="541" y="3212"/>
                  </a:lnTo>
                  <a:lnTo>
                    <a:pt x="608" y="3233"/>
                  </a:lnTo>
                  <a:lnTo>
                    <a:pt x="627" y="3264"/>
                  </a:lnTo>
                  <a:lnTo>
                    <a:pt x="634" y="3296"/>
                  </a:lnTo>
                  <a:lnTo>
                    <a:pt x="634" y="3338"/>
                  </a:lnTo>
                  <a:lnTo>
                    <a:pt x="634" y="3422"/>
                  </a:lnTo>
                  <a:lnTo>
                    <a:pt x="634" y="3454"/>
                  </a:lnTo>
                  <a:lnTo>
                    <a:pt x="661" y="3559"/>
                  </a:lnTo>
                  <a:lnTo>
                    <a:pt x="700" y="3580"/>
                  </a:lnTo>
                  <a:lnTo>
                    <a:pt x="740" y="3643"/>
                  </a:lnTo>
                  <a:lnTo>
                    <a:pt x="740" y="3675"/>
                  </a:lnTo>
                  <a:lnTo>
                    <a:pt x="747" y="3717"/>
                  </a:lnTo>
                  <a:lnTo>
                    <a:pt x="747" y="3759"/>
                  </a:lnTo>
                  <a:lnTo>
                    <a:pt x="747" y="3791"/>
                  </a:lnTo>
                  <a:lnTo>
                    <a:pt x="747" y="3875"/>
                  </a:lnTo>
                  <a:lnTo>
                    <a:pt x="747" y="3991"/>
                  </a:lnTo>
                  <a:lnTo>
                    <a:pt x="747" y="4022"/>
                  </a:lnTo>
                  <a:lnTo>
                    <a:pt x="747" y="4054"/>
                  </a:lnTo>
                  <a:lnTo>
                    <a:pt x="753" y="4086"/>
                  </a:lnTo>
                  <a:lnTo>
                    <a:pt x="753" y="4117"/>
                  </a:lnTo>
                  <a:lnTo>
                    <a:pt x="769" y="4180"/>
                  </a:lnTo>
                  <a:lnTo>
                    <a:pt x="13" y="418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30440" cy="6858000"/>
            </a:xfrm>
            <a:custGeom>
              <a:avLst/>
              <a:gdLst/>
              <a:ahLst/>
              <a:rect l="l" t="t" r="r" b="b"/>
              <a:pathLst>
                <a:path w="1027" h="4320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3"/>
                  </a:lnTo>
                  <a:lnTo>
                    <a:pt x="806" y="54"/>
                  </a:lnTo>
                  <a:lnTo>
                    <a:pt x="826" y="65"/>
                  </a:lnTo>
                  <a:lnTo>
                    <a:pt x="840" y="128"/>
                  </a:lnTo>
                  <a:lnTo>
                    <a:pt x="853" y="170"/>
                  </a:lnTo>
                  <a:lnTo>
                    <a:pt x="873" y="254"/>
                  </a:lnTo>
                  <a:lnTo>
                    <a:pt x="886" y="339"/>
                  </a:lnTo>
                  <a:lnTo>
                    <a:pt x="906" y="423"/>
                  </a:lnTo>
                  <a:lnTo>
                    <a:pt x="959" y="465"/>
                  </a:lnTo>
                  <a:lnTo>
                    <a:pt x="1012" y="486"/>
                  </a:lnTo>
                  <a:lnTo>
                    <a:pt x="1026" y="518"/>
                  </a:lnTo>
                  <a:lnTo>
                    <a:pt x="1026" y="581"/>
                  </a:lnTo>
                  <a:lnTo>
                    <a:pt x="1026" y="644"/>
                  </a:lnTo>
                  <a:lnTo>
                    <a:pt x="1026" y="707"/>
                  </a:lnTo>
                  <a:lnTo>
                    <a:pt x="1026" y="749"/>
                  </a:lnTo>
                  <a:lnTo>
                    <a:pt x="1019" y="833"/>
                  </a:lnTo>
                  <a:lnTo>
                    <a:pt x="1012" y="897"/>
                  </a:lnTo>
                  <a:lnTo>
                    <a:pt x="1005" y="981"/>
                  </a:lnTo>
                  <a:lnTo>
                    <a:pt x="999" y="1012"/>
                  </a:lnTo>
                  <a:lnTo>
                    <a:pt x="986" y="1034"/>
                  </a:lnTo>
                  <a:lnTo>
                    <a:pt x="972" y="1055"/>
                  </a:lnTo>
                  <a:lnTo>
                    <a:pt x="959" y="1086"/>
                  </a:lnTo>
                  <a:lnTo>
                    <a:pt x="919" y="1107"/>
                  </a:lnTo>
                  <a:lnTo>
                    <a:pt x="899" y="1128"/>
                  </a:lnTo>
                  <a:lnTo>
                    <a:pt x="886" y="1160"/>
                  </a:lnTo>
                  <a:lnTo>
                    <a:pt x="847" y="1170"/>
                  </a:lnTo>
                  <a:lnTo>
                    <a:pt x="806" y="1191"/>
                  </a:lnTo>
                  <a:lnTo>
                    <a:pt x="800" y="1255"/>
                  </a:lnTo>
                  <a:lnTo>
                    <a:pt x="793" y="1339"/>
                  </a:lnTo>
                  <a:lnTo>
                    <a:pt x="793" y="1370"/>
                  </a:lnTo>
                  <a:lnTo>
                    <a:pt x="793" y="1413"/>
                  </a:lnTo>
                  <a:lnTo>
                    <a:pt x="793" y="1518"/>
                  </a:lnTo>
                  <a:lnTo>
                    <a:pt x="793" y="1549"/>
                  </a:lnTo>
                  <a:lnTo>
                    <a:pt x="793" y="1613"/>
                  </a:lnTo>
                  <a:lnTo>
                    <a:pt x="793" y="1655"/>
                  </a:lnTo>
                  <a:lnTo>
                    <a:pt x="806" y="1760"/>
                  </a:lnTo>
                  <a:lnTo>
                    <a:pt x="847" y="1844"/>
                  </a:lnTo>
                  <a:lnTo>
                    <a:pt x="860" y="1876"/>
                  </a:lnTo>
                  <a:lnTo>
                    <a:pt x="860" y="1939"/>
                  </a:lnTo>
                  <a:lnTo>
                    <a:pt x="853" y="1981"/>
                  </a:lnTo>
                  <a:lnTo>
                    <a:pt x="840" y="2023"/>
                  </a:lnTo>
                  <a:lnTo>
                    <a:pt x="826" y="2086"/>
                  </a:lnTo>
                  <a:lnTo>
                    <a:pt x="813" y="2118"/>
                  </a:lnTo>
                  <a:lnTo>
                    <a:pt x="800" y="2149"/>
                  </a:lnTo>
                  <a:lnTo>
                    <a:pt x="793" y="2244"/>
                  </a:lnTo>
                  <a:lnTo>
                    <a:pt x="780" y="2307"/>
                  </a:lnTo>
                  <a:lnTo>
                    <a:pt x="773" y="2371"/>
                  </a:lnTo>
                  <a:lnTo>
                    <a:pt x="766" y="2434"/>
                  </a:lnTo>
                  <a:lnTo>
                    <a:pt x="760" y="2465"/>
                  </a:lnTo>
                  <a:lnTo>
                    <a:pt x="714" y="2497"/>
                  </a:lnTo>
                  <a:lnTo>
                    <a:pt x="661" y="2518"/>
                  </a:lnTo>
                  <a:lnTo>
                    <a:pt x="634" y="2550"/>
                  </a:lnTo>
                  <a:lnTo>
                    <a:pt x="568" y="2634"/>
                  </a:lnTo>
                  <a:lnTo>
                    <a:pt x="514" y="2697"/>
                  </a:lnTo>
                  <a:lnTo>
                    <a:pt x="508" y="2729"/>
                  </a:lnTo>
                  <a:lnTo>
                    <a:pt x="495" y="2771"/>
                  </a:lnTo>
                  <a:lnTo>
                    <a:pt x="495" y="2834"/>
                  </a:lnTo>
                  <a:lnTo>
                    <a:pt x="495" y="2918"/>
                  </a:lnTo>
                  <a:lnTo>
                    <a:pt x="495" y="2981"/>
                  </a:lnTo>
                  <a:lnTo>
                    <a:pt x="495" y="3065"/>
                  </a:lnTo>
                  <a:lnTo>
                    <a:pt x="495" y="3129"/>
                  </a:lnTo>
                  <a:lnTo>
                    <a:pt x="495" y="3160"/>
                  </a:lnTo>
                  <a:lnTo>
                    <a:pt x="514" y="3192"/>
                  </a:lnTo>
                  <a:lnTo>
                    <a:pt x="541" y="3213"/>
                  </a:lnTo>
                  <a:lnTo>
                    <a:pt x="608" y="3234"/>
                  </a:lnTo>
                  <a:lnTo>
                    <a:pt x="627" y="3265"/>
                  </a:lnTo>
                  <a:lnTo>
                    <a:pt x="634" y="3297"/>
                  </a:lnTo>
                  <a:lnTo>
                    <a:pt x="634" y="3339"/>
                  </a:lnTo>
                  <a:lnTo>
                    <a:pt x="634" y="3423"/>
                  </a:lnTo>
                  <a:lnTo>
                    <a:pt x="634" y="3455"/>
                  </a:lnTo>
                  <a:lnTo>
                    <a:pt x="661" y="3560"/>
                  </a:lnTo>
                  <a:lnTo>
                    <a:pt x="700" y="3581"/>
                  </a:lnTo>
                  <a:lnTo>
                    <a:pt x="740" y="3644"/>
                  </a:lnTo>
                  <a:lnTo>
                    <a:pt x="740" y="3676"/>
                  </a:lnTo>
                  <a:lnTo>
                    <a:pt x="747" y="3718"/>
                  </a:lnTo>
                  <a:lnTo>
                    <a:pt x="747" y="3760"/>
                  </a:lnTo>
                  <a:lnTo>
                    <a:pt x="747" y="3792"/>
                  </a:lnTo>
                  <a:lnTo>
                    <a:pt x="747" y="3876"/>
                  </a:lnTo>
                  <a:lnTo>
                    <a:pt x="747" y="3992"/>
                  </a:lnTo>
                  <a:lnTo>
                    <a:pt x="747" y="4023"/>
                  </a:lnTo>
                  <a:lnTo>
                    <a:pt x="747" y="4055"/>
                  </a:lnTo>
                  <a:lnTo>
                    <a:pt x="753" y="4087"/>
                  </a:lnTo>
                  <a:lnTo>
                    <a:pt x="753" y="4118"/>
                  </a:lnTo>
                  <a:lnTo>
                    <a:pt x="760" y="4150"/>
                  </a:lnTo>
                  <a:lnTo>
                    <a:pt x="760" y="4181"/>
                  </a:lnTo>
                  <a:lnTo>
                    <a:pt x="747" y="4266"/>
                  </a:lnTo>
                  <a:lnTo>
                    <a:pt x="740" y="4297"/>
                  </a:lnTo>
                  <a:lnTo>
                    <a:pt x="727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4" name=""/>
            <p:cNvSpPr/>
            <p:nvPr/>
          </p:nvSpPr>
          <p:spPr>
            <a:xfrm>
              <a:off x="1049400" y="760320"/>
              <a:ext cx="585720" cy="2127240"/>
            </a:xfrm>
            <a:custGeom>
              <a:avLst/>
              <a:gdLst/>
              <a:ahLst/>
              <a:rect l="l" t="t" r="r" b="b"/>
              <a:pathLst>
                <a:path w="369" h="1340">
                  <a:moveTo>
                    <a:pt x="361" y="58"/>
                  </a:moveTo>
                  <a:lnTo>
                    <a:pt x="306" y="73"/>
                  </a:lnTo>
                  <a:lnTo>
                    <a:pt x="306" y="105"/>
                  </a:lnTo>
                  <a:lnTo>
                    <a:pt x="299" y="136"/>
                  </a:lnTo>
                  <a:lnTo>
                    <a:pt x="299" y="168"/>
                  </a:lnTo>
                  <a:lnTo>
                    <a:pt x="299" y="200"/>
                  </a:lnTo>
                  <a:lnTo>
                    <a:pt x="292" y="231"/>
                  </a:lnTo>
                  <a:lnTo>
                    <a:pt x="285" y="263"/>
                  </a:lnTo>
                  <a:lnTo>
                    <a:pt x="285" y="294"/>
                  </a:lnTo>
                  <a:lnTo>
                    <a:pt x="285" y="326"/>
                  </a:lnTo>
                  <a:lnTo>
                    <a:pt x="285" y="357"/>
                  </a:lnTo>
                  <a:lnTo>
                    <a:pt x="279" y="379"/>
                  </a:lnTo>
                  <a:lnTo>
                    <a:pt x="272" y="410"/>
                  </a:lnTo>
                  <a:lnTo>
                    <a:pt x="266" y="442"/>
                  </a:lnTo>
                  <a:lnTo>
                    <a:pt x="239" y="463"/>
                  </a:lnTo>
                  <a:lnTo>
                    <a:pt x="219" y="463"/>
                  </a:lnTo>
                  <a:lnTo>
                    <a:pt x="199" y="463"/>
                  </a:lnTo>
                  <a:lnTo>
                    <a:pt x="179" y="463"/>
                  </a:lnTo>
                  <a:lnTo>
                    <a:pt x="159" y="505"/>
                  </a:lnTo>
                  <a:lnTo>
                    <a:pt x="139" y="526"/>
                  </a:lnTo>
                  <a:lnTo>
                    <a:pt x="119" y="526"/>
                  </a:lnTo>
                  <a:lnTo>
                    <a:pt x="99" y="536"/>
                  </a:lnTo>
                  <a:lnTo>
                    <a:pt x="79" y="558"/>
                  </a:lnTo>
                  <a:lnTo>
                    <a:pt x="60" y="579"/>
                  </a:lnTo>
                  <a:lnTo>
                    <a:pt x="46" y="610"/>
                  </a:lnTo>
                  <a:lnTo>
                    <a:pt x="39" y="642"/>
                  </a:lnTo>
                  <a:lnTo>
                    <a:pt x="39" y="673"/>
                  </a:lnTo>
                  <a:lnTo>
                    <a:pt x="53" y="705"/>
                  </a:lnTo>
                  <a:lnTo>
                    <a:pt x="39" y="736"/>
                  </a:lnTo>
                  <a:lnTo>
                    <a:pt x="26" y="758"/>
                  </a:lnTo>
                  <a:lnTo>
                    <a:pt x="6" y="800"/>
                  </a:lnTo>
                  <a:lnTo>
                    <a:pt x="0" y="842"/>
                  </a:lnTo>
                  <a:lnTo>
                    <a:pt x="19" y="873"/>
                  </a:lnTo>
                  <a:lnTo>
                    <a:pt x="39" y="884"/>
                  </a:lnTo>
                  <a:lnTo>
                    <a:pt x="46" y="915"/>
                  </a:lnTo>
                  <a:lnTo>
                    <a:pt x="53" y="937"/>
                  </a:lnTo>
                  <a:lnTo>
                    <a:pt x="53" y="968"/>
                  </a:lnTo>
                  <a:lnTo>
                    <a:pt x="39" y="1010"/>
                  </a:lnTo>
                  <a:lnTo>
                    <a:pt x="39" y="1042"/>
                  </a:lnTo>
                  <a:lnTo>
                    <a:pt x="26" y="1073"/>
                  </a:lnTo>
                  <a:lnTo>
                    <a:pt x="19" y="1105"/>
                  </a:lnTo>
                  <a:lnTo>
                    <a:pt x="26" y="1137"/>
                  </a:lnTo>
                  <a:lnTo>
                    <a:pt x="53" y="1158"/>
                  </a:lnTo>
                  <a:lnTo>
                    <a:pt x="73" y="1189"/>
                  </a:lnTo>
                  <a:lnTo>
                    <a:pt x="79" y="1221"/>
                  </a:lnTo>
                  <a:lnTo>
                    <a:pt x="86" y="1252"/>
                  </a:lnTo>
                  <a:lnTo>
                    <a:pt x="106" y="1263"/>
                  </a:lnTo>
                  <a:lnTo>
                    <a:pt x="126" y="1284"/>
                  </a:lnTo>
                  <a:lnTo>
                    <a:pt x="161" y="1339"/>
                  </a:lnTo>
                  <a:lnTo>
                    <a:pt x="151" y="1312"/>
                  </a:lnTo>
                  <a:lnTo>
                    <a:pt x="142" y="1261"/>
                  </a:lnTo>
                  <a:lnTo>
                    <a:pt x="134" y="1228"/>
                  </a:lnTo>
                  <a:lnTo>
                    <a:pt x="127" y="1165"/>
                  </a:lnTo>
                  <a:lnTo>
                    <a:pt x="130" y="1129"/>
                  </a:lnTo>
                  <a:lnTo>
                    <a:pt x="127" y="1087"/>
                  </a:lnTo>
                  <a:lnTo>
                    <a:pt x="127" y="997"/>
                  </a:lnTo>
                  <a:lnTo>
                    <a:pt x="130" y="910"/>
                  </a:lnTo>
                  <a:lnTo>
                    <a:pt x="134" y="823"/>
                  </a:lnTo>
                  <a:lnTo>
                    <a:pt x="134" y="787"/>
                  </a:lnTo>
                  <a:lnTo>
                    <a:pt x="142" y="736"/>
                  </a:lnTo>
                  <a:lnTo>
                    <a:pt x="158" y="709"/>
                  </a:lnTo>
                  <a:lnTo>
                    <a:pt x="185" y="700"/>
                  </a:lnTo>
                  <a:lnTo>
                    <a:pt x="223" y="688"/>
                  </a:lnTo>
                  <a:lnTo>
                    <a:pt x="242" y="652"/>
                  </a:lnTo>
                  <a:lnTo>
                    <a:pt x="263" y="628"/>
                  </a:lnTo>
                  <a:lnTo>
                    <a:pt x="290" y="619"/>
                  </a:lnTo>
                  <a:lnTo>
                    <a:pt x="304" y="592"/>
                  </a:lnTo>
                  <a:lnTo>
                    <a:pt x="340" y="538"/>
                  </a:lnTo>
                  <a:lnTo>
                    <a:pt x="340" y="496"/>
                  </a:lnTo>
                  <a:lnTo>
                    <a:pt x="352" y="430"/>
                  </a:lnTo>
                  <a:lnTo>
                    <a:pt x="359" y="358"/>
                  </a:lnTo>
                  <a:lnTo>
                    <a:pt x="364" y="298"/>
                  </a:lnTo>
                  <a:lnTo>
                    <a:pt x="364" y="262"/>
                  </a:lnTo>
                  <a:lnTo>
                    <a:pt x="364" y="226"/>
                  </a:lnTo>
                  <a:lnTo>
                    <a:pt x="368" y="184"/>
                  </a:lnTo>
                  <a:lnTo>
                    <a:pt x="368" y="124"/>
                  </a:lnTo>
                  <a:lnTo>
                    <a:pt x="364" y="94"/>
                  </a:lnTo>
                  <a:lnTo>
                    <a:pt x="338" y="52"/>
                  </a:lnTo>
                  <a:lnTo>
                    <a:pt x="345" y="10"/>
                  </a:lnTo>
                  <a:lnTo>
                    <a:pt x="326" y="0"/>
                  </a:lnTo>
                  <a:lnTo>
                    <a:pt x="338" y="4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040" y="2895480"/>
              <a:ext cx="814320" cy="2187720"/>
            </a:xfrm>
            <a:custGeom>
              <a:avLst/>
              <a:gdLst/>
              <a:ahLst/>
              <a:rect l="l" t="t" r="r" b="b"/>
              <a:pathLst>
                <a:path w="513" h="1378">
                  <a:moveTo>
                    <a:pt x="498" y="0"/>
                  </a:moveTo>
                  <a:lnTo>
                    <a:pt x="477" y="61"/>
                  </a:lnTo>
                  <a:lnTo>
                    <a:pt x="471" y="93"/>
                  </a:lnTo>
                  <a:lnTo>
                    <a:pt x="451" y="114"/>
                  </a:lnTo>
                  <a:lnTo>
                    <a:pt x="444" y="145"/>
                  </a:lnTo>
                  <a:lnTo>
                    <a:pt x="444" y="167"/>
                  </a:lnTo>
                  <a:lnTo>
                    <a:pt x="451" y="198"/>
                  </a:lnTo>
                  <a:lnTo>
                    <a:pt x="444" y="230"/>
                  </a:lnTo>
                  <a:lnTo>
                    <a:pt x="444" y="261"/>
                  </a:lnTo>
                  <a:lnTo>
                    <a:pt x="424" y="282"/>
                  </a:lnTo>
                  <a:lnTo>
                    <a:pt x="404" y="293"/>
                  </a:lnTo>
                  <a:lnTo>
                    <a:pt x="385" y="303"/>
                  </a:lnTo>
                  <a:lnTo>
                    <a:pt x="358" y="324"/>
                  </a:lnTo>
                  <a:lnTo>
                    <a:pt x="358" y="346"/>
                  </a:lnTo>
                  <a:lnTo>
                    <a:pt x="358" y="377"/>
                  </a:lnTo>
                  <a:lnTo>
                    <a:pt x="358" y="409"/>
                  </a:lnTo>
                  <a:lnTo>
                    <a:pt x="344" y="419"/>
                  </a:lnTo>
                  <a:lnTo>
                    <a:pt x="318" y="440"/>
                  </a:lnTo>
                  <a:lnTo>
                    <a:pt x="285" y="493"/>
                  </a:lnTo>
                  <a:lnTo>
                    <a:pt x="265" y="493"/>
                  </a:lnTo>
                  <a:lnTo>
                    <a:pt x="225" y="514"/>
                  </a:lnTo>
                  <a:lnTo>
                    <a:pt x="186" y="567"/>
                  </a:lnTo>
                  <a:lnTo>
                    <a:pt x="186" y="598"/>
                  </a:lnTo>
                  <a:lnTo>
                    <a:pt x="179" y="672"/>
                  </a:lnTo>
                  <a:lnTo>
                    <a:pt x="152" y="682"/>
                  </a:lnTo>
                  <a:lnTo>
                    <a:pt x="133" y="682"/>
                  </a:lnTo>
                  <a:lnTo>
                    <a:pt x="112" y="703"/>
                  </a:lnTo>
                  <a:lnTo>
                    <a:pt x="73" y="725"/>
                  </a:lnTo>
                  <a:lnTo>
                    <a:pt x="33" y="777"/>
                  </a:lnTo>
                  <a:lnTo>
                    <a:pt x="33" y="809"/>
                  </a:lnTo>
                  <a:lnTo>
                    <a:pt x="39" y="872"/>
                  </a:lnTo>
                  <a:lnTo>
                    <a:pt x="13" y="935"/>
                  </a:lnTo>
                  <a:lnTo>
                    <a:pt x="0" y="967"/>
                  </a:lnTo>
                  <a:lnTo>
                    <a:pt x="0" y="1030"/>
                  </a:lnTo>
                  <a:lnTo>
                    <a:pt x="6" y="1093"/>
                  </a:lnTo>
                  <a:lnTo>
                    <a:pt x="13" y="1156"/>
                  </a:lnTo>
                  <a:lnTo>
                    <a:pt x="13" y="1240"/>
                  </a:lnTo>
                  <a:lnTo>
                    <a:pt x="33" y="1304"/>
                  </a:lnTo>
                  <a:lnTo>
                    <a:pt x="33" y="1367"/>
                  </a:lnTo>
                  <a:lnTo>
                    <a:pt x="73" y="1377"/>
                  </a:lnTo>
                  <a:lnTo>
                    <a:pt x="93" y="1377"/>
                  </a:lnTo>
                  <a:lnTo>
                    <a:pt x="133" y="1377"/>
                  </a:lnTo>
                  <a:lnTo>
                    <a:pt x="143" y="1358"/>
                  </a:lnTo>
                  <a:lnTo>
                    <a:pt x="146" y="1313"/>
                  </a:lnTo>
                  <a:lnTo>
                    <a:pt x="146" y="1247"/>
                  </a:lnTo>
                  <a:lnTo>
                    <a:pt x="146" y="1178"/>
                  </a:lnTo>
                  <a:lnTo>
                    <a:pt x="146" y="1115"/>
                  </a:lnTo>
                  <a:lnTo>
                    <a:pt x="143" y="1049"/>
                  </a:lnTo>
                  <a:lnTo>
                    <a:pt x="148" y="977"/>
                  </a:lnTo>
                  <a:lnTo>
                    <a:pt x="155" y="923"/>
                  </a:lnTo>
                  <a:lnTo>
                    <a:pt x="163" y="878"/>
                  </a:lnTo>
                  <a:lnTo>
                    <a:pt x="196" y="842"/>
                  </a:lnTo>
                  <a:lnTo>
                    <a:pt x="220" y="812"/>
                  </a:lnTo>
                  <a:lnTo>
                    <a:pt x="238" y="779"/>
                  </a:lnTo>
                  <a:lnTo>
                    <a:pt x="269" y="752"/>
                  </a:lnTo>
                  <a:lnTo>
                    <a:pt x="286" y="728"/>
                  </a:lnTo>
                  <a:lnTo>
                    <a:pt x="310" y="698"/>
                  </a:lnTo>
                  <a:lnTo>
                    <a:pt x="341" y="689"/>
                  </a:lnTo>
                  <a:lnTo>
                    <a:pt x="361" y="677"/>
                  </a:lnTo>
                  <a:lnTo>
                    <a:pt x="380" y="665"/>
                  </a:lnTo>
                  <a:lnTo>
                    <a:pt x="409" y="650"/>
                  </a:lnTo>
                  <a:lnTo>
                    <a:pt x="416" y="620"/>
                  </a:lnTo>
                  <a:lnTo>
                    <a:pt x="421" y="581"/>
                  </a:lnTo>
                  <a:lnTo>
                    <a:pt x="421" y="548"/>
                  </a:lnTo>
                  <a:lnTo>
                    <a:pt x="431" y="479"/>
                  </a:lnTo>
                  <a:lnTo>
                    <a:pt x="443" y="419"/>
                  </a:lnTo>
                  <a:lnTo>
                    <a:pt x="445" y="371"/>
                  </a:lnTo>
                  <a:lnTo>
                    <a:pt x="455" y="320"/>
                  </a:lnTo>
                  <a:lnTo>
                    <a:pt x="467" y="296"/>
                  </a:lnTo>
                  <a:lnTo>
                    <a:pt x="481" y="266"/>
                  </a:lnTo>
                  <a:lnTo>
                    <a:pt x="481" y="236"/>
                  </a:lnTo>
                  <a:lnTo>
                    <a:pt x="491" y="206"/>
                  </a:lnTo>
                  <a:lnTo>
                    <a:pt x="496" y="176"/>
                  </a:lnTo>
                  <a:lnTo>
                    <a:pt x="512" y="128"/>
                  </a:lnTo>
                  <a:lnTo>
                    <a:pt x="508" y="74"/>
                  </a:lnTo>
                  <a:lnTo>
                    <a:pt x="498" y="0"/>
                  </a:lnTo>
                  <a:lnTo>
                    <a:pt x="498" y="0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28800" y="5165640"/>
              <a:ext cx="282600" cy="1693800"/>
            </a:xfrm>
            <a:custGeom>
              <a:avLst/>
              <a:gdLst/>
              <a:ahLst/>
              <a:rect l="l" t="t" r="r" b="b"/>
              <a:pathLst>
                <a:path w="178" h="1067">
                  <a:moveTo>
                    <a:pt x="0" y="26"/>
                  </a:moveTo>
                  <a:lnTo>
                    <a:pt x="20" y="0"/>
                  </a:lnTo>
                  <a:lnTo>
                    <a:pt x="47" y="38"/>
                  </a:lnTo>
                  <a:lnTo>
                    <a:pt x="50" y="77"/>
                  </a:lnTo>
                  <a:lnTo>
                    <a:pt x="45" y="133"/>
                  </a:lnTo>
                  <a:lnTo>
                    <a:pt x="45" y="208"/>
                  </a:lnTo>
                  <a:lnTo>
                    <a:pt x="60" y="256"/>
                  </a:lnTo>
                  <a:lnTo>
                    <a:pt x="69" y="279"/>
                  </a:lnTo>
                  <a:lnTo>
                    <a:pt x="80" y="302"/>
                  </a:lnTo>
                  <a:lnTo>
                    <a:pt x="119" y="336"/>
                  </a:lnTo>
                  <a:lnTo>
                    <a:pt x="158" y="396"/>
                  </a:lnTo>
                  <a:lnTo>
                    <a:pt x="161" y="434"/>
                  </a:lnTo>
                  <a:lnTo>
                    <a:pt x="165" y="476"/>
                  </a:lnTo>
                  <a:lnTo>
                    <a:pt x="161" y="538"/>
                  </a:lnTo>
                  <a:lnTo>
                    <a:pt x="167" y="583"/>
                  </a:lnTo>
                  <a:lnTo>
                    <a:pt x="158" y="649"/>
                  </a:lnTo>
                  <a:lnTo>
                    <a:pt x="161" y="681"/>
                  </a:lnTo>
                  <a:lnTo>
                    <a:pt x="161" y="714"/>
                  </a:lnTo>
                  <a:lnTo>
                    <a:pt x="165" y="744"/>
                  </a:lnTo>
                  <a:lnTo>
                    <a:pt x="160" y="784"/>
                  </a:lnTo>
                  <a:lnTo>
                    <a:pt x="166" y="825"/>
                  </a:lnTo>
                  <a:lnTo>
                    <a:pt x="166" y="856"/>
                  </a:lnTo>
                  <a:lnTo>
                    <a:pt x="173" y="888"/>
                  </a:lnTo>
                  <a:lnTo>
                    <a:pt x="177" y="923"/>
                  </a:lnTo>
                  <a:lnTo>
                    <a:pt x="173" y="950"/>
                  </a:lnTo>
                  <a:lnTo>
                    <a:pt x="173" y="982"/>
                  </a:lnTo>
                  <a:lnTo>
                    <a:pt x="166" y="1013"/>
                  </a:lnTo>
                  <a:lnTo>
                    <a:pt x="146" y="1066"/>
                  </a:lnTo>
                  <a:lnTo>
                    <a:pt x="26" y="1065"/>
                  </a:lnTo>
                  <a:lnTo>
                    <a:pt x="48" y="1034"/>
                  </a:lnTo>
                  <a:lnTo>
                    <a:pt x="61" y="1003"/>
                  </a:lnTo>
                  <a:lnTo>
                    <a:pt x="80" y="982"/>
                  </a:lnTo>
                  <a:lnTo>
                    <a:pt x="94" y="960"/>
                  </a:lnTo>
                  <a:lnTo>
                    <a:pt x="101" y="930"/>
                  </a:lnTo>
                  <a:lnTo>
                    <a:pt x="94" y="888"/>
                  </a:lnTo>
                  <a:lnTo>
                    <a:pt x="94" y="846"/>
                  </a:lnTo>
                  <a:lnTo>
                    <a:pt x="80" y="804"/>
                  </a:lnTo>
                  <a:lnTo>
                    <a:pt x="74" y="773"/>
                  </a:lnTo>
                  <a:lnTo>
                    <a:pt x="61" y="741"/>
                  </a:lnTo>
                  <a:lnTo>
                    <a:pt x="74" y="710"/>
                  </a:lnTo>
                  <a:lnTo>
                    <a:pt x="80" y="637"/>
                  </a:lnTo>
                  <a:lnTo>
                    <a:pt x="87" y="606"/>
                  </a:lnTo>
                  <a:lnTo>
                    <a:pt x="87" y="584"/>
                  </a:lnTo>
                  <a:lnTo>
                    <a:pt x="87" y="542"/>
                  </a:lnTo>
                  <a:lnTo>
                    <a:pt x="80" y="512"/>
                  </a:lnTo>
                  <a:lnTo>
                    <a:pt x="80" y="438"/>
                  </a:lnTo>
                  <a:lnTo>
                    <a:pt x="67" y="407"/>
                  </a:lnTo>
                  <a:lnTo>
                    <a:pt x="61" y="386"/>
                  </a:lnTo>
                  <a:lnTo>
                    <a:pt x="54" y="302"/>
                  </a:lnTo>
                  <a:lnTo>
                    <a:pt x="45" y="300"/>
                  </a:lnTo>
                  <a:lnTo>
                    <a:pt x="24" y="250"/>
                  </a:lnTo>
                  <a:lnTo>
                    <a:pt x="18" y="208"/>
                  </a:lnTo>
                  <a:lnTo>
                    <a:pt x="15" y="119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720" y="0"/>
              <a:ext cx="434880" cy="611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0"/>
                  </a:moveTo>
                  <a:lnTo>
                    <a:pt x="111" y="0"/>
                  </a:lnTo>
                  <a:lnTo>
                    <a:pt x="147" y="18"/>
                  </a:lnTo>
                  <a:lnTo>
                    <a:pt x="171" y="39"/>
                  </a:lnTo>
                  <a:lnTo>
                    <a:pt x="201" y="72"/>
                  </a:lnTo>
                  <a:lnTo>
                    <a:pt x="219" y="132"/>
                  </a:lnTo>
                  <a:lnTo>
                    <a:pt x="234" y="165"/>
                  </a:lnTo>
                  <a:lnTo>
                    <a:pt x="239" y="222"/>
                  </a:lnTo>
                  <a:lnTo>
                    <a:pt x="255" y="288"/>
                  </a:lnTo>
                  <a:lnTo>
                    <a:pt x="273" y="384"/>
                  </a:lnTo>
                  <a:lnTo>
                    <a:pt x="217" y="370"/>
                  </a:lnTo>
                  <a:lnTo>
                    <a:pt x="203" y="339"/>
                  </a:lnTo>
                  <a:lnTo>
                    <a:pt x="183" y="307"/>
                  </a:lnTo>
                  <a:lnTo>
                    <a:pt x="170" y="275"/>
                  </a:lnTo>
                  <a:lnTo>
                    <a:pt x="156" y="202"/>
                  </a:lnTo>
                  <a:lnTo>
                    <a:pt x="143" y="170"/>
                  </a:lnTo>
                  <a:lnTo>
                    <a:pt x="130" y="139"/>
                  </a:lnTo>
                  <a:lnTo>
                    <a:pt x="76" y="97"/>
                  </a:lnTo>
                  <a:lnTo>
                    <a:pt x="63" y="75"/>
                  </a:lnTo>
                  <a:lnTo>
                    <a:pt x="43" y="65"/>
                  </a:lnTo>
                  <a:lnTo>
                    <a:pt x="27" y="21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92280" y="3579840"/>
              <a:ext cx="365040" cy="534960"/>
            </a:xfrm>
            <a:custGeom>
              <a:avLst/>
              <a:gdLst/>
              <a:ahLst/>
              <a:rect l="l" t="t" r="r" b="b"/>
              <a:pathLst>
                <a:path w="230" h="337">
                  <a:moveTo>
                    <a:pt x="229" y="0"/>
                  </a:moveTo>
                  <a:lnTo>
                    <a:pt x="191" y="62"/>
                  </a:lnTo>
                  <a:lnTo>
                    <a:pt x="165" y="83"/>
                  </a:lnTo>
                  <a:lnTo>
                    <a:pt x="145" y="94"/>
                  </a:lnTo>
                  <a:lnTo>
                    <a:pt x="118" y="136"/>
                  </a:lnTo>
                  <a:lnTo>
                    <a:pt x="118" y="167"/>
                  </a:lnTo>
                  <a:lnTo>
                    <a:pt x="118" y="199"/>
                  </a:lnTo>
                  <a:lnTo>
                    <a:pt x="118" y="231"/>
                  </a:lnTo>
                  <a:lnTo>
                    <a:pt x="105" y="262"/>
                  </a:lnTo>
                  <a:lnTo>
                    <a:pt x="86" y="273"/>
                  </a:lnTo>
                  <a:lnTo>
                    <a:pt x="66" y="283"/>
                  </a:lnTo>
                  <a:lnTo>
                    <a:pt x="45" y="304"/>
                  </a:lnTo>
                  <a:lnTo>
                    <a:pt x="26" y="315"/>
                  </a:lnTo>
                  <a:lnTo>
                    <a:pt x="6" y="336"/>
                  </a:lnTo>
                  <a:lnTo>
                    <a:pt x="0" y="304"/>
                  </a:lnTo>
                  <a:lnTo>
                    <a:pt x="19" y="273"/>
                  </a:lnTo>
                  <a:lnTo>
                    <a:pt x="45" y="252"/>
                  </a:lnTo>
                  <a:lnTo>
                    <a:pt x="59" y="220"/>
                  </a:lnTo>
                  <a:lnTo>
                    <a:pt x="72" y="178"/>
                  </a:lnTo>
                  <a:lnTo>
                    <a:pt x="79" y="136"/>
                  </a:lnTo>
                  <a:lnTo>
                    <a:pt x="79" y="104"/>
                  </a:lnTo>
                  <a:lnTo>
                    <a:pt x="132" y="73"/>
                  </a:lnTo>
                  <a:lnTo>
                    <a:pt x="152" y="73"/>
                  </a:lnTo>
                  <a:lnTo>
                    <a:pt x="178" y="30"/>
                  </a:lnTo>
                  <a:lnTo>
                    <a:pt x="198" y="9"/>
                  </a:lnTo>
                  <a:lnTo>
                    <a:pt x="229" y="0"/>
                  </a:lnTo>
                  <a:lnTo>
                    <a:pt x="229" y="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2920" y="538200"/>
              <a:ext cx="245880" cy="368280"/>
            </a:xfrm>
            <a:custGeom>
              <a:avLst/>
              <a:gdLst/>
              <a:ahLst/>
              <a:rect l="l" t="t" r="r" b="b"/>
              <a:pathLst>
                <a:path w="155" h="232">
                  <a:moveTo>
                    <a:pt x="20" y="10"/>
                  </a:moveTo>
                  <a:lnTo>
                    <a:pt x="20" y="52"/>
                  </a:lnTo>
                  <a:lnTo>
                    <a:pt x="20" y="84"/>
                  </a:lnTo>
                  <a:lnTo>
                    <a:pt x="6" y="94"/>
                  </a:lnTo>
                  <a:lnTo>
                    <a:pt x="0" y="126"/>
                  </a:lnTo>
                  <a:lnTo>
                    <a:pt x="6" y="158"/>
                  </a:lnTo>
                  <a:lnTo>
                    <a:pt x="20" y="158"/>
                  </a:lnTo>
                  <a:lnTo>
                    <a:pt x="39" y="168"/>
                  </a:lnTo>
                  <a:lnTo>
                    <a:pt x="59" y="189"/>
                  </a:lnTo>
                  <a:lnTo>
                    <a:pt x="79" y="221"/>
                  </a:lnTo>
                  <a:lnTo>
                    <a:pt x="99" y="231"/>
                  </a:lnTo>
                  <a:lnTo>
                    <a:pt x="118" y="231"/>
                  </a:lnTo>
                  <a:lnTo>
                    <a:pt x="154" y="228"/>
                  </a:lnTo>
                  <a:lnTo>
                    <a:pt x="154" y="189"/>
                  </a:lnTo>
                  <a:lnTo>
                    <a:pt x="150" y="138"/>
                  </a:lnTo>
                  <a:lnTo>
                    <a:pt x="132" y="126"/>
                  </a:lnTo>
                  <a:lnTo>
                    <a:pt x="118" y="117"/>
                  </a:lnTo>
                  <a:lnTo>
                    <a:pt x="96" y="105"/>
                  </a:lnTo>
                  <a:lnTo>
                    <a:pt x="72" y="75"/>
                  </a:lnTo>
                  <a:lnTo>
                    <a:pt x="64" y="33"/>
                  </a:lnTo>
                  <a:lnTo>
                    <a:pt x="52" y="0"/>
                  </a:lnTo>
                  <a:lnTo>
                    <a:pt x="20" y="1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D16A-6D7E-47C5-8150-3FFCA5914A1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52" name=""/>
            <p:cNvSpPr/>
            <p:nvPr/>
          </p:nvSpPr>
          <p:spPr>
            <a:xfrm>
              <a:off x="1419120" y="220680"/>
              <a:ext cx="1636920" cy="6642000"/>
            </a:xfrm>
            <a:custGeom>
              <a:avLst/>
              <a:gdLst/>
              <a:ahLst/>
              <a:rect l="l" t="t" r="r" b="b"/>
              <a:pathLst>
                <a:path w="1031" h="4184">
                  <a:moveTo>
                    <a:pt x="0" y="0"/>
                  </a:moveTo>
                  <a:lnTo>
                    <a:pt x="728" y="0"/>
                  </a:lnTo>
                  <a:lnTo>
                    <a:pt x="743" y="0"/>
                  </a:lnTo>
                  <a:lnTo>
                    <a:pt x="790" y="23"/>
                  </a:lnTo>
                  <a:lnTo>
                    <a:pt x="809" y="54"/>
                  </a:lnTo>
                  <a:lnTo>
                    <a:pt x="830" y="65"/>
                  </a:lnTo>
                  <a:lnTo>
                    <a:pt x="843" y="128"/>
                  </a:lnTo>
                  <a:lnTo>
                    <a:pt x="856" y="170"/>
                  </a:lnTo>
                  <a:lnTo>
                    <a:pt x="876" y="254"/>
                  </a:lnTo>
                  <a:lnTo>
                    <a:pt x="890" y="339"/>
                  </a:lnTo>
                  <a:lnTo>
                    <a:pt x="909" y="423"/>
                  </a:lnTo>
                  <a:lnTo>
                    <a:pt x="962" y="465"/>
                  </a:lnTo>
                  <a:lnTo>
                    <a:pt x="1016" y="486"/>
                  </a:lnTo>
                  <a:lnTo>
                    <a:pt x="1030" y="518"/>
                  </a:lnTo>
                  <a:lnTo>
                    <a:pt x="1030" y="581"/>
                  </a:lnTo>
                  <a:lnTo>
                    <a:pt x="1030" y="644"/>
                  </a:lnTo>
                  <a:lnTo>
                    <a:pt x="1030" y="707"/>
                  </a:lnTo>
                  <a:lnTo>
                    <a:pt x="1030" y="749"/>
                  </a:lnTo>
                  <a:lnTo>
                    <a:pt x="1023" y="833"/>
                  </a:lnTo>
                  <a:lnTo>
                    <a:pt x="1016" y="897"/>
                  </a:lnTo>
                  <a:lnTo>
                    <a:pt x="1009" y="981"/>
                  </a:lnTo>
                  <a:lnTo>
                    <a:pt x="1003" y="1012"/>
                  </a:lnTo>
                  <a:lnTo>
                    <a:pt x="990" y="1034"/>
                  </a:lnTo>
                  <a:lnTo>
                    <a:pt x="976" y="1055"/>
                  </a:lnTo>
                  <a:lnTo>
                    <a:pt x="962" y="1086"/>
                  </a:lnTo>
                  <a:lnTo>
                    <a:pt x="923" y="1107"/>
                  </a:lnTo>
                  <a:lnTo>
                    <a:pt x="903" y="1128"/>
                  </a:lnTo>
                  <a:lnTo>
                    <a:pt x="890" y="1160"/>
                  </a:lnTo>
                  <a:lnTo>
                    <a:pt x="850" y="1170"/>
                  </a:lnTo>
                  <a:lnTo>
                    <a:pt x="809" y="1191"/>
                  </a:lnTo>
                  <a:lnTo>
                    <a:pt x="803" y="1255"/>
                  </a:lnTo>
                  <a:lnTo>
                    <a:pt x="796" y="1339"/>
                  </a:lnTo>
                  <a:lnTo>
                    <a:pt x="796" y="1370"/>
                  </a:lnTo>
                  <a:lnTo>
                    <a:pt x="796" y="1413"/>
                  </a:lnTo>
                  <a:lnTo>
                    <a:pt x="796" y="1518"/>
                  </a:lnTo>
                  <a:lnTo>
                    <a:pt x="796" y="1549"/>
                  </a:lnTo>
                  <a:lnTo>
                    <a:pt x="796" y="1613"/>
                  </a:lnTo>
                  <a:lnTo>
                    <a:pt x="796" y="1655"/>
                  </a:lnTo>
                  <a:lnTo>
                    <a:pt x="809" y="1760"/>
                  </a:lnTo>
                  <a:lnTo>
                    <a:pt x="850" y="1844"/>
                  </a:lnTo>
                  <a:lnTo>
                    <a:pt x="863" y="1876"/>
                  </a:lnTo>
                  <a:lnTo>
                    <a:pt x="863" y="1939"/>
                  </a:lnTo>
                  <a:lnTo>
                    <a:pt x="856" y="1981"/>
                  </a:lnTo>
                  <a:lnTo>
                    <a:pt x="843" y="2023"/>
                  </a:lnTo>
                  <a:lnTo>
                    <a:pt x="830" y="2086"/>
                  </a:lnTo>
                  <a:lnTo>
                    <a:pt x="816" y="2119"/>
                  </a:lnTo>
                  <a:lnTo>
                    <a:pt x="803" y="2150"/>
                  </a:lnTo>
                  <a:lnTo>
                    <a:pt x="796" y="2245"/>
                  </a:lnTo>
                  <a:lnTo>
                    <a:pt x="783" y="2308"/>
                  </a:lnTo>
                  <a:lnTo>
                    <a:pt x="776" y="2372"/>
                  </a:lnTo>
                  <a:lnTo>
                    <a:pt x="769" y="2435"/>
                  </a:lnTo>
                  <a:lnTo>
                    <a:pt x="763" y="2466"/>
                  </a:lnTo>
                  <a:lnTo>
                    <a:pt x="716" y="2498"/>
                  </a:lnTo>
                  <a:lnTo>
                    <a:pt x="663" y="2519"/>
                  </a:lnTo>
                  <a:lnTo>
                    <a:pt x="637" y="2551"/>
                  </a:lnTo>
                  <a:lnTo>
                    <a:pt x="570" y="2635"/>
                  </a:lnTo>
                  <a:lnTo>
                    <a:pt x="516" y="2698"/>
                  </a:lnTo>
                  <a:lnTo>
                    <a:pt x="510" y="2730"/>
                  </a:lnTo>
                  <a:lnTo>
                    <a:pt x="497" y="2772"/>
                  </a:lnTo>
                  <a:lnTo>
                    <a:pt x="497" y="2835"/>
                  </a:lnTo>
                  <a:lnTo>
                    <a:pt x="497" y="2919"/>
                  </a:lnTo>
                  <a:lnTo>
                    <a:pt x="497" y="2982"/>
                  </a:lnTo>
                  <a:lnTo>
                    <a:pt x="497" y="3066"/>
                  </a:lnTo>
                  <a:lnTo>
                    <a:pt x="497" y="3130"/>
                  </a:lnTo>
                  <a:lnTo>
                    <a:pt x="497" y="3161"/>
                  </a:lnTo>
                  <a:lnTo>
                    <a:pt x="516" y="3193"/>
                  </a:lnTo>
                  <a:lnTo>
                    <a:pt x="543" y="3214"/>
                  </a:lnTo>
                  <a:lnTo>
                    <a:pt x="610" y="3235"/>
                  </a:lnTo>
                  <a:lnTo>
                    <a:pt x="630" y="3266"/>
                  </a:lnTo>
                  <a:lnTo>
                    <a:pt x="637" y="3298"/>
                  </a:lnTo>
                  <a:lnTo>
                    <a:pt x="637" y="3340"/>
                  </a:lnTo>
                  <a:lnTo>
                    <a:pt x="637" y="3424"/>
                  </a:lnTo>
                  <a:lnTo>
                    <a:pt x="637" y="3456"/>
                  </a:lnTo>
                  <a:lnTo>
                    <a:pt x="663" y="3561"/>
                  </a:lnTo>
                  <a:lnTo>
                    <a:pt x="703" y="3582"/>
                  </a:lnTo>
                  <a:lnTo>
                    <a:pt x="743" y="3645"/>
                  </a:lnTo>
                  <a:lnTo>
                    <a:pt x="743" y="3677"/>
                  </a:lnTo>
                  <a:lnTo>
                    <a:pt x="750" y="3719"/>
                  </a:lnTo>
                  <a:lnTo>
                    <a:pt x="750" y="3761"/>
                  </a:lnTo>
                  <a:lnTo>
                    <a:pt x="750" y="3793"/>
                  </a:lnTo>
                  <a:lnTo>
                    <a:pt x="750" y="3877"/>
                  </a:lnTo>
                  <a:lnTo>
                    <a:pt x="750" y="3993"/>
                  </a:lnTo>
                  <a:lnTo>
                    <a:pt x="750" y="4024"/>
                  </a:lnTo>
                  <a:lnTo>
                    <a:pt x="750" y="4056"/>
                  </a:lnTo>
                  <a:lnTo>
                    <a:pt x="756" y="4088"/>
                  </a:lnTo>
                  <a:lnTo>
                    <a:pt x="756" y="4119"/>
                  </a:lnTo>
                  <a:lnTo>
                    <a:pt x="772" y="4183"/>
                  </a:lnTo>
                  <a:lnTo>
                    <a:pt x="13" y="418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2898720" cy="6858000"/>
              </a:xfrm>
              <a:custGeom>
                <a:avLst/>
                <a:gdLst/>
                <a:ahLst/>
                <a:rect l="l" t="t" r="r" b="b"/>
                <a:pathLst>
                  <a:path w="1826" h="4320">
                    <a:moveTo>
                      <a:pt x="0" y="0"/>
                    </a:moveTo>
                    <a:lnTo>
                      <a:pt x="1527" y="0"/>
                    </a:lnTo>
                    <a:lnTo>
                      <a:pt x="1542" y="0"/>
                    </a:lnTo>
                    <a:lnTo>
                      <a:pt x="1588" y="23"/>
                    </a:lnTo>
                    <a:lnTo>
                      <a:pt x="1607" y="54"/>
                    </a:lnTo>
                    <a:lnTo>
                      <a:pt x="1627" y="65"/>
                    </a:lnTo>
                    <a:lnTo>
                      <a:pt x="1640" y="128"/>
                    </a:lnTo>
                    <a:lnTo>
                      <a:pt x="1653" y="170"/>
                    </a:lnTo>
                    <a:lnTo>
                      <a:pt x="1673" y="254"/>
                    </a:lnTo>
                    <a:lnTo>
                      <a:pt x="1687" y="339"/>
                    </a:lnTo>
                    <a:lnTo>
                      <a:pt x="1706" y="423"/>
                    </a:lnTo>
                    <a:lnTo>
                      <a:pt x="1758" y="465"/>
                    </a:lnTo>
                    <a:lnTo>
                      <a:pt x="1811" y="486"/>
                    </a:lnTo>
                    <a:lnTo>
                      <a:pt x="1825" y="518"/>
                    </a:lnTo>
                    <a:lnTo>
                      <a:pt x="1825" y="581"/>
                    </a:lnTo>
                    <a:lnTo>
                      <a:pt x="1825" y="644"/>
                    </a:lnTo>
                    <a:lnTo>
                      <a:pt x="1825" y="707"/>
                    </a:lnTo>
                    <a:lnTo>
                      <a:pt x="1825" y="749"/>
                    </a:lnTo>
                    <a:lnTo>
                      <a:pt x="1818" y="833"/>
                    </a:lnTo>
                    <a:lnTo>
                      <a:pt x="1811" y="897"/>
                    </a:lnTo>
                    <a:lnTo>
                      <a:pt x="1805" y="981"/>
                    </a:lnTo>
                    <a:lnTo>
                      <a:pt x="1798" y="1012"/>
                    </a:lnTo>
                    <a:lnTo>
                      <a:pt x="1785" y="1034"/>
                    </a:lnTo>
                    <a:lnTo>
                      <a:pt x="1771" y="1055"/>
                    </a:lnTo>
                    <a:lnTo>
                      <a:pt x="1758" y="1086"/>
                    </a:lnTo>
                    <a:lnTo>
                      <a:pt x="1719" y="1107"/>
                    </a:lnTo>
                    <a:lnTo>
                      <a:pt x="1700" y="1128"/>
                    </a:lnTo>
                    <a:lnTo>
                      <a:pt x="1687" y="1160"/>
                    </a:lnTo>
                    <a:lnTo>
                      <a:pt x="1647" y="1170"/>
                    </a:lnTo>
                    <a:lnTo>
                      <a:pt x="1607" y="1191"/>
                    </a:lnTo>
                    <a:lnTo>
                      <a:pt x="1601" y="1255"/>
                    </a:lnTo>
                    <a:lnTo>
                      <a:pt x="1594" y="1339"/>
                    </a:lnTo>
                    <a:lnTo>
                      <a:pt x="1594" y="1370"/>
                    </a:lnTo>
                    <a:lnTo>
                      <a:pt x="1594" y="1413"/>
                    </a:lnTo>
                    <a:lnTo>
                      <a:pt x="1594" y="1518"/>
                    </a:lnTo>
                    <a:lnTo>
                      <a:pt x="1594" y="1549"/>
                    </a:lnTo>
                    <a:lnTo>
                      <a:pt x="1594" y="1613"/>
                    </a:lnTo>
                    <a:lnTo>
                      <a:pt x="1594" y="1655"/>
                    </a:lnTo>
                    <a:lnTo>
                      <a:pt x="1607" y="1760"/>
                    </a:lnTo>
                    <a:lnTo>
                      <a:pt x="1647" y="1844"/>
                    </a:lnTo>
                    <a:lnTo>
                      <a:pt x="1660" y="1876"/>
                    </a:lnTo>
                    <a:lnTo>
                      <a:pt x="1660" y="1939"/>
                    </a:lnTo>
                    <a:lnTo>
                      <a:pt x="1653" y="1981"/>
                    </a:lnTo>
                    <a:lnTo>
                      <a:pt x="1640" y="2023"/>
                    </a:lnTo>
                    <a:lnTo>
                      <a:pt x="1627" y="2086"/>
                    </a:lnTo>
                    <a:lnTo>
                      <a:pt x="1614" y="2118"/>
                    </a:lnTo>
                    <a:lnTo>
                      <a:pt x="1601" y="2149"/>
                    </a:lnTo>
                    <a:lnTo>
                      <a:pt x="1594" y="2244"/>
                    </a:lnTo>
                    <a:lnTo>
                      <a:pt x="1581" y="2307"/>
                    </a:lnTo>
                    <a:lnTo>
                      <a:pt x="1575" y="2371"/>
                    </a:lnTo>
                    <a:lnTo>
                      <a:pt x="1568" y="2434"/>
                    </a:lnTo>
                    <a:lnTo>
                      <a:pt x="1562" y="2465"/>
                    </a:lnTo>
                    <a:lnTo>
                      <a:pt x="1515" y="2497"/>
                    </a:lnTo>
                    <a:lnTo>
                      <a:pt x="1463" y="2518"/>
                    </a:lnTo>
                    <a:lnTo>
                      <a:pt x="1437" y="2550"/>
                    </a:lnTo>
                    <a:lnTo>
                      <a:pt x="1371" y="2634"/>
                    </a:lnTo>
                    <a:lnTo>
                      <a:pt x="1318" y="2697"/>
                    </a:lnTo>
                    <a:lnTo>
                      <a:pt x="1312" y="2729"/>
                    </a:lnTo>
                    <a:lnTo>
                      <a:pt x="1299" y="2771"/>
                    </a:lnTo>
                    <a:lnTo>
                      <a:pt x="1299" y="2834"/>
                    </a:lnTo>
                    <a:lnTo>
                      <a:pt x="1299" y="2918"/>
                    </a:lnTo>
                    <a:lnTo>
                      <a:pt x="1299" y="2981"/>
                    </a:lnTo>
                    <a:lnTo>
                      <a:pt x="1299" y="3065"/>
                    </a:lnTo>
                    <a:lnTo>
                      <a:pt x="1299" y="3129"/>
                    </a:lnTo>
                    <a:lnTo>
                      <a:pt x="1299" y="3160"/>
                    </a:lnTo>
                    <a:lnTo>
                      <a:pt x="1318" y="3192"/>
                    </a:lnTo>
                    <a:lnTo>
                      <a:pt x="1344" y="3213"/>
                    </a:lnTo>
                    <a:lnTo>
                      <a:pt x="1411" y="3234"/>
                    </a:lnTo>
                    <a:lnTo>
                      <a:pt x="1430" y="3265"/>
                    </a:lnTo>
                    <a:lnTo>
                      <a:pt x="1437" y="3297"/>
                    </a:lnTo>
                    <a:lnTo>
                      <a:pt x="1437" y="3339"/>
                    </a:lnTo>
                    <a:lnTo>
                      <a:pt x="1437" y="3423"/>
                    </a:lnTo>
                    <a:lnTo>
                      <a:pt x="1437" y="3455"/>
                    </a:lnTo>
                    <a:lnTo>
                      <a:pt x="1463" y="3560"/>
                    </a:lnTo>
                    <a:lnTo>
                      <a:pt x="1502" y="3581"/>
                    </a:lnTo>
                    <a:lnTo>
                      <a:pt x="1542" y="3644"/>
                    </a:lnTo>
                    <a:lnTo>
                      <a:pt x="1542" y="3676"/>
                    </a:lnTo>
                    <a:lnTo>
                      <a:pt x="1549" y="3718"/>
                    </a:lnTo>
                    <a:lnTo>
                      <a:pt x="1549" y="3760"/>
                    </a:lnTo>
                    <a:lnTo>
                      <a:pt x="1549" y="3792"/>
                    </a:lnTo>
                    <a:lnTo>
                      <a:pt x="1549" y="3876"/>
                    </a:lnTo>
                    <a:lnTo>
                      <a:pt x="1549" y="3992"/>
                    </a:lnTo>
                    <a:lnTo>
                      <a:pt x="1549" y="4023"/>
                    </a:lnTo>
                    <a:lnTo>
                      <a:pt x="1549" y="4055"/>
                    </a:lnTo>
                    <a:lnTo>
                      <a:pt x="1555" y="4087"/>
                    </a:lnTo>
                    <a:lnTo>
                      <a:pt x="1555" y="4118"/>
                    </a:lnTo>
                    <a:lnTo>
                      <a:pt x="1562" y="4150"/>
                    </a:lnTo>
                    <a:lnTo>
                      <a:pt x="1562" y="4181"/>
                    </a:lnTo>
                    <a:lnTo>
                      <a:pt x="1549" y="4266"/>
                    </a:lnTo>
                    <a:lnTo>
                      <a:pt x="1542" y="4297"/>
                    </a:lnTo>
                    <a:lnTo>
                      <a:pt x="1529" y="4319"/>
                    </a:lnTo>
                    <a:lnTo>
                      <a:pt x="0" y="43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44680" y="758880"/>
                <a:ext cx="585720" cy="2124000"/>
              </a:xfrm>
              <a:custGeom>
                <a:avLst/>
                <a:gdLst/>
                <a:ahLst/>
                <a:rect l="l" t="t" r="r" b="b"/>
                <a:pathLst>
                  <a:path w="369" h="1338">
                    <a:moveTo>
                      <a:pt x="361" y="57"/>
                    </a:moveTo>
                    <a:lnTo>
                      <a:pt x="306" y="72"/>
                    </a:lnTo>
                    <a:lnTo>
                      <a:pt x="306" y="104"/>
                    </a:lnTo>
                    <a:lnTo>
                      <a:pt x="299" y="135"/>
                    </a:lnTo>
                    <a:lnTo>
                      <a:pt x="299" y="167"/>
                    </a:lnTo>
                    <a:lnTo>
                      <a:pt x="299" y="199"/>
                    </a:lnTo>
                    <a:lnTo>
                      <a:pt x="292" y="230"/>
                    </a:lnTo>
                    <a:lnTo>
                      <a:pt x="285" y="262"/>
                    </a:lnTo>
                    <a:lnTo>
                      <a:pt x="285" y="293"/>
                    </a:lnTo>
                    <a:lnTo>
                      <a:pt x="285" y="325"/>
                    </a:lnTo>
                    <a:lnTo>
                      <a:pt x="285" y="356"/>
                    </a:lnTo>
                    <a:lnTo>
                      <a:pt x="279" y="378"/>
                    </a:lnTo>
                    <a:lnTo>
                      <a:pt x="272" y="409"/>
                    </a:lnTo>
                    <a:lnTo>
                      <a:pt x="266" y="441"/>
                    </a:lnTo>
                    <a:lnTo>
                      <a:pt x="239" y="462"/>
                    </a:lnTo>
                    <a:lnTo>
                      <a:pt x="219" y="462"/>
                    </a:lnTo>
                    <a:lnTo>
                      <a:pt x="199" y="462"/>
                    </a:lnTo>
                    <a:lnTo>
                      <a:pt x="179" y="462"/>
                    </a:lnTo>
                    <a:lnTo>
                      <a:pt x="159" y="504"/>
                    </a:lnTo>
                    <a:lnTo>
                      <a:pt x="139" y="525"/>
                    </a:lnTo>
                    <a:lnTo>
                      <a:pt x="119" y="525"/>
                    </a:lnTo>
                    <a:lnTo>
                      <a:pt x="99" y="535"/>
                    </a:lnTo>
                    <a:lnTo>
                      <a:pt x="79" y="557"/>
                    </a:lnTo>
                    <a:lnTo>
                      <a:pt x="60" y="578"/>
                    </a:lnTo>
                    <a:lnTo>
                      <a:pt x="46" y="609"/>
                    </a:lnTo>
                    <a:lnTo>
                      <a:pt x="39" y="641"/>
                    </a:lnTo>
                    <a:lnTo>
                      <a:pt x="39" y="671"/>
                    </a:lnTo>
                    <a:lnTo>
                      <a:pt x="53" y="703"/>
                    </a:lnTo>
                    <a:lnTo>
                      <a:pt x="39" y="734"/>
                    </a:lnTo>
                    <a:lnTo>
                      <a:pt x="26" y="756"/>
                    </a:lnTo>
                    <a:lnTo>
                      <a:pt x="6" y="798"/>
                    </a:lnTo>
                    <a:lnTo>
                      <a:pt x="0" y="840"/>
                    </a:lnTo>
                    <a:lnTo>
                      <a:pt x="19" y="871"/>
                    </a:lnTo>
                    <a:lnTo>
                      <a:pt x="39" y="882"/>
                    </a:lnTo>
                    <a:lnTo>
                      <a:pt x="46" y="913"/>
                    </a:lnTo>
                    <a:lnTo>
                      <a:pt x="53" y="935"/>
                    </a:lnTo>
                    <a:lnTo>
                      <a:pt x="53" y="966"/>
                    </a:lnTo>
                    <a:lnTo>
                      <a:pt x="39" y="1008"/>
                    </a:lnTo>
                    <a:lnTo>
                      <a:pt x="39" y="1040"/>
                    </a:lnTo>
                    <a:lnTo>
                      <a:pt x="26" y="1071"/>
                    </a:lnTo>
                    <a:lnTo>
                      <a:pt x="19" y="1103"/>
                    </a:lnTo>
                    <a:lnTo>
                      <a:pt x="26" y="1135"/>
                    </a:lnTo>
                    <a:lnTo>
                      <a:pt x="53" y="1156"/>
                    </a:lnTo>
                    <a:lnTo>
                      <a:pt x="73" y="1187"/>
                    </a:lnTo>
                    <a:lnTo>
                      <a:pt x="79" y="1219"/>
                    </a:lnTo>
                    <a:lnTo>
                      <a:pt x="86" y="1250"/>
                    </a:lnTo>
                    <a:lnTo>
                      <a:pt x="106" y="1261"/>
                    </a:lnTo>
                    <a:lnTo>
                      <a:pt x="126" y="1282"/>
                    </a:lnTo>
                    <a:lnTo>
                      <a:pt x="161" y="1337"/>
                    </a:lnTo>
                    <a:lnTo>
                      <a:pt x="151" y="1310"/>
                    </a:lnTo>
                    <a:lnTo>
                      <a:pt x="142" y="1259"/>
                    </a:lnTo>
                    <a:lnTo>
                      <a:pt x="134" y="1226"/>
                    </a:lnTo>
                    <a:lnTo>
                      <a:pt x="127" y="1163"/>
                    </a:lnTo>
                    <a:lnTo>
                      <a:pt x="130" y="1127"/>
                    </a:lnTo>
                    <a:lnTo>
                      <a:pt x="127" y="1085"/>
                    </a:lnTo>
                    <a:lnTo>
                      <a:pt x="127" y="995"/>
                    </a:lnTo>
                    <a:lnTo>
                      <a:pt x="130" y="908"/>
                    </a:lnTo>
                    <a:lnTo>
                      <a:pt x="134" y="821"/>
                    </a:lnTo>
                    <a:lnTo>
                      <a:pt x="134" y="785"/>
                    </a:lnTo>
                    <a:lnTo>
                      <a:pt x="142" y="734"/>
                    </a:lnTo>
                    <a:lnTo>
                      <a:pt x="158" y="707"/>
                    </a:lnTo>
                    <a:lnTo>
                      <a:pt x="185" y="698"/>
                    </a:lnTo>
                    <a:lnTo>
                      <a:pt x="223" y="686"/>
                    </a:lnTo>
                    <a:lnTo>
                      <a:pt x="242" y="651"/>
                    </a:lnTo>
                    <a:lnTo>
                      <a:pt x="263" y="627"/>
                    </a:lnTo>
                    <a:lnTo>
                      <a:pt x="290" y="618"/>
                    </a:lnTo>
                    <a:lnTo>
                      <a:pt x="304" y="591"/>
                    </a:lnTo>
                    <a:lnTo>
                      <a:pt x="340" y="537"/>
                    </a:lnTo>
                    <a:lnTo>
                      <a:pt x="340" y="495"/>
                    </a:lnTo>
                    <a:lnTo>
                      <a:pt x="352" y="429"/>
                    </a:lnTo>
                    <a:lnTo>
                      <a:pt x="359" y="357"/>
                    </a:lnTo>
                    <a:lnTo>
                      <a:pt x="364" y="297"/>
                    </a:lnTo>
                    <a:lnTo>
                      <a:pt x="364" y="261"/>
                    </a:lnTo>
                    <a:lnTo>
                      <a:pt x="364" y="225"/>
                    </a:lnTo>
                    <a:lnTo>
                      <a:pt x="368" y="183"/>
                    </a:lnTo>
                    <a:lnTo>
                      <a:pt x="368" y="123"/>
                    </a:lnTo>
                    <a:lnTo>
                      <a:pt x="364" y="93"/>
                    </a:lnTo>
                    <a:lnTo>
                      <a:pt x="338" y="51"/>
                    </a:lnTo>
                    <a:lnTo>
                      <a:pt x="345" y="9"/>
                    </a:lnTo>
                    <a:lnTo>
                      <a:pt x="326" y="0"/>
                    </a:lnTo>
                    <a:lnTo>
                      <a:pt x="338" y="3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49320" y="2890800"/>
                <a:ext cx="814680" cy="2181240"/>
              </a:xfrm>
              <a:custGeom>
                <a:avLst/>
                <a:gdLst/>
                <a:ahLst/>
                <a:rect l="l" t="t" r="r" b="b"/>
                <a:pathLst>
                  <a:path w="513" h="1374">
                    <a:moveTo>
                      <a:pt x="498" y="0"/>
                    </a:moveTo>
                    <a:lnTo>
                      <a:pt x="477" y="61"/>
                    </a:lnTo>
                    <a:lnTo>
                      <a:pt x="471" y="93"/>
                    </a:lnTo>
                    <a:lnTo>
                      <a:pt x="451" y="114"/>
                    </a:lnTo>
                    <a:lnTo>
                      <a:pt x="444" y="145"/>
                    </a:lnTo>
                    <a:lnTo>
                      <a:pt x="444" y="167"/>
                    </a:lnTo>
                    <a:lnTo>
                      <a:pt x="451" y="198"/>
                    </a:lnTo>
                    <a:lnTo>
                      <a:pt x="444" y="230"/>
                    </a:lnTo>
                    <a:lnTo>
                      <a:pt x="444" y="261"/>
                    </a:lnTo>
                    <a:lnTo>
                      <a:pt x="424" y="281"/>
                    </a:lnTo>
                    <a:lnTo>
                      <a:pt x="404" y="292"/>
                    </a:lnTo>
                    <a:lnTo>
                      <a:pt x="385" y="302"/>
                    </a:lnTo>
                    <a:lnTo>
                      <a:pt x="358" y="323"/>
                    </a:lnTo>
                    <a:lnTo>
                      <a:pt x="358" y="345"/>
                    </a:lnTo>
                    <a:lnTo>
                      <a:pt x="358" y="376"/>
                    </a:lnTo>
                    <a:lnTo>
                      <a:pt x="358" y="408"/>
                    </a:lnTo>
                    <a:lnTo>
                      <a:pt x="344" y="418"/>
                    </a:lnTo>
                    <a:lnTo>
                      <a:pt x="318" y="439"/>
                    </a:lnTo>
                    <a:lnTo>
                      <a:pt x="285" y="492"/>
                    </a:lnTo>
                    <a:lnTo>
                      <a:pt x="265" y="492"/>
                    </a:lnTo>
                    <a:lnTo>
                      <a:pt x="225" y="513"/>
                    </a:lnTo>
                    <a:lnTo>
                      <a:pt x="186" y="565"/>
                    </a:lnTo>
                    <a:lnTo>
                      <a:pt x="186" y="596"/>
                    </a:lnTo>
                    <a:lnTo>
                      <a:pt x="179" y="670"/>
                    </a:lnTo>
                    <a:lnTo>
                      <a:pt x="152" y="680"/>
                    </a:lnTo>
                    <a:lnTo>
                      <a:pt x="133" y="680"/>
                    </a:lnTo>
                    <a:lnTo>
                      <a:pt x="112" y="701"/>
                    </a:lnTo>
                    <a:lnTo>
                      <a:pt x="73" y="723"/>
                    </a:lnTo>
                    <a:lnTo>
                      <a:pt x="33" y="775"/>
                    </a:lnTo>
                    <a:lnTo>
                      <a:pt x="33" y="807"/>
                    </a:lnTo>
                    <a:lnTo>
                      <a:pt x="39" y="869"/>
                    </a:lnTo>
                    <a:lnTo>
                      <a:pt x="13" y="932"/>
                    </a:lnTo>
                    <a:lnTo>
                      <a:pt x="0" y="964"/>
                    </a:lnTo>
                    <a:lnTo>
                      <a:pt x="0" y="1027"/>
                    </a:lnTo>
                    <a:lnTo>
                      <a:pt x="6" y="1090"/>
                    </a:lnTo>
                    <a:lnTo>
                      <a:pt x="13" y="1152"/>
                    </a:lnTo>
                    <a:lnTo>
                      <a:pt x="13" y="1236"/>
                    </a:lnTo>
                    <a:lnTo>
                      <a:pt x="33" y="1300"/>
                    </a:lnTo>
                    <a:lnTo>
                      <a:pt x="33" y="1363"/>
                    </a:lnTo>
                    <a:lnTo>
                      <a:pt x="73" y="1373"/>
                    </a:lnTo>
                    <a:lnTo>
                      <a:pt x="93" y="1373"/>
                    </a:lnTo>
                    <a:lnTo>
                      <a:pt x="133" y="1373"/>
                    </a:lnTo>
                    <a:lnTo>
                      <a:pt x="143" y="1354"/>
                    </a:lnTo>
                    <a:lnTo>
                      <a:pt x="146" y="1309"/>
                    </a:lnTo>
                    <a:lnTo>
                      <a:pt x="146" y="1243"/>
                    </a:lnTo>
                    <a:lnTo>
                      <a:pt x="146" y="1174"/>
                    </a:lnTo>
                    <a:lnTo>
                      <a:pt x="146" y="1111"/>
                    </a:lnTo>
                    <a:lnTo>
                      <a:pt x="143" y="1046"/>
                    </a:lnTo>
                    <a:lnTo>
                      <a:pt x="148" y="974"/>
                    </a:lnTo>
                    <a:lnTo>
                      <a:pt x="155" y="920"/>
                    </a:lnTo>
                    <a:lnTo>
                      <a:pt x="163" y="875"/>
                    </a:lnTo>
                    <a:lnTo>
                      <a:pt x="196" y="839"/>
                    </a:lnTo>
                    <a:lnTo>
                      <a:pt x="220" y="810"/>
                    </a:lnTo>
                    <a:lnTo>
                      <a:pt x="238" y="777"/>
                    </a:lnTo>
                    <a:lnTo>
                      <a:pt x="269" y="750"/>
                    </a:lnTo>
                    <a:lnTo>
                      <a:pt x="286" y="726"/>
                    </a:lnTo>
                    <a:lnTo>
                      <a:pt x="310" y="696"/>
                    </a:lnTo>
                    <a:lnTo>
                      <a:pt x="341" y="687"/>
                    </a:lnTo>
                    <a:lnTo>
                      <a:pt x="361" y="675"/>
                    </a:lnTo>
                    <a:lnTo>
                      <a:pt x="380" y="663"/>
                    </a:lnTo>
                    <a:lnTo>
                      <a:pt x="409" y="648"/>
                    </a:lnTo>
                    <a:lnTo>
                      <a:pt x="416" y="618"/>
                    </a:lnTo>
                    <a:lnTo>
                      <a:pt x="421" y="579"/>
                    </a:lnTo>
                    <a:lnTo>
                      <a:pt x="421" y="547"/>
                    </a:lnTo>
                    <a:lnTo>
                      <a:pt x="431" y="478"/>
                    </a:lnTo>
                    <a:lnTo>
                      <a:pt x="443" y="418"/>
                    </a:lnTo>
                    <a:lnTo>
                      <a:pt x="445" y="370"/>
                    </a:lnTo>
                    <a:lnTo>
                      <a:pt x="455" y="319"/>
                    </a:lnTo>
                    <a:lnTo>
                      <a:pt x="467" y="295"/>
                    </a:lnTo>
                    <a:lnTo>
                      <a:pt x="481" y="266"/>
                    </a:lnTo>
                    <a:lnTo>
                      <a:pt x="481" y="236"/>
                    </a:lnTo>
                    <a:lnTo>
                      <a:pt x="491" y="206"/>
                    </a:lnTo>
                    <a:lnTo>
                      <a:pt x="496" y="176"/>
                    </a:lnTo>
                    <a:lnTo>
                      <a:pt x="512" y="128"/>
                    </a:lnTo>
                    <a:lnTo>
                      <a:pt x="508" y="74"/>
                    </a:lnTo>
                    <a:lnTo>
                      <a:pt x="498" y="0"/>
                    </a:lnTo>
                    <a:lnTo>
                      <a:pt x="498" y="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24080" y="5154480"/>
                <a:ext cx="282600" cy="1708200"/>
              </a:xfrm>
              <a:custGeom>
                <a:avLst/>
                <a:gdLst/>
                <a:ahLst/>
                <a:rect l="l" t="t" r="r" b="b"/>
                <a:pathLst>
                  <a:path w="178" h="1076">
                    <a:moveTo>
                      <a:pt x="0" y="27"/>
                    </a:moveTo>
                    <a:lnTo>
                      <a:pt x="20" y="0"/>
                    </a:lnTo>
                    <a:lnTo>
                      <a:pt x="47" y="39"/>
                    </a:lnTo>
                    <a:lnTo>
                      <a:pt x="50" y="78"/>
                    </a:lnTo>
                    <a:lnTo>
                      <a:pt x="45" y="135"/>
                    </a:lnTo>
                    <a:lnTo>
                      <a:pt x="45" y="210"/>
                    </a:lnTo>
                    <a:lnTo>
                      <a:pt x="60" y="258"/>
                    </a:lnTo>
                    <a:lnTo>
                      <a:pt x="69" y="282"/>
                    </a:lnTo>
                    <a:lnTo>
                      <a:pt x="80" y="305"/>
                    </a:lnTo>
                    <a:lnTo>
                      <a:pt x="119" y="339"/>
                    </a:lnTo>
                    <a:lnTo>
                      <a:pt x="158" y="399"/>
                    </a:lnTo>
                    <a:lnTo>
                      <a:pt x="161" y="438"/>
                    </a:lnTo>
                    <a:lnTo>
                      <a:pt x="165" y="480"/>
                    </a:lnTo>
                    <a:lnTo>
                      <a:pt x="161" y="543"/>
                    </a:lnTo>
                    <a:lnTo>
                      <a:pt x="167" y="588"/>
                    </a:lnTo>
                    <a:lnTo>
                      <a:pt x="158" y="654"/>
                    </a:lnTo>
                    <a:lnTo>
                      <a:pt x="161" y="687"/>
                    </a:lnTo>
                    <a:lnTo>
                      <a:pt x="161" y="720"/>
                    </a:lnTo>
                    <a:lnTo>
                      <a:pt x="165" y="750"/>
                    </a:lnTo>
                    <a:lnTo>
                      <a:pt x="160" y="790"/>
                    </a:lnTo>
                    <a:lnTo>
                      <a:pt x="166" y="832"/>
                    </a:lnTo>
                    <a:lnTo>
                      <a:pt x="166" y="863"/>
                    </a:lnTo>
                    <a:lnTo>
                      <a:pt x="173" y="895"/>
                    </a:lnTo>
                    <a:lnTo>
                      <a:pt x="177" y="930"/>
                    </a:lnTo>
                    <a:lnTo>
                      <a:pt x="173" y="958"/>
                    </a:lnTo>
                    <a:lnTo>
                      <a:pt x="173" y="990"/>
                    </a:lnTo>
                    <a:lnTo>
                      <a:pt x="166" y="1021"/>
                    </a:lnTo>
                    <a:lnTo>
                      <a:pt x="146" y="1075"/>
                    </a:lnTo>
                    <a:lnTo>
                      <a:pt x="26" y="1073"/>
                    </a:lnTo>
                    <a:lnTo>
                      <a:pt x="48" y="1042"/>
                    </a:lnTo>
                    <a:lnTo>
                      <a:pt x="61" y="1011"/>
                    </a:lnTo>
                    <a:lnTo>
                      <a:pt x="80" y="990"/>
                    </a:lnTo>
                    <a:lnTo>
                      <a:pt x="94" y="968"/>
                    </a:lnTo>
                    <a:lnTo>
                      <a:pt x="101" y="937"/>
                    </a:lnTo>
                    <a:lnTo>
                      <a:pt x="94" y="895"/>
                    </a:lnTo>
                    <a:lnTo>
                      <a:pt x="94" y="853"/>
                    </a:lnTo>
                    <a:lnTo>
                      <a:pt x="80" y="811"/>
                    </a:lnTo>
                    <a:lnTo>
                      <a:pt x="74" y="779"/>
                    </a:lnTo>
                    <a:lnTo>
                      <a:pt x="61" y="747"/>
                    </a:lnTo>
                    <a:lnTo>
                      <a:pt x="74" y="716"/>
                    </a:lnTo>
                    <a:lnTo>
                      <a:pt x="80" y="642"/>
                    </a:lnTo>
                    <a:lnTo>
                      <a:pt x="87" y="611"/>
                    </a:lnTo>
                    <a:lnTo>
                      <a:pt x="87" y="589"/>
                    </a:lnTo>
                    <a:lnTo>
                      <a:pt x="87" y="547"/>
                    </a:lnTo>
                    <a:lnTo>
                      <a:pt x="80" y="516"/>
                    </a:lnTo>
                    <a:lnTo>
                      <a:pt x="80" y="442"/>
                    </a:lnTo>
                    <a:lnTo>
                      <a:pt x="67" y="411"/>
                    </a:lnTo>
                    <a:lnTo>
                      <a:pt x="61" y="389"/>
                    </a:lnTo>
                    <a:lnTo>
                      <a:pt x="54" y="305"/>
                    </a:lnTo>
                    <a:lnTo>
                      <a:pt x="45" y="303"/>
                    </a:lnTo>
                    <a:lnTo>
                      <a:pt x="24" y="252"/>
                    </a:lnTo>
                    <a:lnTo>
                      <a:pt x="18" y="210"/>
                    </a:lnTo>
                    <a:lnTo>
                      <a:pt x="15" y="1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0"/>
                <a:ext cx="434880" cy="609480"/>
              </a:xfrm>
              <a:custGeom>
                <a:avLst/>
                <a:gdLst/>
                <a:ahLst/>
                <a:rect l="l" t="t" r="r" b="b"/>
                <a:pathLst>
                  <a:path w="274" h="384">
                    <a:moveTo>
                      <a:pt x="0" y="0"/>
                    </a:moveTo>
                    <a:lnTo>
                      <a:pt x="111" y="0"/>
                    </a:lnTo>
                    <a:lnTo>
                      <a:pt x="147" y="17"/>
                    </a:lnTo>
                    <a:lnTo>
                      <a:pt x="171" y="38"/>
                    </a:lnTo>
                    <a:lnTo>
                      <a:pt x="201" y="71"/>
                    </a:lnTo>
                    <a:lnTo>
                      <a:pt x="219" y="131"/>
                    </a:lnTo>
                    <a:lnTo>
                      <a:pt x="234" y="164"/>
                    </a:lnTo>
                    <a:lnTo>
                      <a:pt x="239" y="221"/>
                    </a:lnTo>
                    <a:lnTo>
                      <a:pt x="255" y="287"/>
                    </a:lnTo>
                    <a:lnTo>
                      <a:pt x="273" y="383"/>
                    </a:lnTo>
                    <a:lnTo>
                      <a:pt x="217" y="369"/>
                    </a:lnTo>
                    <a:lnTo>
                      <a:pt x="203" y="338"/>
                    </a:lnTo>
                    <a:lnTo>
                      <a:pt x="183" y="306"/>
                    </a:lnTo>
                    <a:lnTo>
                      <a:pt x="170" y="274"/>
                    </a:lnTo>
                    <a:lnTo>
                      <a:pt x="156" y="201"/>
                    </a:lnTo>
                    <a:lnTo>
                      <a:pt x="143" y="169"/>
                    </a:lnTo>
                    <a:lnTo>
                      <a:pt x="130" y="138"/>
                    </a:lnTo>
                    <a:lnTo>
                      <a:pt x="76" y="96"/>
                    </a:lnTo>
                    <a:lnTo>
                      <a:pt x="63" y="74"/>
                    </a:lnTo>
                    <a:lnTo>
                      <a:pt x="43" y="64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87560" y="3571920"/>
                <a:ext cx="365040" cy="533520"/>
              </a:xfrm>
              <a:custGeom>
                <a:avLst/>
                <a:gdLst/>
                <a:ahLst/>
                <a:rect l="l" t="t" r="r" b="b"/>
                <a:pathLst>
                  <a:path w="230" h="336">
                    <a:moveTo>
                      <a:pt x="229" y="0"/>
                    </a:moveTo>
                    <a:lnTo>
                      <a:pt x="191" y="61"/>
                    </a:lnTo>
                    <a:lnTo>
                      <a:pt x="165" y="82"/>
                    </a:lnTo>
                    <a:lnTo>
                      <a:pt x="145" y="93"/>
                    </a:lnTo>
                    <a:lnTo>
                      <a:pt x="118" y="135"/>
                    </a:lnTo>
                    <a:lnTo>
                      <a:pt x="118" y="166"/>
                    </a:lnTo>
                    <a:lnTo>
                      <a:pt x="118" y="198"/>
                    </a:lnTo>
                    <a:lnTo>
                      <a:pt x="118" y="230"/>
                    </a:lnTo>
                    <a:lnTo>
                      <a:pt x="105" y="261"/>
                    </a:lnTo>
                    <a:lnTo>
                      <a:pt x="86" y="272"/>
                    </a:lnTo>
                    <a:lnTo>
                      <a:pt x="66" y="282"/>
                    </a:lnTo>
                    <a:lnTo>
                      <a:pt x="45" y="303"/>
                    </a:lnTo>
                    <a:lnTo>
                      <a:pt x="26" y="314"/>
                    </a:lnTo>
                    <a:lnTo>
                      <a:pt x="6" y="335"/>
                    </a:lnTo>
                    <a:lnTo>
                      <a:pt x="0" y="303"/>
                    </a:lnTo>
                    <a:lnTo>
                      <a:pt x="19" y="272"/>
                    </a:lnTo>
                    <a:lnTo>
                      <a:pt x="45" y="251"/>
                    </a:lnTo>
                    <a:lnTo>
                      <a:pt x="59" y="219"/>
                    </a:lnTo>
                    <a:lnTo>
                      <a:pt x="72" y="177"/>
                    </a:lnTo>
                    <a:lnTo>
                      <a:pt x="79" y="135"/>
                    </a:lnTo>
                    <a:lnTo>
                      <a:pt x="79" y="103"/>
                    </a:lnTo>
                    <a:lnTo>
                      <a:pt x="132" y="72"/>
                    </a:lnTo>
                    <a:lnTo>
                      <a:pt x="152" y="72"/>
                    </a:lnTo>
                    <a:lnTo>
                      <a:pt x="178" y="29"/>
                    </a:lnTo>
                    <a:lnTo>
                      <a:pt x="198" y="8"/>
                    </a:lnTo>
                    <a:lnTo>
                      <a:pt x="229" y="0"/>
                    </a:lnTo>
                    <a:lnTo>
                      <a:pt x="229" y="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8200" y="536400"/>
                <a:ext cx="246240" cy="368640"/>
              </a:xfrm>
              <a:custGeom>
                <a:avLst/>
                <a:gdLst/>
                <a:ahLst/>
                <a:rect l="l" t="t" r="r" b="b"/>
                <a:pathLst>
                  <a:path w="155" h="232">
                    <a:moveTo>
                      <a:pt x="20" y="10"/>
                    </a:moveTo>
                    <a:lnTo>
                      <a:pt x="20" y="52"/>
                    </a:lnTo>
                    <a:lnTo>
                      <a:pt x="20" y="84"/>
                    </a:lnTo>
                    <a:lnTo>
                      <a:pt x="6" y="94"/>
                    </a:lnTo>
                    <a:lnTo>
                      <a:pt x="0" y="126"/>
                    </a:lnTo>
                    <a:lnTo>
                      <a:pt x="6" y="158"/>
                    </a:lnTo>
                    <a:lnTo>
                      <a:pt x="20" y="158"/>
                    </a:lnTo>
                    <a:lnTo>
                      <a:pt x="39" y="168"/>
                    </a:lnTo>
                    <a:lnTo>
                      <a:pt x="59" y="189"/>
                    </a:lnTo>
                    <a:lnTo>
                      <a:pt x="79" y="221"/>
                    </a:lnTo>
                    <a:lnTo>
                      <a:pt x="99" y="231"/>
                    </a:lnTo>
                    <a:lnTo>
                      <a:pt x="118" y="231"/>
                    </a:lnTo>
                    <a:lnTo>
                      <a:pt x="154" y="228"/>
                    </a:lnTo>
                    <a:lnTo>
                      <a:pt x="154" y="189"/>
                    </a:lnTo>
                    <a:lnTo>
                      <a:pt x="150" y="138"/>
                    </a:lnTo>
                    <a:lnTo>
                      <a:pt x="132" y="126"/>
                    </a:lnTo>
                    <a:lnTo>
                      <a:pt x="118" y="117"/>
                    </a:lnTo>
                    <a:lnTo>
                      <a:pt x="96" y="105"/>
                    </a:lnTo>
                    <a:lnTo>
                      <a:pt x="72" y="75"/>
                    </a:lnTo>
                    <a:lnTo>
                      <a:pt x="64" y="33"/>
                    </a:lnTo>
                    <a:lnTo>
                      <a:pt x="52" y="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C36C-52E4-4D00-94FA-2CBA28DA2BD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27280" y="2924280"/>
            <a:ext cx="5545080" cy="2736720"/>
          </a:xfrm>
          <a:prstGeom prst="hexagon">
            <a:avLst>
              <a:gd name="adj" fmla="val 50654"/>
              <a:gd name="vf" fmla="val 11547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4640" y="404640"/>
            <a:ext cx="6399360" cy="2438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льеф и полезные ископаемые Африк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651280" y="6377040"/>
            <a:ext cx="3198600" cy="4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Урок географии в 7 классе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4175280" cy="2798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743280" cy="2387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88000" y="36450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Тунисский 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2301840" cy="3206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340000" y="333360"/>
            <a:ext cx="51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евер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3168720" cy="2062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940360" y="4508640"/>
            <a:ext cx="3024360" cy="2001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4643280" y="5084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аха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572000" cy="3333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5292720" y="4437000"/>
            <a:ext cx="56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Эфиопские нагорь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Наивысшая точка – 4 620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3025800" cy="327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0328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еверо-восточ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859280" y="404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Восточ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333360"/>
            <a:ext cx="2700360" cy="3330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76360" y="3860640"/>
            <a:ext cx="35272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КИЛИМАНДЖАРО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от афр. "Килимангаро" - сияющая гора), наивысшая точка материка, вулкан высотой 5 895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651640" y="1197000"/>
            <a:ext cx="2736720" cy="237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580000" y="371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щелье водопада Виктори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651640" y="4437000"/>
            <a:ext cx="3168360" cy="2019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547640" y="595008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улканические холмы, Руан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651640" y="623736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улканы  в Кен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449440" cy="228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1908000" y="306864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ра Кения, высота 5 199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404640"/>
            <a:ext cx="39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Восточ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4152960" cy="263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5940360" y="407664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клоны Восточно-Африканского плоскогорья в Мозамбик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411280" y="549360"/>
            <a:ext cx="1822680" cy="216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3311280" cy="2192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2124000" y="3213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обережье Ган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Запад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240000" cy="2201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5364000" y="328464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ра Камерун, высота 4 100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63640" y="4005360"/>
            <a:ext cx="3311640" cy="210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37958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623736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авнины Либер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19280" y="981000"/>
            <a:ext cx="2636640" cy="3532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5148360" y="378936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раконовы 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5877000"/>
            <a:ext cx="32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4300560" cy="2770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68360" y="250920"/>
            <a:ext cx="64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Юж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500720" y="4365720"/>
            <a:ext cx="3779640" cy="2349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1835280" y="609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609300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Капские 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132000" y="26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Юж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3743280" cy="248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5219640" y="5877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6021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юны Намиб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3600360" cy="232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80000" y="1628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авнины Калахар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761080" cy="556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Полезные ископаемые Аф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100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Содержание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92360" y="1196640"/>
            <a:ext cx="720072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ктуализация знаний о рельеф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сточники информации о рельефе и    полезных ископаемых матери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Этапы развития земной коры (анализ карты строения земной коры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щие особенности рельефа Африки (анализ физической карты Африки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ельеф отдельных частей матери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акономерности размещения полезных ископаемых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4148280"/>
            <a:ext cx="3887640" cy="2504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4000" y="2421000"/>
            <a:ext cx="5112000" cy="273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119700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Вспомни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76500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. Что называется рельефом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19700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Verdana"/>
              </a:rPr>
              <a:t>Рельеф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93939"/>
                </a:solidFill>
                <a:latin typeface="Verdana"/>
              </a:rPr>
              <a:t>– </a:t>
            </a:r>
            <a:r>
              <a:rPr b="1" lang="en-US" sz="1600" spc="-1" strike="noStrike">
                <a:solidFill>
                  <a:srgbClr val="393939"/>
                </a:solidFill>
                <a:latin typeface="Verdana"/>
              </a:rPr>
              <a:t>совокупность неровностей земной поверхности, различающиеся по размерам, происхождению и возрас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1844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зовите основные формы поверхности суши и их деление  по высоте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5157720"/>
            <a:ext cx="71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.  Как на карте изображаются формы рельефа суш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5661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148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1120" y="589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5589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 Как изменяются горы и равнины во времен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602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.  Что называется платформой и каково ее строение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2492280"/>
            <a:ext cx="792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2492280"/>
            <a:ext cx="115272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492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492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Равнин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85264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285264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306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0-2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306864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изменно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3573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4290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200-5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342900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вышенно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3789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500-1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789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лоскогорь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789360"/>
            <a:ext cx="12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изки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414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1000-2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149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редневысотны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450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2000-5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олее 5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421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Высота над уровнем мор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4797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чайши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852640"/>
            <a:ext cx="71280" cy="1008000"/>
          </a:xfrm>
          <a:prstGeom prst="downArrow">
            <a:avLst>
              <a:gd name="adj1" fmla="val 50000"/>
              <a:gd name="adj2" fmla="val 353535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27640" y="285264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Источники информации о рельефе и полезных ископаемых матер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197000"/>
            <a:ext cx="752328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Карта строения земной коры (тектоническая карта)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Рассмотрите условные знаки карты в атласе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Определите, какие характеристики рельефа вы можете получить с их помощью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Физическая карта мир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Для чего может понадобиться эта карта при описании рельефа Африки?   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Физическая карта Афр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й из карт (физической картой мира или физической картой Африки)  удобнее пользоваться при описании рельефа материка? Почему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4. 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Текст параграфа учебник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5. 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Планы описания рельефа территории и отдельной формы рельеф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Самостоятельно ознакомьтесь с планами в приложении (с. 311 учебника)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9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Этапы развития земной к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19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Задание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148428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836640"/>
            <a:ext cx="71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огласно теории литосферных плит,  Африка как часть суши сформировалась  более 1 600 млн. лет назад. Выделение Африки из южного континента Гондваны началось около 135 млн. лет назад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349360"/>
            <a:ext cx="77407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По карте строения земной коры определите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В пределах какой литосферной плиты лежит Африка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во ее тектоническое строение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в возраст  горных пород платформ и областей складчатост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7037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5013360"/>
            <a:ext cx="763272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5084640"/>
            <a:ext cx="7416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Основанием Африканской литосферной плиты служат древние платформы, имеющие фундамент возраста  более 1, 6 млрд. лет,  и области древнейшей складчатости (1200 - 500 млн.лет)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365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Первая  особенность тектонического строения Афр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Этапы развития земной к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765000"/>
            <a:ext cx="727416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 какой тектонической области относится северо-запад материка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во направление и скорость движения  Африканской плиты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В каких частях метрика расположены зоны землетрясений и современного горообразования, проходят крупные разломы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3284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Вторая особенность тектонического строения Афр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3860640"/>
            <a:ext cx="7632720" cy="17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3933720"/>
            <a:ext cx="748980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Северо-западная часть материка расположена в области новой складчатости (возраст от 160 до 70 млн.лет), восток Африки – зона землетрясений и современного образования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Африканская литосферная плита движется на северо-восток со скоростью 1, 9 см/год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84560" y="690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Общие особенности рельефа Аф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1557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1413000"/>
            <a:ext cx="7200720" cy="43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Задание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очтите текст учебника (1 пункт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5)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Рассмотрите карту строения земной кор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Ответьте на вопросы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две  крупные формы рельефа присутствуют на материке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занимают большую площадь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процессы сформировали современный рельеф Африк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две части делится Африка по преобладающим высотам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ая часть материка была долгое время занята морем? Какими по происхождению горными породами она покрыта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В чем особенность рельефа восточной части Африк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03640" y="2565360"/>
            <a:ext cx="1008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860640"/>
            <a:ext cx="1224000" cy="6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284640"/>
            <a:ext cx="2232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365720"/>
            <a:ext cx="2016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2349360"/>
            <a:ext cx="194328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268280"/>
            <a:ext cx="0" cy="504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6308640"/>
            <a:ext cx="5689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558972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86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414972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42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70828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6165720"/>
            <a:ext cx="4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544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4797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400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3284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4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2565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5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198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844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6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411280" y="1052280"/>
            <a:ext cx="0" cy="511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052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115920"/>
            <a:ext cx="6767640" cy="792000"/>
          </a:xfrm>
          <a:prstGeom prst="rect">
            <a:avLst/>
          </a:prstGeom>
          <a:solidFill>
            <a:srgbClr val="cbcbc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11592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равнительные высоты гор Африк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9200" y="3666960"/>
            <a:ext cx="5519880" cy="2644920"/>
          </a:xfrm>
          <a:custGeom>
            <a:avLst/>
            <a:gdLst/>
            <a:ahLst/>
            <a:rect l="l" t="t" r="r" b="b"/>
            <a:pathLst>
              <a:path w="3477" h="1666">
                <a:moveTo>
                  <a:pt x="0" y="1399"/>
                </a:moveTo>
                <a:cubicBezTo>
                  <a:pt x="27" y="1372"/>
                  <a:pt x="62" y="1354"/>
                  <a:pt x="92" y="1329"/>
                </a:cubicBezTo>
                <a:cubicBezTo>
                  <a:pt x="110" y="1314"/>
                  <a:pt x="155" y="1301"/>
                  <a:pt x="155" y="1301"/>
                </a:cubicBezTo>
                <a:cubicBezTo>
                  <a:pt x="167" y="1250"/>
                  <a:pt x="210" y="1232"/>
                  <a:pt x="232" y="1188"/>
                </a:cubicBezTo>
                <a:cubicBezTo>
                  <a:pt x="245" y="1162"/>
                  <a:pt x="247" y="1127"/>
                  <a:pt x="267" y="1104"/>
                </a:cubicBezTo>
                <a:cubicBezTo>
                  <a:pt x="275" y="1095"/>
                  <a:pt x="287" y="1092"/>
                  <a:pt x="295" y="1083"/>
                </a:cubicBezTo>
                <a:cubicBezTo>
                  <a:pt x="325" y="1050"/>
                  <a:pt x="338" y="1006"/>
                  <a:pt x="373" y="977"/>
                </a:cubicBezTo>
                <a:cubicBezTo>
                  <a:pt x="400" y="954"/>
                  <a:pt x="428" y="940"/>
                  <a:pt x="457" y="921"/>
                </a:cubicBezTo>
                <a:cubicBezTo>
                  <a:pt x="502" y="929"/>
                  <a:pt x="538" y="945"/>
                  <a:pt x="576" y="970"/>
                </a:cubicBezTo>
                <a:cubicBezTo>
                  <a:pt x="609" y="1020"/>
                  <a:pt x="590" y="1004"/>
                  <a:pt x="625" y="1027"/>
                </a:cubicBezTo>
                <a:cubicBezTo>
                  <a:pt x="663" y="1025"/>
                  <a:pt x="702" y="1032"/>
                  <a:pt x="738" y="1020"/>
                </a:cubicBezTo>
                <a:cubicBezTo>
                  <a:pt x="765" y="1011"/>
                  <a:pt x="777" y="979"/>
                  <a:pt x="801" y="963"/>
                </a:cubicBezTo>
                <a:cubicBezTo>
                  <a:pt x="815" y="929"/>
                  <a:pt x="824" y="912"/>
                  <a:pt x="850" y="886"/>
                </a:cubicBezTo>
                <a:cubicBezTo>
                  <a:pt x="870" y="825"/>
                  <a:pt x="937" y="844"/>
                  <a:pt x="998" y="837"/>
                </a:cubicBezTo>
                <a:cubicBezTo>
                  <a:pt x="1036" y="824"/>
                  <a:pt x="1068" y="806"/>
                  <a:pt x="1103" y="788"/>
                </a:cubicBezTo>
                <a:cubicBezTo>
                  <a:pt x="1130" y="774"/>
                  <a:pt x="1120" y="790"/>
                  <a:pt x="1145" y="767"/>
                </a:cubicBezTo>
                <a:cubicBezTo>
                  <a:pt x="1177" y="738"/>
                  <a:pt x="1202" y="696"/>
                  <a:pt x="1244" y="682"/>
                </a:cubicBezTo>
                <a:cubicBezTo>
                  <a:pt x="1268" y="658"/>
                  <a:pt x="1281" y="648"/>
                  <a:pt x="1314" y="640"/>
                </a:cubicBezTo>
                <a:cubicBezTo>
                  <a:pt x="1385" y="648"/>
                  <a:pt x="1438" y="655"/>
                  <a:pt x="1504" y="668"/>
                </a:cubicBezTo>
                <a:cubicBezTo>
                  <a:pt x="1518" y="675"/>
                  <a:pt x="1533" y="681"/>
                  <a:pt x="1546" y="689"/>
                </a:cubicBezTo>
                <a:cubicBezTo>
                  <a:pt x="1563" y="700"/>
                  <a:pt x="1595" y="725"/>
                  <a:pt x="1595" y="725"/>
                </a:cubicBezTo>
                <a:cubicBezTo>
                  <a:pt x="1644" y="715"/>
                  <a:pt x="1637" y="710"/>
                  <a:pt x="1679" y="689"/>
                </a:cubicBezTo>
                <a:cubicBezTo>
                  <a:pt x="1692" y="682"/>
                  <a:pt x="1721" y="675"/>
                  <a:pt x="1721" y="675"/>
                </a:cubicBezTo>
                <a:cubicBezTo>
                  <a:pt x="1762" y="634"/>
                  <a:pt x="1793" y="602"/>
                  <a:pt x="1827" y="556"/>
                </a:cubicBezTo>
                <a:cubicBezTo>
                  <a:pt x="1850" y="420"/>
                  <a:pt x="1814" y="583"/>
                  <a:pt x="1855" y="493"/>
                </a:cubicBezTo>
                <a:cubicBezTo>
                  <a:pt x="1863" y="475"/>
                  <a:pt x="1853" y="448"/>
                  <a:pt x="1869" y="437"/>
                </a:cubicBezTo>
                <a:cubicBezTo>
                  <a:pt x="1892" y="420"/>
                  <a:pt x="1925" y="427"/>
                  <a:pt x="1953" y="422"/>
                </a:cubicBezTo>
                <a:cubicBezTo>
                  <a:pt x="1989" y="404"/>
                  <a:pt x="2020" y="379"/>
                  <a:pt x="2058" y="366"/>
                </a:cubicBezTo>
                <a:cubicBezTo>
                  <a:pt x="2063" y="359"/>
                  <a:pt x="2065" y="350"/>
                  <a:pt x="2072" y="345"/>
                </a:cubicBezTo>
                <a:cubicBezTo>
                  <a:pt x="2078" y="340"/>
                  <a:pt x="2088" y="343"/>
                  <a:pt x="2094" y="338"/>
                </a:cubicBezTo>
                <a:cubicBezTo>
                  <a:pt x="2099" y="333"/>
                  <a:pt x="2098" y="324"/>
                  <a:pt x="2101" y="317"/>
                </a:cubicBezTo>
                <a:cubicBezTo>
                  <a:pt x="2114" y="291"/>
                  <a:pt x="2129" y="270"/>
                  <a:pt x="2157" y="261"/>
                </a:cubicBezTo>
                <a:cubicBezTo>
                  <a:pt x="2180" y="238"/>
                  <a:pt x="2198" y="226"/>
                  <a:pt x="2227" y="212"/>
                </a:cubicBezTo>
                <a:cubicBezTo>
                  <a:pt x="2253" y="173"/>
                  <a:pt x="2226" y="204"/>
                  <a:pt x="2262" y="184"/>
                </a:cubicBezTo>
                <a:cubicBezTo>
                  <a:pt x="2277" y="176"/>
                  <a:pt x="2304" y="156"/>
                  <a:pt x="2304" y="156"/>
                </a:cubicBezTo>
                <a:cubicBezTo>
                  <a:pt x="2316" y="158"/>
                  <a:pt x="2328" y="160"/>
                  <a:pt x="2339" y="163"/>
                </a:cubicBezTo>
                <a:cubicBezTo>
                  <a:pt x="2354" y="167"/>
                  <a:pt x="2382" y="177"/>
                  <a:pt x="2382" y="177"/>
                </a:cubicBezTo>
                <a:cubicBezTo>
                  <a:pt x="2408" y="175"/>
                  <a:pt x="2434" y="175"/>
                  <a:pt x="2459" y="170"/>
                </a:cubicBezTo>
                <a:cubicBezTo>
                  <a:pt x="2490" y="164"/>
                  <a:pt x="2514" y="133"/>
                  <a:pt x="2543" y="120"/>
                </a:cubicBezTo>
                <a:cubicBezTo>
                  <a:pt x="2574" y="107"/>
                  <a:pt x="2610" y="105"/>
                  <a:pt x="2641" y="92"/>
                </a:cubicBezTo>
                <a:cubicBezTo>
                  <a:pt x="2777" y="34"/>
                  <a:pt x="2671" y="71"/>
                  <a:pt x="2733" y="50"/>
                </a:cubicBezTo>
                <a:cubicBezTo>
                  <a:pt x="2779" y="16"/>
                  <a:pt x="2755" y="0"/>
                  <a:pt x="2810" y="22"/>
                </a:cubicBezTo>
                <a:cubicBezTo>
                  <a:pt x="2877" y="89"/>
                  <a:pt x="2791" y="9"/>
                  <a:pt x="2852" y="50"/>
                </a:cubicBezTo>
                <a:cubicBezTo>
                  <a:pt x="2883" y="70"/>
                  <a:pt x="2887" y="101"/>
                  <a:pt x="2922" y="120"/>
                </a:cubicBezTo>
                <a:cubicBezTo>
                  <a:pt x="2980" y="151"/>
                  <a:pt x="3070" y="146"/>
                  <a:pt x="3126" y="149"/>
                </a:cubicBezTo>
                <a:cubicBezTo>
                  <a:pt x="3128" y="175"/>
                  <a:pt x="3125" y="201"/>
                  <a:pt x="3133" y="226"/>
                </a:cubicBezTo>
                <a:cubicBezTo>
                  <a:pt x="3135" y="234"/>
                  <a:pt x="3148" y="234"/>
                  <a:pt x="3154" y="240"/>
                </a:cubicBezTo>
                <a:cubicBezTo>
                  <a:pt x="3200" y="281"/>
                  <a:pt x="3194" y="275"/>
                  <a:pt x="3217" y="310"/>
                </a:cubicBezTo>
                <a:cubicBezTo>
                  <a:pt x="3233" y="373"/>
                  <a:pt x="3302" y="405"/>
                  <a:pt x="3337" y="458"/>
                </a:cubicBezTo>
                <a:cubicBezTo>
                  <a:pt x="3341" y="483"/>
                  <a:pt x="3342" y="532"/>
                  <a:pt x="3358" y="556"/>
                </a:cubicBezTo>
                <a:cubicBezTo>
                  <a:pt x="3368" y="571"/>
                  <a:pt x="3383" y="583"/>
                  <a:pt x="3393" y="598"/>
                </a:cubicBezTo>
                <a:cubicBezTo>
                  <a:pt x="3400" y="626"/>
                  <a:pt x="3408" y="654"/>
                  <a:pt x="3414" y="682"/>
                </a:cubicBezTo>
                <a:cubicBezTo>
                  <a:pt x="3418" y="701"/>
                  <a:pt x="3428" y="739"/>
                  <a:pt x="3428" y="739"/>
                </a:cubicBezTo>
                <a:cubicBezTo>
                  <a:pt x="3435" y="803"/>
                  <a:pt x="3443" y="865"/>
                  <a:pt x="3456" y="928"/>
                </a:cubicBezTo>
                <a:cubicBezTo>
                  <a:pt x="3458" y="956"/>
                  <a:pt x="3461" y="985"/>
                  <a:pt x="3463" y="1013"/>
                </a:cubicBezTo>
                <a:cubicBezTo>
                  <a:pt x="3468" y="1081"/>
                  <a:pt x="3477" y="1216"/>
                  <a:pt x="3477" y="1216"/>
                </a:cubicBezTo>
                <a:cubicBezTo>
                  <a:pt x="3475" y="1366"/>
                  <a:pt x="3470" y="1666"/>
                  <a:pt x="3470" y="1666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068640"/>
            <a:ext cx="2810160" cy="1593720"/>
          </a:xfrm>
          <a:custGeom>
            <a:avLst/>
            <a:gdLst/>
            <a:ahLst/>
            <a:rect l="l" t="t" r="r" b="b"/>
            <a:pathLst>
              <a:path w="1770" h="1004">
                <a:moveTo>
                  <a:pt x="1770" y="1004"/>
                </a:moveTo>
                <a:cubicBezTo>
                  <a:pt x="1761" y="1002"/>
                  <a:pt x="1751" y="1000"/>
                  <a:pt x="1742" y="997"/>
                </a:cubicBezTo>
                <a:cubicBezTo>
                  <a:pt x="1728" y="993"/>
                  <a:pt x="1700" y="983"/>
                  <a:pt x="1700" y="983"/>
                </a:cubicBezTo>
                <a:cubicBezTo>
                  <a:pt x="1688" y="971"/>
                  <a:pt x="1678" y="958"/>
                  <a:pt x="1665" y="948"/>
                </a:cubicBezTo>
                <a:cubicBezTo>
                  <a:pt x="1657" y="942"/>
                  <a:pt x="1645" y="940"/>
                  <a:pt x="1637" y="934"/>
                </a:cubicBezTo>
                <a:cubicBezTo>
                  <a:pt x="1607" y="911"/>
                  <a:pt x="1601" y="882"/>
                  <a:pt x="1567" y="871"/>
                </a:cubicBezTo>
                <a:cubicBezTo>
                  <a:pt x="1542" y="833"/>
                  <a:pt x="1510" y="807"/>
                  <a:pt x="1482" y="772"/>
                </a:cubicBezTo>
                <a:cubicBezTo>
                  <a:pt x="1477" y="765"/>
                  <a:pt x="1475" y="755"/>
                  <a:pt x="1468" y="751"/>
                </a:cubicBezTo>
                <a:cubicBezTo>
                  <a:pt x="1442" y="737"/>
                  <a:pt x="1409" y="739"/>
                  <a:pt x="1384" y="723"/>
                </a:cubicBezTo>
                <a:cubicBezTo>
                  <a:pt x="1369" y="713"/>
                  <a:pt x="1358" y="696"/>
                  <a:pt x="1342" y="688"/>
                </a:cubicBezTo>
                <a:cubicBezTo>
                  <a:pt x="1321" y="678"/>
                  <a:pt x="1274" y="672"/>
                  <a:pt x="1251" y="667"/>
                </a:cubicBezTo>
                <a:cubicBezTo>
                  <a:pt x="1192" y="628"/>
                  <a:pt x="1120" y="628"/>
                  <a:pt x="1054" y="604"/>
                </a:cubicBezTo>
                <a:cubicBezTo>
                  <a:pt x="1040" y="599"/>
                  <a:pt x="1025" y="597"/>
                  <a:pt x="1012" y="590"/>
                </a:cubicBezTo>
                <a:cubicBezTo>
                  <a:pt x="997" y="582"/>
                  <a:pt x="970" y="562"/>
                  <a:pt x="970" y="562"/>
                </a:cubicBezTo>
                <a:cubicBezTo>
                  <a:pt x="952" y="535"/>
                  <a:pt x="942" y="470"/>
                  <a:pt x="942" y="470"/>
                </a:cubicBezTo>
                <a:cubicBezTo>
                  <a:pt x="924" y="195"/>
                  <a:pt x="942" y="312"/>
                  <a:pt x="892" y="161"/>
                </a:cubicBezTo>
                <a:cubicBezTo>
                  <a:pt x="878" y="120"/>
                  <a:pt x="861" y="84"/>
                  <a:pt x="850" y="42"/>
                </a:cubicBezTo>
                <a:cubicBezTo>
                  <a:pt x="846" y="28"/>
                  <a:pt x="836" y="0"/>
                  <a:pt x="836" y="0"/>
                </a:cubicBezTo>
                <a:cubicBezTo>
                  <a:pt x="826" y="29"/>
                  <a:pt x="827" y="82"/>
                  <a:pt x="808" y="105"/>
                </a:cubicBezTo>
                <a:cubicBezTo>
                  <a:pt x="796" y="120"/>
                  <a:pt x="776" y="122"/>
                  <a:pt x="759" y="126"/>
                </a:cubicBezTo>
                <a:cubicBezTo>
                  <a:pt x="714" y="121"/>
                  <a:pt x="670" y="112"/>
                  <a:pt x="625" y="112"/>
                </a:cubicBezTo>
                <a:cubicBezTo>
                  <a:pt x="617" y="112"/>
                  <a:pt x="612" y="125"/>
                  <a:pt x="604" y="126"/>
                </a:cubicBezTo>
                <a:cubicBezTo>
                  <a:pt x="581" y="128"/>
                  <a:pt x="557" y="121"/>
                  <a:pt x="534" y="119"/>
                </a:cubicBezTo>
                <a:cubicBezTo>
                  <a:pt x="504" y="99"/>
                  <a:pt x="493" y="75"/>
                  <a:pt x="457" y="63"/>
                </a:cubicBezTo>
                <a:cubicBezTo>
                  <a:pt x="430" y="72"/>
                  <a:pt x="424" y="89"/>
                  <a:pt x="401" y="105"/>
                </a:cubicBezTo>
                <a:cubicBezTo>
                  <a:pt x="374" y="146"/>
                  <a:pt x="398" y="143"/>
                  <a:pt x="344" y="154"/>
                </a:cubicBezTo>
                <a:cubicBezTo>
                  <a:pt x="295" y="187"/>
                  <a:pt x="315" y="249"/>
                  <a:pt x="302" y="302"/>
                </a:cubicBezTo>
                <a:cubicBezTo>
                  <a:pt x="292" y="344"/>
                  <a:pt x="263" y="350"/>
                  <a:pt x="239" y="386"/>
                </a:cubicBezTo>
                <a:cubicBezTo>
                  <a:pt x="230" y="400"/>
                  <a:pt x="223" y="416"/>
                  <a:pt x="204" y="421"/>
                </a:cubicBezTo>
                <a:cubicBezTo>
                  <a:pt x="184" y="426"/>
                  <a:pt x="162" y="426"/>
                  <a:pt x="141" y="428"/>
                </a:cubicBezTo>
                <a:cubicBezTo>
                  <a:pt x="127" y="433"/>
                  <a:pt x="113" y="437"/>
                  <a:pt x="99" y="442"/>
                </a:cubicBezTo>
                <a:cubicBezTo>
                  <a:pt x="92" y="444"/>
                  <a:pt x="78" y="449"/>
                  <a:pt x="78" y="449"/>
                </a:cubicBezTo>
                <a:cubicBezTo>
                  <a:pt x="52" y="473"/>
                  <a:pt x="33" y="504"/>
                  <a:pt x="0" y="5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21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Килиманджар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1989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349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364500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141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29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Драконовы 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3213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Эфиопское нагорь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3860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г.Тубкаль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436572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3200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г.К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1989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5 19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162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5 89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35002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3 66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30400" y="327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28526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 16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2421000"/>
            <a:ext cx="2448000" cy="720720"/>
          </a:xfrm>
          <a:custGeom>
            <a:avLst/>
            <a:gdLst/>
            <a:ahLst/>
            <a:rect l="l" t="t" r="r" b="b"/>
            <a:pathLst>
              <a:path w="1602" h="459">
                <a:moveTo>
                  <a:pt x="0" y="260"/>
                </a:moveTo>
                <a:cubicBezTo>
                  <a:pt x="56" y="251"/>
                  <a:pt x="110" y="248"/>
                  <a:pt x="162" y="225"/>
                </a:cubicBezTo>
                <a:cubicBezTo>
                  <a:pt x="200" y="208"/>
                  <a:pt x="218" y="179"/>
                  <a:pt x="260" y="169"/>
                </a:cubicBezTo>
                <a:cubicBezTo>
                  <a:pt x="267" y="164"/>
                  <a:pt x="273" y="159"/>
                  <a:pt x="281" y="155"/>
                </a:cubicBezTo>
                <a:cubicBezTo>
                  <a:pt x="288" y="152"/>
                  <a:pt x="297" y="153"/>
                  <a:pt x="302" y="148"/>
                </a:cubicBezTo>
                <a:cubicBezTo>
                  <a:pt x="307" y="143"/>
                  <a:pt x="303" y="131"/>
                  <a:pt x="309" y="127"/>
                </a:cubicBezTo>
                <a:cubicBezTo>
                  <a:pt x="321" y="118"/>
                  <a:pt x="351" y="113"/>
                  <a:pt x="351" y="113"/>
                </a:cubicBezTo>
                <a:cubicBezTo>
                  <a:pt x="377" y="89"/>
                  <a:pt x="360" y="101"/>
                  <a:pt x="408" y="85"/>
                </a:cubicBezTo>
                <a:cubicBezTo>
                  <a:pt x="415" y="83"/>
                  <a:pt x="429" y="78"/>
                  <a:pt x="429" y="78"/>
                </a:cubicBezTo>
                <a:cubicBezTo>
                  <a:pt x="467" y="38"/>
                  <a:pt x="524" y="30"/>
                  <a:pt x="569" y="0"/>
                </a:cubicBezTo>
                <a:cubicBezTo>
                  <a:pt x="590" y="2"/>
                  <a:pt x="611" y="3"/>
                  <a:pt x="632" y="7"/>
                </a:cubicBezTo>
                <a:cubicBezTo>
                  <a:pt x="647" y="10"/>
                  <a:pt x="675" y="21"/>
                  <a:pt x="675" y="21"/>
                </a:cubicBezTo>
                <a:cubicBezTo>
                  <a:pt x="864" y="12"/>
                  <a:pt x="868" y="8"/>
                  <a:pt x="1096" y="14"/>
                </a:cubicBezTo>
                <a:cubicBezTo>
                  <a:pt x="1131" y="37"/>
                  <a:pt x="1121" y="63"/>
                  <a:pt x="1145" y="92"/>
                </a:cubicBezTo>
                <a:cubicBezTo>
                  <a:pt x="1167" y="119"/>
                  <a:pt x="1204" y="133"/>
                  <a:pt x="1237" y="141"/>
                </a:cubicBezTo>
                <a:cubicBezTo>
                  <a:pt x="1246" y="155"/>
                  <a:pt x="1264" y="166"/>
                  <a:pt x="1265" y="183"/>
                </a:cubicBezTo>
                <a:cubicBezTo>
                  <a:pt x="1272" y="270"/>
                  <a:pt x="1260" y="295"/>
                  <a:pt x="1342" y="316"/>
                </a:cubicBezTo>
                <a:cubicBezTo>
                  <a:pt x="1379" y="341"/>
                  <a:pt x="1356" y="359"/>
                  <a:pt x="1377" y="380"/>
                </a:cubicBezTo>
                <a:cubicBezTo>
                  <a:pt x="1391" y="394"/>
                  <a:pt x="1508" y="401"/>
                  <a:pt x="1510" y="401"/>
                </a:cubicBezTo>
                <a:cubicBezTo>
                  <a:pt x="1522" y="403"/>
                  <a:pt x="1535" y="403"/>
                  <a:pt x="1546" y="408"/>
                </a:cubicBezTo>
                <a:cubicBezTo>
                  <a:pt x="1561" y="415"/>
                  <a:pt x="1588" y="436"/>
                  <a:pt x="1588" y="436"/>
                </a:cubicBezTo>
                <a:cubicBezTo>
                  <a:pt x="1596" y="459"/>
                  <a:pt x="1588" y="457"/>
                  <a:pt x="1602" y="45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35440" y="3056040"/>
            <a:ext cx="3848040" cy="1326960"/>
          </a:xfrm>
          <a:custGeom>
            <a:avLst/>
            <a:gdLst/>
            <a:ahLst/>
            <a:rect l="l" t="t" r="r" b="b"/>
            <a:pathLst>
              <a:path w="2424" h="836">
                <a:moveTo>
                  <a:pt x="0" y="161"/>
                </a:moveTo>
                <a:cubicBezTo>
                  <a:pt x="29" y="151"/>
                  <a:pt x="57" y="134"/>
                  <a:pt x="85" y="126"/>
                </a:cubicBezTo>
                <a:cubicBezTo>
                  <a:pt x="112" y="119"/>
                  <a:pt x="141" y="119"/>
                  <a:pt x="169" y="112"/>
                </a:cubicBezTo>
                <a:cubicBezTo>
                  <a:pt x="214" y="101"/>
                  <a:pt x="252" y="84"/>
                  <a:pt x="295" y="70"/>
                </a:cubicBezTo>
                <a:cubicBezTo>
                  <a:pt x="356" y="26"/>
                  <a:pt x="429" y="49"/>
                  <a:pt x="499" y="63"/>
                </a:cubicBezTo>
                <a:cubicBezTo>
                  <a:pt x="551" y="61"/>
                  <a:pt x="603" y="65"/>
                  <a:pt x="654" y="56"/>
                </a:cubicBezTo>
                <a:cubicBezTo>
                  <a:pt x="661" y="55"/>
                  <a:pt x="656" y="41"/>
                  <a:pt x="661" y="35"/>
                </a:cubicBezTo>
                <a:cubicBezTo>
                  <a:pt x="671" y="23"/>
                  <a:pt x="706" y="11"/>
                  <a:pt x="717" y="7"/>
                </a:cubicBezTo>
                <a:cubicBezTo>
                  <a:pt x="808" y="12"/>
                  <a:pt x="901" y="13"/>
                  <a:pt x="991" y="28"/>
                </a:cubicBezTo>
                <a:cubicBezTo>
                  <a:pt x="1085" y="7"/>
                  <a:pt x="1123" y="8"/>
                  <a:pt x="1230" y="14"/>
                </a:cubicBezTo>
                <a:cubicBezTo>
                  <a:pt x="1363" y="31"/>
                  <a:pt x="1305" y="24"/>
                  <a:pt x="1405" y="35"/>
                </a:cubicBezTo>
                <a:cubicBezTo>
                  <a:pt x="1512" y="21"/>
                  <a:pt x="1541" y="6"/>
                  <a:pt x="1651" y="0"/>
                </a:cubicBezTo>
                <a:cubicBezTo>
                  <a:pt x="1665" y="2"/>
                  <a:pt x="1680" y="1"/>
                  <a:pt x="1693" y="7"/>
                </a:cubicBezTo>
                <a:cubicBezTo>
                  <a:pt x="1705" y="13"/>
                  <a:pt x="1710" y="27"/>
                  <a:pt x="1721" y="35"/>
                </a:cubicBezTo>
                <a:cubicBezTo>
                  <a:pt x="1727" y="39"/>
                  <a:pt x="1735" y="40"/>
                  <a:pt x="1742" y="42"/>
                </a:cubicBezTo>
                <a:cubicBezTo>
                  <a:pt x="1816" y="26"/>
                  <a:pt x="1840" y="37"/>
                  <a:pt x="1911" y="49"/>
                </a:cubicBezTo>
                <a:cubicBezTo>
                  <a:pt x="1958" y="80"/>
                  <a:pt x="2018" y="90"/>
                  <a:pt x="2073" y="98"/>
                </a:cubicBezTo>
                <a:cubicBezTo>
                  <a:pt x="2100" y="111"/>
                  <a:pt x="2128" y="118"/>
                  <a:pt x="2150" y="140"/>
                </a:cubicBezTo>
                <a:cubicBezTo>
                  <a:pt x="2173" y="163"/>
                  <a:pt x="2152" y="161"/>
                  <a:pt x="2185" y="175"/>
                </a:cubicBezTo>
                <a:cubicBezTo>
                  <a:pt x="2201" y="182"/>
                  <a:pt x="2218" y="184"/>
                  <a:pt x="2234" y="189"/>
                </a:cubicBezTo>
                <a:cubicBezTo>
                  <a:pt x="2243" y="196"/>
                  <a:pt x="2251" y="205"/>
                  <a:pt x="2262" y="210"/>
                </a:cubicBezTo>
                <a:cubicBezTo>
                  <a:pt x="2273" y="215"/>
                  <a:pt x="2287" y="211"/>
                  <a:pt x="2297" y="217"/>
                </a:cubicBezTo>
                <a:cubicBezTo>
                  <a:pt x="2317" y="229"/>
                  <a:pt x="2325" y="281"/>
                  <a:pt x="2325" y="281"/>
                </a:cubicBezTo>
                <a:cubicBezTo>
                  <a:pt x="2334" y="385"/>
                  <a:pt x="2335" y="336"/>
                  <a:pt x="2361" y="414"/>
                </a:cubicBezTo>
                <a:cubicBezTo>
                  <a:pt x="2366" y="428"/>
                  <a:pt x="2365" y="446"/>
                  <a:pt x="2375" y="456"/>
                </a:cubicBezTo>
                <a:cubicBezTo>
                  <a:pt x="2396" y="477"/>
                  <a:pt x="2408" y="491"/>
                  <a:pt x="2417" y="519"/>
                </a:cubicBezTo>
                <a:cubicBezTo>
                  <a:pt x="2419" y="625"/>
                  <a:pt x="2424" y="836"/>
                  <a:pt x="2424" y="8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278136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 62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2060640"/>
            <a:ext cx="3130560" cy="1263600"/>
          </a:xfrm>
          <a:custGeom>
            <a:avLst/>
            <a:gdLst/>
            <a:ahLst/>
            <a:rect l="l" t="t" r="r" b="b"/>
            <a:pathLst>
              <a:path w="1972" h="796">
                <a:moveTo>
                  <a:pt x="0" y="333"/>
                </a:moveTo>
                <a:cubicBezTo>
                  <a:pt x="18" y="321"/>
                  <a:pt x="36" y="315"/>
                  <a:pt x="54" y="303"/>
                </a:cubicBezTo>
                <a:cubicBezTo>
                  <a:pt x="68" y="279"/>
                  <a:pt x="121" y="217"/>
                  <a:pt x="149" y="208"/>
                </a:cubicBezTo>
                <a:cubicBezTo>
                  <a:pt x="159" y="178"/>
                  <a:pt x="148" y="199"/>
                  <a:pt x="172" y="178"/>
                </a:cubicBezTo>
                <a:cubicBezTo>
                  <a:pt x="224" y="132"/>
                  <a:pt x="204" y="136"/>
                  <a:pt x="279" y="119"/>
                </a:cubicBezTo>
                <a:cubicBezTo>
                  <a:pt x="315" y="101"/>
                  <a:pt x="346" y="97"/>
                  <a:pt x="386" y="89"/>
                </a:cubicBezTo>
                <a:cubicBezTo>
                  <a:pt x="446" y="77"/>
                  <a:pt x="505" y="63"/>
                  <a:pt x="564" y="48"/>
                </a:cubicBezTo>
                <a:cubicBezTo>
                  <a:pt x="594" y="41"/>
                  <a:pt x="625" y="38"/>
                  <a:pt x="653" y="24"/>
                </a:cubicBezTo>
                <a:cubicBezTo>
                  <a:pt x="669" y="16"/>
                  <a:pt x="701" y="0"/>
                  <a:pt x="701" y="0"/>
                </a:cubicBezTo>
                <a:cubicBezTo>
                  <a:pt x="804" y="3"/>
                  <a:pt x="870" y="5"/>
                  <a:pt x="962" y="18"/>
                </a:cubicBezTo>
                <a:cubicBezTo>
                  <a:pt x="1024" y="39"/>
                  <a:pt x="1087" y="38"/>
                  <a:pt x="1152" y="42"/>
                </a:cubicBezTo>
                <a:cubicBezTo>
                  <a:pt x="1211" y="52"/>
                  <a:pt x="1271" y="50"/>
                  <a:pt x="1330" y="60"/>
                </a:cubicBezTo>
                <a:cubicBezTo>
                  <a:pt x="1349" y="63"/>
                  <a:pt x="1377" y="67"/>
                  <a:pt x="1396" y="72"/>
                </a:cubicBezTo>
                <a:cubicBezTo>
                  <a:pt x="1410" y="75"/>
                  <a:pt x="1437" y="83"/>
                  <a:pt x="1437" y="83"/>
                </a:cubicBezTo>
                <a:cubicBezTo>
                  <a:pt x="1441" y="89"/>
                  <a:pt x="1444" y="96"/>
                  <a:pt x="1449" y="101"/>
                </a:cubicBezTo>
                <a:cubicBezTo>
                  <a:pt x="1460" y="110"/>
                  <a:pt x="1485" y="125"/>
                  <a:pt x="1485" y="125"/>
                </a:cubicBezTo>
                <a:cubicBezTo>
                  <a:pt x="1500" y="170"/>
                  <a:pt x="1542" y="181"/>
                  <a:pt x="1586" y="196"/>
                </a:cubicBezTo>
                <a:cubicBezTo>
                  <a:pt x="1600" y="217"/>
                  <a:pt x="1602" y="231"/>
                  <a:pt x="1621" y="250"/>
                </a:cubicBezTo>
                <a:cubicBezTo>
                  <a:pt x="1632" y="283"/>
                  <a:pt x="1634" y="314"/>
                  <a:pt x="1663" y="333"/>
                </a:cubicBezTo>
                <a:cubicBezTo>
                  <a:pt x="1674" y="365"/>
                  <a:pt x="1699" y="373"/>
                  <a:pt x="1728" y="380"/>
                </a:cubicBezTo>
                <a:cubicBezTo>
                  <a:pt x="1771" y="409"/>
                  <a:pt x="1754" y="394"/>
                  <a:pt x="1782" y="422"/>
                </a:cubicBezTo>
                <a:cubicBezTo>
                  <a:pt x="1794" y="458"/>
                  <a:pt x="1821" y="503"/>
                  <a:pt x="1847" y="529"/>
                </a:cubicBezTo>
                <a:cubicBezTo>
                  <a:pt x="1867" y="589"/>
                  <a:pt x="1833" y="497"/>
                  <a:pt x="1871" y="564"/>
                </a:cubicBezTo>
                <a:cubicBezTo>
                  <a:pt x="1894" y="604"/>
                  <a:pt x="1878" y="663"/>
                  <a:pt x="1918" y="689"/>
                </a:cubicBezTo>
                <a:cubicBezTo>
                  <a:pt x="1943" y="726"/>
                  <a:pt x="1925" y="737"/>
                  <a:pt x="1942" y="784"/>
                </a:cubicBezTo>
                <a:cubicBezTo>
                  <a:pt x="1946" y="794"/>
                  <a:pt x="1962" y="791"/>
                  <a:pt x="1972" y="796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еф отдельных частей материка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981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евер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5440" cy="26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3456000" cy="237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3059280" y="2276640"/>
            <a:ext cx="2665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ысокий 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Наивысшая точк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г. Тубкаль, 4 165 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6237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изкий 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240000" cy="218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7:32:32Z</dcterms:created>
  <dc:creator>А.Николаева</dc:creator>
  <dc:description/>
  <dc:language>en-US</dc:language>
  <cp:lastModifiedBy>Аллочка</cp:lastModifiedBy>
  <dcterms:modified xsi:type="dcterms:W3CDTF">2007-01-11T20:34:52Z</dcterms:modified>
  <cp:revision>16</cp:revision>
  <dc:subject/>
  <dc:title>Рельеф Африки</dc:title>
</cp:coreProperties>
</file>