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CFD-E8B6-425C-9603-E10B4E7D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66E-9115-44CD-9439-D3DCF227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63C8-F780-4BA0-BBEB-46D162D1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961-182A-4D27-B157-82ECAE8A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E713-A26A-401E-9468-0C829F3C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A00D-25FE-411D-A3B3-EB304C20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C22F-7E91-4A8E-8D02-F07D3D8D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256C-2E45-4C3A-935F-4F416687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4770-ECED-4495-8304-4D1D84FA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7F3C-9770-438C-9E58-283ECF5C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761D-50B8-41D0-B231-8478E0D0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C9EB-707C-4F0B-A76B-693CDB1E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814E-6903-4401-B60A-3E07307B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B551-8AEE-49D3-B19B-85D8F9AF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36A6-EC7B-4E9C-A0EF-ADF7452B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A0DE-7056-420B-9F00-CAA17B1B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57BD-9549-43B2-AC4D-6B018928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362-227C-47A5-BB94-A8DC506D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5AB-80DD-458D-BC17-8BB2C551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C0A1-DF20-4DB4-9D51-7722AEE3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C5B-DE31-43DB-8F87-EB58B5FE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1C1-BC5A-49D0-A3D2-39BA4ACA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C677-52CC-4369-BFD3-4A7D1395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92A-D915-4527-A630-E13E4077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0DDC-20CA-4CB0-B954-6293A6DEA4C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8C86-37D5-433A-9304-9AC27AAAE4E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ubOvalCallout"/>
          <p:cNvSpPr/>
          <p:nvPr/>
        </p:nvSpPr>
        <p:spPr>
          <a:xfrm>
            <a:off x="755640" y="1125360"/>
            <a:ext cx="7345440" cy="4537080"/>
          </a:xfrm>
          <a:custGeom>
            <a:avLst/>
            <a:gdLst>
              <a:gd name="textAreaLeft" fmla="*/ 1075680 w 7345440"/>
              <a:gd name="textAreaRight" fmla="*/ 6269760 w 7345440"/>
              <a:gd name="textAreaTop" fmla="*/ 498600 h 4537080"/>
              <a:gd name="textAreaBottom" fmla="*/ 2906280 h 453708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249228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"/>
              </a:rPr>
              <a:t>Welcome to English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lonna MT"/>
              </a:rPr>
              <a:t>Today is the 1(first) of Januar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Colonna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lonna MT"/>
              </a:rPr>
              <a:t>Today is Wednesda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Чтение буквосочетани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81456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O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er,i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oper Black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32000" y="1700280"/>
            <a:ext cx="3778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Ro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gir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cor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ca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Three, th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  </a:t>
            </a: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sh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  </a:t>
            </a: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me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  </a:t>
            </a: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chee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  </a:t>
            </a:r>
            <a:r>
              <a:rPr b="1" lang="en-US" sz="2800" spc="-1" strike="noStrike">
                <a:solidFill>
                  <a:srgbClr val="cc6600"/>
                </a:solidFill>
                <a:latin typeface="Cooper Black"/>
              </a:rPr>
              <a:t>j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Cooper Black"/>
              </a:rPr>
              <a:t>Do you know English numeral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1844640"/>
            <a:ext cx="1295280" cy="1008000"/>
          </a:xfrm>
          <a:prstGeom prst="cloudCallout">
            <a:avLst>
              <a:gd name="adj1" fmla="val -38111"/>
              <a:gd name="adj2" fmla="val 5283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7280" y="4365720"/>
            <a:ext cx="129564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1844640"/>
            <a:ext cx="129564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3500280"/>
            <a:ext cx="129528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5300640"/>
            <a:ext cx="129564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4149720"/>
            <a:ext cx="129528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5516640"/>
            <a:ext cx="129528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2360" y="1916280"/>
            <a:ext cx="1295280" cy="86328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5084640"/>
            <a:ext cx="129528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2781360"/>
            <a:ext cx="1295280" cy="863640"/>
          </a:xfrm>
          <a:prstGeom prst="cloudCallout">
            <a:avLst>
              <a:gd name="adj1" fmla="val -38111"/>
              <a:gd name="adj2" fmla="val 7003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9640" y="3357720"/>
            <a:ext cx="1295280" cy="1008000"/>
          </a:xfrm>
          <a:prstGeom prst="cloudCallout">
            <a:avLst>
              <a:gd name="adj1" fmla="val -38111"/>
              <a:gd name="adj2" fmla="val 52833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92360" y="2924280"/>
            <a:ext cx="1295280" cy="1008000"/>
          </a:xfrm>
          <a:prstGeom prst="cloudCallout">
            <a:avLst>
              <a:gd name="adj1" fmla="val -38111"/>
              <a:gd name="adj2" fmla="val 52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952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oper Black"/>
              </a:rPr>
              <a:t>Make up the dialogu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699920"/>
            <a:ext cx="4348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773360"/>
            <a:ext cx="3240000" cy="50328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ы любишь суп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88000" y="1773360"/>
            <a:ext cx="3240000" cy="503280"/>
          </a:xfrm>
          <a:prstGeom prst="flowChartTerminator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you like soup?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421000"/>
            <a:ext cx="4788000" cy="57636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т,спасибо.Я не люблю су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0000" y="2421000"/>
            <a:ext cx="4464000" cy="576360"/>
          </a:xfrm>
          <a:prstGeom prst="flowChartTerminator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,thanks.I do not like soup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3213000"/>
            <a:ext cx="3456000" cy="50508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16360" y="3284640"/>
            <a:ext cx="4176720" cy="504720"/>
          </a:xfrm>
          <a:prstGeom prst="flowChartTerminator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252360" y="4437000"/>
            <a:ext cx="4032360" cy="43200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6360" y="436572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т. Угощайт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4437000"/>
            <a:ext cx="4356000" cy="503280"/>
          </a:xfrm>
          <a:prstGeom prst="flowChartTerminator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re you are. Help yourself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157720"/>
            <a:ext cx="3240000" cy="43200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асиб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00720" y="5084640"/>
            <a:ext cx="3240000" cy="503280"/>
          </a:xfrm>
          <a:prstGeom prst="flowChartTerminator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90480" y="508464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5877000"/>
            <a:ext cx="3240000" cy="4316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16360" y="5805360"/>
            <a:ext cx="3240360" cy="432000"/>
          </a:xfrm>
          <a:prstGeom prst="flowChartTerminator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wel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3789360"/>
            <a:ext cx="3241440" cy="431640"/>
          </a:xfrm>
          <a:prstGeom prst="flowChartTerminator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. Пожалуй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6360" y="3860640"/>
            <a:ext cx="3240360" cy="432000"/>
          </a:xfrm>
          <a:prstGeom prst="flowChartTerminator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92640" y="38149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, p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9800" y="321300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ы бы не хотел мё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91960" y="328464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uld you like some h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333360"/>
            <a:ext cx="5364000" cy="503280"/>
          </a:xfrm>
          <a:prstGeom prst="flowChartMagneticTap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3336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Что ты любишь есть на завтр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1197000"/>
            <a:ext cx="6443640" cy="503280"/>
          </a:xfrm>
          <a:prstGeom prst="flowChartMagneticTap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24800" y="1197000"/>
            <a:ext cx="59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do you like to eat for breakf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916280"/>
            <a:ext cx="5292720" cy="502920"/>
          </a:xfrm>
          <a:prstGeom prst="flowChartMagneticTap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91628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Я люблю кашу, хлеб, ветч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08360" y="2492280"/>
            <a:ext cx="5257800" cy="503280"/>
          </a:xfrm>
          <a:prstGeom prst="flowChartMagneticTap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357720"/>
            <a:ext cx="5473800" cy="502920"/>
          </a:xfrm>
          <a:prstGeom prst="flowChartMagneticTap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27280" y="4292640"/>
            <a:ext cx="6516720" cy="503280"/>
          </a:xfrm>
          <a:prstGeom prst="flowChartMagneticTap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600" y="3357720"/>
            <a:ext cx="55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Что ты любишь пить на завтра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05640" y="2492280"/>
            <a:ext cx="51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like porridge, bread and bu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39320" y="4292640"/>
            <a:ext cx="62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do you like to drink for breakf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229360"/>
            <a:ext cx="5364000" cy="503280"/>
          </a:xfrm>
          <a:prstGeom prst="flowChartMagneticTap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3200" y="5157720"/>
            <a:ext cx="46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Я люблю молоко, чай и 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3640" y="5877000"/>
            <a:ext cx="5364000" cy="503280"/>
          </a:xfrm>
          <a:prstGeom prst="flowChartMagneticTap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14120" y="583092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like milk, tea and coff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38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0" dur="385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2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4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385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9" dur="385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1" dur="385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3" dur="385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38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0" dur="385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2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4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385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9" dur="385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1" dur="385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3" dur="385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385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0" dur="385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2" dur="38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4" dur="38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385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9" dur="38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1" dur="38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3" dur="38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385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0" dur="385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2" dur="38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4" dur="38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385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9" dur="385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1" dur="385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3" dur="385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79280" y="333360"/>
            <a:ext cx="4248360" cy="647640"/>
          </a:xfrm>
          <a:prstGeom prst="cloudCallout">
            <a:avLst>
              <a:gd name="adj1" fmla="val -43759"/>
              <a:gd name="adj2" fmla="val 56861"/>
            </a:avLst>
          </a:prstGeom>
          <a:solidFill>
            <a:srgbClr val="99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0160" y="404640"/>
            <a:ext cx="39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оброе утро. Я голод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268280"/>
            <a:ext cx="4788000" cy="648000"/>
          </a:xfrm>
          <a:prstGeom prst="cloudCallout">
            <a:avLst>
              <a:gd name="adj1" fmla="val -44462"/>
              <a:gd name="adj2" fmla="val 56861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-28800" y="1268280"/>
            <a:ext cx="49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оброе утро. Вы любите ча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27640" y="404640"/>
            <a:ext cx="4248000" cy="648000"/>
          </a:xfrm>
          <a:prstGeom prst="cloudCallout">
            <a:avLst>
              <a:gd name="adj1" fmla="val -43759"/>
              <a:gd name="adj2" fmla="val 5686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000" y="54936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od morning. I am hung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84720" y="1628640"/>
            <a:ext cx="4859280" cy="648000"/>
          </a:xfrm>
          <a:prstGeom prst="cloudCallout">
            <a:avLst>
              <a:gd name="adj1" fmla="val -48986"/>
              <a:gd name="adj2" fmla="val 2352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61680" y="1700280"/>
            <a:ext cx="49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od morning. Do you like te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276640"/>
            <a:ext cx="4859280" cy="647640"/>
          </a:xfrm>
          <a:prstGeom prst="cloudCallout">
            <a:avLst>
              <a:gd name="adj1" fmla="val -44546"/>
              <a:gd name="adj2" fmla="val 56861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" y="2349360"/>
            <a:ext cx="49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а. И бутерброд, пожалуй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1280" y="2708280"/>
            <a:ext cx="4824360" cy="647640"/>
          </a:xfrm>
          <a:prstGeom prst="cloudCallout">
            <a:avLst>
              <a:gd name="adj1" fmla="val -44504"/>
              <a:gd name="adj2" fmla="val 5686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11640" y="2806560"/>
            <a:ext cx="48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. And a sandwich, p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3284640"/>
            <a:ext cx="4248360" cy="647640"/>
          </a:xfrm>
          <a:prstGeom prst="cloudCallout">
            <a:avLst>
              <a:gd name="adj1" fmla="val -43759"/>
              <a:gd name="adj2" fmla="val 56861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82040" y="342900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24360" y="3429000"/>
            <a:ext cx="4248000" cy="647640"/>
          </a:xfrm>
          <a:prstGeom prst="cloudCallout">
            <a:avLst>
              <a:gd name="adj1" fmla="val -43759"/>
              <a:gd name="adj2" fmla="val 5686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3400" y="350208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e you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4292640"/>
            <a:ext cx="5113440" cy="647640"/>
          </a:xfrm>
          <a:prstGeom prst="cloudCallout">
            <a:avLst>
              <a:gd name="adj1" fmla="val -49037"/>
              <a:gd name="adj2" fmla="val 2352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1120" y="436572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пасибо. Можно мне варен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67280" y="4724280"/>
            <a:ext cx="4897440" cy="648000"/>
          </a:xfrm>
          <a:prstGeom prst="cloudCallout">
            <a:avLst>
              <a:gd name="adj1" fmla="val -44587"/>
              <a:gd name="adj2" fmla="val 5686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13640" y="479736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ank you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ау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have some j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373720"/>
            <a:ext cx="4248000" cy="647640"/>
          </a:xfrm>
          <a:prstGeom prst="cloudCallout">
            <a:avLst>
              <a:gd name="adj1" fmla="val -48842"/>
              <a:gd name="adj2" fmla="val 2352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7280" y="5373720"/>
            <a:ext cx="37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Конечно. Угощайт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80000" y="5516640"/>
            <a:ext cx="4679640" cy="647640"/>
          </a:xfrm>
          <a:prstGeom prst="cloudCallout">
            <a:avLst>
              <a:gd name="adj1" fmla="val -48949"/>
              <a:gd name="adj2" fmla="val 2352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36720" y="554184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course. Help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95280" y="549360"/>
            <a:ext cx="388944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2360" y="620640"/>
            <a:ext cx="37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ы бы не хотел рыб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765000"/>
            <a:ext cx="4248000" cy="648000"/>
          </a:xfrm>
          <a:prstGeom prst="wedgeEllipseCallout">
            <a:avLst>
              <a:gd name="adj1" fmla="val -44282"/>
              <a:gd name="adj2" fmla="val 7009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30080" y="90792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uld you like some f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1700280"/>
            <a:ext cx="6121440" cy="647640"/>
          </a:xfrm>
          <a:prstGeom prst="wedgeEllipseCallout">
            <a:avLst>
              <a:gd name="adj1" fmla="val -46032"/>
              <a:gd name="adj2" fmla="val 700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0360" y="177336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а. Пожалуйста. Можно мне хлеб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03640" y="2637000"/>
            <a:ext cx="5940360" cy="647640"/>
          </a:xfrm>
          <a:prstGeom prst="wedgeEllipseCallout">
            <a:avLst>
              <a:gd name="adj1" fmla="val -30143"/>
              <a:gd name="adj2" fmla="val 7009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86520" y="270828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s, please. May I have some br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573360"/>
            <a:ext cx="388944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000" y="3718080"/>
            <a:ext cx="8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67280" y="3716280"/>
            <a:ext cx="388944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80320" y="381492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e you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4437000"/>
            <a:ext cx="388944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33840" y="453384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пасиб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84720" y="4508640"/>
            <a:ext cx="3889440" cy="647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00200" y="458136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5445000"/>
            <a:ext cx="3889080" cy="648000"/>
          </a:xfrm>
          <a:prstGeom prst="wedgeEllipseCallout">
            <a:avLst>
              <a:gd name="adj1" fmla="val -49305"/>
              <a:gd name="adj2" fmla="val 3676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7680" y="551664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Ты любишь капус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11640" y="5516640"/>
            <a:ext cx="3889440" cy="647640"/>
          </a:xfrm>
          <a:prstGeom prst="wedgeEllipseCallout">
            <a:avLst>
              <a:gd name="adj1" fmla="val -49305"/>
              <a:gd name="adj2" fmla="val 3676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8320" y="558972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 you like cabb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5280" y="6093000"/>
            <a:ext cx="3889440" cy="576000"/>
          </a:xfrm>
          <a:prstGeom prst="wedgeEllipseCallout">
            <a:avLst>
              <a:gd name="adj1" fmla="val -49305"/>
              <a:gd name="adj2" fmla="val 3512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58760" y="609300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ет, спасиб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00720" y="6237360"/>
            <a:ext cx="3889080" cy="431640"/>
          </a:xfrm>
          <a:prstGeom prst="wedgeEllipseCallout">
            <a:avLst>
              <a:gd name="adj1" fmla="val -43754"/>
              <a:gd name="adj2" fmla="val 8014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89280" y="626256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, 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8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8:14:06Z</dcterms:created>
  <dc:creator>XTreme</dc:creator>
  <dc:description/>
  <dc:language>en-US</dc:language>
  <cp:lastModifiedBy>XTreme</cp:lastModifiedBy>
  <dcterms:modified xsi:type="dcterms:W3CDTF">2009-01-20T20:53:19Z</dcterms:modified>
  <cp:revision>9</cp:revision>
  <dc:subject/>
  <dc:title> Welcome to English</dc:title>
</cp:coreProperties>
</file>