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4CE-CAA0-46F6-AA18-D5F408FD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DC1-D6EE-4F9E-A405-8FE7E759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81D-D4E0-4187-BC53-4DD6BD24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90C-8517-4D86-B991-F5B4B9E1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C36E-1CEA-46BE-9597-D32A0A0E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F334-0FF9-4B29-8C97-6B58451F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EC22-3F1D-4782-B7CA-6C28839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B948-8ECF-494B-A9BB-826C4E11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152F-7FD3-492C-9094-712D346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2A90-925D-46A4-AC95-5852749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71C0-831C-482E-A0CB-165F837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CBC-4FEB-4487-9CF5-14103F97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25D8-F759-4FEE-92EF-A09F69DE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3094-BCF8-4208-9915-A10088A3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87B3-76C8-4143-BA78-1FEB50B8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3DBB-1D49-4CEF-9D14-6068CFEB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5F79-FA2A-4A70-8118-2B056F61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076-69B4-4D19-9263-58DF01AE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83B-166A-4B7E-96B4-B6ADEB88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94C-E039-4EC5-8FB0-F8D7DCC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D72-697D-4884-A28B-776C82D4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0D6-2893-4D48-9660-1CFCFED9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4DD-9EAE-495E-93E3-2E7347EE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D4C-B20D-4602-BE6C-408C8D5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872C-890F-4DED-8602-37B2A4A71A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B72A-FAD7-49A5-ACA6-711E572D73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ubOvalCallout"/>
          <p:cNvSpPr/>
          <p:nvPr/>
        </p:nvSpPr>
        <p:spPr>
          <a:xfrm>
            <a:off x="755640" y="1125360"/>
            <a:ext cx="7345440" cy="4537080"/>
          </a:xfrm>
          <a:custGeom>
            <a:avLst/>
            <a:gdLst>
              <a:gd name="textAreaLeft" fmla="*/ 1075680 w 7345440"/>
              <a:gd name="textAreaRight" fmla="*/ 6269760 w 7345440"/>
              <a:gd name="textAreaTop" fmla="*/ 498600 h 4537080"/>
              <a:gd name="textAreaBottom" fmla="*/ 2906280 h 4537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24922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"/>
              </a:rPr>
              <a:t>Welcome to Englis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lonna MT"/>
              </a:rPr>
              <a:t>Today is the 1(first) of Januar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lonna MT"/>
              </a:rPr>
              <a:t>Today is Wednesd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Чтение буквосочета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814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O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er,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2000" y="1700280"/>
            <a:ext cx="3778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Three, 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s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j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ooper Black"/>
              </a:rPr>
              <a:t>Do you know English numera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84464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436572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184464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50028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30064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414972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551664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1916280"/>
            <a:ext cx="1295280" cy="86328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08464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78136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335772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92428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95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oper Black"/>
              </a:rPr>
              <a:t>Make up the dialogu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4348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773360"/>
            <a:ext cx="3240000" cy="5032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ы любишь суп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1773360"/>
            <a:ext cx="3240000" cy="50328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like soup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421000"/>
            <a:ext cx="4788000" cy="57636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т,спасибо.Я не люблю су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0000" y="2421000"/>
            <a:ext cx="4464000" cy="57636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,thanks.I do not like soup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213000"/>
            <a:ext cx="3456000" cy="5050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3284640"/>
            <a:ext cx="4176720" cy="50472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252360" y="4437000"/>
            <a:ext cx="4032360" cy="4320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6360" y="43657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т. Угощ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437000"/>
            <a:ext cx="4356000" cy="50328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e you are. Help yourself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157720"/>
            <a:ext cx="3240000" cy="4320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асиб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5084640"/>
            <a:ext cx="3240000" cy="50328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0480" y="508464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5877000"/>
            <a:ext cx="3240000" cy="4316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805360"/>
            <a:ext cx="3240360" cy="43200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wel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3789360"/>
            <a:ext cx="3241440" cy="4316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. Пожалуй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3860640"/>
            <a:ext cx="3240360" cy="43200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2640" y="38149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800" y="32130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 бы не хотел мё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91960" y="328464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uld you like some h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33360"/>
            <a:ext cx="5364000" cy="50328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3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ты любишь есть на завтр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197000"/>
            <a:ext cx="644364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800" y="119700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 like to eat for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16280"/>
            <a:ext cx="5292720" cy="50292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1628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Я люблю кашу, хлеб, вет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92280"/>
            <a:ext cx="525780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57720"/>
            <a:ext cx="5473800" cy="50292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4292640"/>
            <a:ext cx="651672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600" y="335772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ты любишь пить на завтр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05640" y="2492280"/>
            <a:ext cx="51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porridge, bread and bu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39320" y="429264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 like to drink for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229360"/>
            <a:ext cx="5364000" cy="50328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3200" y="515772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Я люблю молоко, чай и 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5877000"/>
            <a:ext cx="536400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14120" y="5830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milk, tea and cof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85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38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385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2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85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0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2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4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385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333360"/>
            <a:ext cx="424836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99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0160" y="40464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брое утро. Я гол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68280"/>
            <a:ext cx="4788000" cy="648000"/>
          </a:xfrm>
          <a:prstGeom prst="cloudCallout">
            <a:avLst>
              <a:gd name="adj1" fmla="val -44462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28800" y="1268280"/>
            <a:ext cx="49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брое утро. Вы любите ч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404640"/>
            <a:ext cx="4248000" cy="64800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000" y="5493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. I am hu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4720" y="1628640"/>
            <a:ext cx="4859280" cy="648000"/>
          </a:xfrm>
          <a:prstGeom prst="cloudCallout">
            <a:avLst>
              <a:gd name="adj1" fmla="val -48986"/>
              <a:gd name="adj2" fmla="val 2352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1680" y="17002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. Do you like t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76640"/>
            <a:ext cx="4859280" cy="647640"/>
          </a:xfrm>
          <a:prstGeom prst="cloudCallout">
            <a:avLst>
              <a:gd name="adj1" fmla="val -44546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" y="234936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. И бутерброд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2708280"/>
            <a:ext cx="4824360" cy="647640"/>
          </a:xfrm>
          <a:prstGeom prst="cloudCallout">
            <a:avLst>
              <a:gd name="adj1" fmla="val -44504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2806560"/>
            <a:ext cx="48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. And a sandwich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284640"/>
            <a:ext cx="424836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820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4360" y="3429000"/>
            <a:ext cx="424800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3400" y="35020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4292640"/>
            <a:ext cx="5113440" cy="647640"/>
          </a:xfrm>
          <a:prstGeom prst="cloudCallout">
            <a:avLst>
              <a:gd name="adj1" fmla="val -49037"/>
              <a:gd name="adj2" fmla="val 2352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1120" y="436572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. Можно мне варен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4724280"/>
            <a:ext cx="4897440" cy="648000"/>
          </a:xfrm>
          <a:prstGeom prst="cloudCallout">
            <a:avLst>
              <a:gd name="adj1" fmla="val -44587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13640" y="4797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nk you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have some j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73720"/>
            <a:ext cx="4248000" cy="647640"/>
          </a:xfrm>
          <a:prstGeom prst="cloudCallout">
            <a:avLst>
              <a:gd name="adj1" fmla="val -48842"/>
              <a:gd name="adj2" fmla="val 2352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7280" y="537372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нечно. Угощ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5516640"/>
            <a:ext cx="4679640" cy="647640"/>
          </a:xfrm>
          <a:prstGeom prst="cloudCallout">
            <a:avLst>
              <a:gd name="adj1" fmla="val -48949"/>
              <a:gd name="adj2" fmla="val 2352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36720" y="554184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course. Help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54936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2360" y="62064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бы не хотел рыб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765000"/>
            <a:ext cx="4248000" cy="648000"/>
          </a:xfrm>
          <a:prstGeom prst="wedgeEllipseCallout">
            <a:avLst>
              <a:gd name="adj1" fmla="val -44282"/>
              <a:gd name="adj2" fmla="val 70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30080" y="90792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uld you like some f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1700280"/>
            <a:ext cx="6121440" cy="647640"/>
          </a:xfrm>
          <a:prstGeom prst="wedgeEllipseCallout">
            <a:avLst>
              <a:gd name="adj1" fmla="val -46032"/>
              <a:gd name="adj2" fmla="val 70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" y="17733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. Пожалуйста. Можно мне хле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2637000"/>
            <a:ext cx="5940360" cy="647640"/>
          </a:xfrm>
          <a:prstGeom prst="wedgeEllipseCallout">
            <a:avLst>
              <a:gd name="adj1" fmla="val -30143"/>
              <a:gd name="adj2" fmla="val 70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86520" y="2708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, please. May I have some br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000" y="371808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67280" y="371628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80320" y="38149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443700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33840" y="45338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450864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00200" y="4581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445000"/>
            <a:ext cx="3889080" cy="648000"/>
          </a:xfrm>
          <a:prstGeom prst="wedgeEllipseCallout">
            <a:avLst>
              <a:gd name="adj1" fmla="val -49305"/>
              <a:gd name="adj2" fmla="val 367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7680" y="55166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любишь капус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5516640"/>
            <a:ext cx="3889440" cy="647640"/>
          </a:xfrm>
          <a:prstGeom prst="wedgeEllipseCallout">
            <a:avLst>
              <a:gd name="adj1" fmla="val -49305"/>
              <a:gd name="adj2" fmla="val 3676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8320" y="55897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like cabb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6093000"/>
            <a:ext cx="3889440" cy="576000"/>
          </a:xfrm>
          <a:prstGeom prst="wedgeEllipseCallout">
            <a:avLst>
              <a:gd name="adj1" fmla="val -49305"/>
              <a:gd name="adj2" fmla="val 351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58760" y="60930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т, 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6237360"/>
            <a:ext cx="3889080" cy="431640"/>
          </a:xfrm>
          <a:prstGeom prst="wedgeEllipseCallout">
            <a:avLst>
              <a:gd name="adj1" fmla="val -43754"/>
              <a:gd name="adj2" fmla="val 80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9280" y="62625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,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14:06Z</dcterms:created>
  <dc:creator>XTreme</dc:creator>
  <dc:description/>
  <dc:language>en-US</dc:language>
  <cp:lastModifiedBy>XTreme</cp:lastModifiedBy>
  <dcterms:modified xsi:type="dcterms:W3CDTF">2009-01-20T20:53:19Z</dcterms:modified>
  <cp:revision>9</cp:revision>
  <dc:subject/>
  <dc:title> Welcome to English</dc:title>
</cp:coreProperties>
</file>