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EDF-C608-4F38-9004-A0BBACD4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950-895D-437B-AAEB-C722B29F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47B-769E-415E-926F-A71CF2AE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2F7-CDA0-4F36-99A3-48C624EA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1FAF-7AE6-45FF-A3CD-5F2C0830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D32C-29A4-40DE-9EC6-3A01D73C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845B-8DEF-4585-A09C-8C36D163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D77C-C3FA-4C4C-947E-26029E81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3F7E-70A2-43CB-94B2-1C41CFCB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B32D-8548-4464-A1DF-477D47E2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0CC-E766-4E98-AC5A-D3DA1F97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FA4-DE4E-4FEE-9988-D04CEDF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111-09C0-40CA-B0D0-9BF9A0F2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745E-FCD4-41FF-B426-2CC878D9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6D08-97A1-4C51-83E8-E5670F2A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F8B1-7E24-4FF0-A480-45127020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7499-4408-4244-BD4E-8F4DF809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D7B-0301-4942-A9DA-6BDD4711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EE35-E06D-48F6-A99F-E5E56EB0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D1C0-5FA9-490E-A354-14A52499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BF0-5305-4A4A-95E5-8F6B6D80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E14-E81E-4EDC-8610-75358B4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5B2-4BAF-429C-9810-F67C4E0B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FCF-44A1-4248-BD7E-5B34AA2B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7197-2AEE-4C8E-B4D2-21E43E994B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ABDF-F3F5-4DD7-B003-DF5D46149D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1640" y="2349360"/>
            <a:ext cx="7041960" cy="2288520"/>
          </a:xfrm>
          <a:prstGeom prst="rect">
            <a:avLst/>
          </a:prstGeom>
          <a:solidFill>
            <a:srgbClr val="72f2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Arial"/>
              </a:rPr>
              <a:t>Word order</a:t>
            </a:r>
            <a:r>
              <a:rPr b="1" lang="ru-RU" sz="72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en-US" sz="7200" spc="-1" strike="noStrike">
                <a:solidFill>
                  <a:srgbClr val="3333cc"/>
                </a:solidFill>
                <a:latin typeface="Arial"/>
              </a:rPr>
              <a:t> adjective+nou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25360"/>
            <a:ext cx="115236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125360"/>
            <a:ext cx="115236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1197000"/>
            <a:ext cx="8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1125360"/>
            <a:ext cx="115272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19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1125360"/>
            <a:ext cx="100800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125360"/>
            <a:ext cx="108108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1125360"/>
            <a:ext cx="100800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9640" y="1125360"/>
            <a:ext cx="122400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85080" y="1125360"/>
            <a:ext cx="1081080" cy="64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77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429000"/>
            <a:ext cx="187308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wond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773360"/>
            <a:ext cx="432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357720"/>
            <a:ext cx="863640" cy="50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1773360"/>
            <a:ext cx="43200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3357720"/>
            <a:ext cx="647640" cy="50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773360"/>
            <a:ext cx="71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357720"/>
            <a:ext cx="934920" cy="50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3357720"/>
            <a:ext cx="1008360" cy="502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1773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429000"/>
            <a:ext cx="1081080" cy="50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177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3429000"/>
            <a:ext cx="143964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7640" y="1773360"/>
            <a:ext cx="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4437000"/>
            <a:ext cx="1224000" cy="4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p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7564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48720" y="1773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2826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Garamond"/>
              </a:rPr>
              <a:t>Put the adjectives in brackets in the correct posi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. a young girl(pretty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pretty young 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. a handsome man(young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handsome young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3. brown bag(leather)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brown leather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4. an American film(old)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old American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5. big eyes(blue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ig blu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6. a cold day(rainy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cold rain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7. a hot bath(nice)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nice hot b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8.an old coat(worn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old worn 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27944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ut the adjectives in brackets in the correct pos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9. An old coat(worn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ld worn 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0. a red car(old, little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little old red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1. a gold watch(small, antique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small antique gold 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2. a little village(old,lovely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 lovely little old villag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76280"/>
            <a:ext cx="8229600" cy="113976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Garamond"/>
              </a:rPr>
              <a:t>Put the adjectives in brackets in the correct 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3. long eye-lashes(black, thick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ong thick black eye la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14. an old mansion(stone,English)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 old English stone m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297080"/>
          </a:xfrm>
          <a:prstGeom prst="rect">
            <a:avLst/>
          </a:prstGeom>
          <a:solidFill>
            <a:srgbClr val="61ff6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ut the adjectives in brackets in the correct pos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51:24Z</dcterms:created>
  <dc:creator>1</dc:creator>
  <dc:description/>
  <dc:language>en-US</dc:language>
  <cp:lastModifiedBy>1</cp:lastModifiedBy>
  <dcterms:modified xsi:type="dcterms:W3CDTF">2009-09-17T18:05:35Z</dcterms:modified>
  <cp:revision>4</cp:revision>
  <dc:subject/>
  <dc:title>Word order: adjective+noun</dc:title>
</cp:coreProperties>
</file>