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59C-465F-4F54-B01D-2353C7C0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B11-2B90-42F7-82D4-D7649C69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F97-2F61-4B3A-99F9-9BD3A97D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D1A-E166-48F9-B30C-F63C76A2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0E1B-35B6-4A5C-A1AC-D0DD2A57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E7D5-25E4-4FFB-9667-A70E85B3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80DB-5023-4938-A9B7-4530CD8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E1BF-DACB-4875-918A-DC2C6B00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C626-E193-4FE2-B038-9E9E61BE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A5AD-80ED-4379-B5BE-B792081F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79DF-93AC-4516-ACD4-4B32EE4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189-68F7-48F5-B8FB-D88441E3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BFA6-0867-486C-9079-512A4C9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03ED-BCB7-4201-A99E-9059572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A4FD-E256-4EDC-AD47-7CB3E190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0A13-EB8E-4610-8531-DF8CB938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B1B9-E456-495F-A5A2-348B4AD4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09C-1DE5-4F35-AB33-2685606B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1E9-B6C2-4E55-AD6C-052035A8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37E-35BA-489A-AC35-ABB53561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AD9-E45B-4BCB-98BD-0210755F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00F-EFAC-4825-AE18-3E94DC7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C4A-5298-4906-9F40-3BB759B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467-71BD-4614-8752-8DEACF3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E488-33E5-467C-AEAD-56F7B196EC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AFA-D2C7-4112-AA6D-BDB494281C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1640" y="2349360"/>
            <a:ext cx="7041960" cy="2288520"/>
          </a:xfrm>
          <a:prstGeom prst="rect">
            <a:avLst/>
          </a:prstGeom>
          <a:solidFill>
            <a:srgbClr val="72f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Word order</a:t>
            </a:r>
            <a:r>
              <a:rPr b="1" lang="ru-RU" sz="7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 adjective+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25360"/>
            <a:ext cx="115236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125360"/>
            <a:ext cx="115236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1197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1125360"/>
            <a:ext cx="115272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19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125360"/>
            <a:ext cx="100800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125360"/>
            <a:ext cx="108108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1125360"/>
            <a:ext cx="100800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1125360"/>
            <a:ext cx="122400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1125360"/>
            <a:ext cx="108108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77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429000"/>
            <a:ext cx="187308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773360"/>
            <a:ext cx="432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357720"/>
            <a:ext cx="86364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1773360"/>
            <a:ext cx="432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3357720"/>
            <a:ext cx="64764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773360"/>
            <a:ext cx="71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357720"/>
            <a:ext cx="93492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357720"/>
            <a:ext cx="100836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1773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429000"/>
            <a:ext cx="108108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177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3429000"/>
            <a:ext cx="1439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764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4437000"/>
            <a:ext cx="122400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7564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48720" y="1773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826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aramond"/>
              </a:rPr>
              <a:t>Put the adjectives in brackets in the correct posi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. a young girl(pretty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pretty young 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. a handsome man(young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handsome you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3. brown bag(leather)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brown leather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an American film(old)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old America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. big eyes(blue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g blu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. a cold day(rainy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cold rain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7. a hot bath(nice)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nice hot b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8.an old coat(worn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old worn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27944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ut the adjectives in brackets in the correct 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9. An old coat(worn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ld worn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0. a red car(old, little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little old red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. a gold watch(small, antique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small antique gold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2. a little village(old,lovely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lovely little old villag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76280"/>
            <a:ext cx="8229600" cy="113976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aramond"/>
              </a:rPr>
              <a:t>Put the adjectives in brackets in the correct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3. long eye-lashes(black, thick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ong thick black eye l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. an old mansion(stone,English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old English stone m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2970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ut the adjectives in brackets in the correct 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51:24Z</dcterms:created>
  <dc:creator>1</dc:creator>
  <dc:description/>
  <dc:language>en-US</dc:language>
  <cp:lastModifiedBy>1</cp:lastModifiedBy>
  <dcterms:modified xsi:type="dcterms:W3CDTF">2009-09-17T18:05:35Z</dcterms:modified>
  <cp:revision>4</cp:revision>
  <dc:subject/>
  <dc:title>Word order: adjective+noun</dc:title>
</cp:coreProperties>
</file>