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37B5-6787-4BB1-B7F9-10FC6360E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D274-072E-4BED-A090-AC2D647F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7BF8-FAA9-4D00-A803-A701DDEAC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6BD1-32FA-4B6C-ACFE-6F9AFE62A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CA54-523B-41F1-B717-D01E6208F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1941-6856-4579-A2F3-BA80B86E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D0B9-ECAB-4A9E-A95A-706A0211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83D5-4E49-46DE-9455-D0DC2BE9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DDB5-5A05-46C3-A8FD-14CC8360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0EED-DC5A-4873-B56A-C8ABD470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9AFA-F347-4F09-94D6-C82A725C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986C-5FD0-4AA2-AC65-80431065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662E-CC74-4EAE-B775-2F3AAFD1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DCA1-A1BA-4046-8E3F-16420225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DF84-C8A8-42AC-86BC-28ECACF5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145E-1AA2-47C8-A8A2-251C922AD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38DF-0165-4671-8231-6AC8D7988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F833-3062-4FD5-90EE-13ED4B9B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2773-DFB7-45C7-A467-0AE89809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40A2-1C91-4A03-B40C-C3AF2C5C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BA49-11BE-46E3-814A-D8834885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6C1D-8BD8-468F-B20A-5CBA0F4C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A086-7F3F-4FD1-BFB3-4D2E4DCF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866F-D635-4A43-924B-C4BF0214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A57E-0744-4ECB-9365-2A13A840406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B6FC-D5E9-4D3B-AFA7-A6C313CE0AE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hyperlink" Target="http://ru.wikipedia.org/wiki/&#1055;&#1086;&#1076;&#1074;&#1080;&#1076;" TargetMode="External"/><Relationship Id="rId3" Type="http://schemas.openxmlformats.org/officeDocument/2006/relationships/hyperlink" Target="http://ru.wikipedia.org/wiki/&#1058;&#1080;&#1075;&#1088;" TargetMode="External"/><Relationship Id="rId4" Type="http://schemas.openxmlformats.org/officeDocument/2006/relationships/hyperlink" Target="http://ru.wikipedia.org/wiki/&#1050;&#1088;&#1072;&#1089;&#1085;&#1072;&#1103;_&#1082;&#1085;&#1080;&#1075;&#1072;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0;&#1075;&#1088;" TargetMode="External"/><Relationship Id="rId2" Type="http://schemas.openxmlformats.org/officeDocument/2006/relationships/hyperlink" Target="http://ru.wikipedia.org/wiki/&#1040;&#1084;&#1091;&#1088;_%28&#1088;&#1077;&#1082;&#1072;%29" TargetMode="External"/><Relationship Id="rId3" Type="http://schemas.openxmlformats.org/officeDocument/2006/relationships/hyperlink" Target="http://ru.wikipedia.org/wiki/&#1059;&#1089;&#1089;&#1091;&#1088;&#1080;_%28&#1088;&#1077;&#1082;&#1072;%29" TargetMode="External"/><Relationship Id="rId4" Type="http://schemas.openxmlformats.org/officeDocument/2006/relationships/hyperlink" Target="http://ru.wikipedia.org/wiki/&#1061;&#1072;&#1073;&#1072;&#1088;&#1086;&#1074;&#1089;&#1082;&#1080;&#1081;_&#1082;&#1088;&#1072;&#1081;" TargetMode="External"/><Relationship Id="rId5" Type="http://schemas.openxmlformats.org/officeDocument/2006/relationships/hyperlink" Target="http://ru.wikipedia.org/wiki/&#1055;&#1088;&#1080;&#1084;&#1086;&#1088;&#1089;&#1082;&#1080;&#1081;_&#1082;&#1088;&#1072;&#1081;" TargetMode="External"/><Relationship Id="rId6" Type="http://schemas.openxmlformats.org/officeDocument/2006/relationships/hyperlink" Target="http://ru.wikipedia.org/wiki/&#1050;&#1080;&#1090;&#1072;&#1081;" TargetMode="External"/><Relationship Id="rId7" Type="http://schemas.openxmlformats.org/officeDocument/2006/relationships/hyperlink" Target="http://ru.wikipedia.org/wiki/&#1052;&#1072;&#1085;&#1095;&#1078;&#1091;&#1088;&#1080;&#1103;" TargetMode="External"/><Relationship Id="rId8" Type="http://schemas.openxmlformats.org/officeDocument/2006/relationships/hyperlink" Target="http://ru.wikipedia.org/wiki/&#1057;&#1080;&#1093;&#1086;&#1090;&#1101;-&#1040;&#1083;&#1080;&#1085;&#1100;" TargetMode="External"/><Relationship Id="rId9" Type="http://schemas.openxmlformats.org/officeDocument/2006/relationships/hyperlink" Target="http://ru.wikipedia.org/wiki/&#1051;&#1072;&#1079;&#1086;&#1074;&#1089;&#1082;&#1080;&#1081;_&#1088;&#1072;&#1081;&#1086;&#1085;_&#1055;&#1088;&#1080;&#1084;&#1086;&#1088;&#1089;&#1082;&#1086;&#1075;&#1086;_&#1082;&#1088;&#1072;&#1103;" TargetMode="External"/><Relationship Id="rId10" Type="http://schemas.openxmlformats.org/officeDocument/2006/relationships/hyperlink" Target="http://ru.wikipedia.org/wiki/&#1058;&#1080;&#1075;&#1088;" TargetMode="External"/><Relationship Id="rId11" Type="http://schemas.openxmlformats.org/officeDocument/2006/relationships/hyperlink" Target="http://ru.wikipedia.org/wiki/2003" TargetMode="External"/><Relationship Id="rId12" Type="http://schemas.openxmlformats.org/officeDocument/2006/relationships/hyperlink" Target="http://ru.wikipedia.org/wiki/&#1055;&#1083;&#1077;&#1081;&#1089;&#1090;&#1086;&#1094;&#1077;&#1085;&#1086;&#1074;&#1099;&#1081;_&#1087;&#1072;&#1088;&#1082;" TargetMode="External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3;&#1072;&#1075;_&#1055;&#1088;&#1080;&#1084;&#1086;&#1088;&#1089;&#1082;&#1086;&#1075;&#1086;_&#1082;&#1088;&#1072;&#1103;" TargetMode="External"/><Relationship Id="rId2" Type="http://schemas.openxmlformats.org/officeDocument/2006/relationships/hyperlink" Target="http://ru.wikipedia.org/wiki/&#1043;&#1077;&#1088;&#1073;_&#1055;&#1088;&#1080;&#1084;&#1086;&#1088;&#1089;&#1082;&#1086;&#1075;&#1086;_&#1082;&#1088;&#1072;&#1103;" TargetMode="External"/><Relationship Id="rId3" Type="http://schemas.openxmlformats.org/officeDocument/2006/relationships/hyperlink" Target="http://ru.wikipedia.org/wiki/&#1055;&#1088;&#1080;&#1084;&#1086;&#1088;&#1089;&#1082;&#1080;&#1081;_&#1082;&#1088;&#1072;&#1081;" TargetMode="External"/><Relationship Id="rId4" Type="http://schemas.openxmlformats.org/officeDocument/2006/relationships/hyperlink" Target="http://ru.wikipedia.org/wiki/&#1043;&#1077;&#1088;&#1072;&#1083;&#1100;&#1076;&#1080;&#1082;&#1072;" TargetMode="External"/><Relationship Id="rId5" Type="http://schemas.openxmlformats.org/officeDocument/2006/relationships/hyperlink" Target="http://ru.wikipedia.org/wiki/&#1043;&#1077;&#1088;&#1073;_&#1061;&#1072;&#1073;&#1072;&#1088;&#1086;&#1074;&#1089;&#1082;&#1086;&#1075;&#1086;_&#1082;&#1088;&#1072;&#1103;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Амурский тигр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одготовил ученик 4 «Г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ласса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Ширшиков Владислав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Амурский тиг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Аму́рский тигр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(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уссурийски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ли 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дальневосточны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лат.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Panthera tigris altaica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) — один из самых малочисленных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подвидов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тигр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самый северный тигр. Занесён в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Красную книгу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648320" y="1600200"/>
            <a:ext cx="4038480" cy="4530600"/>
            <a:chOff x="4648320" y="1600200"/>
            <a:chExt cx="4038480" cy="4530600"/>
          </a:xfrm>
        </p:grpSpPr>
        <p:pic>
          <p:nvPicPr>
            <p:cNvPr id="119" name="" descr=""/>
            <p:cNvPicPr/>
            <p:nvPr/>
          </p:nvPicPr>
          <p:blipFill>
            <a:blip r:embed="rId5"/>
            <a:stretch/>
          </p:blipFill>
          <p:spPr>
            <a:xfrm>
              <a:off x="4648320" y="1600200"/>
              <a:ext cx="4038480" cy="45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 txBox="1"/>
            <p:nvPr/>
          </p:nvSpPr>
          <p:spPr>
            <a:xfrm>
              <a:off x="4648320" y="1600200"/>
              <a:ext cx="4038480" cy="453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eec85e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аспростран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Ареал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тигр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сосредоточен в охраняемой зоне на юго-востоке России, по берегам рек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Амур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Уссур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в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Хабаровском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Приморском крае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 Всего в России на 1996 год насчитывалось около 415—476 особей. Около 10 % (40—50 особей) популяции амурского тигра обитает в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Китае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(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Манчжури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). Более всего амурские тигры распространены в предгорьях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Сихотэ-Алин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в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Лазовском районе Приморского кр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где на сравнительно небольшой территории живёт каждый шестой дикий амурский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тигр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(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2003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). Предполагается расселить амурских тигров на территории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Плейстоценового парк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в Якути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643280" y="1628640"/>
            <a:ext cx="3673800" cy="3171960"/>
            <a:chOff x="4643280" y="1628640"/>
            <a:chExt cx="3673800" cy="3171960"/>
          </a:xfrm>
        </p:grpSpPr>
        <p:pic>
          <p:nvPicPr>
            <p:cNvPr id="124" name="" descr=""/>
            <p:cNvPicPr/>
            <p:nvPr/>
          </p:nvPicPr>
          <p:blipFill>
            <a:blip r:embed="rId13"/>
            <a:stretch/>
          </p:blipFill>
          <p:spPr>
            <a:xfrm>
              <a:off x="4643280" y="1628640"/>
              <a:ext cx="3673800" cy="31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 txBox="1"/>
            <p:nvPr/>
          </p:nvSpPr>
          <p:spPr>
            <a:xfrm>
              <a:off x="4643280" y="1628640"/>
              <a:ext cx="3673800" cy="3171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00"/>
                </a:spcBef>
                <a:buClr>
                  <a:srgbClr val="eec85e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ита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Несмотря на огромную силу и развитые органы чувств, тигру приходится много времени уделять охоте, поскольку успехом завершается только одна из 10 попыток. Тигр ползком подбирается к своей жертве, двигается при этом он особенным образом: выгнув спину и упираясь задними лапами в землю. Мелких животных он умерщвляет, перегрызая горло, а крупных сначала валит на землю и лишь затем перегрызает шейные позвонки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648320" y="1600200"/>
            <a:ext cx="3668760" cy="3416400"/>
            <a:chOff x="4648320" y="1600200"/>
            <a:chExt cx="3668760" cy="341640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4648320" y="1600200"/>
              <a:ext cx="3668760" cy="341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 txBox="1"/>
            <p:nvPr/>
          </p:nvSpPr>
          <p:spPr>
            <a:xfrm>
              <a:off x="4648320" y="1600200"/>
              <a:ext cx="3668760" cy="3416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eec85e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Интересные факт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Амурский тигр изображён на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флаге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гербе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Приморского кр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а также на многих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геральдических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символах городов и районов края. Также амурский тигр изображён на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гербе Хабаровского кр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Амурский/уссурийский тигр — объект поклонения многих народностей Дальнего Востока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В 1988 году Ходори (с корейского языка-тигр) был официальным талисманом Летних олимпийских игр в Сеуле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В Китае за убийство амурского тигра предусмотрена смертная казнь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648320" y="1600200"/>
            <a:ext cx="4038480" cy="4530600"/>
            <a:chOff x="4648320" y="1600200"/>
            <a:chExt cx="4038480" cy="4530600"/>
          </a:xfrm>
        </p:grpSpPr>
        <p:pic>
          <p:nvPicPr>
            <p:cNvPr id="134" name="" descr=""/>
            <p:cNvPicPr/>
            <p:nvPr/>
          </p:nvPicPr>
          <p:blipFill>
            <a:blip r:embed="rId6"/>
            <a:stretch/>
          </p:blipFill>
          <p:spPr>
            <a:xfrm>
              <a:off x="4648320" y="1600200"/>
              <a:ext cx="4038480" cy="45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 txBox="1"/>
            <p:nvPr/>
          </p:nvSpPr>
          <p:spPr>
            <a:xfrm>
              <a:off x="4648320" y="1600200"/>
              <a:ext cx="4038480" cy="453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00"/>
                </a:spcBef>
                <a:buClr>
                  <a:srgbClr val="eec85e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25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Конец!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пасибо за просмотр!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19:37:48Z</dcterms:created>
  <dc:creator>Admin</dc:creator>
  <dc:description/>
  <dc:language>en-US</dc:language>
  <cp:lastModifiedBy>Admin</cp:lastModifiedBy>
  <dcterms:modified xsi:type="dcterms:W3CDTF">2012-10-03T19:48:25Z</dcterms:modified>
  <cp:revision>15</cp:revision>
  <dc:subject/>
  <dc:title>Амурский тигр</dc:title>
</cp:coreProperties>
</file>