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8AC-26D9-42C4-A42D-2ABE5928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694-5A59-4C8F-85E5-B4E9DD0A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E40-FDE3-4EF0-86AF-C82C1FAD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14C-B08B-4997-886C-48132812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9BAC-9C4C-4558-BC2E-520D60C2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F0EC-8C5D-48E4-8755-58698C29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3F6A-FF29-4A22-B0D5-44F007AE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2F79-79A1-4918-BDBF-9AEA3971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2CF1-7A3E-4EAD-9DF4-F7B03263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8346-35D7-4BA4-8762-14426AD3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7D05-34DE-475C-B7AA-01BD443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9E2-48AD-42DC-879B-143EDDD3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AE2B-3356-47BA-9003-E3313E59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6F04-E06D-4151-8DFE-EDB5F11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A7A1-FF8A-4789-9B1F-C1172EC6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9623-0867-4054-A0FA-73156FBF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14C4-CD9F-40CE-A615-C61D0483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532-3965-44A4-B681-A95AB3EA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6E2-415F-464F-B1D0-7B4F2D42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BEE-8399-4859-AECA-599D99E6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A24-3588-4A66-B6EC-FEA9F38A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746-BEB9-4913-93B8-2A33395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9F1-24B7-4512-8CE7-814054FF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C21-1F62-4032-BDE6-AA30204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426C-7FCF-4FD8-98CD-34B44BBF1F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7DF5-E9FD-4F33-A7EF-123B0BCB034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5;&#1086;&#1076;&#1074;&#1080;&#1076;" TargetMode="External"/><Relationship Id="rId3" Type="http://schemas.openxmlformats.org/officeDocument/2006/relationships/hyperlink" Target="http://ru.wikipedia.org/wiki/&#1058;&#1080;&#1075;&#1088;" TargetMode="External"/><Relationship Id="rId4" Type="http://schemas.openxmlformats.org/officeDocument/2006/relationships/hyperlink" Target="http://ru.wikipedia.org/wiki/&#1050;&#1088;&#1072;&#1089;&#1085;&#1072;&#1103;_&#1082;&#1085;&#1080;&#1075;&#1072;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0;&#1075;&#1088;" TargetMode="External"/><Relationship Id="rId2" Type="http://schemas.openxmlformats.org/officeDocument/2006/relationships/hyperlink" Target="http://ru.wikipedia.org/wiki/&#1040;&#1084;&#1091;&#1088;_%28&#1088;&#1077;&#1082;&#1072;%29" TargetMode="External"/><Relationship Id="rId3" Type="http://schemas.openxmlformats.org/officeDocument/2006/relationships/hyperlink" Target="http://ru.wikipedia.org/wiki/&#1059;&#1089;&#1089;&#1091;&#1088;&#1080;_%28&#1088;&#1077;&#1082;&#1072;%29" TargetMode="External"/><Relationship Id="rId4" Type="http://schemas.openxmlformats.org/officeDocument/2006/relationships/hyperlink" Target="http://ru.wikipedia.org/wiki/&#1061;&#1072;&#1073;&#1072;&#1088;&#1086;&#1074;&#1089;&#1082;&#1080;&#1081;_&#1082;&#1088;&#1072;&#1081;" TargetMode="External"/><Relationship Id="rId5" Type="http://schemas.openxmlformats.org/officeDocument/2006/relationships/hyperlink" Target="http://ru.wikipedia.org/wiki/&#1055;&#1088;&#1080;&#1084;&#1086;&#1088;&#1089;&#1082;&#1080;&#1081;_&#1082;&#1088;&#1072;&#1081;" TargetMode="External"/><Relationship Id="rId6" Type="http://schemas.openxmlformats.org/officeDocument/2006/relationships/hyperlink" Target="http://ru.wikipedia.org/wiki/&#1050;&#1080;&#1090;&#1072;&#1081;" TargetMode="External"/><Relationship Id="rId7" Type="http://schemas.openxmlformats.org/officeDocument/2006/relationships/hyperlink" Target="http://ru.wikipedia.org/wiki/&#1052;&#1072;&#1085;&#1095;&#1078;&#1091;&#1088;&#1080;&#1103;" TargetMode="External"/><Relationship Id="rId8" Type="http://schemas.openxmlformats.org/officeDocument/2006/relationships/hyperlink" Target="http://ru.wikipedia.org/wiki/&#1057;&#1080;&#1093;&#1086;&#1090;&#1101;-&#1040;&#1083;&#1080;&#1085;&#1100;" TargetMode="External"/><Relationship Id="rId9" Type="http://schemas.openxmlformats.org/officeDocument/2006/relationships/hyperlink" Target="http://ru.wikipedia.org/wiki/&#1051;&#1072;&#1079;&#1086;&#1074;&#1089;&#1082;&#1080;&#1081;_&#1088;&#1072;&#1081;&#1086;&#1085;_&#1055;&#1088;&#1080;&#1084;&#1086;&#1088;&#1089;&#1082;&#1086;&#1075;&#1086;_&#1082;&#1088;&#1072;&#1103;" TargetMode="External"/><Relationship Id="rId10" Type="http://schemas.openxmlformats.org/officeDocument/2006/relationships/hyperlink" Target="http://ru.wikipedia.org/wiki/&#1058;&#1080;&#1075;&#1088;" TargetMode="External"/><Relationship Id="rId11" Type="http://schemas.openxmlformats.org/officeDocument/2006/relationships/hyperlink" Target="http://ru.wikipedia.org/wiki/2003" TargetMode="External"/><Relationship Id="rId12" Type="http://schemas.openxmlformats.org/officeDocument/2006/relationships/hyperlink" Target="http://ru.wikipedia.org/wiki/&#1055;&#1083;&#1077;&#1081;&#1089;&#1090;&#1086;&#1094;&#1077;&#1085;&#1086;&#1074;&#1099;&#1081;_&#1087;&#1072;&#1088;&#1082;" TargetMode="Externa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3;&#1072;&#1075;_&#1055;&#1088;&#1080;&#1084;&#1086;&#1088;&#1089;&#1082;&#1086;&#1075;&#1086;_&#1082;&#1088;&#1072;&#1103;" TargetMode="External"/><Relationship Id="rId2" Type="http://schemas.openxmlformats.org/officeDocument/2006/relationships/hyperlink" Target="http://ru.wikipedia.org/wiki/&#1043;&#1077;&#1088;&#1073;_&#1055;&#1088;&#1080;&#1084;&#1086;&#1088;&#1089;&#1082;&#1086;&#1075;&#1086;_&#1082;&#1088;&#1072;&#1103;" TargetMode="External"/><Relationship Id="rId3" Type="http://schemas.openxmlformats.org/officeDocument/2006/relationships/hyperlink" Target="http://ru.wikipedia.org/wiki/&#1055;&#1088;&#1080;&#1084;&#1086;&#1088;&#1089;&#1082;&#1080;&#1081;_&#1082;&#1088;&#1072;&#1081;" TargetMode="External"/><Relationship Id="rId4" Type="http://schemas.openxmlformats.org/officeDocument/2006/relationships/hyperlink" Target="http://ru.wikipedia.org/wiki/&#1043;&#1077;&#1088;&#1072;&#1083;&#1100;&#1076;&#1080;&#1082;&#1072;" TargetMode="External"/><Relationship Id="rId5" Type="http://schemas.openxmlformats.org/officeDocument/2006/relationships/hyperlink" Target="http://ru.wikipedia.org/wiki/&#1043;&#1077;&#1088;&#1073;_&#1061;&#1072;&#1073;&#1072;&#1088;&#1086;&#1074;&#1089;&#1082;&#1086;&#1075;&#1086;_&#1082;&#1088;&#1072;&#1103;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Амурский тигр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готовил ученик 4 «Г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ласс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Ширшиков Владислав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мурский тиг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Аму́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ссурий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ли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альневосточ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Panthera tigris altaica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 — один из самых малочислен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одвид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тиг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самый северный тигр. Занесён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Красную книгу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простран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Ареал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тиг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осредоточен в охраняемой зоне на юго-востоке России, по берегам рек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Уссур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Хабаровск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риморском кра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сего в России на 1996 год насчитывалось около 415—476 особей. Около 10 % (40—50 особей) популяции амурского тигра обитает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ита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Манчжури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). Более всего амурские тигры распространены в предгорья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ихотэ-Али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Лазовском районе Приморского кр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где на сравнительно небольшой территории живёт каждый шестой дикий амур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гр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2003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). Предполагается расселить амурских тигров на территории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лейстоценового пар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 Якут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43280" y="1628640"/>
            <a:ext cx="3673800" cy="3171960"/>
            <a:chOff x="4643280" y="1628640"/>
            <a:chExt cx="3673800" cy="3171960"/>
          </a:xfrm>
        </p:grpSpPr>
        <p:pic>
          <p:nvPicPr>
            <p:cNvPr id="124" name="" descr=""/>
            <p:cNvPicPr/>
            <p:nvPr/>
          </p:nvPicPr>
          <p:blipFill>
            <a:blip r:embed="rId13"/>
            <a:stretch/>
          </p:blipFill>
          <p:spPr>
            <a:xfrm>
              <a:off x="4643280" y="1628640"/>
              <a:ext cx="36738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 txBox="1"/>
            <p:nvPr/>
          </p:nvSpPr>
          <p:spPr>
            <a:xfrm>
              <a:off x="4643280" y="1628640"/>
              <a:ext cx="3673800" cy="317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Несмотря на огромную силу и развитые органы чувств, тигру приходится много времени уделять охоте, поскольку успехом завершается только одна из 10 попыток. Тигр ползком подбирается к своей жертве, двигается при этом он особенным образом: выгнув спину и упираясь задними лапами в землю. Мелких животных он умерщвляет, перегрызая горло, а крупных сначала валит на землю и лишь затем перегрызает шейные позвонки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48320" y="1600200"/>
            <a:ext cx="3668760" cy="3416400"/>
            <a:chOff x="4648320" y="1600200"/>
            <a:chExt cx="3668760" cy="34164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3668760" cy="34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 txBox="1"/>
            <p:nvPr/>
          </p:nvSpPr>
          <p:spPr>
            <a:xfrm>
              <a:off x="4648320" y="1600200"/>
              <a:ext cx="3668760" cy="341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Амурский тигр изображён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флаг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рб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риморского кр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а также на многи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еральдических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имволах городов и районов края. Также амурский тигр изображён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ербе Хабаровского кр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Амурский/уссурийский тигр — объект поклонения многих народностей Дальнего Восток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1988 году Ходори (с корейского языка-тигр) был официальным талисманом Летних олимпийских игр в Сеуле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Китае за убийство амурского тигра предусмотрена смертная казнь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нец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асибо за просмотр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9:37:48Z</dcterms:created>
  <dc:creator>Admin</dc:creator>
  <dc:description/>
  <dc:language>en-US</dc:language>
  <cp:lastModifiedBy>Admin</cp:lastModifiedBy>
  <dcterms:modified xsi:type="dcterms:W3CDTF">2012-10-03T19:48:25Z</dcterms:modified>
  <cp:revision>15</cp:revision>
  <dc:subject/>
  <dc:title>Амурский тигр</dc:title>
</cp:coreProperties>
</file>