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85E-C6B9-45BF-B681-7771DD48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BA1-6BDF-4893-8802-E4B20C4D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A3E-9291-4BB6-A77A-A11C8B5F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EF9-C317-4B65-9025-709D1EE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5F-D0BB-452A-924D-3E7DB62A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057-4FDC-45AC-B404-0A1373E9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B45-5D61-4B78-BB8F-C66DB3AC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EA6-88A4-4954-9019-36E77F50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128-DA95-4758-BB32-12C82467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996-F096-4844-B574-5456EAB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F06-CDD7-443C-9AD2-A0CEC74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7F1-94D7-45D1-95A2-493EA76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4EF-ACCB-4B7A-AAD4-1C6FF009C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5400000">
            <a:off x="5291280" y="2421720"/>
            <a:ext cx="5545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2000"/>
                  </a:srgbClr>
                </a:solidFill>
                <a:latin typeface="Arial"/>
              </a:rPr>
              <a:t>Баске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2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7920" y="3500280"/>
            <a:ext cx="395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ыполнили; Панкратова И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урбанова Гал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олярова Д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ченицы: 10 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еподаватель: Дюжев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онтроль мяч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контролирует мяч, когда он держит или ведет живой мяч, или живой мяч находится в его распо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манда контролирует мяч, когда Игрок этой команды контролирует живой мяч или Игроки этой команды передают мяч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783-copy"/>
          <p:cNvPicPr/>
          <p:nvPr/>
        </p:nvPicPr>
        <p:blipFill>
          <a:blip r:embed="rId1"/>
          <a:stretch/>
        </p:blipFill>
        <p:spPr>
          <a:xfrm>
            <a:off x="0" y="260280"/>
            <a:ext cx="47149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авил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56000" y="1484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яч, заброшенный с площадки, засчитывается команде, атакующей корзину, в которую он заброшен,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о штрафного броска, засчитывается одно (1) оч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 игры, из 2-х очковой зоны засчитывается два (2) 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из 3-х очковой зоны, засчитывается три (3)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Если Игрок случайно забрасывает мяч с площадки в свою корзину, очки записываются Капитану соперников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Зона трехочковых бро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5435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оной трехочковых бросков с игры для команды является вся игровая площадка, за исключением области около корзины соперника, ограниченн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вумя параллельными линиями, начинающимся с лицевой линии на расстоянии 6.25 м от точки на площадке, полученной на пересечении с ней перпендикуляра, опущенного из центра корзины соперника. Расстояние от этой точки до внутреннего края середины лицевой линии равно 1.57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лукругом радиусом 6.25 м до внешнего края его линии с центром в той же точке, что указана выше, до соединения с параллельными 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линия трехочкового броска"/>
          <p:cNvPicPr/>
          <p:nvPr/>
        </p:nvPicPr>
        <p:blipFill>
          <a:blip r:embed="rId1"/>
          <a:stretch/>
        </p:blipFill>
        <p:spPr>
          <a:xfrm>
            <a:off x="5508720" y="1413000"/>
            <a:ext cx="3333600" cy="277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-3"/>
          <p:cNvPicPr/>
          <p:nvPr/>
        </p:nvPicPr>
        <p:blipFill>
          <a:blip r:embed="rId2"/>
          <a:stretch/>
        </p:blipFill>
        <p:spPr>
          <a:xfrm>
            <a:off x="5508720" y="4221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4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начинается, когда Игрок, получивший контроль над живым мячом на площадке, бросает, отбивает его в пол или катит его по полу и касается мяча опять, прежде, чем его коснется другой Иг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заканчивается в тот момент, когда Игрок касается мяча одновременно двумя руками или допускает задержку мяча в одной или обе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и ведении мяч может быть подброшен в воздух при условии, что мяч коснется пола раньше, чем Игрок снова коснется мяча своей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Число шагов, которые Игрок может сделать, когда мяч не находится в контакте с его рукой, не огранич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едующие действия не являются вед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следовательные броски в корзину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учайная потеря мяча в начале или в конце 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пытки установить контроль над мячом путем выбивания его из области расположения других Иг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ыбивание мяча из-под контроля другого Иг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епятствование передаче и перехват мя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еребрасывание мяча из руки (рук) в руку (руки) и задержка его прежде, чем он коснется пола, при условии, что Игрок не совершает нарушения в передвижении с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обеж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211640" y="620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робежка - запрещенное перемещение одной или обеих ног в любом направлении, во время контроля живого мяча на площа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preview"/>
          <p:cNvPicPr/>
          <p:nvPr/>
        </p:nvPicPr>
        <p:blipFill>
          <a:blip r:embed="rId1"/>
          <a:stretch/>
        </p:blipFill>
        <p:spPr>
          <a:xfrm>
            <a:off x="6516720" y="3284640"/>
            <a:ext cx="2230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и секун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71280" y="3860640"/>
            <a:ext cx="6156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не должен оставаться более трех (3) секунд подряд в ограниченной зоне соперника, когда его команда контролирует живой мяч на площадке и игровые часы вклю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ля того, чтобы Игрок рассматривался находящимся вне ограниченной зоны, он должен расположить обе ноги на полу вне эт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553899"/>
          <p:cNvPicPr/>
          <p:nvPr/>
        </p:nvPicPr>
        <p:blipFill>
          <a:blip r:embed="rId1"/>
          <a:stretch/>
        </p:blipFill>
        <p:spPr>
          <a:xfrm>
            <a:off x="5003640" y="6206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Ф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- это несоблюдение Правил, вследствие персонального контакта с соперником и/или неспортивн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фиксируется провинившемуся и наказывается согласно положениям соответствующей статьи Прави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1830m"/>
          <p:cNvPicPr/>
          <p:nvPr/>
        </p:nvPicPr>
        <p:blipFill>
          <a:blip r:embed="rId1"/>
          <a:stretch/>
        </p:blipFill>
        <p:spPr>
          <a:xfrm>
            <a:off x="179280" y="333360"/>
            <a:ext cx="4703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Наказа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67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нападении, никакие очки не засчитываются и мяч передается сопернику для вбрасывания из-за пределов площадки напротив линии штрафного бр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защите, атакующей команде засчиты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ва (2) очка, если мяч был выпущен из 2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три (3) очка, если мяч был выпущен из 3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Засчитывание мяча и последующая процедура таковы, как в случае попадания мяча в корз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одновременно Игроками обеих команд, никакие очки не засчитываются. Игра возобновляется спорным брос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Штрафные брос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6421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- это возможность, предоставляемая Игроку, набрать одно (1) очко броском в корзину без помех с позиции за линией штрафного броска и внутри полук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ерия штрафных бросков - это все штрафные броски в результате наказания за один ф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и все действия, связанные с ним, заканчиваются, когда мяч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ходит непосредственно в корзину сверху, остается в ней или проходит сквозь не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Не имеет больше возможности попасть в корзину непосредственно или после касани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авильно был сыгран Игроком после того, как коснулс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асается п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88627762_b2_1266608318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1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нахождение игроков при штрафном броске"/>
          <p:cNvPicPr/>
          <p:nvPr/>
        </p:nvPicPr>
        <p:blipFill>
          <a:blip r:embed="rId2"/>
          <a:stretch/>
        </p:blipFill>
        <p:spPr>
          <a:xfrm>
            <a:off x="4859280" y="1052640"/>
            <a:ext cx="3333960" cy="2076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4420800" y="32846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ждение игроков при штрафном бро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50-1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Развитие баскетбольных навыков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Стоя на месте. Ведение вокруг корпу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2. Стоя на месте. Ведение вокруг и между н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3. Стоя на месте. Разновысокое ведение. Несколько ударов с высотой отскока 60-80 см и сразу же переход на низкое ведение с высотой отскока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4. Стоя на месте. Очень частое низкое ведение попеременно левой и правой ру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5. Стоя на месте. Ведение дву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6. Стоя на месте. Ведение трех-четыре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7. Сидя на скамейке. Очень низкое ведение, высота отскока не более 5-7 см от п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8. Сидя на скамейке. Ведение мяча под вытянутыми вперед ногами в быстром тем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9. Бег на нос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0. Бег на пят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1. Бег на краях стопы (поочередно внешнем и внутреннем)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2. Бег в полуприседе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3. Передвижение в глубоком приседе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4. Спортивная ходьба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5. Гладкий бег с поворотами и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6. Гладкий бег с переводами мяча с руки на руку перед собой, за спиной и между но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7. Бег приставными шагами: мяч проходит между ногами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8. Бег окрестным шагом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9. Бег спиной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. Передвижение спиной вперед в глубоком приседе с поворотами на 90* с ведением мяча. Таким образом тренируется пивотный ш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1. Бег с выбрасыванием прямых ног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2. Бег взахлест наза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3. Бег с высоким подниманием бедра. Мяч переводится с руки на руку ударом под ногой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4. Передвижение попеременными прыжками с ноги на ногу с ведением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енировка брос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0" y="691920"/>
            <a:ext cx="43927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роски из-под щита. Игроки выстраиваются в две колонны. В каждой колонне по два - три мяча. После ведения головной игрок забрасывает мяч и передает его в свою колонну. Затем переходит в хвост другой колонн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 Броски из-под кольца с препятствием. Игрок отдает мяч тренеру, разбегается к кольцу, получает ответную передачу, делает два шага, перепрыгивая через стул, и бросает по кольцу. Задача: при броске выпрыгнуть максимально вверх, не задеть стул и быть готовым к борьбе на щите. Упражнение воспитывает у игроков стремление завершать бросок из-под кольца в высшей точке прыжка, оставаться в игре после броска и участвовать в борьбе за отскок на чужом щите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 То же, что и упр. 2, но тренер передает игроку мяч для завершения атаки в одном прыж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review"/>
          <p:cNvPicPr/>
          <p:nvPr/>
        </p:nvPicPr>
        <p:blipFill>
          <a:blip r:embed="rId1"/>
          <a:stretch/>
        </p:blipFill>
        <p:spPr>
          <a:xfrm>
            <a:off x="324000" y="260280"/>
            <a:ext cx="410508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653200" y="26028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Техника выполнения бр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asketball"/>
          <p:cNvPicPr/>
          <p:nvPr/>
        </p:nvPicPr>
        <p:blipFill>
          <a:blip r:embed="rId1"/>
          <a:stretch/>
        </p:blipFill>
        <p:spPr>
          <a:xfrm>
            <a:off x="0" y="260280"/>
            <a:ext cx="547704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роски со средней дистанции без сопротивления. Игрок ведет мяч от центра поля к линии штрафного броска, выполняет бросок в прыжке, идет на подбор, в случае промаха добивает мяч в кольцо, вновь подбирает его и с ведением возвращается к линии штрафного броска. Повторить 10-15 раз подряд в быстро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 То же, что и упр. 4, но ведение начинается от лицевой линии к линии штрафного броска и бросок выполняется с поворотом на 180*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 То же, что и упр. 4, но бросок выполняется с расстояния 5-6-8 м, с раз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. То же, что и упр. 6, но после выполнения передачи от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Basketball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ballon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BasketballPlayers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205526878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ольцо"/>
          <p:cNvPicPr/>
          <p:nvPr/>
        </p:nvPicPr>
        <p:blipFill>
          <a:blip r:embed="rId1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and1"/>
          <p:cNvPicPr/>
          <p:nvPr/>
        </p:nvPicPr>
        <p:blipFill>
          <a:blip r:embed="rId2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ждая команда должна состоять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 более чем десяти (10) членов команды, имеющих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ренера и, по желанию команды, помощника трен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питана, который должен быть одним из членов команды, имеющего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ять (5) Игроков каждой команды должны находиться на площадке в течение игрового времени и они могут быть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asketball_game"/>
          <p:cNvPicPr/>
          <p:nvPr/>
        </p:nvPicPr>
        <p:blipFill>
          <a:blip r:embed="rId1"/>
          <a:stretch/>
        </p:blipFill>
        <p:spPr>
          <a:xfrm>
            <a:off x="0" y="260280"/>
            <a:ext cx="4316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Игровое время, ничейный счет и дополнительные периоды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а состоит из четырех (4) периодов по десять (10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ервым и вторым, третьим и четвертым периодами игры и перед каждым дополнительным периодом составляет две (2)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оловинами игры - пятнадцать (15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ак играют мячо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24360" y="764640"/>
            <a:ext cx="4402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баскетболе мячом играют только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ежать с мячом, преднамеренно бить по нему ногой, блокировать любой частью ноги или бить по нему кулаком является наруш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Случайное соприкосновение или касание мяча стопой или ногой не является нару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asketballPlayers"/>
          <p:cNvPicPr/>
          <p:nvPr/>
        </p:nvPicPr>
        <p:blipFill>
          <a:blip r:embed="rId1"/>
          <a:stretch/>
        </p:blipFill>
        <p:spPr>
          <a:xfrm>
            <a:off x="5940360" y="4508640"/>
            <a:ext cx="29512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Катя</cp:lastModifiedBy>
  <dcterms:modified xsi:type="dcterms:W3CDTF">2012-10-13T16:16:02Z</dcterms:modified>
  <cp:revision>7</cp:revision>
  <dc:subject/>
  <dc:title>Слайд 1</dc:title>
</cp:coreProperties>
</file>