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6DF-78D5-42EF-BE91-00972129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71B-C485-4B20-8BEC-31AF4E0E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D5C-F0F4-4308-BB97-55526F3A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ACA-A649-4025-A6FE-6CEEE84A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C464-980F-4680-B57E-C65280BB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F403-9B93-4B34-84B9-A212DA53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EA82-BD5D-4A2B-8BFF-A5CEB536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4C05-E236-4B78-B06A-741D0D37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809C-7083-4B0F-B08E-AA2397E9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0319-2C31-45FC-A1C1-1CE9A192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4D6B-84CD-4B51-B5D8-D0FA8231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19F-443A-473A-A864-0633A6A7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89ED-9CAF-433A-A99E-69500525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3226-DCB5-4393-873B-BF796DBF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DC3E-6D05-4944-B7A9-C051750C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2E0-8157-483E-8555-B380EB67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0CDF-AB1E-4BC2-92B8-FDD5BFF3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E61-441B-4023-B57E-D974570E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D36-6E2C-4CB4-BE1D-AFB00E39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E63-028D-4083-939E-C909122C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020-DACA-45D6-90CA-BEA957A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1C0-CF8A-478F-93BE-70239268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343-AC84-47BD-9ECF-B2022254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A75-4AB3-49B3-B641-2CB30D35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676-EC03-4B55-AC00-E865787860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23C0-FB1F-4705-9E8D-8711283F10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Информация. 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Двоичное кодирование информации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д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36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я создана по учебнику «Информатика и ИКТ» автор Н.Д.Угриновича (10-11 класс)-2002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4B3C-7D68-4112-8B97-44F0C9D8C4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меньшение неопределенности знаний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сть у нас имеется монета, которую мы бросаем на ровную поверхность. С равной вероятностью произойдет одно  из двух возможных событий — монета окажется в одном из двух положений: «орел» или «реш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но говорить,  что события равновероят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973-6FEF-4462-B040-382A22005C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еред броском существует неопределенность наших знаний (возможны два события), и, как упадет монета, предсказать невозможн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сле броска наступает полная определенность, так как мы видим (получаем зрительное сообщение), что монета в данный момент находится в определенном положении  (например,   «орел»).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Это  сообщение  приводит уменьшению неопределенности наших  знаний в два раза, так как до броска мы имели два вероятных события, а после  броска — только одно, то есть в два раза меньш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453-A36D-4E09-A6FD-FE4ADBC31A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Единицы измерения кол-ва информации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количественного выражения любой величины необходимо определить единицу измерения. Так, для измерения длины в качестве единицы выбран метр, для измерения массы - килограмм и так дал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логично, для определения количества информации необходимо ввести единицу изме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За единицу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количества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информации принимается такое количество информации, которое содержит сообщение, уменьшающее неопределенность в два раза. Такая единица названа «бит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953-8817-46FA-BF9C-A4BF57A40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ернуться к опыту с бросанием монеты, то здесь неопределенность как раз уменьшается в два раза и, следовательно, полученное количество информации равно 1 бит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инимальной единицей измерения количества информации является бит, а следующей по величине единицей является байт, приче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1 байт = 2</a:t>
            </a:r>
            <a:r>
              <a:rPr b="0" lang="ru-RU" sz="3000" spc="-1" strike="noStrike" u="sng" baseline="30000">
                <a:solidFill>
                  <a:srgbClr val="ffcc00"/>
                </a:solidFill>
                <a:uFillTx/>
                <a:latin typeface="Arial"/>
              </a:rPr>
              <a:t>3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 бит = 8 би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1 Кбайт  = 2</a:t>
            </a:r>
            <a:r>
              <a:rPr b="0" lang="ru-RU" sz="3000" spc="-1" strike="noStrike" u="sng" baseline="30000">
                <a:solidFill>
                  <a:srgbClr val="ffcc00"/>
                </a:solidFill>
                <a:uFillTx/>
                <a:latin typeface="Arial"/>
              </a:rPr>
              <a:t>10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 байт = 1024 байт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1 Мбайт = 2</a:t>
            </a:r>
            <a:r>
              <a:rPr b="0" lang="ru-RU" sz="3000" spc="-1" strike="noStrike" u="sng" baseline="30000">
                <a:solidFill>
                  <a:srgbClr val="ffcc00"/>
                </a:solidFill>
                <a:uFillTx/>
                <a:latin typeface="Arial"/>
              </a:rPr>
              <a:t>10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 Кбайт = 1024 Кбайт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1 Гбайт = 2</a:t>
            </a:r>
            <a:r>
              <a:rPr b="0" lang="ru-RU" sz="3000" spc="-1" strike="noStrike" u="sng" baseline="30000">
                <a:solidFill>
                  <a:srgbClr val="ffcc00"/>
                </a:solidFill>
                <a:uFillTx/>
                <a:latin typeface="Arial"/>
              </a:rPr>
              <a:t>10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 Мбайт = 1024 Мбайт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5050"/>
                </a:solidFill>
                <a:uFillTx/>
                <a:latin typeface="Arial"/>
              </a:rPr>
              <a:t>1 Тбайт = 2</a:t>
            </a:r>
            <a:r>
              <a:rPr b="0" lang="ru-RU" sz="3000" spc="-1" strike="noStrike" u="sng" baseline="30000">
                <a:solidFill>
                  <a:srgbClr val="ff5050"/>
                </a:solidFill>
                <a:uFillTx/>
                <a:latin typeface="Arial"/>
              </a:rPr>
              <a:t>10</a:t>
            </a:r>
            <a:r>
              <a:rPr b="0" lang="ru-RU" sz="3000" spc="-1" strike="noStrike" u="sng">
                <a:solidFill>
                  <a:srgbClr val="ff5050"/>
                </a:solidFill>
                <a:uFillTx/>
                <a:latin typeface="Arial"/>
              </a:rPr>
              <a:t> Гбайт = 1024 Гбайт</a:t>
            </a:r>
            <a:r>
              <a:rPr b="0" lang="ru-RU" sz="3000" spc="-1" strike="noStrike">
                <a:solidFill>
                  <a:srgbClr val="ff505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1 Пбайт = 2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1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Тбайт = 1024 Тбайт;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9E3-90C9-4FC0-9B31-29A7FC68FC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Количество возможных событий и количество информаци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ет формула, которая связывает между собой количество возможных событий </a:t>
            </a:r>
            <a:r>
              <a:rPr b="0" i="1" lang="ru-RU" sz="2800" spc="-1" strike="noStrike">
                <a:solidFill>
                  <a:srgbClr val="ffcc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количество информации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N=2 </a:t>
            </a:r>
            <a:r>
              <a:rPr b="0" lang="en-US" sz="2800" spc="-1" strike="noStrike" u="sng" baseline="30000">
                <a:solidFill>
                  <a:srgbClr val="ffcc00"/>
                </a:solidFill>
                <a:uFillTx/>
                <a:latin typeface="Arial"/>
              </a:rPr>
              <a:t>I</a:t>
            </a:r>
            <a:r>
              <a:rPr b="0" lang="ru-RU" sz="2800" spc="-1" strike="noStrike" baseline="30000">
                <a:solidFill>
                  <a:srgbClr val="ffcc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этой  формуле  можно  легко  определить количество возможных  событий,  если известно  количество  информации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если мы получили 4 бита информации, то количество возможных событий составляло: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1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2B9-0D19-478A-ACCA-3D2603AD40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оборот, для определения количества информации, если известно количество событий, необходимо решить уравнение относительно /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пример, в игре «Крестики-нолики» на поле 8x8 перед первым ходом существует 64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зможных события (64 различных варианта расположения «крестика»), тогда уравнение принимает вид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64 =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ак как 64 = 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 битов, то есть количество информации, полученное вторым игроком после первого хода первого игрока, составляет 6 бит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3C4-9917-464E-9FF0-C26BADAA72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Алфавитный подход к определению количества информации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хранении и передаче информации с помощью технических устройств целесообразно отвлечься от содержания информации и рассматривать ее как последовательность знаков (букв, цифр, кодов цветов точек изображения и так дале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ор символов знаковой системы (алфавит) можно рассматривать как различные возможные состояния (события). Тогда, если считать, что появление символов в сообщении равновероятно, по форму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можно рассчитать, какое количество информации несет каждый симв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в русском алфавите, если не использовать букву ё, количество событий (букв) будет равно 32. Тог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2 =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куда / = 5 би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DED-C4A5-4BE2-98BF-9818D1A560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ичество информации в сообщении можно подсчитать, умножив количество информации, которое несет один символ, на количество . символ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личество информации,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которое содержит сообщение, закодированное с помощью знаковой системы, равно количеству информации, которое несет один знак, умноженному на количество зна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0A9-C019-49B3-9F08-E65C19DD8C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Формула Шеннона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ет множество ситуаций, когда возможные события имеют различные вероятности реализации. Например, если монета несимметрична (одна сторона тяжелее другой), то при ее бросании вероятности выпадения «орла» и «решки» будут различ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у для вычисления количества информации в случае различных вероятностей событий предложил К. Шеннон в 1948 году. В этом случае количество информации определяется по форму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ru-RU" sz="25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количество информаци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— количество возможных событий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i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; — вероятность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-го события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0" y="0"/>
                <a:ext cx="1266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43280" y="4581360"/>
                <a:ext cx="3195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E3F-AC6B-44A4-9614-D2583316E7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пусть при бросании несимметричной четырехгранной пирамиды вероятности отдельных событий будут равн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1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2=1/4, p3=1/8,p4=1/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гда кол-во информации, которое мы получим после реализации одного из них, можно рассчитать по форму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= -(1/2 Lo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4 Lo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/4 + 1/8 Lo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/8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/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/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=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2+2/4+3/8+3/8=1,7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т подход к определению кол-ва информации называется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ероятност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лучая, когда все события равновероятны применима формул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=Log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                    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F0B-96DC-4DF3-B1B7-EDFC077F4E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формация. Двоичное кодирование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1746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1. Понятие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информация»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 свойств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формаци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Слово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«информация»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происходит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от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латинского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слова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informatio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, что в переводе означает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сведение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разъяснение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, ознакомление.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нятие «информация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вляется базовым в курсе информатики, невозможно дать его определение через другие, более «простые» понятия. В геометрии, например, невозможно выразить содержание базовых понятий «точка», «луч», «плоскость» через более простые понятия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9326-34AC-4A02-AAAA-973F03F08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-во информации, которое мы получим при бросании симметричной и однородной четырехгранной пирамиды будет рав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=Log</a:t>
            </a:r>
            <a:r>
              <a:rPr b="0" lang="en-US" sz="3200" spc="-1" strike="noStrike" baseline="-2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би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бросании несимметричной пирамиды мы получаем меньшее кол-во информации (1,75 бита), чем при бросании симметричной пирамиды (2 бит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Кол-во информации, которое мы получаем достигает максимального значения, если события равновероят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0DE-FD30-4D3A-B518-72E3412E9D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учении максимального количества информации строится выбор оптимальной стратегии в игре «Угадай число», в которой первый участник загадывает целое число (например, 3) из заданного интервала (например, от 1 до 16), а второй — должен в угадать» задуманное число. Если рассмотреть эту игру с информационной точки зрения, то начальная неопределенность знаний для второго участника составляет 16 возможных событий (вариантов загаданных чисе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птимальной стратегии интервал чисел всегда должен делиться пополам, тогда количество возможных событий (чисел) в каждом из полученных интервалов будет одинаково и отгадывание интервалов равновероятно. В этом случае на каждом шаге ответ первого игрока («Да» или «Нет») будет нести максимальное количество информации (1 б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915-06A7-40AD-9A47-CB798D16D2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идно из таблицы 1 угадывание числа 3 произошло за четыре шага, на каждом из которых неопределенность знаний второго участника уменьшалась в два раза за счет получения сообщения от первого участника, содержащего 1 бит информации. Таким образом, количество информации, необходимое для отгадывания одного из 16 чисел, составило 4 бит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б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3573360"/>
          <a:ext cx="8820000" cy="3014640"/>
        </p:xfrm>
        <a:graphic>
          <a:graphicData uri="http://schemas.openxmlformats.org/drawingml/2006/table">
            <a:tbl>
              <a:tblPr/>
              <a:tblGrid>
                <a:gridCol w="1655640"/>
                <a:gridCol w="1101600"/>
                <a:gridCol w="3381480"/>
                <a:gridCol w="2681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пределенность                      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ное  кол-во инф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б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б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б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б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395280" y="4581360"/>
            <a:ext cx="81374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084640"/>
            <a:ext cx="81374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5661000"/>
            <a:ext cx="81374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6165720"/>
            <a:ext cx="81374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BF3-E768-44B5-A0C1-5C8840FE40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Кодирование информации.                        Язык как знаковая система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Естественные языки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ий-33 знака, английский - 26 знаков, китайский - десятки тысяч зна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Формальные языки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стемы счисления, язык алгебры, языки программ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едставление информации может осуществляться с помощью языков, которые являются знаковыми системами. Каждая знаковая система строится на основе определенного алфавита и правил выполнения операций над зна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Каждая цифра машинного двоичного кода несет в себе 1 бит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651-7466-40C8-BA23-9FA0864463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939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редставление информации в живых организмах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йрон находится в 2-х состояниях (0,1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олекула ДНК хранит всю информацию о человек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Кодирование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— это операция преобразования знаков или групп знаков одной знаковой системы в знаки или группы знаков другой знаковой систем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2D0-1880-4FA9-BAB0-4AF7626FAF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04920" y="404640"/>
            <a:ext cx="8839080" cy="577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1A2-E1BA-425B-86E4-097B163D44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редставление числовой информации с помощью систем счисления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истема счисления – знаковая система, в которой числа записываются по определенным правилам с помощью символов некоторого алфавита, называемого цифр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Системы счисления бывают 2-х видов -позиционные и непозиционные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В позиционных системах счисления количественное значение цифры зависит от ее позиции в числ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десятичная), а непозиционных – не зависит (римская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57E-EEE1-4431-BE1C-6BA827BB47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Каждая позиционная система имеет определенный алфавит цифр и основа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В позиционных системах счисления основание системы равно кол-ву цифр (знаков в алфавите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и определяет во сколько раз различаются значения одинаковых цифр, стоящих в соседних позициях числа (таб2).                                                   Таб.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3141720"/>
          <a:ext cx="8569080" cy="3608280"/>
        </p:xfrm>
        <a:graphic>
          <a:graphicData uri="http://schemas.openxmlformats.org/drawingml/2006/table">
            <a:tbl>
              <a:tblPr/>
              <a:tblGrid>
                <a:gridCol w="3600360"/>
                <a:gridCol w="2089080"/>
                <a:gridCol w="287964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фав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сяти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234567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и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2345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23456789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CDE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8A2-C973-4D69-AB91-EA80B366B4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Десятичная система счис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иция цифры в числе называется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азрядом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первый разряд, 2-второй, 1-тре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исло 123 записано в свернутой фор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умножаем в уме цифры числа на различные степени числа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азвернутой форме умножение записывается в явной фор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*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*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3*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5A6-CF9B-4A6F-AD30-0C4142A0AF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записи десятичных дробей используются отрицательные значения степеней основ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12,35</a:t>
            </a:r>
            <a:r>
              <a:rPr b="0" lang="ru-RU" sz="3000" spc="-1" strike="noStrike" baseline="-10000">
                <a:solidFill>
                  <a:srgbClr val="ffcc00"/>
                </a:solidFill>
                <a:latin typeface="Arial"/>
              </a:rPr>
              <a:t>1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= 1*10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+2*10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+3*10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-1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+5*10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В десятичной системе счисления запись числа А</a:t>
            </a:r>
            <a:r>
              <a:rPr b="0" lang="ru-RU" sz="3000" spc="-1" strike="noStrike" baseline="-18000">
                <a:solidFill>
                  <a:srgbClr val="ffcc00"/>
                </a:solidFill>
                <a:latin typeface="Arial"/>
              </a:rPr>
              <a:t>10</a:t>
            </a:r>
            <a:r>
              <a:rPr b="0" lang="ru-RU" sz="3000" spc="-1" strike="noStrike" baseline="-18000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торое содержит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целых разрядов числа и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робных разрядов числа выглядит так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ru-RU" sz="3000" spc="-1" strike="noStrike" baseline="-18000">
                <a:solidFill>
                  <a:srgbClr val="ffcc00"/>
                </a:solidFill>
                <a:latin typeface="Arial"/>
              </a:rPr>
              <a:t>1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000" spc="-1" strike="noStrike" baseline="-18000">
                <a:solidFill>
                  <a:srgbClr val="ffcc00"/>
                </a:solidFill>
                <a:latin typeface="Arial"/>
              </a:rPr>
              <a:t>n-1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*10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+…+ a</a:t>
            </a:r>
            <a:r>
              <a:rPr b="0" lang="en-US" sz="3000" spc="-1" strike="noStrike" baseline="-18000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*10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+…+ a</a:t>
            </a:r>
            <a:r>
              <a:rPr b="0" lang="en-US" sz="3000" spc="-1" strike="noStrike" baseline="-18000">
                <a:solidFill>
                  <a:srgbClr val="ffcc00"/>
                </a:solidFill>
                <a:latin typeface="Arial"/>
              </a:rPr>
              <a:t>-m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*10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-m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д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000" spc="-1" strike="noStrike" baseline="-18000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– цифры чис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1B7-8837-41B8-81A2-D9B916606D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Информация в физике</a:t>
            </a:r>
            <a:r>
              <a:rPr b="1" lang="en-US" sz="3000" spc="-1" strike="noStrike" u="sng">
                <a:solidFill>
                  <a:srgbClr val="b2b2b2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физике мерой беспорядка, хаоса для термодинамической системы является энтропия системы, тогда как информация (антиэнтропия) является мерой упорядоченности и сложности системы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 мере увеличения сложности системы величина энтропии уменьшается, и величина информации увеличивается. Процесс увеличения информации характерен для открытых, обменивающихся веществом и энергией с окружающей средой, саморазвивающихся систем живой природы (белковых молекул, организмов, популяций животных и так далее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Таким образом, </a:t>
            </a:r>
            <a:r>
              <a:rPr b="0" lang="ru-RU" sz="2900" spc="-1" strike="noStrike" u="sng">
                <a:solidFill>
                  <a:srgbClr val="ffcc00"/>
                </a:solidFill>
                <a:uFillTx/>
                <a:latin typeface="Arial"/>
              </a:rPr>
              <a:t>в физике информация есть  антиэнтропия или энтропия с обратным знаком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986-B82E-4F68-9B23-17E4D186BA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Двоичная система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воичной системе счисления основание 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фавит состоит из 2-х цифр – 0 и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2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n-1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…+ a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…+ a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-m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-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0" lang="en-US" sz="3400" spc="-1" strike="noStrike" baseline="-18000">
                <a:solidFill>
                  <a:srgbClr val="ffcc00"/>
                </a:solidFill>
                <a:latin typeface="Arial"/>
              </a:rPr>
              <a:t>2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101,01= 1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0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1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0 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0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-1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+1</a:t>
            </a: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3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4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00"/>
                </a:solidFill>
                <a:latin typeface="Arial"/>
              </a:rPr>
              <a:t>Аналогично для 8-ой и 16-ой систем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E12-4B5B-491F-B0C1-46152110E8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Непозиционные системы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ая распространенная непозиционная система  счисления является римская (таб.3).            Таб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1989000"/>
          <a:ext cx="7129440" cy="4140360"/>
        </p:xfrm>
        <a:graphic>
          <a:graphicData uri="http://schemas.openxmlformats.org/drawingml/2006/table">
            <a:tbl>
              <a:tblPr/>
              <a:tblGrid>
                <a:gridCol w="3672000"/>
                <a:gridCol w="345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сятичная систе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мск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211640" y="2565360"/>
            <a:ext cx="3168720" cy="35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3141720"/>
            <a:ext cx="3168720" cy="358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3645000"/>
            <a:ext cx="3168720" cy="358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4149720"/>
            <a:ext cx="3168720" cy="35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4653000"/>
            <a:ext cx="3168720" cy="358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5157720"/>
            <a:ext cx="3168720" cy="35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5661000"/>
            <a:ext cx="3168720" cy="358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207-010E-4318-A137-B46A10C622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меньшая цифра стоит слева от большей, то она вычитается, если справа,  прибавля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CLXVI=D(500)+C(100)+L(50)+X(10)+VI(5+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1628640"/>
            <a:ext cx="122400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1557360"/>
            <a:ext cx="1224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1557360"/>
            <a:ext cx="93636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628640"/>
            <a:ext cx="100800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1628640"/>
            <a:ext cx="12952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47A-A101-4316-97B3-7507D69DA3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чисел в позиционных системах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Перевод из двоичной в десятичну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cc00"/>
                </a:solidFill>
                <a:uFillTx/>
                <a:latin typeface="Arial"/>
              </a:rPr>
              <a:t>Для перевода из 2-ой, 8-ой, 16-ой системы счисления в 10-ую необходимо записать число в развернутой форме и вычислить его знач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101,01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=1*4+0*2+1*1+0*1/2+1*1/4=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5,25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Перевод из восьмеричной в десятичну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6,5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6*8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*8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6*1+5*0,125=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6,625</a:t>
            </a:r>
            <a:r>
              <a:rPr b="0" lang="ru-RU" sz="3000" spc="-1" strike="noStrike" baseline="-25000">
                <a:solidFill>
                  <a:srgbClr val="ffcc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Перевод из шестнадцатеричной в десятичну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5С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5*16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*16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5*16+12*1=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92</a:t>
            </a:r>
            <a:r>
              <a:rPr b="0" lang="ru-RU" sz="3000" spc="-1" strike="noStrike" baseline="-14000">
                <a:solidFill>
                  <a:srgbClr val="ffcc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333-96F7-4C8E-A347-0D0C51D363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чисел из десятичной системы в двоичную, восьмеричную и шестнадцатеричную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6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6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en-US" sz="2600" spc="-1" strike="noStrike" baseline="-14000">
                <a:solidFill>
                  <a:srgbClr val="ffff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      2   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2   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Для перевода необходимо число разделить на основание той системы в которую осуществляется перевод, записать полученные остатки в обратной последовательности.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060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9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3357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08000" y="2637000"/>
            <a:ext cx="936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826560" y="3068280"/>
            <a:ext cx="792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2060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92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25D-C2D6-4682-9803-5CDC39A4DB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дробей в двоичную систему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Для перевода необходимо умножать дробь до тех пор пока не получится нулевая дробная часть или не будет достигнута требуемая точность. Записать полученные целые части в прямой последователь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0,75</a:t>
            </a:r>
            <a:r>
              <a:rPr b="0" lang="en-US" sz="3000" spc="-1" strike="noStrike" baseline="-14000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=0,11</a:t>
            </a:r>
            <a:r>
              <a:rPr b="0" lang="en-US" sz="3000" spc="-1" strike="noStrike" baseline="-14000">
                <a:solidFill>
                  <a:srgbClr val="ffcc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,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,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4437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558972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500280"/>
            <a:ext cx="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929-55CB-44E7-9617-F2947630D6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Перевод чисел, содержащих и целую и дробную части осуществляется в 2 этапа. Отдельно переводится  целая часть и отдельно –дробная. В итоговой записи целая и дробная часть объединяются (отделяются запятой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101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,75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0,11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,75</a:t>
            </a:r>
            <a:r>
              <a:rPr b="0" lang="en-US" sz="3000" spc="-1" strike="noStrike" baseline="-14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 101,11</a:t>
            </a:r>
            <a:r>
              <a:rPr b="0" lang="en-US" sz="30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75C-2064-4069-AFF0-1E005BFFBB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чисел из 2-ой системы счисления в        8-ую, 16-ую и обратно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Для перевода целого 2-го числа в 8-ое его нужно разбить на группы по 3 цифры, </a:t>
            </a:r>
            <a:r>
              <a:rPr b="0" lang="ru-RU" sz="3000" spc="-1" strike="noStrike">
                <a:solidFill>
                  <a:srgbClr val="ff5050"/>
                </a:solidFill>
                <a:latin typeface="Arial"/>
              </a:rPr>
              <a:t>справа налево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, а затем преобразовать каждую группу в 8-ую цифр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 левой группе менее 3 цифр, то необходимо дополнить ее </a:t>
            </a:r>
            <a:r>
              <a:rPr b="0" lang="ru-RU" sz="3000" spc="-1" strike="noStrike">
                <a:solidFill>
                  <a:srgbClr val="ff5050"/>
                </a:solidFill>
                <a:latin typeface="Arial"/>
              </a:rPr>
              <a:t>слев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нуля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001</a:t>
            </a:r>
            <a:r>
              <a:rPr b="0" lang="ru-RU" sz="30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3000" spc="-1" strike="noStrike">
                <a:solidFill>
                  <a:srgbClr val="ff505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_00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011= 0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0+2+1=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001= 0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0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0+0+1=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001</a:t>
            </a:r>
            <a:r>
              <a:rPr b="0" lang="ru-RU" sz="30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31</a:t>
            </a:r>
            <a:r>
              <a:rPr b="0" lang="ru-RU" sz="3000" spc="-1" strike="noStrike" baseline="-14000">
                <a:solidFill>
                  <a:srgbClr val="ffffff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D7C-767B-40FF-BBAE-20AC19BCBB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ля упрощения перевода используются таблицы преобразования двоичных триад (групп по 3 цифры) в восьмеричные цифры (таб.4).                                                           Таб.4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Для перевода дробного 2-го числа в 8-ое необходимо разбить его на триады </a:t>
            </a:r>
            <a:r>
              <a:rPr b="0" lang="en-US" sz="3000" spc="-1" strike="noStrike">
                <a:solidFill>
                  <a:srgbClr val="ff5050"/>
                </a:solidFill>
                <a:latin typeface="Arial"/>
              </a:rPr>
              <a:t>слева направо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. Если в правой группе окажется менее 3 цифр, дополнить ее </a:t>
            </a:r>
            <a:r>
              <a:rPr b="0" lang="en-US" sz="3000" spc="-1" strike="noStrike">
                <a:solidFill>
                  <a:srgbClr val="ff5050"/>
                </a:solidFill>
                <a:latin typeface="Arial"/>
              </a:rPr>
              <a:t>справа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нулям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,1011</a:t>
            </a:r>
            <a:r>
              <a:rPr b="0" lang="en-US" sz="30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=101_100=5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916280"/>
          <a:ext cx="9144000" cy="1888920"/>
        </p:xfrm>
        <a:graphic>
          <a:graphicData uri="http://schemas.openxmlformats.org/drawingml/2006/table">
            <a:tbl>
              <a:tblPr/>
              <a:tblGrid>
                <a:gridCol w="1547640"/>
                <a:gridCol w="863640"/>
                <a:gridCol w="936720"/>
                <a:gridCol w="863640"/>
                <a:gridCol w="1008000"/>
                <a:gridCol w="1008000"/>
                <a:gridCol w="1008360"/>
                <a:gridCol w="1008000"/>
                <a:gridCol w="90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ые триа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ые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ф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039-0DD8-4670-A8EE-922516BA42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из 2-ой в 16-ую систему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ля перевода целого числа необходимо разбить его на группы по 4-е цифры (тетрады), начиная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права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. Если в левой группе окажется менее 4 цифр, то дополнить ее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лева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ну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ля перевода дробного двоичного числа, необходимо разбить его на тетрады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лева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направо. Если в правой группе окажется менее 4 цифр, дополнить ее 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справа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ну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11011</a:t>
            </a:r>
            <a:r>
              <a:rPr b="0" lang="ru-RU" sz="28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1_1011=3В</a:t>
            </a:r>
            <a:r>
              <a:rPr b="0" lang="ru-RU" sz="2800" spc="-1" strike="noStrike" baseline="-12000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011=0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0+0+2+1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11= 1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+1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8+0+2+1=11(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11011</a:t>
            </a:r>
            <a:r>
              <a:rPr b="0" lang="ru-RU" sz="28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В</a:t>
            </a:r>
            <a:r>
              <a:rPr b="0" lang="ru-RU" sz="2800" spc="-1" strike="noStrike" baseline="-12000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47D-A15F-489B-B727-D3B385E380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формация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в биологии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 биологии, которая изучает живую природу, понятие «информация» связывается с целесообразным поведением живых организмов. Такое поведение строится на основе получения и использования организмом информации об окружающей сред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нятие «информация» используется также в связи с исследованиями механизмов наследственности. Генетическая информация передается по наследству и хранится во всех клетках живых организмов. Гены представляют собой сложные молекулярные структуры, содержащие информацию о строении живых организмов. Последнее обстоятельство позволило проводить научные эксперименты по клонированию, то есть созданию точных копий организмов из одной клетк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BBE-1CB9-47D9-B5C2-EDA09AEBC1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прощения перевода используются таблицы преобразования двоичных тетрад (групп по 4 цифры) в шестнадцатеричные цифры таб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413000"/>
          <a:ext cx="9144000" cy="517500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456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е тетра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-е циф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е тетра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-е циф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68B-B87F-419C-957A-407B223DE64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еревод из 8-ой и 16-ой в 2-ую систему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604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перевода из 8-ой в 2-ую систему необходимо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преобразовать каждую цифру в группу из трех двоичных цифр (триаду), а при преобразовании 16-го числа – в группу из четырех цифр (тетраду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47</a:t>
            </a:r>
            <a:r>
              <a:rPr b="0" lang="ru-RU" sz="3200" spc="-1" strike="noStrike" baseline="-12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0,10111</a:t>
            </a:r>
            <a:r>
              <a:rPr b="0" lang="ru-RU" sz="32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</a:t>
            </a:r>
            <a:r>
              <a:rPr b="0" lang="ru-RU" sz="3200" spc="-1" strike="noStrike" baseline="-12000">
                <a:solidFill>
                  <a:srgbClr val="ffffff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0101011</a:t>
            </a:r>
            <a:r>
              <a:rPr b="0" lang="ru-RU" sz="3200" spc="-1" strike="noStrike" baseline="-12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12A-925F-4DFA-9268-55F7AF9275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Арифметические операции в позиционных системах счисления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Сложение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Вычита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+0=0,                                0-0=0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+1=1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0-1=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+0=1,                               1-0=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+1=10.                             1-1=0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1                                 101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1                                  -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10                                   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5013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494172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E01-F6B4-4361-83E3-199FC94AFA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Умножение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Делени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*0=0                        Деление и умножение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*1=0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аналогично 10-й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0*0=0,                       систем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*1=1.                        110 11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1                         11     10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*11                             0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1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10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8936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4941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2276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92720" y="2781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35772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390-14DD-4B5D-8415-6290929FBA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редставление чисел в ПК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хранение целых неотрицательных чисел отводится одна ячейка памяти (8битов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сло 10100100</a:t>
            </a:r>
            <a:r>
              <a:rPr b="0" lang="ru-RU" sz="3000" spc="-1" strike="noStrike" baseline="-14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целого неотрицательного числа достигается в случае, когда во всех ячейках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ядного представления оно будет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                             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000" spc="-1" strike="noStrike" baseline="26000">
                <a:solidFill>
                  <a:srgbClr val="ffcc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  (4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м диапазон чисел, которые могут хранится в оперативной памяти (целые неотриц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=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 1*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1*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1= 255.     (0-25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24360" y="1773360"/>
          <a:ext cx="4038480" cy="51732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73B-141B-46AB-9F98-688B7A93600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Для хранения целых чисел со знаком отводится 2 ячейки (16 битов). Левый разряд отводится под знак. (+0,-1). Число -2006=-111110101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едставление положительных чисел в формате «знак-величина» называется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прямым кодом чис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положительное число (с учетом выделения одного разряда на знак) для целых чисел со знаком 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ядном представлении равно: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А=2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(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представления отрицательных чисел используется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дополнительный код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1484280"/>
          <a:ext cx="9144000" cy="51732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0AA-7AFB-4E6B-9816-D608BEBF5D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полнительный код позволяет избежать вычитания, заменив его сложением. Что увеличивает быстродействие процессор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полнительный код отрицательного числа А, хранящегося 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чейках, = 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-|A|                  (6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ямой код модул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2006= |-2006</a:t>
            </a:r>
            <a:r>
              <a:rPr b="0" lang="en-US" sz="3000" spc="-1" strike="noStrike" baseline="-1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|=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0000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111010110</a:t>
            </a:r>
            <a:r>
              <a:rPr b="0" lang="en-US" sz="30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тный код (инвертирование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11100000101001 и прибавление единиц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+000000000000000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111110000010101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дополнительный код.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030-5FFC-4C16-88F8-8F93A11E6E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модуля числа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ядном представлении =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|A|=2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7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инимальное отрицательное число равн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A=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 - 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cc00"/>
                </a:solidFill>
                <a:latin typeface="Arial"/>
              </a:rPr>
              <a:t>n-1</a:t>
            </a:r>
            <a:r>
              <a:rPr b="0" lang="ru-RU" sz="3000" spc="-1" strike="noStrike" baseline="30000">
                <a:solidFill>
                  <a:srgbClr val="ffcc00"/>
                </a:solidFill>
                <a:latin typeface="Arial"/>
              </a:rPr>
              <a:t>       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8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апазон чисел, которые могут храниться в оперативной памяти в формате длинных целых чисел со знако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32 бита)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чейки памя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5).   А=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А=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3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4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48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647</a:t>
            </a:r>
            <a:r>
              <a:rPr b="0" lang="ru-RU" sz="3000" spc="-1" strike="noStrike" baseline="-10000">
                <a:solidFill>
                  <a:srgbClr val="ffffff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инимальное отрицательное целое число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8)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-2</a:t>
            </a:r>
            <a:r>
              <a:rPr b="0" lang="ru-RU" sz="3000" spc="-1" strike="noStrike" baseline="22000">
                <a:solidFill>
                  <a:srgbClr val="ffffff"/>
                </a:solidFill>
                <a:latin typeface="Arial"/>
              </a:rPr>
              <a:t>31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47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48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648</a:t>
            </a:r>
            <a:r>
              <a:rPr b="0" lang="ru-RU" sz="3000" spc="-1" strike="noStrike" baseline="-10000">
                <a:solidFill>
                  <a:srgbClr val="ffffff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люсы чисел с фиксированной запятой: простота представления чисел и операций над ни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17B-EE8A-4C74-9098-92A06D34119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Представление чисел в формате с плавающей запятой.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сло А может быть представлено в вид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А=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mq</a:t>
            </a:r>
            <a:r>
              <a:rPr b="0" lang="en-US" sz="3000" spc="-1" strike="noStrike" baseline="26000">
                <a:solidFill>
                  <a:srgbClr val="ffcc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000" spc="-1" strike="noStrike" baseline="26000">
                <a:solidFill>
                  <a:srgbClr val="ffcc00"/>
                </a:solidFill>
                <a:latin typeface="Arial"/>
              </a:rPr>
              <a:t>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9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нтисса числ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нование системы счисл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рядок числ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ля единообразия представления чисел с плав. Запятой используется нормализованная форма, при которой </a:t>
            </a: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мантисса отвечает условию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n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|m|&lt;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Мантисса должна быть правильной дробью и иметь после запятой цифру, отличную от нул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2A1-4707-4E1E-9350-C1D4FB06B7B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Запишем число 13,13 в экспоненциальной форме с нормализованной мантиссой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0,1313*10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мантисса=0,1313, порядок=2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Arial"/>
              </a:rPr>
              <a:t>Число в формате с плав.запятой занимает в памяти ПК 4 (обычной точности) или 8 байтов (двойной точност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00"/>
                </a:solidFill>
                <a:latin typeface="Arial"/>
              </a:rPr>
              <a:t>Определим максимальное число и его точность для формата чисел с обычной точностью, если для хранения порядка и его знака отводится 8 разрядов, а для хранения мантиссы и ее знака 24 разря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920" y="2997360"/>
          <a:ext cx="9109080" cy="1807920"/>
        </p:xfrm>
        <a:graphic>
          <a:graphicData uri="http://schemas.openxmlformats.org/drawingml/2006/table">
            <a:tbl>
              <a:tblPr/>
              <a:tblGrid>
                <a:gridCol w="225360"/>
                <a:gridCol w="262080"/>
                <a:gridCol w="261720"/>
                <a:gridCol w="262080"/>
                <a:gridCol w="260280"/>
                <a:gridCol w="260280"/>
                <a:gridCol w="260640"/>
                <a:gridCol w="263520"/>
                <a:gridCol w="260280"/>
                <a:gridCol w="261720"/>
                <a:gridCol w="260640"/>
                <a:gridCol w="260280"/>
                <a:gridCol w="263520"/>
                <a:gridCol w="260280"/>
                <a:gridCol w="262080"/>
                <a:gridCol w="260280"/>
                <a:gridCol w="260280"/>
                <a:gridCol w="263520"/>
                <a:gridCol w="260280"/>
                <a:gridCol w="260280"/>
                <a:gridCol w="262080"/>
                <a:gridCol w="260280"/>
                <a:gridCol w="263520"/>
                <a:gridCol w="260280"/>
                <a:gridCol w="260640"/>
                <a:gridCol w="261720"/>
                <a:gridCol w="260280"/>
                <a:gridCol w="263520"/>
                <a:gridCol w="260640"/>
                <a:gridCol w="260280"/>
                <a:gridCol w="260280"/>
                <a:gridCol w="262080"/>
                <a:gridCol w="261720"/>
                <a:gridCol w="262080"/>
                <a:gridCol w="260280"/>
              </a:tblGrid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 и поряд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к и мантис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8B3-6AA7-4F91-9BB4-DF7C20A6310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формация в кибернетике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</a:rPr>
              <a:t>В кибернетике (науке об управлении) понятие «информация» связано с процессами управления в сложных системах (живых организмах или технических устройствах)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Жизнедеятельность любого организма или нормальное функционирование технического устройства зависит от процессов управления, благодаря которым поддерживаются в необходимых пределах значения их параметров. Процессы управления включают в себя получение, хранение, преобразование и передачу информаци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128-7702-430B-9C82-68D3E8691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порядка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111111</a:t>
            </a:r>
            <a:r>
              <a:rPr b="0" lang="ru-RU" sz="3000" spc="-1" strike="noStrike" baseline="-16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127</a:t>
            </a:r>
            <a:r>
              <a:rPr b="0" lang="ru-RU" sz="3000" spc="-1" strike="noStrike" baseline="-16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числа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12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=1,7014118346*10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3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значение положительной мантиссы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1=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ксимальное число обычной точности 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,701411*10</a:t>
            </a:r>
            <a:r>
              <a:rPr b="0" lang="ru-RU" sz="3000" spc="-1" strike="noStrike" baseline="30000">
                <a:solidFill>
                  <a:srgbClr val="ffffff"/>
                </a:solidFill>
                <a:latin typeface="Arial"/>
              </a:rPr>
              <a:t>3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кол-во значащих цифр ограничено 7 разрядами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дирование (Смольникова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D25-8018-4F66-8BF3-08B990A3432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ЗАДАНИЕ</a:t>
            </a:r>
            <a:r>
              <a:rPr b="0" lang="en-US" sz="4400" spc="-1" strike="noStrike" u="sng">
                <a:solidFill>
                  <a:srgbClr val="b2b2b2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. с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.: 2.3аб, 2.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. с.82-94. стр92-вопрос 1,2,3. Зад.:2.6-2.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. с.103-121.Зад.: 2.19, 2.2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резентация создана по учебнику «Информатика и ИКТ» автор Н.Д.Угриновича (10-11 класс)-2002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519-8182-400D-BE57-EFEDCE2385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войств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Информация должна быть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понят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полез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актуаль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достовер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полно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точной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0A2-DDA4-400F-8151-896219B686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оличество информации как мера Уменьшения неопределенности знаний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формация и знания. Человек получает информацию из окружающего мира с помощью органов чувств, анализирует ее и выявляет существенные закономерности с помощью мышления,   хранит полученную информацию в памяти.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цесс      систематического      научного      познания окружающего мира приводит к накоплению информации в форме знаний (фактов, научных теорий и так далее). Таким образом, с точки зрения процесса познания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информация может рассматриваться как </a:t>
            </a: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знания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87C-00CF-4E88-85B7-B18F1A49B3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познания можно наглядно изобразить в виде расширяющегося круга знания.  Вне этого круга лежит область незнания, а окружность является границей между знанием и незнанием. Парадокс состоит в том, что чем бОльшим объемом знании обладает человек (чем шире круг знаний), тем больше он ощущает недостаток знаний (тем больше граница нашего незнания,   мерой   которого   в   этой   модели   является   длина окружности) — рис.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.1 НЕЗН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объем знаний выпускника школы гораздо больше, чем объем знаний первоклассника, однако и граница его незнания существенно больше. (Законы физи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3573360"/>
            <a:ext cx="1224000" cy="1081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B64-6715-4B28-9CD8-DCD4E85D76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формацию, которую получает человек, можно считать мерой уменьшения неопределенности знаний. Если некоторое сообщение приводит к уменьшению неопределенности наших знаний, то можно говорить, что такое сообщение содержит информ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имер, после сдачи экзамена по информатике вы мучаетесь неопределенностью, вы не знаете какую оценку получили. Наконец, экзаменационная комиссия объявляет результаты экзамена, и вы получаете сообщение, которое приносит полную определенность, теперь вы знаете свою оценку. Происходит переход от незнания к полному знанию, значит, сообщение экзаменационной комиссии содержит информацию. Вопрос только в том, какое кол-во информации содержится в сообщ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A00-FE7E-4434-8F31-EA9FE8E1A3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05:56:56Z</dcterms:created>
  <dc:creator>ВВС</dc:creator>
  <dc:description/>
  <dc:language>en-US</dc:language>
  <cp:lastModifiedBy>nettop</cp:lastModifiedBy>
  <dcterms:modified xsi:type="dcterms:W3CDTF">2012-09-30T07:25:15Z</dcterms:modified>
  <cp:revision>28</cp:revision>
  <dc:subject/>
  <dc:title>Слайд 1</dc:title>
</cp:coreProperties>
</file>