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9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13.wmf" ContentType="image/x-wmf"/>
  <Override PartName="/ppt/media/image27.jpeg" ContentType="image/jpeg"/>
  <Override PartName="/ppt/media/image5.jpeg" ContentType="image/jpeg"/>
  <Override PartName="/ppt/media/image26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35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CEE0-7C6E-4D9D-A48A-A2A288E502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60C1-25EB-4291-8DAD-AE13BFD874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2359-A7B6-454C-9DA2-7B8CDD040B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72C4-7DE0-443C-8850-F13790E38D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4903-6401-4DFF-8812-52B5DD7C6F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F7D6-46C8-42B3-8F53-478D266EC5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4BB3-7348-437C-AA44-B89EAB5FB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EF89-4244-4C2F-A06C-8567F431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0986-EF63-40CD-BB18-64D0AEAC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8C3A-7F78-4120-B02D-D4F09493D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FAF9-C9A8-499F-A977-04CEE766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9087-4ACC-4184-A6A8-05989319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D7E7-B85C-48DE-A7EF-B4B22D20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FED5-C316-48B7-91DE-652F8D87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B91F-A82D-40D3-9D0C-DF6E92D0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29D7-30E0-4BD1-B246-31CB8582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E5E0-D1F2-4411-B6FD-5228E96F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F6C6-2205-4B00-AC74-5247B2AF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9A91-4318-423B-993F-5EFEC174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161E-25E9-471F-B6A3-B89E4082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8D8C-ECED-428A-B23F-05073A9A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56BB-E8CD-4662-AC18-0E2EFDCB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DC01-9CD3-4396-86A6-1392AD58D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85369-C929-4F2D-840B-7A74A7BDC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B50AE-C8CD-423D-A8E1-4275B0D7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E3DC5-C0DC-49B3-BC3C-4EC89E5B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C87FB-DD97-492B-B086-3AAAE444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E6705-14BF-46A9-9661-29DA378B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EE01-E7FF-473F-B7D0-0C0233A3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5AB01-A1F0-4D5E-8A95-CA5A7004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D48BC-0B7E-4BE1-AB28-5BEBFCE5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9EB0F-BFA0-422E-84F3-07D1EA9E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7B37A-2B40-4AB3-919C-C556D691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B0134-D32A-45FD-AC11-DB237D09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35C18-03BE-4801-906A-BB68918B3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FEAB9-935E-4056-A288-215CA956A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83754-3321-40B8-9AB5-F48B3ACA6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5114E-69BB-43F0-8969-190F11E1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C42DC-14EA-4DF8-B418-30109174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6C68-694A-4720-8D89-63C1AF3C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46506-8587-442B-8F50-96EB37DE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D6495-FECC-4FA9-8002-B0A9A9BD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DAC83-1D95-4AB4-9AF8-62BF85EE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112BF-C7B1-4887-B051-F27F6FA6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BD9BE-6F93-40E7-B2F7-623D97C5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5E508-6A39-4B6C-835F-4A5CF319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AA21B-5CCA-4209-906A-1F7A2CF1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3E446-5071-4D44-BD72-73295548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83EA8-CC42-40D8-A9BB-1CA141C0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57941-CAAE-4169-AB3B-3204D6C63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6B06-2246-45BD-A814-344E368C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D3C9C-AC94-4A8B-B84D-CBB888F2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830E5-3844-4EDB-A0F9-7B234929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8FCA3-B190-4FCB-B021-162FA51C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8F101-6411-4332-B2D5-1E832685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CCB25-8E86-4FC9-A061-4A85AF42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AABB8-29AC-40FB-839A-B25CCC74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74030-9E7B-4FF0-8AEA-6AD439A4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AC2DE-2A94-4B78-919B-E316B621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F10E2-7181-4732-85D3-A7AD59DB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0F20D-B4B6-4333-8A83-07EC4240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66A6-E25C-4133-92DF-1C47CBF9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CA83E-2224-49EF-AC46-A407538B3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13E2F-B757-4CC4-9927-B49022CEC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3CC09-1FD3-4C0F-A636-C01DD3DD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9D6D9-B011-45E5-B4F6-34A74623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3168C-C929-46DA-B65C-D473993E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4879D-F0FB-4338-900B-B6E8E27C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F3FA9-4246-49EB-8922-962E69C8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DAB6C-413C-4D07-9214-7B75502B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7AE5D-AB33-4373-897F-C8EA2A0E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B804A-7C0D-41DA-ABE4-4807A35A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D1C0-1E58-41D6-846E-512235B2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C6E7C-427A-4362-8ACB-8BCD0C0F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3976B-9E8D-4B8F-96AC-7F51A036E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349A9-1E41-4FF9-8179-926502038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23137-EB7D-452C-BD38-0F530EFFD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E49AF-BA52-42D4-B19D-4F8AE5AA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756B7-6DB3-4D32-B98B-88596198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CF258-6604-44EA-BDFC-5BD3E8AF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4E246-FCEE-4DEA-BAF1-6D2D8817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628DC-F479-4CF7-8560-BD1F7958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038B4-8CC7-4D92-8D6B-5F421291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6A8B-D75A-41CF-9A7E-9602BC62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D0ADF-FBD2-411F-AF29-C6EE0BD1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C62D1-C05C-4A44-82DA-0C9DA09B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C0530-87C4-4C56-9456-5D63A61E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BDEA6-027B-4228-B2B7-A0CADB046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2100E-A7AC-470C-9B48-360AF8DE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6033-1EAC-4770-A3BE-25381CE8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F3B8-96DC-4910-AF64-AA12C7DC48B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71C1-5F1F-45DF-8E6C-B2C1AF93DBA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F7CD-746B-4E27-BF60-713A5BF822B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6955-FE5C-4B86-B2B1-5BAA7FD2E8B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858B-8B6D-482C-B861-AEFE8E4B376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3A61-088F-4D72-A4CD-58C99338358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003B-E3BC-4DFA-9CBE-1400A21620F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hyperlink" Target="http://www.yandex.ru/yandpage?q=357096712&amp;p=5&amp;ag=ih&amp;rpt2=simage&amp;qs=text=%D0%D2%CF%D3%D4%CF%CB%D7%C1%DB%C1&amp;isize=&amp;ogo=5&amp;rpt=image" TargetMode="External"/><Relationship Id="rId6" Type="http://schemas.openxmlformats.org/officeDocument/2006/relationships/image" Target="../media/image27.jpeg"/><Relationship Id="rId7" Type="http://schemas.openxmlformats.org/officeDocument/2006/relationships/hyperlink" Target="http://www.yandex.ru/yandpage?q=8556328&amp;p=0&amp;ag=ih&amp;rpt2=simage&amp;qs=text=%CB%D7%C1%D3+%CE%C1%D0%C9%D4%CF%CB&amp;isize=&amp;ogo=5&amp;rpt=image" TargetMode="External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42976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rbel"/>
              </a:rPr>
              <a:t>Кислоты.               Свойства кислот.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6" name="Picture 4" descr="L01"/>
          <p:cNvPicPr/>
          <p:nvPr/>
        </p:nvPicPr>
        <p:blipFill>
          <a:blip r:embed="rId1"/>
          <a:stretch/>
        </p:blipFill>
        <p:spPr>
          <a:xfrm>
            <a:off x="3357720" y="2071800"/>
            <a:ext cx="2857320" cy="271440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3"/>
          <p:cNvSpPr/>
          <p:nvPr/>
        </p:nvSpPr>
        <p:spPr>
          <a:xfrm>
            <a:off x="2786040" y="5143680"/>
            <a:ext cx="4429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Corbel"/>
              </a:rPr>
              <a:t>Польза кисло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7" name="Picture 5" descr="k_5"/>
          <p:cNvPicPr/>
          <p:nvPr/>
        </p:nvPicPr>
        <p:blipFill>
          <a:blip r:embed="rId1"/>
          <a:stretch/>
        </p:blipFill>
        <p:spPr>
          <a:xfrm>
            <a:off x="1285920" y="1714680"/>
            <a:ext cx="2276280" cy="18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8" name=""/>
          <p:cNvGraphicFramePr/>
          <p:nvPr/>
        </p:nvGraphicFramePr>
        <p:xfrm>
          <a:off x="3589200" y="3336840"/>
          <a:ext cx="1965600" cy="182520"/>
        </p:xfrm>
        <a:graphic>
          <a:graphicData uri="http://schemas.openxmlformats.org/drawingml/2006/table">
            <a:tbl>
              <a:tblPr/>
              <a:tblGrid>
                <a:gridCol w="1965600"/>
              </a:tblGrid>
              <a:tr h="182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9" name="Picture 9" descr="k_6"/>
          <p:cNvPicPr/>
          <p:nvPr/>
        </p:nvPicPr>
        <p:blipFill>
          <a:blip r:embed="rId2"/>
          <a:stretch/>
        </p:blipFill>
        <p:spPr>
          <a:xfrm>
            <a:off x="3857760" y="3786120"/>
            <a:ext cx="2143080" cy="1717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P1040635"/>
          <p:cNvPicPr/>
          <p:nvPr/>
        </p:nvPicPr>
        <p:blipFill>
          <a:blip r:embed="rId3"/>
          <a:stretch/>
        </p:blipFill>
        <p:spPr>
          <a:xfrm>
            <a:off x="6357960" y="1785960"/>
            <a:ext cx="2357280" cy="17953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6"/>
          <p:cNvPicPr/>
          <p:nvPr/>
        </p:nvPicPr>
        <p:blipFill>
          <a:blip r:embed="rId4"/>
          <a:stretch/>
        </p:blipFill>
        <p:spPr>
          <a:xfrm>
            <a:off x="6429240" y="3786120"/>
            <a:ext cx="2357640" cy="17859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http://im-tub.yandex.ru/i?id=2105900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357800" y="1825560"/>
            <a:ext cx="1143000" cy="9716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" descr="http://im-tub.yandex.ru/i?id=954789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488960" y="3860640"/>
            <a:ext cx="914400" cy="1189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99800" y="-214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Corbel"/>
              </a:rPr>
              <a:t>Вред кисло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786240" y="857160"/>
            <a:ext cx="9215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6" name="Picture 3" descr="k_1"/>
          <p:cNvPicPr/>
          <p:nvPr/>
        </p:nvPicPr>
        <p:blipFill>
          <a:blip r:embed="rId1"/>
          <a:stretch/>
        </p:blipFill>
        <p:spPr>
          <a:xfrm>
            <a:off x="1214280" y="714240"/>
            <a:ext cx="4005360" cy="29307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k_2"/>
          <p:cNvPicPr/>
          <p:nvPr/>
        </p:nvPicPr>
        <p:blipFill>
          <a:blip r:embed="rId2"/>
          <a:stretch/>
        </p:blipFill>
        <p:spPr>
          <a:xfrm>
            <a:off x="4356000" y="3027240"/>
            <a:ext cx="3930840" cy="280836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6"/>
          <p:cNvSpPr/>
          <p:nvPr/>
        </p:nvSpPr>
        <p:spPr>
          <a:xfrm>
            <a:off x="1500120" y="5357880"/>
            <a:ext cx="6786720" cy="5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Corbel"/>
              </a:rPr>
              <a:t>Техника безопасности от строгой</a:t>
            </a:r>
            <a:r>
              <a:rPr b="1" lang="en-US" sz="43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1" lang="ru-RU" sz="4300" spc="-1" strike="noStrike">
                <a:solidFill>
                  <a:srgbClr val="ff0000"/>
                </a:solidFill>
                <a:latin typeface="Corbel"/>
              </a:rPr>
              <a:t>химички</a:t>
            </a:r>
            <a:r>
              <a:rPr b="1" lang="ru-RU" sz="4000" spc="-1" strike="noStrike">
                <a:solidFill>
                  <a:srgbClr val="ff0000"/>
                </a:solidFill>
                <a:latin typeface="Corbel"/>
              </a:rPr>
              <a:t>.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44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Ты в хим. кабинет прише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Так запомни крох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Безопасность хорошо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Быть безруким плохо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Ты над брюками держа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С кислотой пробирку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Круто, парень, ты попал –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На штанишки с дыркой!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При работе с кислотой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Не нужна тревога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С осторожностью простой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Избежишь ожога.                     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Прямоугольник 3"/>
          <p:cNvSpPr/>
          <p:nvPr/>
        </p:nvSpPr>
        <p:spPr>
          <a:xfrm>
            <a:off x="2286000" y="4857840"/>
            <a:ext cx="4572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6" descr=""/>
          <p:cNvPicPr/>
          <p:nvPr/>
        </p:nvPicPr>
        <p:blipFill>
          <a:blip r:embed="rId1"/>
          <a:stretch/>
        </p:blipFill>
        <p:spPr>
          <a:xfrm>
            <a:off x="5000760" y="4071960"/>
            <a:ext cx="3714480" cy="2786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3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3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Corbel"/>
              </a:rPr>
              <a:t>Химические свойства кисло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Индикатор лакмус красный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Кислоту укажет ясн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Когда ж нейтральная среда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Он фиолетовый всегда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Универсальный индикатор - розовы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533600" y="4199040"/>
          <a:ext cx="7253280" cy="1576440"/>
        </p:xfrm>
        <a:graphic>
          <a:graphicData uri="http://schemas.openxmlformats.org/drawingml/2006/table">
            <a:tbl>
              <a:tblPr/>
              <a:tblGrid>
                <a:gridCol w="1252440"/>
                <a:gridCol w="3000240"/>
                <a:gridCol w="3000600"/>
              </a:tblGrid>
              <a:tr h="107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ндика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д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нейтральная сред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ислот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НСl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  <a:ea typeface="Calibri"/>
                        </a:rPr>
                        <a:t> H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  <a:ea typeface="Calibri"/>
                        </a:rPr>
                        <a:t>PO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 ,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  <a:ea typeface="Calibri"/>
                        </a:rPr>
                        <a:t>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Gill Sans MT"/>
                          <a:ea typeface="Calibri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ill Sans MT"/>
                          <a:ea typeface="Calibri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  <a:ea typeface="Calibri"/>
                        </a:rPr>
                        <a:t>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Gill Sans MT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  <a:ea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Gill Sans MT"/>
                          <a:ea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  <a:ea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ill Sans MT"/>
                          <a:ea typeface="Calibri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кислая сред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акму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иолетов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рас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142920" y="0"/>
          <a:ext cx="8858160" cy="6858000"/>
        </p:xfrm>
        <a:graphic>
          <a:graphicData uri="http://schemas.openxmlformats.org/drawingml/2006/table">
            <a:tbl>
              <a:tblPr/>
              <a:tblGrid>
                <a:gridCol w="1655640"/>
                <a:gridCol w="5666040"/>
                <a:gridCol w="1536480"/>
              </a:tblGrid>
              <a:tr h="92232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ещ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                                   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кислота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изнаки 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условия реак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864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метал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            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М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  <a:ea typeface="Calibri"/>
                        </a:rPr>
                        <a:t>металл + кислота = соль + водород 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600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основн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кси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rbel"/>
                          <a:ea typeface="Calibri"/>
                        </a:rPr>
                        <a:t>               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rbel"/>
                          <a:ea typeface="Calibri"/>
                        </a:rPr>
                        <a:t>Ме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  <a:ea typeface="Calibri"/>
                        </a:rPr>
                        <a:t>основный оксид + кислота = соль + вод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60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ос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rbel"/>
                          <a:ea typeface="Calibri"/>
                        </a:rPr>
                        <a:t>Ме(ОН)</a:t>
                      </a:r>
                      <a:r>
                        <a:rPr b="1" lang="en-US" sz="2000" spc="-1" strike="noStrike" baseline="-25000">
                          <a:solidFill>
                            <a:srgbClr val="ff0000"/>
                          </a:solidFill>
                          <a:latin typeface="Gill Sans MT"/>
                          <a:ea typeface="Calibri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                         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  <a:ea typeface="Calibri"/>
                        </a:rPr>
                        <a:t>основание + кислота = соль + в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с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rbel"/>
                          <a:ea typeface="Calibri"/>
                        </a:rPr>
                        <a:t>          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rbel"/>
                          <a:ea typeface="Calibri"/>
                        </a:rPr>
                        <a:t>Ме</a:t>
                      </a:r>
                      <a:r>
                        <a:rPr b="1" lang="en-US" sz="1800" spc="-1" strike="noStrike" baseline="-25000">
                          <a:solidFill>
                            <a:srgbClr val="ff0000"/>
                          </a:solidFill>
                          <a:latin typeface="Gill Sans MT"/>
                          <a:ea typeface="Calibri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rbel"/>
                          <a:ea typeface="Calibri"/>
                        </a:rPr>
                        <a:t>(КО)</a:t>
                      </a:r>
                      <a:r>
                        <a:rPr b="1" lang="en-US" sz="1800" spc="-1" strike="noStrike" baseline="-25000">
                          <a:solidFill>
                            <a:srgbClr val="ff0000"/>
                          </a:solidFill>
                          <a:latin typeface="Gill Sans MT"/>
                          <a:ea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  <a:ea typeface="Calibri"/>
                        </a:rPr>
                        <a:t>соль + </a:t>
                      </a:r>
                      <a:r>
                        <a:rPr b="1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Corbel"/>
                          <a:ea typeface="Calibri"/>
                        </a:rPr>
                        <a:t>кислота</a:t>
                      </a:r>
                      <a:r>
                        <a:rPr b="1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  <a:ea typeface="Calibri"/>
                        </a:rPr>
                        <a:t>= новая кислота + новая с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914400" y="3142800"/>
            <a:ext cx="822960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          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кислоты реагируют с цинком                               кислоты не реагируют с медью                                                                                                                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3143160" y="3857760"/>
          <a:ext cx="379440" cy="284040"/>
        </p:xfrm>
        <a:graphic>
          <a:graphicData uri="http://schemas.openxmlformats.org/drawingml/2006/table">
            <a:tbl>
              <a:tblPr/>
              <a:tblGrid>
                <a:gridCol w="205920"/>
                <a:gridCol w="173520"/>
              </a:tblGrid>
              <a:tr h="28404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0" name="Picture 3" descr="7"/>
          <p:cNvPicPr/>
          <p:nvPr/>
        </p:nvPicPr>
        <p:blipFill>
          <a:blip r:embed="rId1"/>
          <a:stretch/>
        </p:blipFill>
        <p:spPr>
          <a:xfrm>
            <a:off x="1000080" y="785880"/>
            <a:ext cx="8143920" cy="2571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" descr="B8_32_1pr"/>
          <p:cNvPicPr/>
          <p:nvPr/>
        </p:nvPicPr>
        <p:blipFill>
          <a:blip r:embed="rId2"/>
          <a:stretch/>
        </p:blipFill>
        <p:spPr>
          <a:xfrm>
            <a:off x="3357720" y="3643200"/>
            <a:ext cx="1714320" cy="12956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B8_32_3pr"/>
          <p:cNvPicPr/>
          <p:nvPr/>
        </p:nvPicPr>
        <p:blipFill>
          <a:blip r:embed="rId3"/>
          <a:stretch/>
        </p:blipFill>
        <p:spPr>
          <a:xfrm>
            <a:off x="6786720" y="3643200"/>
            <a:ext cx="1714320" cy="1305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786120" y="428760"/>
            <a:ext cx="35719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Corbel"/>
              </a:rPr>
              <a:t>Обобщение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285920" y="1571760"/>
          <a:ext cx="7572240" cy="2286000"/>
        </p:xfrm>
        <a:graphic>
          <a:graphicData uri="http://schemas.openxmlformats.org/drawingml/2006/table">
            <a:tbl>
              <a:tblPr/>
              <a:tblGrid>
                <a:gridCol w="1041480"/>
                <a:gridCol w="1530360"/>
                <a:gridCol w="1214280"/>
                <a:gridCol w="1571760"/>
                <a:gridCol w="1276200"/>
                <a:gridCol w="938160"/>
              </a:tblGrid>
              <a:tr h="117936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ts val="7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ген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7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7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условие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7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72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и)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ндик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с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сновный окси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т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66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Кисл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1680" indent="17640">
                        <a:lnSpc>
                          <a:spcPts val="8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1680" indent="17640">
                        <a:lnSpc>
                          <a:spcPts val="8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1680" indent="17640">
                        <a:lnSpc>
                          <a:spcPts val="8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1680" indent="17640">
                        <a:lnSpc>
                          <a:spcPts val="8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акмус- крас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1680" indent="17640">
                        <a:lnSpc>
                          <a:spcPts val="8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1680" indent="17640">
                        <a:lnSpc>
                          <a:spcPts val="82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ль + в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ль + в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7640" indent="21960">
                        <a:lnSpc>
                          <a:spcPts val="78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40" indent="21960">
                        <a:lnSpc>
                          <a:spcPts val="78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40" indent="21960">
                        <a:lnSpc>
                          <a:spcPts val="78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40" indent="21960">
                        <a:lnSpc>
                          <a:spcPts val="78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ь*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ль + Н</a:t>
                      </a:r>
                      <a:r>
                        <a:rPr b="1" lang="ru-RU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5" name="Rectangle 1"/>
          <p:cNvSpPr/>
          <p:nvPr/>
        </p:nvSpPr>
        <p:spPr>
          <a:xfrm>
            <a:off x="8937720" y="0"/>
            <a:ext cx="206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83" descr="L05"/>
          <p:cNvPicPr/>
          <p:nvPr/>
        </p:nvPicPr>
        <p:blipFill>
          <a:blip r:embed="rId1"/>
          <a:stretch/>
        </p:blipFill>
        <p:spPr>
          <a:xfrm>
            <a:off x="3357720" y="4071960"/>
            <a:ext cx="2857320" cy="2625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71720" y="14292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Corbel"/>
              </a:rPr>
              <a:t>Закрепление знаний</a:t>
            </a:r>
            <a:br>
              <a:rPr sz="4300"/>
            </a:br>
            <a:r>
              <a:rPr b="1" lang="ru-RU" sz="4300" spc="-1" strike="noStrike">
                <a:solidFill>
                  <a:srgbClr val="ff0000"/>
                </a:solidFill>
                <a:latin typeface="Corbel"/>
              </a:rPr>
              <a:t>тес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1440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rbel"/>
              </a:rPr>
              <a:t>                   </a:t>
            </a:r>
            <a:r>
              <a:rPr b="0" lang="ru-RU" sz="6000" spc="-1" strike="noStrike">
                <a:solidFill>
                  <a:srgbClr val="000000"/>
                </a:solidFill>
                <a:latin typeface="Corbel"/>
              </a:rPr>
              <a:t>ответы: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вариант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вариант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1.а                       1.б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2.б                       2.а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3.в                       3.б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4.а                       4.в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5.б                       5.а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split dir="out" orient="vert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Corbel"/>
              </a:rPr>
              <a:t>Домашнее зад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§20,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38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 упр.4,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дополнительно  упр.6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стр.214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кроссворд по теме «Кислоты».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72120" y="357480"/>
            <a:ext cx="44290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Corbel"/>
              </a:rPr>
              <a:t>БЛАГОДАРЮ ЗА УРОК ! </a:t>
            </a:r>
            <a:br>
              <a:rPr sz="2500"/>
            </a:br>
            <a:r>
              <a:rPr b="1" i="1" lang="ru-RU" sz="2500" spc="-1" strike="noStrike">
                <a:solidFill>
                  <a:srgbClr val="ff0000"/>
                </a:solidFill>
                <a:latin typeface="Corbel"/>
              </a:rPr>
              <a:t> УСПЕХА!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02" name="Picture 2" descr="L01p2p11"/>
          <p:cNvPicPr/>
          <p:nvPr/>
        </p:nvPicPr>
        <p:blipFill>
          <a:blip r:embed="rId1"/>
          <a:stretch/>
        </p:blipFill>
        <p:spPr>
          <a:xfrm>
            <a:off x="1214280" y="1428840"/>
            <a:ext cx="7401240" cy="4786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142560"/>
            <a:ext cx="749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Corbel"/>
              </a:rPr>
              <a:t>Ожидаемые результаты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071360" y="856800"/>
            <a:ext cx="78627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Знать состав формул, определение кислот,  индикаторов, физические и химические свойства кисло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овершенствовать: учебные умения по составлению химических уравнений, практические навыки по проведению лабораторных опыт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пособствовать развитию умений сравнивать, обобщать, делать выводы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Развивать внимание, мышление и памя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овторить и закрепить правила ТБ при работе с веществами. Воспитывать бережливое отношение к реактивам и оборудованию, дисциплинированность, аккуратность и умение работать в группе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1"/>
          <p:cNvGrpSpPr/>
          <p:nvPr/>
        </p:nvGrpSpPr>
        <p:grpSpPr>
          <a:xfrm>
            <a:off x="395280" y="189000"/>
            <a:ext cx="8346960" cy="6278400"/>
            <a:chOff x="395280" y="189000"/>
            <a:chExt cx="8346960" cy="6278400"/>
          </a:xfrm>
        </p:grpSpPr>
        <p:pic>
          <p:nvPicPr>
            <p:cNvPr id="331" name="Picture 18" descr="Рисунок2"/>
            <p:cNvPicPr/>
            <p:nvPr/>
          </p:nvPicPr>
          <p:blipFill>
            <a:blip r:embed="rId1"/>
            <a:stretch/>
          </p:blipFill>
          <p:spPr>
            <a:xfrm>
              <a:off x="5003640" y="333360"/>
              <a:ext cx="1965600" cy="265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17" descr="Рисунок1"/>
            <p:cNvPicPr/>
            <p:nvPr/>
          </p:nvPicPr>
          <p:blipFill>
            <a:blip r:embed="rId2"/>
            <a:stretch/>
          </p:blipFill>
          <p:spPr>
            <a:xfrm>
              <a:off x="2556000" y="333360"/>
              <a:ext cx="2149200" cy="25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11" descr="щавель"/>
            <p:cNvPicPr/>
            <p:nvPr/>
          </p:nvPicPr>
          <p:blipFill>
            <a:blip r:embed="rId3"/>
            <a:stretch/>
          </p:blipFill>
          <p:spPr>
            <a:xfrm>
              <a:off x="7243920" y="260280"/>
              <a:ext cx="1498320" cy="273708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334" name="Picture 13" descr="муравей"/>
            <p:cNvPicPr/>
            <p:nvPr/>
          </p:nvPicPr>
          <p:blipFill>
            <a:blip r:embed="rId4"/>
            <a:stretch/>
          </p:blipFill>
          <p:spPr>
            <a:xfrm>
              <a:off x="3276720" y="2060640"/>
              <a:ext cx="2952720" cy="21603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335" name="Picture 14" descr="лимон"/>
            <p:cNvPicPr/>
            <p:nvPr/>
          </p:nvPicPr>
          <p:blipFill>
            <a:blip r:embed="rId5"/>
            <a:stretch/>
          </p:blipFill>
          <p:spPr>
            <a:xfrm>
              <a:off x="395280" y="4056120"/>
              <a:ext cx="3097080" cy="2376360"/>
            </a:xfrm>
            <a:prstGeom prst="rect">
              <a:avLst/>
            </a:prstGeom>
            <a:ln w="28440">
              <a:solidFill>
                <a:srgbClr val="ff0000"/>
              </a:solidFill>
              <a:miter/>
            </a:ln>
          </p:spPr>
        </p:pic>
        <p:pic>
          <p:nvPicPr>
            <p:cNvPr id="336" name="Picture 15" descr="крапива"/>
            <p:cNvPicPr/>
            <p:nvPr/>
          </p:nvPicPr>
          <p:blipFill>
            <a:blip r:embed="rId6"/>
            <a:stretch/>
          </p:blipFill>
          <p:spPr>
            <a:xfrm>
              <a:off x="468360" y="189000"/>
              <a:ext cx="1655640" cy="2755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337" name="Picture 12" descr="яблоко"/>
            <p:cNvPicPr/>
            <p:nvPr/>
          </p:nvPicPr>
          <p:blipFill>
            <a:blip r:embed="rId7"/>
            <a:stretch/>
          </p:blipFill>
          <p:spPr>
            <a:xfrm>
              <a:off x="5508720" y="4076640"/>
              <a:ext cx="3063960" cy="2390760"/>
            </a:xfrm>
            <a:prstGeom prst="rect">
              <a:avLst/>
            </a:prstGeom>
            <a:ln w="28440">
              <a:solidFill>
                <a:srgbClr val="ff0000"/>
              </a:solidFill>
              <a:miter/>
            </a:ln>
          </p:spPr>
        </p:pic>
      </p:grpSp>
      <p:sp>
        <p:nvSpPr>
          <p:cNvPr id="338" name="Text Box 22"/>
          <p:cNvSpPr/>
          <p:nvPr/>
        </p:nvSpPr>
        <p:spPr>
          <a:xfrm>
            <a:off x="1908000" y="3357720"/>
            <a:ext cx="51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Что нас объединя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Кислоты</a:t>
            </a:r>
            <a:r>
              <a:rPr b="1" lang="ru-RU" sz="3200" spc="-1" strike="noStrike">
                <a:solidFill>
                  <a:srgbClr val="feb80a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— это сложные вещества, состоящие из атомов водорода и кислотного остатк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0" name="Picture 4" descr="j0233971"/>
          <p:cNvPicPr/>
          <p:nvPr/>
        </p:nvPicPr>
        <p:blipFill>
          <a:blip r:embed="rId1"/>
          <a:stretch/>
        </p:blipFill>
        <p:spPr>
          <a:xfrm>
            <a:off x="3643200" y="3929040"/>
            <a:ext cx="2022480" cy="2357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434960" y="285480"/>
            <a:ext cx="749952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Формулы, каких веществ «лишние» и почему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CI   2)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2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3)NaOH    4)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4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5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aCI  6)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)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N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3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)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) СаО   10)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11)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  12)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    </a:t>
            </a:r>
            <a:r>
              <a:rPr b="0" lang="ru-RU" sz="4300" spc="-1" strike="noStrike">
                <a:solidFill>
                  <a:srgbClr val="000000"/>
                </a:solidFill>
                <a:latin typeface="Corbel"/>
              </a:rPr>
              <a:t>Дать название кислотам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71720" y="1285920"/>
            <a:ext cx="30715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54760" indent="-478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CI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54760" indent="-478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4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54760" indent="-478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54760" indent="-478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N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3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54760" indent="-478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54760" indent="-478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54760" indent="-478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ill Sans M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54760" indent="-478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54760" indent="-478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rbel"/>
              </a:rPr>
              <a:t>4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Прямоугольник 9" descr=""/>
          <p:cNvPicPr/>
          <p:nvPr/>
        </p:nvPicPr>
        <p:blipFill>
          <a:blip r:embed="rId1"/>
          <a:stretch/>
        </p:blipFill>
        <p:spPr>
          <a:xfrm>
            <a:off x="4711680" y="1298520"/>
            <a:ext cx="3073320" cy="689040"/>
          </a:xfrm>
          <a:prstGeom prst="rect">
            <a:avLst/>
          </a:prstGeom>
          <a:ln w="0">
            <a:noFill/>
          </a:ln>
        </p:spPr>
      </p:pic>
      <p:pic>
        <p:nvPicPr>
          <p:cNvPr id="345" name="Прямоугольник 10" descr=""/>
          <p:cNvPicPr/>
          <p:nvPr/>
        </p:nvPicPr>
        <p:blipFill>
          <a:blip r:embed="rId2"/>
          <a:stretch/>
        </p:blipFill>
        <p:spPr>
          <a:xfrm>
            <a:off x="4711680" y="1798560"/>
            <a:ext cx="2932200" cy="689040"/>
          </a:xfrm>
          <a:prstGeom prst="rect">
            <a:avLst/>
          </a:prstGeom>
          <a:ln w="0">
            <a:noFill/>
          </a:ln>
        </p:spPr>
      </p:pic>
      <p:pic>
        <p:nvPicPr>
          <p:cNvPr id="346" name="Прямоугольник 11" descr=""/>
          <p:cNvPicPr/>
          <p:nvPr/>
        </p:nvPicPr>
        <p:blipFill>
          <a:blip r:embed="rId3"/>
          <a:stretch/>
        </p:blipFill>
        <p:spPr>
          <a:xfrm>
            <a:off x="4572000" y="2371680"/>
            <a:ext cx="3998880" cy="689040"/>
          </a:xfrm>
          <a:prstGeom prst="rect">
            <a:avLst/>
          </a:prstGeom>
          <a:ln w="0">
            <a:noFill/>
          </a:ln>
        </p:spPr>
      </p:pic>
      <p:pic>
        <p:nvPicPr>
          <p:cNvPr id="347" name="Прямоугольник 12" descr=""/>
          <p:cNvPicPr/>
          <p:nvPr/>
        </p:nvPicPr>
        <p:blipFill>
          <a:blip r:embed="rId4"/>
          <a:stretch/>
        </p:blipFill>
        <p:spPr>
          <a:xfrm>
            <a:off x="4784760" y="2908440"/>
            <a:ext cx="3000240" cy="688680"/>
          </a:xfrm>
          <a:prstGeom prst="rect">
            <a:avLst/>
          </a:prstGeom>
          <a:ln w="0">
            <a:noFill/>
          </a:ln>
        </p:spPr>
      </p:pic>
      <p:pic>
        <p:nvPicPr>
          <p:cNvPr id="348" name="Прямоугольник 13" descr=""/>
          <p:cNvPicPr/>
          <p:nvPr/>
        </p:nvPicPr>
        <p:blipFill>
          <a:blip r:embed="rId5"/>
          <a:stretch/>
        </p:blipFill>
        <p:spPr>
          <a:xfrm>
            <a:off x="4784760" y="3517920"/>
            <a:ext cx="4359240" cy="682560"/>
          </a:xfrm>
          <a:prstGeom prst="rect">
            <a:avLst/>
          </a:prstGeom>
          <a:ln w="0">
            <a:noFill/>
          </a:ln>
        </p:spPr>
      </p:pic>
      <p:pic>
        <p:nvPicPr>
          <p:cNvPr id="349" name="Прямоугольник 14" descr=""/>
          <p:cNvPicPr/>
          <p:nvPr/>
        </p:nvPicPr>
        <p:blipFill>
          <a:blip r:embed="rId6"/>
          <a:stretch/>
        </p:blipFill>
        <p:spPr>
          <a:xfrm>
            <a:off x="4572000" y="4084560"/>
            <a:ext cx="3786120" cy="689040"/>
          </a:xfrm>
          <a:prstGeom prst="rect">
            <a:avLst/>
          </a:prstGeom>
          <a:ln w="0">
            <a:noFill/>
          </a:ln>
        </p:spPr>
      </p:pic>
      <p:pic>
        <p:nvPicPr>
          <p:cNvPr id="350" name="Прямоугольник 15" descr=""/>
          <p:cNvPicPr/>
          <p:nvPr/>
        </p:nvPicPr>
        <p:blipFill>
          <a:blip r:embed="rId7"/>
          <a:stretch/>
        </p:blipFill>
        <p:spPr>
          <a:xfrm>
            <a:off x="4784760" y="4657680"/>
            <a:ext cx="3359160" cy="689040"/>
          </a:xfrm>
          <a:prstGeom prst="rect">
            <a:avLst/>
          </a:prstGeom>
          <a:ln w="0">
            <a:noFill/>
          </a:ln>
        </p:spPr>
      </p:pic>
      <p:pic>
        <p:nvPicPr>
          <p:cNvPr id="351" name="Прямоугольник 16" descr=""/>
          <p:cNvPicPr/>
          <p:nvPr/>
        </p:nvPicPr>
        <p:blipFill>
          <a:blip r:embed="rId8"/>
          <a:stretch/>
        </p:blipFill>
        <p:spPr>
          <a:xfrm>
            <a:off x="4857840" y="5230800"/>
            <a:ext cx="3146400" cy="682560"/>
          </a:xfrm>
          <a:prstGeom prst="rect">
            <a:avLst/>
          </a:prstGeom>
          <a:ln w="0">
            <a:noFill/>
          </a:ln>
        </p:spPr>
      </p:pic>
      <p:pic>
        <p:nvPicPr>
          <p:cNvPr id="352" name="Прямоугольник 17" descr=""/>
          <p:cNvPicPr/>
          <p:nvPr/>
        </p:nvPicPr>
        <p:blipFill>
          <a:blip r:embed="rId9"/>
          <a:stretch/>
        </p:blipFill>
        <p:spPr>
          <a:xfrm>
            <a:off x="4906800" y="5730840"/>
            <a:ext cx="3341880" cy="682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1000080" y="28584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КЛАССИФИКАЦИЯ КИСЛ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324000" y="3213000"/>
            <a:ext cx="3816360" cy="38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Corbel"/>
              </a:rPr>
              <a:t>	</a:t>
            </a:r>
            <a:r>
              <a:rPr b="1" lang="ru-RU" sz="2800" spc="-1" strike="noStrike">
                <a:solidFill>
                  <a:srgbClr val="6600cc"/>
                </a:solidFill>
                <a:latin typeface="Corbel"/>
              </a:rPr>
              <a:t>бескислородные </a:t>
            </a:r>
            <a:r>
              <a:rPr b="1" lang="en-US" sz="2800" spc="-1" strike="noStrike">
                <a:solidFill>
                  <a:srgbClr val="6600cc"/>
                </a:solidFill>
                <a:latin typeface="Gill Sans M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HF HCl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HB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HI H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0" y="981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1. По содержанию кисло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4643280" y="3284640"/>
            <a:ext cx="4248360" cy="24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Corbel"/>
              </a:rPr>
              <a:t>кислородсодержа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HNO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 H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SO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O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 H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PO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6"/>
          <p:cNvSpPr/>
          <p:nvPr/>
        </p:nvSpPr>
        <p:spPr>
          <a:xfrm>
            <a:off x="2411280" y="1700280"/>
            <a:ext cx="4175280" cy="1224000"/>
          </a:xfrm>
          <a:prstGeom prst="leftRightArrow">
            <a:avLst>
              <a:gd name="adj1" fmla="val 50000"/>
              <a:gd name="adj2" fmla="val 67907"/>
            </a:avLst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rbel"/>
              </a:rPr>
              <a:t>КИСЛ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1079640" y="3571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2. По количеству атомов водо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3"/>
          <p:cNvSpPr/>
          <p:nvPr/>
        </p:nvSpPr>
        <p:spPr>
          <a:xfrm rot="10800000">
            <a:off x="2999880" y="1071360"/>
            <a:ext cx="4032360" cy="25207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rbel"/>
              </a:rPr>
              <a:t>КИСЛ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1071720" y="1357200"/>
            <a:ext cx="2447640" cy="25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Corbel"/>
              </a:rPr>
              <a:t>одно-осно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H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HNO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3786120" y="3786120"/>
            <a:ext cx="2448000" cy="25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Corbel"/>
              </a:rPr>
              <a:t>двух-осно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SO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6588000" y="1341360"/>
            <a:ext cx="2303640" cy="17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Corbel"/>
              </a:rPr>
              <a:t>трех-осно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PO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rbel"/>
              </a:rPr>
              <a:t>Физические свойства              кислот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434960" y="1857240"/>
            <a:ext cx="74995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При обычных условиях кислоты могут быть твердыми и жидки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Кислоты –едкие жидкости (кроме кремневой), с кислым вкусом, без запаха, разъедают многие вещества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4:58:05Z</dcterms:created>
  <dc:creator>Ev0k3n</dc:creator>
  <dc:description/>
  <dc:language>en-US</dc:language>
  <cp:lastModifiedBy>Сергей</cp:lastModifiedBy>
  <cp:lastPrinted>2012-04-09T11:43:35Z</cp:lastPrinted>
  <dcterms:modified xsi:type="dcterms:W3CDTF">2012-04-09T11:56:00Z</dcterms:modified>
  <cp:revision>168</cp:revision>
  <dc:subject/>
  <dc:title>Физические и химические свойства кислот.</dc:title>
</cp:coreProperties>
</file>