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9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13.wmf" ContentType="image/x-wmf"/>
  <Override PartName="/ppt/media/image27.jpeg" ContentType="image/jpeg"/>
  <Override PartName="/ppt/media/image5.jpeg" ContentType="image/jpeg"/>
  <Override PartName="/ppt/media/image26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35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A689-F247-4360-94CE-4BFAF59145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DEE4-A9DE-4FBC-A0B2-F62B87D0C3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0805-476C-413A-895E-73C2403868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3880-3357-4883-860A-F1EB6760F6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F951-5CF5-4F3E-8B83-AA28128135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022A-E36C-4E86-B192-68FE84DCD3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388C-AF4A-4124-A8C3-E33344340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B5E7-AA4C-449D-A548-D6531731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0639-BC5C-4F48-8CE9-F25B7C9C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7066-B8D8-4E19-A992-0CE67A2C1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FCCF-0D7E-4B3B-9158-FFBCCE90D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E93D-8F38-4724-A794-B53B490E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9830-5D0F-441E-9B3D-3434BFF0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2C66-35C9-44DB-A659-0DC897A6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2174-AD66-4269-AC35-3D37DFB0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9B63-0E14-4910-8D5B-6F130D97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8323-3034-48A2-B42E-B66EB081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85CB-8E2C-4029-A82D-A2BD9824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5720-7FFA-4292-87AD-A496CCB7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60E6-E9A7-445F-BA86-B81CA23F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76C3-A41B-4AA5-8D48-7A919E7B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A480-4D18-41EA-8909-F05065460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034D-8374-4123-921A-07ABEFF06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65D63-2CB4-4F3D-ACA7-88EF41FE9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706B9-BE78-4949-B5C6-BBC1BEF4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D17F9-BEE5-4329-A3F1-A2454B2E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2D54A-953C-49E7-929E-999ED3C0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8DD63-F30E-4262-B1CC-99B953CC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8115-979C-4478-AACE-B597D48C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EE7EA-34B1-4EDD-85AC-4B049FA7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7A8E7-9EA8-422F-894F-0073FBCC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1A762-FE53-473C-B7F3-7131FD19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D228D-0E21-4AE7-93FF-0052DB70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5FD71-824E-4416-8F98-D55181EC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D80E6-7755-4D2D-8F45-CCB6C7D32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364F2-5B73-43A8-8013-1AD2B5489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8357F-93D8-472C-808C-5D029FE5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040DD-D1B6-403C-B9C4-5E55C9DC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83749-F3B5-45F6-949E-850E809B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63E6-09DF-403E-AE23-46F77F0A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FDD75-01E8-4189-A14B-17AD969D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83632-19F0-4B75-B012-E19FF6B2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C4AF4-9CE7-40FF-98B6-11E8F80A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87F43-884D-4F5F-AAA8-D9B63EE1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9637B-D21B-481B-BF63-EB674125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AEF78-04C4-4430-BDCD-7897EB7E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347A4-5186-4457-93AD-06895F36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1C03B-A7EE-4127-A31E-388859E73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A62AF-DDDD-46C6-A503-D518CAB1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50AE8-4919-4D79-A118-CBF44BC0C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F831-E675-48F8-8FFF-4921153B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BAE52-EFD4-4944-933C-D3E15A68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5A616-20FE-49AD-846C-39DF7643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88485-BC11-4B10-97B0-6E7F0DB7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73D6C-9167-43BF-8D79-22F4E6B4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41671-278A-4C8B-83A6-3EFE49B8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B3878-47F2-4A71-932D-E7714690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BCEAD-E3DB-49E4-926C-8728D109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B51DE-6F7A-4E71-969E-7817A0DB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DA9F1-95E0-4367-9B5B-F26688C3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85D98-6FFE-4351-AEA2-51E91120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0C0B-67D2-4508-AEA4-2D21C266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F56D7-0304-4107-AF46-95A6FCF5F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CC94A-5B3B-4D7F-8E5C-036D6D7D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7024D-2908-4250-B5AC-94B98608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DDCD7-F152-4CE9-9A6B-9E30B4EB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D1B0A-5C4E-499D-99BB-6F0C8BA8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7A08C-2CB0-4923-BB26-98CFCE3E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79AB2-321F-4027-84DB-83F7B897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C4F75-C304-406D-A570-6E718F8C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9F685-FE3D-422A-9AD9-9183551F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94B4E-9AC5-486A-B980-62557769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78FC-C4C7-4989-968C-D4A489F3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2311B-CA42-42D1-B8BF-B9A62B08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4BEEB-C844-440E-8642-8F825F20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2968B-B6F9-45BB-8A45-71AA46E9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2D9A7-D91D-4B51-9558-68C211FDC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24B52-2647-4F32-9B77-EE2A6690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B13BF-C5F1-4EF4-96FB-593CA990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92440-781C-4EF5-8D2F-658C71BC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1090B-0194-40FC-858B-767E0CFD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01B0D-3119-4EA5-A2CA-5696791F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E63FF-EA21-430B-9CC3-4DACDF52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0A3C-558D-48F7-920F-838B445C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868E4-116C-4776-9E3B-06466F16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7CF2F-CD7F-4E97-AB7A-A6A997F6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DABC0-D4D1-48D8-8BCC-D2193389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96470-94B6-48A4-8159-B832BA317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CD517-F0A6-4AFA-A1F5-FA23B83B2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7436-A225-44B9-879B-A8230BF4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EC1D-42F0-45EC-BC6A-B408B6ADD93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DDA0-3EFE-4907-983C-EC55F34C187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9F3D-7267-4525-B356-278E3BAA20A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7D14-7429-4470-8456-2264404EDFE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C27D-F744-4448-80ED-1A6ED474714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B1DB-EFC9-4CEA-90AF-C69EA64014D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6DFD-4314-41FD-9144-F69CE66D476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hyperlink" Target="http://www.yandex.ru/yandpage?q=357096712&amp;p=5&amp;ag=ih&amp;rpt2=simage&amp;qs=text=%D0%D2%CF%D3%D4%CF%CB%D7%C1%DB%C1&amp;isize=&amp;ogo=5&amp;rpt=image" TargetMode="External"/><Relationship Id="rId6" Type="http://schemas.openxmlformats.org/officeDocument/2006/relationships/image" Target="../media/image27.jpeg"/><Relationship Id="rId7" Type="http://schemas.openxmlformats.org/officeDocument/2006/relationships/hyperlink" Target="http://www.yandex.ru/yandpage?q=8556328&amp;p=0&amp;ag=ih&amp;rpt2=simage&amp;qs=text=%CB%D7%C1%D3+%CE%C1%D0%C9%D4%CF%CB&amp;isize=&amp;ogo=5&amp;rpt=image" TargetMode="External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42976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rbel"/>
              </a:rPr>
              <a:t>Кислоты.               Свойства кислот.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6" name="Picture 4" descr="L01"/>
          <p:cNvPicPr/>
          <p:nvPr/>
        </p:nvPicPr>
        <p:blipFill>
          <a:blip r:embed="rId1"/>
          <a:stretch/>
        </p:blipFill>
        <p:spPr>
          <a:xfrm>
            <a:off x="3357720" y="2071800"/>
            <a:ext cx="2857320" cy="271440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3"/>
          <p:cNvSpPr/>
          <p:nvPr/>
        </p:nvSpPr>
        <p:spPr>
          <a:xfrm>
            <a:off x="2786040" y="5143680"/>
            <a:ext cx="4429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Corbel"/>
              </a:rPr>
              <a:t>Польза кисло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7" name="Picture 5" descr="k_5"/>
          <p:cNvPicPr/>
          <p:nvPr/>
        </p:nvPicPr>
        <p:blipFill>
          <a:blip r:embed="rId1"/>
          <a:stretch/>
        </p:blipFill>
        <p:spPr>
          <a:xfrm>
            <a:off x="1285920" y="1714680"/>
            <a:ext cx="2276280" cy="18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8" name=""/>
          <p:cNvGraphicFramePr/>
          <p:nvPr/>
        </p:nvGraphicFramePr>
        <p:xfrm>
          <a:off x="3589200" y="3336840"/>
          <a:ext cx="1965600" cy="182520"/>
        </p:xfrm>
        <a:graphic>
          <a:graphicData uri="http://schemas.openxmlformats.org/drawingml/2006/table">
            <a:tbl>
              <a:tblPr/>
              <a:tblGrid>
                <a:gridCol w="1965600"/>
              </a:tblGrid>
              <a:tr h="182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9" name="Picture 9" descr="k_6"/>
          <p:cNvPicPr/>
          <p:nvPr/>
        </p:nvPicPr>
        <p:blipFill>
          <a:blip r:embed="rId2"/>
          <a:stretch/>
        </p:blipFill>
        <p:spPr>
          <a:xfrm>
            <a:off x="3857760" y="3786120"/>
            <a:ext cx="2143080" cy="1717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P1040635"/>
          <p:cNvPicPr/>
          <p:nvPr/>
        </p:nvPicPr>
        <p:blipFill>
          <a:blip r:embed="rId3"/>
          <a:stretch/>
        </p:blipFill>
        <p:spPr>
          <a:xfrm>
            <a:off x="6357960" y="1785960"/>
            <a:ext cx="2357280" cy="17953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6"/>
          <p:cNvPicPr/>
          <p:nvPr/>
        </p:nvPicPr>
        <p:blipFill>
          <a:blip r:embed="rId4"/>
          <a:stretch/>
        </p:blipFill>
        <p:spPr>
          <a:xfrm>
            <a:off x="6429240" y="3786120"/>
            <a:ext cx="2357640" cy="17859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http://im-tub.yandex.ru/i?id=2105900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357800" y="1825560"/>
            <a:ext cx="1143000" cy="9716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" descr="http://im-tub.yandex.ru/i?id=954789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488960" y="3860640"/>
            <a:ext cx="914400" cy="1189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99800" y="-214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Corbel"/>
              </a:rPr>
              <a:t>Вред кисло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786240" y="857160"/>
            <a:ext cx="9215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6" name="Picture 3" descr="k_1"/>
          <p:cNvPicPr/>
          <p:nvPr/>
        </p:nvPicPr>
        <p:blipFill>
          <a:blip r:embed="rId1"/>
          <a:stretch/>
        </p:blipFill>
        <p:spPr>
          <a:xfrm>
            <a:off x="1214280" y="714240"/>
            <a:ext cx="4005360" cy="29307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k_2"/>
          <p:cNvPicPr/>
          <p:nvPr/>
        </p:nvPicPr>
        <p:blipFill>
          <a:blip r:embed="rId2"/>
          <a:stretch/>
        </p:blipFill>
        <p:spPr>
          <a:xfrm>
            <a:off x="4356000" y="3027240"/>
            <a:ext cx="3930840" cy="280836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6"/>
          <p:cNvSpPr/>
          <p:nvPr/>
        </p:nvSpPr>
        <p:spPr>
          <a:xfrm>
            <a:off x="1500120" y="5357880"/>
            <a:ext cx="6786720" cy="5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Corbel"/>
              </a:rPr>
              <a:t>Техника безопасности от строгой</a:t>
            </a:r>
            <a:r>
              <a:rPr b="1" lang="en-US" sz="43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1" lang="ru-RU" sz="4300" spc="-1" strike="noStrike">
                <a:solidFill>
                  <a:srgbClr val="ff0000"/>
                </a:solidFill>
                <a:latin typeface="Corbel"/>
              </a:rPr>
              <a:t>химички</a:t>
            </a:r>
            <a:r>
              <a:rPr b="1" lang="ru-RU" sz="4000" spc="-1" strike="noStrike">
                <a:solidFill>
                  <a:srgbClr val="ff0000"/>
                </a:solidFill>
                <a:latin typeface="Corbel"/>
              </a:rPr>
              <a:t>.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44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Ты в хим. кабинет прише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Так запомни крох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Безопасность хорошо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Быть безруким плохо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Ты над брюками держа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С кислотой пробирку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Круто, парень, ты попал –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На штанишки с дыркой!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При работе с кислотой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Не нужна тревога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С осторожностью простой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Избежишь ожога.                     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Прямоугольник 3"/>
          <p:cNvSpPr/>
          <p:nvPr/>
        </p:nvSpPr>
        <p:spPr>
          <a:xfrm>
            <a:off x="2286000" y="4857840"/>
            <a:ext cx="4572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6" descr=""/>
          <p:cNvPicPr/>
          <p:nvPr/>
        </p:nvPicPr>
        <p:blipFill>
          <a:blip r:embed="rId1"/>
          <a:stretch/>
        </p:blipFill>
        <p:spPr>
          <a:xfrm>
            <a:off x="5000760" y="4071960"/>
            <a:ext cx="3714480" cy="2786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3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3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Corbel"/>
              </a:rPr>
              <a:t>Химические свойства кисло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Индикатор лакмус красный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Кислоту укажет ясн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Когда ж нейтральная среда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Он фиолетовый всегда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Универсальный индикатор - розовы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533600" y="4199040"/>
          <a:ext cx="7253280" cy="1576440"/>
        </p:xfrm>
        <a:graphic>
          <a:graphicData uri="http://schemas.openxmlformats.org/drawingml/2006/table">
            <a:tbl>
              <a:tblPr/>
              <a:tblGrid>
                <a:gridCol w="1252440"/>
                <a:gridCol w="3000240"/>
                <a:gridCol w="3000600"/>
              </a:tblGrid>
              <a:tr h="107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ндика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д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нейтральная сред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ислот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НСl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  <a:ea typeface="Calibri"/>
                        </a:rPr>
                        <a:t> H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  <a:ea typeface="Calibri"/>
                        </a:rPr>
                        <a:t>PO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 ,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  <a:ea typeface="Calibri"/>
                        </a:rPr>
                        <a:t>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Gill Sans MT"/>
                          <a:ea typeface="Calibri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ill Sans MT"/>
                          <a:ea typeface="Calibri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  <a:ea typeface="Calibri"/>
                        </a:rPr>
                        <a:t>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Gill Sans MT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Gill Sans MT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  <a:ea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ill Sans MT"/>
                          <a:ea typeface="Calibri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кислая сред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акму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иолетов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рас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142920" y="0"/>
          <a:ext cx="8858160" cy="6858000"/>
        </p:xfrm>
        <a:graphic>
          <a:graphicData uri="http://schemas.openxmlformats.org/drawingml/2006/table">
            <a:tbl>
              <a:tblPr/>
              <a:tblGrid>
                <a:gridCol w="1655640"/>
                <a:gridCol w="5666040"/>
                <a:gridCol w="1536480"/>
              </a:tblGrid>
              <a:tr h="92232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ещ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                                   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кислота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изнаки 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условия реак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864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метал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            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М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  <a:ea typeface="Calibri"/>
                        </a:rPr>
                        <a:t>металл + кислота = соль + водород 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600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основн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кси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rbel"/>
                          <a:ea typeface="Calibri"/>
                        </a:rPr>
                        <a:t>               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rbel"/>
                          <a:ea typeface="Calibri"/>
                        </a:rPr>
                        <a:t>Ме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  <a:ea typeface="Calibri"/>
                        </a:rPr>
                        <a:t>основный оксид + кислота = соль + вод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60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ос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rbel"/>
                          <a:ea typeface="Calibri"/>
                        </a:rPr>
                        <a:t>Ме(ОН)</a:t>
                      </a:r>
                      <a:r>
                        <a:rPr b="1" lang="en-US" sz="2000" spc="-1" strike="noStrike" baseline="-25000">
                          <a:solidFill>
                            <a:srgbClr val="ff0000"/>
                          </a:solidFill>
                          <a:latin typeface="Gill Sans MT"/>
                          <a:ea typeface="Calibri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                         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  <a:ea typeface="Calibri"/>
                        </a:rPr>
                        <a:t>основание + кислота = соль + в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с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rbel"/>
                          <a:ea typeface="Calibri"/>
                        </a:rPr>
                        <a:t>          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rbel"/>
                          <a:ea typeface="Calibri"/>
                        </a:rPr>
                        <a:t>Ме</a:t>
                      </a:r>
                      <a:r>
                        <a:rPr b="1" lang="en-US" sz="1800" spc="-1" strike="noStrike" baseline="-25000">
                          <a:solidFill>
                            <a:srgbClr val="ff0000"/>
                          </a:solidFill>
                          <a:latin typeface="Gill Sans MT"/>
                          <a:ea typeface="Calibri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rbel"/>
                          <a:ea typeface="Calibri"/>
                        </a:rPr>
                        <a:t>(КО)</a:t>
                      </a:r>
                      <a:r>
                        <a:rPr b="1" lang="en-US" sz="1800" spc="-1" strike="noStrike" baseline="-25000">
                          <a:solidFill>
                            <a:srgbClr val="ff0000"/>
                          </a:solidFill>
                          <a:latin typeface="Gill Sans MT"/>
                          <a:ea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  <a:ea typeface="Calibri"/>
                        </a:rPr>
                        <a:t>соль + </a:t>
                      </a:r>
                      <a:r>
                        <a:rPr b="1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Corbel"/>
                          <a:ea typeface="Calibri"/>
                        </a:rPr>
                        <a:t>кислота</a:t>
                      </a:r>
                      <a:r>
                        <a:rPr b="1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  <a:ea typeface="Calibri"/>
                        </a:rPr>
                        <a:t>= новая кислота + новая с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914400" y="3142800"/>
            <a:ext cx="822960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          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кислоты реагируют с цинком                               кислоты не реагируют с медью                                                                                                                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3143160" y="3857760"/>
          <a:ext cx="379440" cy="284040"/>
        </p:xfrm>
        <a:graphic>
          <a:graphicData uri="http://schemas.openxmlformats.org/drawingml/2006/table">
            <a:tbl>
              <a:tblPr/>
              <a:tblGrid>
                <a:gridCol w="205920"/>
                <a:gridCol w="173520"/>
              </a:tblGrid>
              <a:tr h="28404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0" name="Picture 3" descr="7"/>
          <p:cNvPicPr/>
          <p:nvPr/>
        </p:nvPicPr>
        <p:blipFill>
          <a:blip r:embed="rId1"/>
          <a:stretch/>
        </p:blipFill>
        <p:spPr>
          <a:xfrm>
            <a:off x="1000080" y="785880"/>
            <a:ext cx="8143920" cy="2571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" descr="B8_32_1pr"/>
          <p:cNvPicPr/>
          <p:nvPr/>
        </p:nvPicPr>
        <p:blipFill>
          <a:blip r:embed="rId2"/>
          <a:stretch/>
        </p:blipFill>
        <p:spPr>
          <a:xfrm>
            <a:off x="3357720" y="3643200"/>
            <a:ext cx="1714320" cy="12956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B8_32_3pr"/>
          <p:cNvPicPr/>
          <p:nvPr/>
        </p:nvPicPr>
        <p:blipFill>
          <a:blip r:embed="rId3"/>
          <a:stretch/>
        </p:blipFill>
        <p:spPr>
          <a:xfrm>
            <a:off x="6786720" y="3643200"/>
            <a:ext cx="1714320" cy="1305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786120" y="428760"/>
            <a:ext cx="35719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Corbel"/>
              </a:rPr>
              <a:t>Обобщение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285920" y="1571760"/>
          <a:ext cx="7572240" cy="2286000"/>
        </p:xfrm>
        <a:graphic>
          <a:graphicData uri="http://schemas.openxmlformats.org/drawingml/2006/table">
            <a:tbl>
              <a:tblPr/>
              <a:tblGrid>
                <a:gridCol w="1041480"/>
                <a:gridCol w="1530360"/>
                <a:gridCol w="1214280"/>
                <a:gridCol w="1571760"/>
                <a:gridCol w="1276200"/>
                <a:gridCol w="938160"/>
              </a:tblGrid>
              <a:tr h="117936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ts val="7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ген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7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7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условие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7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7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и)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ндик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с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сновный окси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т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66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Кисл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1680" indent="17640">
                        <a:lnSpc>
                          <a:spcPts val="8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1680" indent="17640">
                        <a:lnSpc>
                          <a:spcPts val="8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1680" indent="17640">
                        <a:lnSpc>
                          <a:spcPts val="8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1680" indent="17640">
                        <a:lnSpc>
                          <a:spcPts val="8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акмус- крас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1680" indent="17640">
                        <a:lnSpc>
                          <a:spcPts val="8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1680" indent="17640">
                        <a:lnSpc>
                          <a:spcPts val="8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ль + в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ль + в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7640" indent="21960">
                        <a:lnSpc>
                          <a:spcPts val="78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40" indent="21960">
                        <a:lnSpc>
                          <a:spcPts val="78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40" indent="21960">
                        <a:lnSpc>
                          <a:spcPts val="78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40" indent="21960">
                        <a:lnSpc>
                          <a:spcPts val="78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ь*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ль + Н</a:t>
                      </a:r>
                      <a:r>
                        <a:rPr b="1" lang="ru-RU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5" name="Rectangle 1"/>
          <p:cNvSpPr/>
          <p:nvPr/>
        </p:nvSpPr>
        <p:spPr>
          <a:xfrm>
            <a:off x="8937720" y="0"/>
            <a:ext cx="206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83" descr="L05"/>
          <p:cNvPicPr/>
          <p:nvPr/>
        </p:nvPicPr>
        <p:blipFill>
          <a:blip r:embed="rId1"/>
          <a:stretch/>
        </p:blipFill>
        <p:spPr>
          <a:xfrm>
            <a:off x="3357720" y="4071960"/>
            <a:ext cx="2857320" cy="2625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71720" y="14292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Corbel"/>
              </a:rPr>
              <a:t>Закрепление знаний</a:t>
            </a:r>
            <a:br>
              <a:rPr sz="4300"/>
            </a:br>
            <a:r>
              <a:rPr b="1" lang="ru-RU" sz="4300" spc="-1" strike="noStrike">
                <a:solidFill>
                  <a:srgbClr val="ff0000"/>
                </a:solidFill>
                <a:latin typeface="Corbel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1440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rbel"/>
              </a:rPr>
              <a:t>                   </a:t>
            </a:r>
            <a:r>
              <a:rPr b="0" lang="ru-RU" sz="6000" spc="-1" strike="noStrike">
                <a:solidFill>
                  <a:srgbClr val="000000"/>
                </a:solidFill>
                <a:latin typeface="Corbel"/>
              </a:rPr>
              <a:t>ответы: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вариант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вариант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1.а                       1.б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2.б                       2.а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3.в                       3.б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4.а                       4.в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5.б                       5.а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split dir="out" orient="vert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Corbel"/>
              </a:rPr>
              <a:t>Домашнее зад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§20,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38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 упр.4,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дополнительно  упр.6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стр.214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кроссворд по теме «Кислоты».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72120" y="357480"/>
            <a:ext cx="44290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Corbel"/>
              </a:rPr>
              <a:t>БЛАГОДАРЮ ЗА УРОК ! </a:t>
            </a:r>
            <a:br>
              <a:rPr sz="2500"/>
            </a:br>
            <a:r>
              <a:rPr b="1" i="1" lang="ru-RU" sz="2500" spc="-1" strike="noStrike">
                <a:solidFill>
                  <a:srgbClr val="ff0000"/>
                </a:solidFill>
                <a:latin typeface="Corbel"/>
              </a:rPr>
              <a:t> УСПЕХА!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02" name="Picture 2" descr="L01p2p11"/>
          <p:cNvPicPr/>
          <p:nvPr/>
        </p:nvPicPr>
        <p:blipFill>
          <a:blip r:embed="rId1"/>
          <a:stretch/>
        </p:blipFill>
        <p:spPr>
          <a:xfrm>
            <a:off x="1214280" y="1428840"/>
            <a:ext cx="7401240" cy="4786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142560"/>
            <a:ext cx="749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Corbel"/>
              </a:rPr>
              <a:t>Ожидаемые результаты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071360" y="856800"/>
            <a:ext cx="78627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Знать состав формул, определение кислот,  индикаторов, физические и химические свойства кисло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овершенствовать: учебные умения по составлению химических уравнений, практические навыки по проведению лабораторных опыт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пособствовать развитию умений сравнивать, обобщать, делать выводы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Развивать внимание, мышление и памя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овторить и закрепить правила ТБ при работе с веществами. Воспитывать бережливое отношение к реактивам и оборудованию, дисциплинированность, аккуратность и умение работать в группе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1"/>
          <p:cNvGrpSpPr/>
          <p:nvPr/>
        </p:nvGrpSpPr>
        <p:grpSpPr>
          <a:xfrm>
            <a:off x="395280" y="189000"/>
            <a:ext cx="8346960" cy="6278400"/>
            <a:chOff x="395280" y="189000"/>
            <a:chExt cx="8346960" cy="6278400"/>
          </a:xfrm>
        </p:grpSpPr>
        <p:pic>
          <p:nvPicPr>
            <p:cNvPr id="331" name="Picture 18" descr="Рисунок2"/>
            <p:cNvPicPr/>
            <p:nvPr/>
          </p:nvPicPr>
          <p:blipFill>
            <a:blip r:embed="rId1"/>
            <a:stretch/>
          </p:blipFill>
          <p:spPr>
            <a:xfrm>
              <a:off x="5003640" y="333360"/>
              <a:ext cx="1965600" cy="265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17" descr="Рисунок1"/>
            <p:cNvPicPr/>
            <p:nvPr/>
          </p:nvPicPr>
          <p:blipFill>
            <a:blip r:embed="rId2"/>
            <a:stretch/>
          </p:blipFill>
          <p:spPr>
            <a:xfrm>
              <a:off x="2556000" y="333360"/>
              <a:ext cx="2149200" cy="25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11" descr="щавель"/>
            <p:cNvPicPr/>
            <p:nvPr/>
          </p:nvPicPr>
          <p:blipFill>
            <a:blip r:embed="rId3"/>
            <a:stretch/>
          </p:blipFill>
          <p:spPr>
            <a:xfrm>
              <a:off x="7243920" y="260280"/>
              <a:ext cx="1498320" cy="273708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334" name="Picture 13" descr="муравей"/>
            <p:cNvPicPr/>
            <p:nvPr/>
          </p:nvPicPr>
          <p:blipFill>
            <a:blip r:embed="rId4"/>
            <a:stretch/>
          </p:blipFill>
          <p:spPr>
            <a:xfrm>
              <a:off x="3276720" y="2060640"/>
              <a:ext cx="2952720" cy="21603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335" name="Picture 14" descr="лимон"/>
            <p:cNvPicPr/>
            <p:nvPr/>
          </p:nvPicPr>
          <p:blipFill>
            <a:blip r:embed="rId5"/>
            <a:stretch/>
          </p:blipFill>
          <p:spPr>
            <a:xfrm>
              <a:off x="395280" y="4056120"/>
              <a:ext cx="3097080" cy="2376360"/>
            </a:xfrm>
            <a:prstGeom prst="rect">
              <a:avLst/>
            </a:prstGeom>
            <a:ln w="28440">
              <a:solidFill>
                <a:srgbClr val="ff0000"/>
              </a:solidFill>
              <a:miter/>
            </a:ln>
          </p:spPr>
        </p:pic>
        <p:pic>
          <p:nvPicPr>
            <p:cNvPr id="336" name="Picture 15" descr="крапива"/>
            <p:cNvPicPr/>
            <p:nvPr/>
          </p:nvPicPr>
          <p:blipFill>
            <a:blip r:embed="rId6"/>
            <a:stretch/>
          </p:blipFill>
          <p:spPr>
            <a:xfrm>
              <a:off x="468360" y="189000"/>
              <a:ext cx="1655640" cy="2755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337" name="Picture 12" descr="яблоко"/>
            <p:cNvPicPr/>
            <p:nvPr/>
          </p:nvPicPr>
          <p:blipFill>
            <a:blip r:embed="rId7"/>
            <a:stretch/>
          </p:blipFill>
          <p:spPr>
            <a:xfrm>
              <a:off x="5508720" y="4076640"/>
              <a:ext cx="3063960" cy="2390760"/>
            </a:xfrm>
            <a:prstGeom prst="rect">
              <a:avLst/>
            </a:prstGeom>
            <a:ln w="28440">
              <a:solidFill>
                <a:srgbClr val="ff0000"/>
              </a:solidFill>
              <a:miter/>
            </a:ln>
          </p:spPr>
        </p:pic>
      </p:grpSp>
      <p:sp>
        <p:nvSpPr>
          <p:cNvPr id="338" name="Text Box 22"/>
          <p:cNvSpPr/>
          <p:nvPr/>
        </p:nvSpPr>
        <p:spPr>
          <a:xfrm>
            <a:off x="1908000" y="3357720"/>
            <a:ext cx="51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Что нас объединя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Кислоты</a:t>
            </a:r>
            <a:r>
              <a:rPr b="1" lang="ru-RU" sz="3200" spc="-1" strike="noStrike">
                <a:solidFill>
                  <a:srgbClr val="feb80a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— это сложные вещества, состоящие из атомов водорода и кислотного остатк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0" name="Picture 4" descr="j0233971"/>
          <p:cNvPicPr/>
          <p:nvPr/>
        </p:nvPicPr>
        <p:blipFill>
          <a:blip r:embed="rId1"/>
          <a:stretch/>
        </p:blipFill>
        <p:spPr>
          <a:xfrm>
            <a:off x="3643200" y="3929040"/>
            <a:ext cx="2022480" cy="2357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434960" y="285480"/>
            <a:ext cx="749952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Формулы, каких веществ «лишние» и почему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CI   2)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2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3)NaOH    4)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4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5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aCI  6)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)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N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3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)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) СаО   10)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11)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  12)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    </a:t>
            </a:r>
            <a:r>
              <a:rPr b="0" lang="ru-RU" sz="4300" spc="-1" strike="noStrike">
                <a:solidFill>
                  <a:srgbClr val="000000"/>
                </a:solidFill>
                <a:latin typeface="Corbel"/>
              </a:rPr>
              <a:t>Дать название кислотам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71720" y="1285920"/>
            <a:ext cx="30715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54760" indent="-478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CI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54760" indent="-478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4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54760" indent="-478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54760" indent="-478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N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3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54760" indent="-478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54760" indent="-478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54760" indent="-478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54760" indent="-478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54760" indent="-478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4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Прямоугольник 9" descr=""/>
          <p:cNvPicPr/>
          <p:nvPr/>
        </p:nvPicPr>
        <p:blipFill>
          <a:blip r:embed="rId1"/>
          <a:stretch/>
        </p:blipFill>
        <p:spPr>
          <a:xfrm>
            <a:off x="4711680" y="1298520"/>
            <a:ext cx="3073320" cy="689040"/>
          </a:xfrm>
          <a:prstGeom prst="rect">
            <a:avLst/>
          </a:prstGeom>
          <a:ln w="0">
            <a:noFill/>
          </a:ln>
        </p:spPr>
      </p:pic>
      <p:pic>
        <p:nvPicPr>
          <p:cNvPr id="345" name="Прямоугольник 10" descr=""/>
          <p:cNvPicPr/>
          <p:nvPr/>
        </p:nvPicPr>
        <p:blipFill>
          <a:blip r:embed="rId2"/>
          <a:stretch/>
        </p:blipFill>
        <p:spPr>
          <a:xfrm>
            <a:off x="4711680" y="1798560"/>
            <a:ext cx="2932200" cy="689040"/>
          </a:xfrm>
          <a:prstGeom prst="rect">
            <a:avLst/>
          </a:prstGeom>
          <a:ln w="0">
            <a:noFill/>
          </a:ln>
        </p:spPr>
      </p:pic>
      <p:pic>
        <p:nvPicPr>
          <p:cNvPr id="346" name="Прямоугольник 11" descr=""/>
          <p:cNvPicPr/>
          <p:nvPr/>
        </p:nvPicPr>
        <p:blipFill>
          <a:blip r:embed="rId3"/>
          <a:stretch/>
        </p:blipFill>
        <p:spPr>
          <a:xfrm>
            <a:off x="4572000" y="2371680"/>
            <a:ext cx="3998880" cy="689040"/>
          </a:xfrm>
          <a:prstGeom prst="rect">
            <a:avLst/>
          </a:prstGeom>
          <a:ln w="0">
            <a:noFill/>
          </a:ln>
        </p:spPr>
      </p:pic>
      <p:pic>
        <p:nvPicPr>
          <p:cNvPr id="347" name="Прямоугольник 12" descr=""/>
          <p:cNvPicPr/>
          <p:nvPr/>
        </p:nvPicPr>
        <p:blipFill>
          <a:blip r:embed="rId4"/>
          <a:stretch/>
        </p:blipFill>
        <p:spPr>
          <a:xfrm>
            <a:off x="4784760" y="2908440"/>
            <a:ext cx="3000240" cy="688680"/>
          </a:xfrm>
          <a:prstGeom prst="rect">
            <a:avLst/>
          </a:prstGeom>
          <a:ln w="0">
            <a:noFill/>
          </a:ln>
        </p:spPr>
      </p:pic>
      <p:pic>
        <p:nvPicPr>
          <p:cNvPr id="348" name="Прямоугольник 13" descr=""/>
          <p:cNvPicPr/>
          <p:nvPr/>
        </p:nvPicPr>
        <p:blipFill>
          <a:blip r:embed="rId5"/>
          <a:stretch/>
        </p:blipFill>
        <p:spPr>
          <a:xfrm>
            <a:off x="4784760" y="3517920"/>
            <a:ext cx="4359240" cy="682560"/>
          </a:xfrm>
          <a:prstGeom prst="rect">
            <a:avLst/>
          </a:prstGeom>
          <a:ln w="0">
            <a:noFill/>
          </a:ln>
        </p:spPr>
      </p:pic>
      <p:pic>
        <p:nvPicPr>
          <p:cNvPr id="349" name="Прямоугольник 14" descr=""/>
          <p:cNvPicPr/>
          <p:nvPr/>
        </p:nvPicPr>
        <p:blipFill>
          <a:blip r:embed="rId6"/>
          <a:stretch/>
        </p:blipFill>
        <p:spPr>
          <a:xfrm>
            <a:off x="4572000" y="4084560"/>
            <a:ext cx="3786120" cy="689040"/>
          </a:xfrm>
          <a:prstGeom prst="rect">
            <a:avLst/>
          </a:prstGeom>
          <a:ln w="0">
            <a:noFill/>
          </a:ln>
        </p:spPr>
      </p:pic>
      <p:pic>
        <p:nvPicPr>
          <p:cNvPr id="350" name="Прямоугольник 15" descr=""/>
          <p:cNvPicPr/>
          <p:nvPr/>
        </p:nvPicPr>
        <p:blipFill>
          <a:blip r:embed="rId7"/>
          <a:stretch/>
        </p:blipFill>
        <p:spPr>
          <a:xfrm>
            <a:off x="4784760" y="4657680"/>
            <a:ext cx="3359160" cy="689040"/>
          </a:xfrm>
          <a:prstGeom prst="rect">
            <a:avLst/>
          </a:prstGeom>
          <a:ln w="0">
            <a:noFill/>
          </a:ln>
        </p:spPr>
      </p:pic>
      <p:pic>
        <p:nvPicPr>
          <p:cNvPr id="351" name="Прямоугольник 16" descr=""/>
          <p:cNvPicPr/>
          <p:nvPr/>
        </p:nvPicPr>
        <p:blipFill>
          <a:blip r:embed="rId8"/>
          <a:stretch/>
        </p:blipFill>
        <p:spPr>
          <a:xfrm>
            <a:off x="4857840" y="5230800"/>
            <a:ext cx="3146400" cy="682560"/>
          </a:xfrm>
          <a:prstGeom prst="rect">
            <a:avLst/>
          </a:prstGeom>
          <a:ln w="0">
            <a:noFill/>
          </a:ln>
        </p:spPr>
      </p:pic>
      <p:pic>
        <p:nvPicPr>
          <p:cNvPr id="352" name="Прямоугольник 17" descr=""/>
          <p:cNvPicPr/>
          <p:nvPr/>
        </p:nvPicPr>
        <p:blipFill>
          <a:blip r:embed="rId9"/>
          <a:stretch/>
        </p:blipFill>
        <p:spPr>
          <a:xfrm>
            <a:off x="4906800" y="5730840"/>
            <a:ext cx="3341880" cy="682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1000080" y="28584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КЛАССИФИКАЦИЯ КИСЛ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324000" y="3213000"/>
            <a:ext cx="3816360" cy="38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Corbel"/>
              </a:rPr>
              <a:t>	</a:t>
            </a:r>
            <a:r>
              <a:rPr b="1" lang="ru-RU" sz="2800" spc="-1" strike="noStrike">
                <a:solidFill>
                  <a:srgbClr val="6600cc"/>
                </a:solidFill>
                <a:latin typeface="Corbel"/>
              </a:rPr>
              <a:t>бескислородные </a:t>
            </a:r>
            <a:r>
              <a:rPr b="1" lang="en-US" sz="2800" spc="-1" strike="noStrike">
                <a:solidFill>
                  <a:srgbClr val="6600cc"/>
                </a:solidFill>
                <a:latin typeface="Gill Sans M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HF HCl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HB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HI H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0" y="981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1. По содержанию кисло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4643280" y="3284640"/>
            <a:ext cx="4248360" cy="24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Corbel"/>
              </a:rPr>
              <a:t>кислородсодержа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HNO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 H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SO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O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 H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PO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6"/>
          <p:cNvSpPr/>
          <p:nvPr/>
        </p:nvSpPr>
        <p:spPr>
          <a:xfrm>
            <a:off x="2411280" y="1700280"/>
            <a:ext cx="4175280" cy="1224000"/>
          </a:xfrm>
          <a:prstGeom prst="leftRightArrow">
            <a:avLst>
              <a:gd name="adj1" fmla="val 50000"/>
              <a:gd name="adj2" fmla="val 67907"/>
            </a:avLst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rbel"/>
              </a:rPr>
              <a:t>КИСЛ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1079640" y="3571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2. По количеству атомов водо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3"/>
          <p:cNvSpPr/>
          <p:nvPr/>
        </p:nvSpPr>
        <p:spPr>
          <a:xfrm rot="10800000">
            <a:off x="2999880" y="1071360"/>
            <a:ext cx="4032360" cy="25207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rbel"/>
              </a:rPr>
              <a:t>КИСЛ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1071720" y="1357200"/>
            <a:ext cx="2447640" cy="25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Corbel"/>
              </a:rPr>
              <a:t>одно-осно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H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HNO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3786120" y="3786120"/>
            <a:ext cx="2448000" cy="25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Corbel"/>
              </a:rPr>
              <a:t>двух-осно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SO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6588000" y="1341360"/>
            <a:ext cx="2303640" cy="17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Corbel"/>
              </a:rPr>
              <a:t>трех-осно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PO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rbel"/>
              </a:rPr>
              <a:t>Физические свойства              кислот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434960" y="1857240"/>
            <a:ext cx="74995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При обычных условиях кислоты могут быть твердыми и жидки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Кислоты –едкие жидкости (кроме кремневой), с кислым вкусом, без запаха, разъедают многие вещества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4:58:05Z</dcterms:created>
  <dc:creator>Ev0k3n</dc:creator>
  <dc:description/>
  <dc:language>en-US</dc:language>
  <cp:lastModifiedBy>Сергей</cp:lastModifiedBy>
  <cp:lastPrinted>2012-04-09T11:43:35Z</cp:lastPrinted>
  <dcterms:modified xsi:type="dcterms:W3CDTF">2012-04-09T11:56:00Z</dcterms:modified>
  <cp:revision>168</cp:revision>
  <dc:subject/>
  <dc:title>Физические и химические свойства кислот.</dc:title>
</cp:coreProperties>
</file>